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49A-B70B-469D-A514-B34C8E9B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22E-E8A2-44BD-8F80-B5324DFE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B1A-DC67-4969-A91F-2ED54F5A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74F-BC5F-48A6-AABB-574DF6BC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040-AA25-4C06-AB16-162B47AC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357-14D5-4779-BF7C-36C376C0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705-CE74-468F-93AE-2C6BD3E5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EED-2463-4302-A25C-CD582143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8B9-988D-4E96-89D7-97FFF21A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5C7-760F-4314-83C9-1D22C782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CE2-E11D-40D1-9AC2-EFAD9C9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C3B-D431-4B84-A874-BB2D305B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39A7-A75A-46F2-8C38-8C518250AB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uture met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will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te zeggen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ets in de toekomst zal gaan gebeu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Je gebruik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ls je voorspellingen doet zonder dat je daar bewijs voor hebt of als je er geen invloed op hebt. In het Nederlands gebruik je vaak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za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wi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robably rain this afternoo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People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  <a:ea typeface="Arial"/>
              </a:rPr>
              <a:t>won’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drive their own cars in the future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met 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going to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te zeggen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je iets van plan b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In het Nederlands gebruik je vaak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aa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 some shopping this afternoo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re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y tennis tomorrow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 gebruik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o be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ls je (bijna)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eker wee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iets gaat gebeuren omdat je er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bew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oor hebt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Look at those dark clouds!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’s going t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a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  <a:ea typeface="Arial"/>
              </a:rPr>
              <a:t>My aunt is pregnant.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’s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ve a baby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uture met d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present simple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als het gaat om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ijden volgens een vast schema aan te gev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bijvoorbeeld een dienstregeling of openings- en sluitingstijd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The post offic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en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at half past eigh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The boat rac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rt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at nine.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met de 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present continuous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aan te geven dat iets binnenkort gaat gebeuren. Het gaat om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fspra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ingen die georganiseerd zij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re travell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o Canada next month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y siste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s giv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party this Saturday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2133720"/>
            <a:ext cx="741708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ow show what you know!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ak zinnen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on’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of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o be going t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 The sun is shining so bright. It ______ a hot day!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b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I don’t know if he ______. He told me he had some other plans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com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When the earthquake hit I was so scared. I thought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I ______ .’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d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 I can’t help you if you ______ me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l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ak zinnen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esent simple)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Tomorrow I ______ dinner with two of my best friends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hav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The clothes store on Queen Street never ______ before 6 pm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clos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That Irish rockband, The Kleptomaniacs, ______ across Europe this summer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tou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8. The rugby game ______ at 3 pm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st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8:09Z</dcterms:created>
  <dc:creator>spijkers</dc:creator>
  <dc:description/>
  <dc:language>en-US</dc:language>
  <cp:lastModifiedBy>Gebruiker</cp:lastModifiedBy>
  <dcterms:modified xsi:type="dcterms:W3CDTF">2013-11-10T19:39:10Z</dcterms:modified>
  <cp:revision>74</cp:revision>
  <dc:subject/>
  <dc:title>Dia 1</dc:title>
</cp:coreProperties>
</file>