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F5F9-DF92-47C7-9567-06967CE6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06D9-2025-44DD-8F68-33CA2087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A93C-AE08-4234-913E-46C17C2D5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F897-4148-4ACD-875E-EFDE091D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7CD4-EBFA-4A54-99D7-9588294F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95AC-83A1-4120-9757-C5609538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69A0-BA3E-4855-BFD0-2AF16DF4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F98D-202E-4B50-83D3-683C0EA3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8FC5-2E36-4754-BDC3-94980DFC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96EE-0B9C-4B05-A248-3263FC77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47DA-8B58-40D6-AC22-607D1543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B475-B875-4607-98AB-BE658183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084D-B1C9-496F-9E4C-60B476BDFB5E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413000"/>
          <a:ext cx="8461080" cy="5110200"/>
        </p:xfrm>
        <a:graphic>
          <a:graphicData uri="http://schemas.openxmlformats.org/drawingml/2006/table">
            <a:tbl>
              <a:tblPr/>
              <a:tblGrid>
                <a:gridCol w="1677960"/>
                <a:gridCol w="3962160"/>
                <a:gridCol w="28209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er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-infin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erb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lik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lay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listen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classical musi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want</a:t>
                      </a:r>
                      <a:r>
                        <a:rPr b="0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o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ome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promise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ll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back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hese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l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nj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can’t 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(don’t) mi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h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dec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off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prom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lear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r>
                        <a:rPr b="1" lang="nl-NL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study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ut I </a:t>
                      </a:r>
                      <a:r>
                        <a:rPr b="1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hope</a:t>
                      </a:r>
                      <a:r>
                        <a:rPr b="0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 lawyer someday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Tekstvak 2"/>
          <p:cNvSpPr/>
          <p:nvPr/>
        </p:nvSpPr>
        <p:spPr>
          <a:xfrm>
            <a:off x="250920" y="476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rund versus the to-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01:51Z</dcterms:created>
  <dc:creator>Gebruiker</dc:creator>
  <dc:description/>
  <dc:language>en-US</dc:language>
  <cp:lastModifiedBy>Gebruiker</cp:lastModifiedBy>
  <dcterms:modified xsi:type="dcterms:W3CDTF">2013-09-01T19:11:41Z</dcterms:modified>
  <cp:revision>4</cp:revision>
  <dc:subject/>
  <dc:title>Dia 1</dc:title>
</cp:coreProperties>
</file>