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172-7D6D-4957-BCF6-9CB01F20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C86-0AE5-428E-BBB2-8AEF619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C98-14EB-4CDB-AF67-DC97571D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2CB-88A1-4B25-9F50-4C38715A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3C5-1269-46C0-B0C9-7F9B9D53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F67-4DB8-4EC5-99FA-71B4BF2D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A21-0573-4DBB-B995-7C571E4A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4D9-559D-4042-A9EC-1FF5B41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B47-0982-4F4C-BD7D-73FA71A4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56B-5377-404A-9CC2-0C30408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AC8-F7D8-40CD-B4FF-93C9FD5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5C6-DED5-45A5-8105-54F7277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D4D-24F9-4178-B4D5-84E7D3B01CF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052640"/>
          <a:ext cx="6842160" cy="5578200"/>
        </p:xfrm>
        <a:graphic>
          <a:graphicData uri="http://schemas.openxmlformats.org/drawingml/2006/table">
            <a:tbl>
              <a:tblPr/>
              <a:tblGrid>
                <a:gridCol w="2160720"/>
                <a:gridCol w="4681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        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hitru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/does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she like One Dire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you like app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/doesn’t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she does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I do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170921"/>
              <a:gd name="adj2" fmla="val 3220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 verbindingslijn 6"/>
          <p:cNvSpPr/>
          <p:nvPr/>
        </p:nvSpPr>
        <p:spPr>
          <a:xfrm>
            <a:off x="179280" y="422100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9-15T18:47:00Z</dcterms:modified>
  <cp:revision>12</cp:revision>
  <dc:subject/>
  <dc:title>Dia 1</dc:title>
</cp:coreProperties>
</file>