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966-B6D3-4D02-AA00-8E34C680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4CA-8EE7-4F07-9036-A0B9B0D5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EBC-EB05-4A85-B565-491CC05E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E7B-FC65-4083-BFA4-6D0FF5E5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728-989C-45A5-9355-611AF252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3C6-2B36-4322-8F1E-F42CCF80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E6A-39A3-43CF-AF16-9BFE60DA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4E3-3DB2-4B83-8EDB-E4FBEBCE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F43-07B0-4B6B-9282-0B29EEDE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F8D-34CA-4FBC-BCE5-C6D7E7D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782-93FE-44AE-ADD0-8DBC8CA6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EB6-6907-4A6B-BD90-AC12DCD8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4D71-604E-4F0E-BE64-44B986C06DC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rcRect l="0" t="0" r="2058" b="4973"/>
          <a:stretch/>
        </p:blipFill>
        <p:spPr>
          <a:xfrm>
            <a:off x="4535640" y="18900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189000"/>
            <a:ext cx="447660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www.digitanis.com/wp-content/uploads/2011/11/psvspc.gif"/>
          <p:cNvPicPr/>
          <p:nvPr/>
        </p:nvPicPr>
        <p:blipFill>
          <a:blip r:embed="rId3"/>
          <a:stretch/>
        </p:blipFill>
        <p:spPr>
          <a:xfrm>
            <a:off x="2268360" y="3514680"/>
            <a:ext cx="4286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71880"/>
                <a:gridCol w="3485880"/>
                <a:gridCol w="34862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rb + 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irregular verb</a:t>
                      </a:r>
                      <a:r>
                        <a:rPr b="0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 –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/were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int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ouse yellow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year ag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Karen’s so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brother came i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1800" spc="-1" strike="noStrike">
                          <a:solidFill>
                            <a:srgbClr val="fdeada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d fall in rugby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terd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 called her brother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ere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tch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which is FINISH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that happened BEFORE something else happened in the pa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’s usually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 indicator of the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re’s </a:t>
                      </a:r>
                      <a:r>
                        <a:rPr b="0" i="1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ually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an indicator of the past tense AND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d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‘while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you see these words, it’s automatically this tens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week, a year ago, in June, yesterday,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hoek 1"/>
          <p:cNvSpPr/>
          <p:nvPr/>
        </p:nvSpPr>
        <p:spPr>
          <a:xfrm>
            <a:off x="250920" y="1341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______ a film when the telephone ______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______ television when someone ______ on the door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______ while I ______ to put on its leash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______ the car when he ______ the garage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______ home when the accident ______ 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______ a game, but when Mark ______ we ______ 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ACTICE: Now let’s show what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1"/>
          <p:cNvSpPr/>
          <p:nvPr/>
        </p:nvSpPr>
        <p:spPr>
          <a:xfrm>
            <a:off x="250920" y="1341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film when the teleph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ra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evision when some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knock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 the door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bark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tri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put on its leash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repair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car when h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enter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e garage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driv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me when the accident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happen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ere play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game, but when Mark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cheat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stopp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09:38Z</dcterms:created>
  <dc:creator>Gebruiker</dc:creator>
  <dc:description/>
  <dc:language>en-US</dc:language>
  <cp:lastModifiedBy>Gebruiker</cp:lastModifiedBy>
  <dcterms:modified xsi:type="dcterms:W3CDTF">2013-10-20T19:07:31Z</dcterms:modified>
  <cp:revision>15</cp:revision>
  <dc:subject/>
  <dc:title>Dia 1</dc:title>
</cp:coreProperties>
</file>