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4BF-9DDC-4077-B596-DD7CE597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3FE-48CD-4CC6-BB47-A7D0B362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9E0-3133-43AB-AA3A-B60266AD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6E8-5636-4CD3-8882-574C5581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5489-FF93-4963-BCEB-058BBA11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BE8-2525-469F-81A8-5C097731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EA6-734A-4501-8A51-758B4FFA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B87-A694-46B4-9495-3F27A733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073-A231-4BC1-A8E0-347875E6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775-6599-4BA3-8EB5-73A6A0F5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4EB-40D9-40AC-8E5D-27CED56A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114A-B53D-4913-8AE4-2D99729F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36A7-FBAF-4730-A939-B024AA3F40D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30989" t="44882" r="53448" b="30453"/>
          <a:stretch/>
        </p:blipFill>
        <p:spPr>
          <a:xfrm>
            <a:off x="1619280" y="1341360"/>
            <a:ext cx="6048360" cy="5389560"/>
          </a:xfrm>
          <a:prstGeom prst="rect">
            <a:avLst/>
          </a:prstGeom>
          <a:ln w="0">
            <a:noFill/>
          </a:ln>
        </p:spPr>
      </p:pic>
      <p:sp>
        <p:nvSpPr>
          <p:cNvPr id="42" name="Tekstvak 4"/>
          <p:cNvSpPr/>
          <p:nvPr/>
        </p:nvSpPr>
        <p:spPr>
          <a:xfrm>
            <a:off x="1835280" y="40464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assive or ac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http://www.collider.com/wp-content/uploads/girl-zombie-The-Walking-Dead-AMC-tv-show-image.jpg"/>
          <p:cNvPicPr/>
          <p:nvPr/>
        </p:nvPicPr>
        <p:blipFill>
          <a:blip r:embed="rId1"/>
          <a:stretch/>
        </p:blipFill>
        <p:spPr>
          <a:xfrm>
            <a:off x="0" y="0"/>
            <a:ext cx="95774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static.tvtropes.org/pmwiki/pub/images/fat_zombie_boomer.jpg"/>
          <p:cNvPicPr/>
          <p:nvPr/>
        </p:nvPicPr>
        <p:blipFill>
          <a:blip r:embed="rId2">
            <a:grayscl/>
          </a:blip>
          <a:stretch/>
        </p:blipFill>
        <p:spPr>
          <a:xfrm>
            <a:off x="250920" y="333360"/>
            <a:ext cx="2636640" cy="280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i0.kym-cdn.com/photos/images/newsfeed/000/017/382/1250991947631.jpg?1252470214"/>
          <p:cNvPicPr/>
          <p:nvPr/>
        </p:nvPicPr>
        <p:blipFill>
          <a:blip r:embed="rId3"/>
          <a:stretch/>
        </p:blipFill>
        <p:spPr>
          <a:xfrm>
            <a:off x="5292720" y="4124160"/>
            <a:ext cx="4103640" cy="27338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8"/>
          <p:cNvSpPr/>
          <p:nvPr/>
        </p:nvSpPr>
        <p:spPr>
          <a:xfrm>
            <a:off x="276120" y="5157720"/>
            <a:ext cx="607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Calibri"/>
              </a:rPr>
              <a:t>She  was chased by zomb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kstvak 9"/>
          <p:cNvSpPr/>
          <p:nvPr/>
        </p:nvSpPr>
        <p:spPr>
          <a:xfrm>
            <a:off x="5267160" y="33336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The passive: de lijdende v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he passive: de lijdende vorm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s je achter de zin kan zetten ‘by zombies’ dan is het een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passieve z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PASSIV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/lijdende zin: She </a:t>
            </a:r>
            <a:r>
              <a:rPr b="1" lang="nl-NL" sz="2000" spc="-1" strike="noStrike">
                <a:solidFill>
                  <a:srgbClr val="984807"/>
                </a:solidFill>
                <a:latin typeface="Calibri"/>
              </a:rPr>
              <a:t>was chased 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BY ZOMB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ACTIV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/bedrijvende zin: </a:t>
            </a:r>
            <a:r>
              <a:rPr b="1" lang="nl-NL" sz="2000" spc="-1" strike="noStrike">
                <a:solidFill>
                  <a:srgbClr val="0070c0"/>
                </a:solidFill>
                <a:latin typeface="Calibri"/>
              </a:rPr>
              <a:t>Zombie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chased h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Waar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 zin 1 is de actie duidelijk: zij wordt </a:t>
            </a:r>
            <a:r>
              <a:rPr b="1" lang="nl-NL" sz="1600" spc="-1" strike="noStrike">
                <a:solidFill>
                  <a:srgbClr val="984807"/>
                </a:solidFill>
                <a:latin typeface="Calibri"/>
              </a:rPr>
              <a:t>achter nagezete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. Dat kan door iedereen zijn, maar in dit geval door zomb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  zin 2 is duidelijk dat de zombies iemand achterna zitten. Wie? Haar! Het is in deze zin belangrijk dat </a:t>
            </a:r>
            <a:r>
              <a:rPr b="1" lang="nl-NL" sz="1600" spc="-1" strike="noStrike">
                <a:solidFill>
                  <a:srgbClr val="0070c0"/>
                </a:solidFill>
                <a:latin typeface="Calibri"/>
              </a:rPr>
              <a:t>de zombie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iets do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Waar ligt de nadruk op in allebei de zinnen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ZIN 1/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passive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1300" spc="-1" strike="noStrike">
                <a:solidFill>
                  <a:srgbClr val="984807"/>
                </a:solidFill>
                <a:latin typeface="Calibri"/>
              </a:rPr>
              <a:t>HET ACHTERNA ZITTEN </a:t>
            </a:r>
            <a:r>
              <a:rPr b="0" lang="nl-NL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 de actie/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wat</a:t>
            </a:r>
            <a:r>
              <a:rPr b="1" lang="nl-NL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er gebeur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ZIN 2/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active: </a:t>
            </a:r>
            <a:r>
              <a:rPr b="1" lang="nl-NL" sz="1300" spc="-1" strike="noStrike">
                <a:solidFill>
                  <a:srgbClr val="0070c0"/>
                </a:solidFill>
                <a:latin typeface="Calibri"/>
              </a:rPr>
              <a:t>DE ZOMBIES 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zitten iemand achterna </a:t>
            </a:r>
            <a:r>
              <a:rPr b="0" lang="nl-NL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 het onderwerp, 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wie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 iets heeft gedaa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Hoe maak je een passieve zi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1. Onderwerp wordt lijdend voorwer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2. Tijd blijft hetzelf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3. Voeg wel de juiste vorm van het werkwooord BE + voltooid deelwoord to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RESENT simple PASSIVE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he ma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is eat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by zomb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 algn="ctr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AST simple PA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was chased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by zombies) yesterday at 08: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47377" t="27441" r="16751" b="16535"/>
          <a:stretch/>
        </p:blipFill>
        <p:spPr>
          <a:xfrm>
            <a:off x="179280" y="3573360"/>
            <a:ext cx="3421080" cy="3003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3.bp.blogspot.com/-8HHaUCGNhIc/T3WeteaLaQI/AAAAAAAAE4U/SPk0AHsbKaM/s1600/zombies-eating.jpg"/>
          <p:cNvPicPr/>
          <p:nvPr/>
        </p:nvPicPr>
        <p:blipFill>
          <a:blip r:embed="rId2"/>
          <a:stretch/>
        </p:blipFill>
        <p:spPr>
          <a:xfrm>
            <a:off x="6084720" y="333360"/>
            <a:ext cx="2664000" cy="399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www.touchscreen-digiborden.nl/wp-content/uploads/2012/03/klok.jpg"/>
          <p:cNvPicPr/>
          <p:nvPr/>
        </p:nvPicPr>
        <p:blipFill>
          <a:blip r:embed="rId3"/>
          <a:stretch/>
        </p:blipFill>
        <p:spPr>
          <a:xfrm>
            <a:off x="826920" y="5516640"/>
            <a:ext cx="8366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sive: hoe nu verd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9280" y="907920"/>
            <a:ext cx="878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?????Hoe maak je het???????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1. onderwerp wordt lijdend voorwerp (indien nodi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. Tijd blijft hetzelf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3. vorm van be + voltooid deelwo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resent simple passiv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he man </a:t>
            </a:r>
            <a:r>
              <a:rPr b="1" lang="nl-NL" sz="2700" spc="-1" strike="noStrike">
                <a:solidFill>
                  <a:srgbClr val="ff0000"/>
                </a:solidFill>
                <a:latin typeface="Calibri"/>
              </a:rPr>
              <a:t>is eaten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(by zombies)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(am/is/are+voltooid deelwoor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active= Zombies </a:t>
            </a:r>
            <a:r>
              <a:rPr b="1" i="1" lang="nl-NL" sz="2400" spc="-1" strike="noStrike">
                <a:solidFill>
                  <a:srgbClr val="953735"/>
                </a:solidFill>
                <a:latin typeface="Calibri"/>
              </a:rPr>
              <a:t>eat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the m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ast simple passiv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1" lang="nl-NL" sz="2700" spc="-1" strike="noStrike">
                <a:solidFill>
                  <a:srgbClr val="ff0000"/>
                </a:solidFill>
                <a:latin typeface="Calibri"/>
              </a:rPr>
              <a:t>was chased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(by zombies) yesterday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(was/were + voltooid deelwoor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active= Zombies </a:t>
            </a:r>
            <a:r>
              <a:rPr b="1" i="1" lang="nl-NL" sz="2400" spc="-1" strike="noStrike">
                <a:solidFill>
                  <a:srgbClr val="953735"/>
                </a:solidFill>
                <a:latin typeface="Calibri"/>
              </a:rPr>
              <a:t>chased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 her yesterday)</a:t>
            </a:r>
            <a:br>
              <a:rPr sz="27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y it yours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. My books ______________ (steal)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zombies)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yester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She ___________ (kiss)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a zombi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 yester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The man __________ (devour)  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zombi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y it yours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389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. My books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WERE STO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steal)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zombies)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yester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ast simple pa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s/were+voltooid deel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mymcpl.org/_uploaded_resources/imagecache/blog_wide_thumb/zombie_booksrev.jpg"/>
          <p:cNvPicPr/>
          <p:nvPr/>
        </p:nvPicPr>
        <p:blipFill>
          <a:blip r:embed="rId1"/>
          <a:stretch/>
        </p:blipFill>
        <p:spPr>
          <a:xfrm>
            <a:off x="4932360" y="1341360"/>
            <a:ext cx="3887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y it yours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389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She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WAS KISSED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kiss)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a zombi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 yester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ast simple pa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s/were+voltooid deel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zombieresearchsociety.com/wp-content/uploads/2012/07/Zombie-Kiss.jpg"/>
          <p:cNvPicPr/>
          <p:nvPr/>
        </p:nvPicPr>
        <p:blipFill>
          <a:blip r:embed="rId1"/>
          <a:stretch/>
        </p:blipFill>
        <p:spPr>
          <a:xfrm>
            <a:off x="4572000" y="1700280"/>
            <a:ext cx="432108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y it yours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389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The ma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IS DEVOURED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devour)  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zombi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resent simple pa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m/is/are+voltooid deel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ttp://tbivision.com/wp-content/uploads/2013/02/TheWalkingDead_S2_ep01_Z04.jpg_cmyk.jpg"/>
          <p:cNvPicPr/>
          <p:nvPr/>
        </p:nvPicPr>
        <p:blipFill>
          <a:blip r:embed="rId1"/>
          <a:stretch/>
        </p:blipFill>
        <p:spPr>
          <a:xfrm>
            <a:off x="3708360" y="1413000"/>
            <a:ext cx="521640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0:14:12Z</dcterms:created>
  <dc:creator>Gebruiker</dc:creator>
  <dc:description/>
  <dc:language>en-US</dc:language>
  <cp:lastModifiedBy>Gebruiker</cp:lastModifiedBy>
  <dcterms:modified xsi:type="dcterms:W3CDTF">2013-11-24T20:25:06Z</dcterms:modified>
  <cp:revision>26</cp:revision>
  <dc:subject/>
  <dc:title>The passive</dc:title>
</cp:coreProperties>
</file>