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DDE8-8036-4FE9-B697-A82DEC3C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4EB-B340-4E85-9878-B4F0278D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E53-CF82-49F6-85EE-77909D0E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6CB8-66A5-4834-91B6-B6EF9F1C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9164-2460-4CE5-A0E6-37A27919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2EE7-0B43-47E1-8A47-8F364430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26CD-8158-4418-A402-1825A65B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10A2-3BBA-4C0B-86DE-7E246CBF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E94F-DC4B-449F-92A4-CB48E383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A55-A098-4C7B-A65B-7E3800AD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C080-7A38-4251-B1B8-F066C4A1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1AC4-1A74-4C25-A4CC-3BE21080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9E0F-E536-495A-B650-AED94975F15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33360"/>
          <a:ext cx="8496000" cy="626436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480"/>
                <a:gridCol w="1700280"/>
                <a:gridCol w="1698480"/>
              </a:tblGrid>
              <a:tr h="598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erlatives (overtreffende tra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SY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Één lettergre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86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TWO SYLLABLE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lettergrepen of me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83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 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485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5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6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79280" y="476280"/>
          <a:ext cx="8713800" cy="4876920"/>
        </p:xfrm>
        <a:graphic>
          <a:graphicData uri="http://schemas.openxmlformats.org/drawingml/2006/table">
            <a:tbl>
              <a:tblPr/>
              <a:tblGrid>
                <a:gridCol w="1743120"/>
                <a:gridCol w="1741680"/>
                <a:gridCol w="1743120"/>
                <a:gridCol w="1742760"/>
                <a:gridCol w="1743120"/>
              </a:tblGrid>
              <a:tr h="5144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ar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…. 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…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812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n’t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big 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ad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beautiful than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the most beautifu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ity in 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8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ld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a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lli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than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girl in class is Susa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35:21Z</dcterms:created>
  <dc:creator>Gebruiker</dc:creator>
  <dc:description/>
  <dc:language>en-US</dc:language>
  <cp:lastModifiedBy>Gebruiker</cp:lastModifiedBy>
  <dcterms:modified xsi:type="dcterms:W3CDTF">2013-09-01T19:10:43Z</dcterms:modified>
  <cp:revision>4</cp:revision>
  <dc:subject/>
  <dc:title>Dia 1</dc:title>
</cp:coreProperties>
</file>