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5A6-969D-4DBC-A4EC-A4020B6F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62A-6419-40A8-AF8B-BABA761C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A9A-0E83-43AD-ACDA-52C1D373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3A9-DAE6-4772-82D6-5A24C4B7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484-B8A2-440D-8DC3-41AB0E7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F7D-1BA3-4CB8-BE11-DD11BA39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81A-D0D5-4A42-814E-C6F7F31E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A97-981A-4803-85CE-FF04ACE8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CD8-CE90-4C35-82F1-0EE129DB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07F-D8B5-44D6-B8DF-24145069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784-EFAD-4943-8365-D3A8957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BD0-6E6A-4805-A632-710111E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18AF-7C23-456D-8D95-DACC3C88E3F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42840"/>
          <a:ext cx="8856720" cy="6626160"/>
        </p:xfrm>
        <a:graphic>
          <a:graphicData uri="http://schemas.openxmlformats.org/drawingml/2006/table">
            <a:tbl>
              <a:tblPr/>
              <a:tblGrid>
                <a:gridCol w="2079720"/>
                <a:gridCol w="2695320"/>
                <a:gridCol w="1231920"/>
                <a:gridCol w="28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rt ans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(I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’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not (I am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I am. / No, I’m 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(you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n’t (you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you are / No, you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’s (he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isn’t (he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h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he is / No, he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’s (she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isn’t (she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sh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she is / No, she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(it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sn’t (it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it is / No, it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’re (we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’re not (we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w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we are / No, we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’re (they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’re not (they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the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they are / No, they aren’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(you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not (you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you are/ No, you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abel het werkwoord zij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 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’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j 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’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j/zij/het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is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’s/she’s/it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j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e’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j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’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lie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’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11-24T21:13:08Z</dcterms:modified>
  <cp:revision>16</cp:revision>
  <dc:subject/>
  <dc:title>Dia 1</dc:title>
</cp:coreProperties>
</file>