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0EC-DE04-4784-964A-59B2AC89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B821-F73F-4CA7-9477-9846BC1D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30ED-B328-434F-A2AD-0A58AD32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49ED-238A-4891-8D1A-E6F498FE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DAF-1173-4C86-A1E9-9436470D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291B-1C7F-404C-97D0-E37A821A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19E-BED6-42E3-AB43-48BA6F23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196A-329A-443A-B995-3DF874BA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399-BF22-43F6-87B8-71D1ED63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1AA-EE2A-4419-9CEB-A9F8441E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FBFA-5CCE-4168-B597-A5E19F67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3468-EB29-4FC6-AC29-EB2BA198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B9A6-CAF3-4EDD-BDA5-205EE427889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alternativeteaching.files.wordpress.com/2013/06/546682_457833490923207_576466024_n.jpg"/>
          <p:cNvPicPr/>
          <p:nvPr/>
        </p:nvPicPr>
        <p:blipFill>
          <a:blip r:embed="rId1"/>
          <a:stretch/>
        </p:blipFill>
        <p:spPr>
          <a:xfrm>
            <a:off x="39528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773760"/>
        </p:xfrm>
        <a:graphic>
          <a:graphicData uri="http://schemas.openxmlformats.org/drawingml/2006/table">
            <a:tbl>
              <a:tblPr/>
              <a:tblGrid>
                <a:gridCol w="2411280"/>
                <a:gridCol w="3684600"/>
                <a:gridCol w="3048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3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goodby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a pr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so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thank 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out 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ag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d say…. (ik zou zeggen dat…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other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l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jo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someone off (become angry with some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tr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ec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say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tell someone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i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e was t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out 90% of what w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y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sn’t spoke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one’s body languag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lls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how they are feeling.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ol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 he was tir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TCH EQUIVA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g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tell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l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4:23:33Z</dcterms:created>
  <dc:creator>Gebruiker</dc:creator>
  <dc:description/>
  <dc:language>en-US</dc:language>
  <cp:lastModifiedBy>Gebruiker</cp:lastModifiedBy>
  <dcterms:modified xsi:type="dcterms:W3CDTF">2013-09-22T14:36:32Z</dcterms:modified>
  <cp:revision>4</cp:revision>
  <dc:subject/>
  <dc:title>Dia 1</dc:title>
</cp:coreProperties>
</file>