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A4D-B974-437A-93A6-CA0AD4C2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CAB-1FCD-4C90-9179-B4C16ACB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66C-A0D0-43DD-BD82-78ABCFB7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08C-D17F-4374-AFAE-9B414608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948-663F-4AEA-8ECB-71D14AAD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652-7A75-423C-8798-05141C2F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7C8-BCF9-442E-B7C0-45E04CCF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69B-DF49-4E38-BCCE-9B402996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699-D34B-4035-BA03-154C3C77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701-35AF-4B00-A50D-63FE060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2A2-08BD-4B60-AD00-7C08F16A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EFF-C8AE-4AA8-A9FC-DB3C6A47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2178-2282-4876-9FBD-ABBCE595FA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885080" y="620640"/>
            <a:ext cx="843120" cy="5761080"/>
          </a:xfrm>
          <a:prstGeom prst="rect">
            <a:avLst/>
          </a:prstGeom>
          <a:solidFill>
            <a:srgbClr val="8ac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2664000" cy="863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324000" y="1197000"/>
            <a:ext cx="65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Personal and object pronou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(persoonlijke voornaamwoord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50920" y="2060640"/>
            <a:ext cx="74898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 looks like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m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ij/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 is as old as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je/jou/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ke’s cat never hit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hi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e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h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really like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h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a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n’t touch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you call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u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teachers like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jull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can feed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ze/hu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lauwe woorden: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object pronouns =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jdend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eewerkend voorwer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885080" y="620640"/>
            <a:ext cx="843120" cy="5761080"/>
          </a:xfrm>
          <a:prstGeom prst="rect">
            <a:avLst/>
          </a:prstGeom>
          <a:solidFill>
            <a:srgbClr val="8ac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2664000" cy="863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68360" y="112536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ow, show what you know!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lete these sentence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95280" y="1989000"/>
            <a:ext cx="646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I want to see ____ soon!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Please, call ____ tonight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me/mij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Can you give that drink to ____?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a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Do they talk to ____?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julli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Give ____ to me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That pizza is for ____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Tell _____ I’m at home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ze/hen/hu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I like to be friends with ____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j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4:28:40Z</dcterms:created>
  <dc:creator>votalen</dc:creator>
  <dc:description/>
  <dc:language>en-US</dc:language>
  <cp:lastModifiedBy>lbd</cp:lastModifiedBy>
  <dcterms:modified xsi:type="dcterms:W3CDTF">2013-11-13T08:57:28Z</dcterms:modified>
  <cp:revision>9</cp:revision>
  <dc:subject/>
  <dc:title>Negations with to be  (ontkenningen met to be)</dc:title>
</cp:coreProperties>
</file>