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AEC-E418-4E84-AA07-8C557DF1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9B6-2A2A-44DD-9CA2-DD2497B1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0CE-1237-4DA9-9D3D-0D555ECA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4B9-D2AF-4C04-96C9-FA6392A5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7994-8C0A-40BE-BAB4-6272355E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423-C37B-48A6-A92C-EB530E38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E7E-F18A-4FF7-A05C-7065EFA2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37C-F724-498F-9E5E-43EBF967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9A2-A64F-4335-99E2-BEC3145F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321-8139-484C-9887-6ACB5CFB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40F-92D4-4A64-9374-38BCDDEF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4B4-DEF7-4510-8A85-CACF82DE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710568-CDD8-4628-BE2C-20068832D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C30-8539-4870-B736-DFE635ACC39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960" y="1419120"/>
            <a:ext cx="9067680" cy="14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iner werd de dominotheorie opgest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48960" y="56674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4880" y="56674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87760" y="56674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22600" y="56674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24400" y="56674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2560" y="31748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9240" y="2852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1748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9560" y="31748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26560" y="31748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4760" y="31748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3360" y="2852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56240" y="2852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91440" y="2852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93240" y="2852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48960" y="42721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2600" y="4300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24400" y="42721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24400" y="2852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22600" y="28526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760" y="28526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4880" y="2852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48960" y="28526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4880" y="43020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87760" y="42498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45480" y="3017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3400" y="32590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45480" y="4006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23400" y="41450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720" y="36320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3017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1600" y="32068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4600" y="32306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6576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0863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3520" y="31798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1360" y="36320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07040" y="40114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1600" y="41720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9830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3400" y="46274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45480" y="4386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0" y="55926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0280" y="49766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4600" y="46274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07040" y="54547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17920" y="54021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3520" y="46274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0292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1600" y="46544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3400" y="55926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5480" y="53784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3680" y="44658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78720" y="50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3680" y="54309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F3D8-6FE4-4B2B-A66F-6275086705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veilighe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1B1-5B10-40F8-8B8B-D791B4BDBDA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846-C3AE-42E1-A2BA-27727C02158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701-876C-4CC3-95B7-96AA0B91254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0" y="2016000"/>
            <a:ext cx="6553080" cy="40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212-D31B-4E74-87A2-47C0B6A92A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B97-4E14-4CD3-BCFE-F18262ABCBE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5008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1E9-E90E-47C6-AC50-8DFA385EF6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FF5-CBA3-4781-8817-A1C3643829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93B-2D11-4B3F-8786-FC9ADC18A9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7F5-CA17-4E0E-A57B-837C42E7147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733920"/>
            <a:ext cx="5640480" cy="79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CC9-81A1-413B-88F2-71CC0197F5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8EE-04D7-4DE1-99A1-D923AD2B8A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9A2-AAA6-42D4-830F-E0318ACDCF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32004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45720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7DF-13A9-41B1-A312-628E31CEB9D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156-D657-4CD6-85F9-380135CE082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E3B-9671-4C99-9AAB-2B4B909509B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BB7-A1FA-440F-A968-E5F2464CEC1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B5B-3493-4EF2-926F-11858EB272A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4120" cy="61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EE8-DD07-431A-87E8-0F8FC5F2B044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762-4298-4209-AF6E-2CDE06E9E93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508640"/>
            <a:ext cx="883908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rkgever.  Deze heeft d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nderzoeken zod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e toekom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sch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C7E-D187-4406-9C56-5F66195A1D6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905-BCAB-4B1C-907F-3A784A3763D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4E9-625C-4757-95FA-E28CF0911F5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E64-3144-4E7F-B8B8-A9E23B4DDB8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het recht op 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99B-4D6D-49C7-AC5A-370788B4605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D8C-46CA-4DF8-8B58-EE688CE839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02120" y="642960"/>
            <a:ext cx="4608720" cy="636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0680" y="666720"/>
            <a:ext cx="63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ijsbergtheorie,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is “top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je ziet is maar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6D6-26C1-48C9-81D7-0871831ED2D5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ijsberg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51055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ongevallen terugdringen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situ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bij de rol van de direct  leidinggevende crucia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539720"/>
            <a:ext cx="6865920" cy="3302280"/>
          </a:xfrm>
          <a:custGeom>
            <a:avLst/>
            <a:gdLst/>
            <a:ahLst/>
            <a:rect l="l" t="t" r="r" b="b"/>
            <a:pathLst>
              <a:path w="2935" h="3065">
                <a:moveTo>
                  <a:pt x="1622" y="10"/>
                </a:moveTo>
                <a:lnTo>
                  <a:pt x="1565" y="0"/>
                </a:lnTo>
                <a:lnTo>
                  <a:pt x="1526" y="130"/>
                </a:lnTo>
                <a:lnTo>
                  <a:pt x="1448" y="209"/>
                </a:lnTo>
                <a:lnTo>
                  <a:pt x="1422" y="313"/>
                </a:lnTo>
                <a:lnTo>
                  <a:pt x="1343" y="391"/>
                </a:lnTo>
                <a:lnTo>
                  <a:pt x="1304" y="430"/>
                </a:lnTo>
                <a:lnTo>
                  <a:pt x="1278" y="470"/>
                </a:lnTo>
                <a:lnTo>
                  <a:pt x="1278" y="509"/>
                </a:lnTo>
                <a:lnTo>
                  <a:pt x="1278" y="548"/>
                </a:lnTo>
                <a:lnTo>
                  <a:pt x="1226" y="561"/>
                </a:lnTo>
                <a:lnTo>
                  <a:pt x="1187" y="561"/>
                </a:lnTo>
                <a:lnTo>
                  <a:pt x="1174" y="522"/>
                </a:lnTo>
                <a:lnTo>
                  <a:pt x="1174" y="483"/>
                </a:lnTo>
                <a:lnTo>
                  <a:pt x="1174" y="456"/>
                </a:lnTo>
                <a:lnTo>
                  <a:pt x="1135" y="483"/>
                </a:lnTo>
                <a:lnTo>
                  <a:pt x="1109" y="522"/>
                </a:lnTo>
                <a:lnTo>
                  <a:pt x="1109" y="574"/>
                </a:lnTo>
                <a:lnTo>
                  <a:pt x="1109" y="613"/>
                </a:lnTo>
                <a:lnTo>
                  <a:pt x="1109" y="652"/>
                </a:lnTo>
                <a:lnTo>
                  <a:pt x="1096" y="691"/>
                </a:lnTo>
                <a:lnTo>
                  <a:pt x="1096" y="730"/>
                </a:lnTo>
                <a:lnTo>
                  <a:pt x="1070" y="769"/>
                </a:lnTo>
                <a:lnTo>
                  <a:pt x="1070" y="796"/>
                </a:lnTo>
                <a:lnTo>
                  <a:pt x="1070" y="835"/>
                </a:lnTo>
                <a:lnTo>
                  <a:pt x="1057" y="874"/>
                </a:lnTo>
                <a:lnTo>
                  <a:pt x="1057" y="926"/>
                </a:lnTo>
                <a:lnTo>
                  <a:pt x="1043" y="965"/>
                </a:lnTo>
                <a:lnTo>
                  <a:pt x="1043" y="1004"/>
                </a:lnTo>
                <a:lnTo>
                  <a:pt x="1030" y="1043"/>
                </a:lnTo>
                <a:lnTo>
                  <a:pt x="1017" y="1095"/>
                </a:lnTo>
                <a:lnTo>
                  <a:pt x="1017" y="1122"/>
                </a:lnTo>
                <a:lnTo>
                  <a:pt x="991" y="1161"/>
                </a:lnTo>
                <a:lnTo>
                  <a:pt x="978" y="1239"/>
                </a:lnTo>
                <a:lnTo>
                  <a:pt x="965" y="1278"/>
                </a:lnTo>
                <a:lnTo>
                  <a:pt x="939" y="1317"/>
                </a:lnTo>
                <a:lnTo>
                  <a:pt x="939" y="1356"/>
                </a:lnTo>
                <a:lnTo>
                  <a:pt x="913" y="1395"/>
                </a:lnTo>
                <a:lnTo>
                  <a:pt x="900" y="1474"/>
                </a:lnTo>
                <a:lnTo>
                  <a:pt x="887" y="1552"/>
                </a:lnTo>
                <a:lnTo>
                  <a:pt x="861" y="1591"/>
                </a:lnTo>
                <a:lnTo>
                  <a:pt x="822" y="1617"/>
                </a:lnTo>
                <a:lnTo>
                  <a:pt x="783" y="1630"/>
                </a:lnTo>
                <a:lnTo>
                  <a:pt x="744" y="1630"/>
                </a:lnTo>
                <a:lnTo>
                  <a:pt x="704" y="1656"/>
                </a:lnTo>
                <a:lnTo>
                  <a:pt x="665" y="1656"/>
                </a:lnTo>
                <a:lnTo>
                  <a:pt x="626" y="1643"/>
                </a:lnTo>
                <a:lnTo>
                  <a:pt x="626" y="1604"/>
                </a:lnTo>
                <a:lnTo>
                  <a:pt x="600" y="1565"/>
                </a:lnTo>
                <a:lnTo>
                  <a:pt x="587" y="1526"/>
                </a:lnTo>
                <a:lnTo>
                  <a:pt x="561" y="1565"/>
                </a:lnTo>
                <a:lnTo>
                  <a:pt x="548" y="1604"/>
                </a:lnTo>
                <a:lnTo>
                  <a:pt x="522" y="1643"/>
                </a:lnTo>
                <a:lnTo>
                  <a:pt x="483" y="1682"/>
                </a:lnTo>
                <a:lnTo>
                  <a:pt x="457" y="1734"/>
                </a:lnTo>
                <a:lnTo>
                  <a:pt x="444" y="1774"/>
                </a:lnTo>
                <a:lnTo>
                  <a:pt x="444" y="1813"/>
                </a:lnTo>
                <a:lnTo>
                  <a:pt x="444" y="1865"/>
                </a:lnTo>
                <a:lnTo>
                  <a:pt x="444" y="1917"/>
                </a:lnTo>
                <a:lnTo>
                  <a:pt x="444" y="2047"/>
                </a:lnTo>
                <a:lnTo>
                  <a:pt x="418" y="2100"/>
                </a:lnTo>
                <a:lnTo>
                  <a:pt x="391" y="2191"/>
                </a:lnTo>
                <a:lnTo>
                  <a:pt x="352" y="2282"/>
                </a:lnTo>
                <a:lnTo>
                  <a:pt x="339" y="2321"/>
                </a:lnTo>
                <a:lnTo>
                  <a:pt x="326" y="2360"/>
                </a:lnTo>
                <a:lnTo>
                  <a:pt x="313" y="2412"/>
                </a:lnTo>
                <a:lnTo>
                  <a:pt x="287" y="2439"/>
                </a:lnTo>
                <a:lnTo>
                  <a:pt x="274" y="2517"/>
                </a:lnTo>
                <a:lnTo>
                  <a:pt x="235" y="2543"/>
                </a:lnTo>
                <a:lnTo>
                  <a:pt x="196" y="2543"/>
                </a:lnTo>
                <a:lnTo>
                  <a:pt x="157" y="2543"/>
                </a:lnTo>
                <a:lnTo>
                  <a:pt x="118" y="2543"/>
                </a:lnTo>
                <a:lnTo>
                  <a:pt x="91" y="2543"/>
                </a:lnTo>
                <a:lnTo>
                  <a:pt x="65" y="2582"/>
                </a:lnTo>
                <a:lnTo>
                  <a:pt x="52" y="2621"/>
                </a:lnTo>
                <a:lnTo>
                  <a:pt x="26" y="2673"/>
                </a:lnTo>
                <a:lnTo>
                  <a:pt x="13" y="2712"/>
                </a:lnTo>
                <a:lnTo>
                  <a:pt x="0" y="2765"/>
                </a:lnTo>
                <a:lnTo>
                  <a:pt x="0" y="2804"/>
                </a:lnTo>
                <a:lnTo>
                  <a:pt x="26" y="2843"/>
                </a:lnTo>
                <a:lnTo>
                  <a:pt x="78" y="2882"/>
                </a:lnTo>
                <a:lnTo>
                  <a:pt x="105" y="2908"/>
                </a:lnTo>
                <a:lnTo>
                  <a:pt x="157" y="2947"/>
                </a:lnTo>
                <a:lnTo>
                  <a:pt x="209" y="2986"/>
                </a:lnTo>
                <a:lnTo>
                  <a:pt x="261" y="3012"/>
                </a:lnTo>
                <a:lnTo>
                  <a:pt x="365" y="3038"/>
                </a:lnTo>
                <a:lnTo>
                  <a:pt x="470" y="3051"/>
                </a:lnTo>
                <a:lnTo>
                  <a:pt x="652" y="3051"/>
                </a:lnTo>
                <a:lnTo>
                  <a:pt x="913" y="3064"/>
                </a:lnTo>
                <a:lnTo>
                  <a:pt x="1226" y="3064"/>
                </a:lnTo>
                <a:lnTo>
                  <a:pt x="1487" y="3064"/>
                </a:lnTo>
                <a:lnTo>
                  <a:pt x="1617" y="3064"/>
                </a:lnTo>
                <a:lnTo>
                  <a:pt x="1656" y="3064"/>
                </a:lnTo>
                <a:lnTo>
                  <a:pt x="1696" y="3064"/>
                </a:lnTo>
                <a:lnTo>
                  <a:pt x="1735" y="3064"/>
                </a:lnTo>
                <a:lnTo>
                  <a:pt x="1813" y="3064"/>
                </a:lnTo>
                <a:lnTo>
                  <a:pt x="1943" y="3064"/>
                </a:lnTo>
                <a:lnTo>
                  <a:pt x="2100" y="3064"/>
                </a:lnTo>
                <a:lnTo>
                  <a:pt x="2230" y="3064"/>
                </a:lnTo>
                <a:lnTo>
                  <a:pt x="2361" y="3064"/>
                </a:lnTo>
                <a:lnTo>
                  <a:pt x="2517" y="3064"/>
                </a:lnTo>
                <a:lnTo>
                  <a:pt x="2674" y="3064"/>
                </a:lnTo>
                <a:lnTo>
                  <a:pt x="2778" y="3051"/>
                </a:lnTo>
                <a:lnTo>
                  <a:pt x="2830" y="3012"/>
                </a:lnTo>
                <a:lnTo>
                  <a:pt x="2882" y="2973"/>
                </a:lnTo>
                <a:lnTo>
                  <a:pt x="2908" y="2934"/>
                </a:lnTo>
                <a:lnTo>
                  <a:pt x="2934" y="2895"/>
                </a:lnTo>
                <a:lnTo>
                  <a:pt x="2934" y="2843"/>
                </a:lnTo>
                <a:lnTo>
                  <a:pt x="2934" y="2804"/>
                </a:lnTo>
                <a:lnTo>
                  <a:pt x="2908" y="2765"/>
                </a:lnTo>
                <a:lnTo>
                  <a:pt x="2869" y="2765"/>
                </a:lnTo>
                <a:lnTo>
                  <a:pt x="2791" y="2765"/>
                </a:lnTo>
                <a:lnTo>
                  <a:pt x="2713" y="2752"/>
                </a:lnTo>
                <a:lnTo>
                  <a:pt x="2608" y="2738"/>
                </a:lnTo>
                <a:lnTo>
                  <a:pt x="2530" y="2725"/>
                </a:lnTo>
                <a:lnTo>
                  <a:pt x="2491" y="2712"/>
                </a:lnTo>
                <a:lnTo>
                  <a:pt x="2465" y="2673"/>
                </a:lnTo>
                <a:lnTo>
                  <a:pt x="2426" y="2634"/>
                </a:lnTo>
                <a:lnTo>
                  <a:pt x="2400" y="2530"/>
                </a:lnTo>
                <a:lnTo>
                  <a:pt x="2374" y="2426"/>
                </a:lnTo>
                <a:lnTo>
                  <a:pt x="2361" y="2399"/>
                </a:lnTo>
                <a:lnTo>
                  <a:pt x="2348" y="2347"/>
                </a:lnTo>
                <a:lnTo>
                  <a:pt x="2348" y="2295"/>
                </a:lnTo>
                <a:lnTo>
                  <a:pt x="2348" y="2191"/>
                </a:lnTo>
                <a:lnTo>
                  <a:pt x="2348" y="2152"/>
                </a:lnTo>
                <a:lnTo>
                  <a:pt x="2361" y="2113"/>
                </a:lnTo>
                <a:lnTo>
                  <a:pt x="2374" y="2073"/>
                </a:lnTo>
                <a:lnTo>
                  <a:pt x="2374" y="2034"/>
                </a:lnTo>
                <a:lnTo>
                  <a:pt x="2374" y="1995"/>
                </a:lnTo>
                <a:lnTo>
                  <a:pt x="2348" y="1943"/>
                </a:lnTo>
                <a:lnTo>
                  <a:pt x="2308" y="1904"/>
                </a:lnTo>
                <a:lnTo>
                  <a:pt x="2295" y="1865"/>
                </a:lnTo>
                <a:lnTo>
                  <a:pt x="2269" y="1826"/>
                </a:lnTo>
                <a:lnTo>
                  <a:pt x="2269" y="1787"/>
                </a:lnTo>
                <a:lnTo>
                  <a:pt x="2256" y="1760"/>
                </a:lnTo>
                <a:lnTo>
                  <a:pt x="2243" y="1682"/>
                </a:lnTo>
                <a:lnTo>
                  <a:pt x="2230" y="1643"/>
                </a:lnTo>
                <a:lnTo>
                  <a:pt x="2217" y="1591"/>
                </a:lnTo>
                <a:lnTo>
                  <a:pt x="2217" y="1487"/>
                </a:lnTo>
                <a:lnTo>
                  <a:pt x="2204" y="1382"/>
                </a:lnTo>
                <a:lnTo>
                  <a:pt x="2191" y="1343"/>
                </a:lnTo>
                <a:lnTo>
                  <a:pt x="2178" y="1291"/>
                </a:lnTo>
                <a:lnTo>
                  <a:pt x="2139" y="1265"/>
                </a:lnTo>
                <a:lnTo>
                  <a:pt x="2100" y="1265"/>
                </a:lnTo>
                <a:lnTo>
                  <a:pt x="2061" y="1265"/>
                </a:lnTo>
                <a:lnTo>
                  <a:pt x="2035" y="1226"/>
                </a:lnTo>
                <a:lnTo>
                  <a:pt x="2022" y="1122"/>
                </a:lnTo>
                <a:lnTo>
                  <a:pt x="2022" y="1082"/>
                </a:lnTo>
                <a:lnTo>
                  <a:pt x="2022" y="1043"/>
                </a:lnTo>
                <a:lnTo>
                  <a:pt x="2035" y="1004"/>
                </a:lnTo>
                <a:lnTo>
                  <a:pt x="2061" y="965"/>
                </a:lnTo>
                <a:lnTo>
                  <a:pt x="2061" y="926"/>
                </a:lnTo>
                <a:lnTo>
                  <a:pt x="2048" y="887"/>
                </a:lnTo>
                <a:lnTo>
                  <a:pt x="2022" y="848"/>
                </a:lnTo>
                <a:lnTo>
                  <a:pt x="1982" y="743"/>
                </a:lnTo>
                <a:lnTo>
                  <a:pt x="1969" y="665"/>
                </a:lnTo>
                <a:lnTo>
                  <a:pt x="1956" y="626"/>
                </a:lnTo>
                <a:lnTo>
                  <a:pt x="1943" y="574"/>
                </a:lnTo>
                <a:lnTo>
                  <a:pt x="1930" y="535"/>
                </a:lnTo>
                <a:lnTo>
                  <a:pt x="1852" y="456"/>
                </a:lnTo>
                <a:lnTo>
                  <a:pt x="1826" y="417"/>
                </a:lnTo>
                <a:lnTo>
                  <a:pt x="1800" y="378"/>
                </a:lnTo>
                <a:lnTo>
                  <a:pt x="1774" y="339"/>
                </a:lnTo>
                <a:lnTo>
                  <a:pt x="1735" y="300"/>
                </a:lnTo>
                <a:lnTo>
                  <a:pt x="1709" y="261"/>
                </a:lnTo>
                <a:lnTo>
                  <a:pt x="1682" y="222"/>
                </a:lnTo>
                <a:lnTo>
                  <a:pt x="1643" y="209"/>
                </a:lnTo>
                <a:lnTo>
                  <a:pt x="1630" y="170"/>
                </a:lnTo>
                <a:lnTo>
                  <a:pt x="1604" y="130"/>
                </a:lnTo>
                <a:lnTo>
                  <a:pt x="1578" y="91"/>
                </a:lnTo>
                <a:lnTo>
                  <a:pt x="1622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9625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82880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0"/>
            <a:ext cx="212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19520"/>
            <a:ext cx="284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42900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191120"/>
            <a:ext cx="281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C39-894A-449B-9C1F-75F5761A14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06680"/>
            <a:ext cx="10199520" cy="505908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9880" y="5943600"/>
            <a:ext cx="718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.000 gevallen van onveilige handelingen en/of situ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5584680"/>
            <a:ext cx="79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27200" y="4800600"/>
            <a:ext cx="5778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00 (bijna) ongevallen met gering letsel/ehbo zonder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1840" y="4653000"/>
            <a:ext cx="617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084560"/>
            <a:ext cx="468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ngevallen met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886200"/>
            <a:ext cx="46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2360" y="3200400"/>
            <a:ext cx="340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 ongevallen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nstig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3600" y="3102120"/>
            <a:ext cx="30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133720"/>
            <a:ext cx="318960" cy="9144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362320"/>
            <a:ext cx="762120" cy="228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438280"/>
            <a:ext cx="78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57C-DB86-418B-8465-CFD4B94943B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3733560" cy="505944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9436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6440" y="5584680"/>
            <a:ext cx="2919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495288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48000" y="4653000"/>
            <a:ext cx="226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408456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3886200"/>
            <a:ext cx="1684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9040" y="3102120"/>
            <a:ext cx="1106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514600"/>
            <a:ext cx="78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rbeidsongeval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177192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/>
          <p:cNvPicPr/>
          <p:nvPr/>
        </p:nvPicPr>
        <p:blipFill>
          <a:blip r:embed="rId2"/>
          <a:stretch/>
        </p:blipFill>
        <p:spPr>
          <a:xfrm>
            <a:off x="7467480" y="457200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0" r="2107" b="0"/>
          <a:stretch/>
        </p:blipFill>
        <p:spPr>
          <a:xfrm>
            <a:off x="2847960" y="3657600"/>
            <a:ext cx="92232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3623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0" r="13984" b="0"/>
          <a:stretch/>
        </p:blipFill>
        <p:spPr>
          <a:xfrm>
            <a:off x="3886200" y="198108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35B-3CF0-4BE7-A8EB-429570B6787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arak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BD4-507C-4C22-80A4-DB3F955B451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Robbert Oosterom</cp:lastModifiedBy>
  <cp:lastPrinted>2000-05-31T16:35:47Z</cp:lastPrinted>
  <dcterms:modified xsi:type="dcterms:W3CDTF">2013-09-26T21:38:03Z</dcterms:modified>
  <cp:revision>31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