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10666413" cy="7239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CB07-301D-4547-B7ED-C39370407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0280" y="4359240"/>
            <a:ext cx="9067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25B6-7775-4F52-AD91-BE0452DBD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0280" y="435924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46800" y="435924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5478-CB77-4BF5-B019-407731458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66400" y="209052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32160" y="209052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0280" y="435924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66400" y="435924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32160" y="4359240"/>
            <a:ext cx="291960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2DF4-A4ED-4FC3-A6B5-5D04DD26D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41C1-78D6-49B4-B962-FC0C86D64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A202-00F0-4DE4-9E07-7845CDFD5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9D31-544B-49BF-85BD-6A53215F5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C95A-C6F8-41A0-8C09-BE00983CD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0280" y="642600"/>
            <a:ext cx="906768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89C6-B3B3-4575-8588-20C95EE86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0280" y="435924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CCE2-0204-408A-8B9A-40BEEE38E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46800" y="435924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2D11-E141-46AE-A185-2E3B4B83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46800" y="2090520"/>
            <a:ext cx="442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0280" y="4359240"/>
            <a:ext cx="906768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F574-7326-4063-A3D9-5F77A86D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99920" y="6595560"/>
            <a:ext cx="222228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45000" y="6595560"/>
            <a:ext cx="337824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45320" y="6595560"/>
            <a:ext cx="2222640" cy="48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7F61896-7F75-4EA4-9896-91292C3176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00280" y="642960"/>
            <a:ext cx="9067680" cy="193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SVEILIGHEI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VC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99840" y="2498400"/>
            <a:ext cx="7467480" cy="349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NGEVA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9E0A-D381-45E1-87C4-450A97EF4D0F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00280" y="230040"/>
            <a:ext cx="9067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 voorkomen van ongeva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2960" y="1419120"/>
            <a:ext cx="9067680" cy="14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or Heinrich en Veiligheidskundig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teiner werd de dominotheorie opgest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948960" y="5667480"/>
            <a:ext cx="106668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2774880" y="566748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4487760" y="566748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6222600" y="566748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8024400" y="566748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52560" y="3174840"/>
            <a:ext cx="0" cy="281484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019240" y="2852640"/>
            <a:ext cx="0" cy="281484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76680" y="3174840"/>
            <a:ext cx="0" cy="281484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89560" y="3174840"/>
            <a:ext cx="0" cy="281484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026560" y="317484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224760" y="317484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43360" y="2852640"/>
            <a:ext cx="0" cy="281484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56240" y="2852640"/>
            <a:ext cx="0" cy="281484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291440" y="285264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093240" y="285264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948960" y="4272120"/>
            <a:ext cx="106668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6222600" y="430056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8024400" y="427212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8024400" y="285264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6222600" y="285264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4487760" y="285264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774880" y="285264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948960" y="2852640"/>
            <a:ext cx="106668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2774880" y="4302000"/>
            <a:ext cx="1067040" cy="32256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4487760" y="4249800"/>
            <a:ext cx="1067040" cy="32076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745480" y="301788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123400" y="3259080"/>
            <a:ext cx="24732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745480" y="400680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123400" y="414504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478720" y="3632040"/>
            <a:ext cx="247680" cy="2336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943680" y="301788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21600" y="3206880"/>
            <a:ext cx="24732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584600" y="3230640"/>
            <a:ext cx="2494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371600" y="3657600"/>
            <a:ext cx="247680" cy="23184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495600" y="4086360"/>
            <a:ext cx="247680" cy="23328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73520" y="3179880"/>
            <a:ext cx="247680" cy="23148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851360" y="3632040"/>
            <a:ext cx="24912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07040" y="4011480"/>
            <a:ext cx="24912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321600" y="4172040"/>
            <a:ext cx="24732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943680" y="398304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123400" y="462744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745480" y="43862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21600" y="559260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940280" y="4976640"/>
            <a:ext cx="24912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84600" y="4627440"/>
            <a:ext cx="2494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207040" y="5454720"/>
            <a:ext cx="24912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17920" y="5402160"/>
            <a:ext cx="249120" cy="2336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73520" y="462744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71600" y="5029200"/>
            <a:ext cx="247680" cy="23328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321600" y="4654440"/>
            <a:ext cx="247320" cy="2336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23400" y="559260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745480" y="537840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43680" y="446580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478720" y="50068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943680" y="543096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A680-1BB7-40C3-814B-E04E2901491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00280" y="17748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antwoordelijk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00280" y="1366920"/>
            <a:ext cx="9067680" cy="499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edereen is verantwoordelijk voor veilighei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978D-BFCD-4263-8D91-9E8082DBCD9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veilig handelen / onveilige situ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377280" y="2349360"/>
            <a:ext cx="0" cy="281628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8310240" y="5165640"/>
            <a:ext cx="1066680" cy="3207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10600" y="2671920"/>
            <a:ext cx="0" cy="281448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573960" y="2671920"/>
            <a:ext cx="0" cy="281448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40640" y="2349360"/>
            <a:ext cx="0" cy="281628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27760" y="2349360"/>
            <a:ext cx="0" cy="281628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61080" y="2671920"/>
            <a:ext cx="0" cy="281448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79880" y="2349360"/>
            <a:ext cx="0" cy="281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016080" y="2671920"/>
            <a:ext cx="0" cy="28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6573600" y="5165640"/>
            <a:ext cx="1066680" cy="32076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4860720" y="5165640"/>
            <a:ext cx="1066680" cy="32076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3012840" y="5165640"/>
            <a:ext cx="106668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8310240" y="2349360"/>
            <a:ext cx="1066680" cy="3225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8310240" y="3924360"/>
            <a:ext cx="1066680" cy="3207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6576840" y="2349360"/>
            <a:ext cx="1067040" cy="32256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012840" y="3924360"/>
            <a:ext cx="106668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3012840" y="2349360"/>
            <a:ext cx="1066680" cy="3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4860720" y="2349360"/>
            <a:ext cx="1066680" cy="32256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860720" y="3900600"/>
            <a:ext cx="106668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573600" y="390060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211040" y="2349360"/>
            <a:ext cx="1066680" cy="3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1211040" y="390060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1211040" y="5165640"/>
            <a:ext cx="1066680" cy="320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81320" y="2349360"/>
            <a:ext cx="0" cy="281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214280" y="2671920"/>
            <a:ext cx="0" cy="28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407440" y="2705040"/>
            <a:ext cx="2491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918640" y="4898880"/>
            <a:ext cx="247680" cy="2336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029880" y="4089240"/>
            <a:ext cx="2491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029880" y="3635280"/>
            <a:ext cx="24912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029880" y="2492280"/>
            <a:ext cx="2491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85120" y="379584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520120" y="42274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763120" y="3129120"/>
            <a:ext cx="24912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763120" y="4549680"/>
            <a:ext cx="2491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407440" y="5037120"/>
            <a:ext cx="24912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784920" y="377352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294680" y="251460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784920" y="270504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84920" y="422748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672240" y="505944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294680" y="495144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294680" y="3508200"/>
            <a:ext cx="247680" cy="2336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294680" y="406728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338800" y="3181320"/>
            <a:ext cx="2476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581800" y="361152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959360" y="272736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15040" y="457668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581800" y="492768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959360" y="4227480"/>
            <a:ext cx="2476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965240" y="5614920"/>
            <a:ext cx="77360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568600"/>
                <a:tab algn="l" pos="4570560"/>
                <a:tab algn="l" pos="63784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Onveilig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6699ff"/>
                </a:solidFill>
                <a:latin typeface="Arial"/>
              </a:rPr>
              <a:t>Ongeval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cc00"/>
                </a:solidFill>
                <a:latin typeface="Arial"/>
              </a:rPr>
              <a:t>Lets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68600"/>
                <a:tab algn="l" pos="4570560"/>
                <a:tab algn="l" pos="63784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handelen c.q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568600"/>
                <a:tab algn="l" pos="4570560"/>
                <a:tab algn="l" pos="63784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situa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290600" y="4187880"/>
            <a:ext cx="11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CF48-C6C9-4E3D-89FD-61FAAAC1E710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veilige situ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orbeelden zij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gelijke bestrating op de werkpl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voldoende beveiligingen op mach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brek aan orde en net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ssen, dampen of stof in de werkruim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voldoende verlichting of ventil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772400" y="990720"/>
            <a:ext cx="2195640" cy="2098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0D0A-6334-4137-9EFC-A4EB3BC3F8D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veilige situa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286000" y="2016000"/>
            <a:ext cx="6553080" cy="407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5E24-DA38-41DF-8A4C-A532FBE6AC8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veilige handel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orbeelden zij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pen over een steiger waar steigerplanken zijn verwijde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stoere bink uitha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en slijpbril gebrui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l bevestigen aan ondeugdelijk ophangp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loeropeningen niet afdek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99D5-F0AA-4185-BF6A-861E63A831F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veilige hand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2895480" y="1981080"/>
            <a:ext cx="5050080" cy="3989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32F8-5DE0-448F-9F57-D586741FB5E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elingen / gevaarlijke situa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elijk vaste verhouding tu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veilige handelin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80 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.o.v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vaarlijke situa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0 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02F5-F9C0-46A0-A9FC-0BBBF12FFAF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00280" y="17748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antwoordelijk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00280" y="1366920"/>
            <a:ext cx="9067680" cy="499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pak van onveilige handel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aten stop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derzoe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structie ge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ai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isciplinaire maatreg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4DAD-C247-4195-92AE-53DDBAE8DB5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heffen onveilige situa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8096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f onveilige situaties op do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096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527120" indent="-7635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gne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527120" indent="-7635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veiligen / afscher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527120" indent="-7635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arschu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527120" indent="-7635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eren inschak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527120" indent="-76356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D8F2-9400-49AF-B1F7-84E6B0B99BF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n Theorie naar Praktij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ico definiti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mate van waarschijnlijkheid dat e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paald ongewenst effect zal optred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ico’s bij uw we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ort we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nnis en vakbekwaamh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kpl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zij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ding (mentalite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724280" y="3733920"/>
            <a:ext cx="5640480" cy="7999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ICO = KANS x EFF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1A53-5182-4D8C-BB36-25FEA7B46AA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00280" y="2808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nselijk fa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00280" y="162540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060560" y="2976480"/>
            <a:ext cx="0" cy="2814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1056960" y="5468760"/>
            <a:ext cx="1066680" cy="322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2815920" y="5521320"/>
            <a:ext cx="106668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4576680" y="552132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6222600" y="5468760"/>
            <a:ext cx="1066680" cy="32256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8070480" y="5468760"/>
            <a:ext cx="1066680" cy="3225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1056960" y="265428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127240" y="2654280"/>
            <a:ext cx="0" cy="281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819520" y="3027240"/>
            <a:ext cx="0" cy="281628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86200" y="2706840"/>
            <a:ext cx="0" cy="281448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578480" y="2976480"/>
            <a:ext cx="0" cy="281484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140760" y="2654280"/>
            <a:ext cx="0" cy="281448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074080" y="297648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291440" y="2654280"/>
            <a:ext cx="0" cy="281448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224760" y="297648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45160" y="2654280"/>
            <a:ext cx="25560" cy="2878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1056960" y="4021200"/>
            <a:ext cx="1066680" cy="32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2815920" y="2706840"/>
            <a:ext cx="1066680" cy="3204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4576680" y="265428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6222600" y="265428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8070480" y="265428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2815920" y="4021200"/>
            <a:ext cx="106668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4576680" y="402120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6222600" y="410220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8070480" y="399888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282160" y="298116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791560" y="2819520"/>
            <a:ext cx="247680" cy="2314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943680" y="281952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321600" y="298116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673520" y="2981160"/>
            <a:ext cx="2494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914560" y="306072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537000" y="378468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295960" y="3784680"/>
            <a:ext cx="24912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940280" y="3382920"/>
            <a:ext cx="24912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673520" y="4348080"/>
            <a:ext cx="2494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548560" y="335916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321600" y="402588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943680" y="386568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791560" y="42670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169120" y="392256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791560" y="376236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537000" y="523224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27240" y="434808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321600" y="442908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169120" y="437688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943680" y="426708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321600" y="539424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943680" y="523224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940280" y="4778280"/>
            <a:ext cx="24912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295960" y="5232240"/>
            <a:ext cx="24912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524800" y="48308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791560" y="52322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169120" y="53942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04720" y="5916600"/>
            <a:ext cx="943308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386080"/>
                <a:tab algn="l" pos="4098960"/>
                <a:tab algn="l" pos="581184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6600ff"/>
                </a:solidFill>
                <a:latin typeface="Arial"/>
              </a:rPr>
              <a:t>Menselijk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Onveilig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6699ff"/>
                </a:solidFill>
                <a:latin typeface="Arial"/>
              </a:rPr>
              <a:t>Ongeval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cc00"/>
                </a:solidFill>
                <a:latin typeface="Arial"/>
              </a:rPr>
              <a:t>Lets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86080"/>
                <a:tab algn="l" pos="4098960"/>
                <a:tab algn="l" pos="581184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6600ff"/>
                </a:solidFill>
                <a:latin typeface="Arial"/>
              </a:rPr>
              <a:t>fale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handelen c.q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86080"/>
                <a:tab algn="l" pos="4098960"/>
                <a:tab algn="l" pos="581184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situa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ECF1-4A44-4F38-9E39-A5A8D291AFE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nselijk fa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ie grondslag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et we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et kun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et wi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5FFF-D7CA-4838-B984-EEE9D10540A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00280" y="3330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htergron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948960" y="5210280"/>
            <a:ext cx="106668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2774880" y="521028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4487760" y="521028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6222600" y="521028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8024400" y="521028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952560" y="2717640"/>
            <a:ext cx="0" cy="281484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019240" y="2395440"/>
            <a:ext cx="0" cy="281484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776680" y="2717640"/>
            <a:ext cx="0" cy="281484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489560" y="2717640"/>
            <a:ext cx="0" cy="281484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8026560" y="271764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224760" y="271764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43360" y="2395440"/>
            <a:ext cx="0" cy="281484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556240" y="2395440"/>
            <a:ext cx="0" cy="281484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291440" y="239544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9093240" y="239544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948960" y="3814920"/>
            <a:ext cx="106668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6222600" y="384336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8024400" y="381492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8024400" y="239544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>
            <a:off x="6222600" y="239544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H="1">
            <a:off x="4487760" y="2395440"/>
            <a:ext cx="1067040" cy="3222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2774880" y="239544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948960" y="2395440"/>
            <a:ext cx="106668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774880" y="3844800"/>
            <a:ext cx="1067040" cy="32256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4487760" y="3792600"/>
            <a:ext cx="1067040" cy="32076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745480" y="256068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123400" y="2801880"/>
            <a:ext cx="24732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745480" y="354960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123400" y="368784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8478720" y="3174840"/>
            <a:ext cx="247680" cy="2336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943680" y="256068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321600" y="2749680"/>
            <a:ext cx="24732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84600" y="2773440"/>
            <a:ext cx="2494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371600" y="3200400"/>
            <a:ext cx="247680" cy="23184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495600" y="3629160"/>
            <a:ext cx="247680" cy="23328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873520" y="2722680"/>
            <a:ext cx="247680" cy="23148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851360" y="3174840"/>
            <a:ext cx="24912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07040" y="3554280"/>
            <a:ext cx="24912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321600" y="3714840"/>
            <a:ext cx="24732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943680" y="352584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123400" y="417024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745480" y="39290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321600" y="5135400"/>
            <a:ext cx="24732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940280" y="4519440"/>
            <a:ext cx="24912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584600" y="4170240"/>
            <a:ext cx="24948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207040" y="4997520"/>
            <a:ext cx="249120" cy="2318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517920" y="4944960"/>
            <a:ext cx="249120" cy="2336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873520" y="417024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371600" y="4572000"/>
            <a:ext cx="247680" cy="23328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321600" y="4197240"/>
            <a:ext cx="247320" cy="2336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123400" y="5135400"/>
            <a:ext cx="24732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745480" y="4921200"/>
            <a:ext cx="247680" cy="2332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943680" y="400860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478720" y="45496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943680" y="497376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04720" y="5708520"/>
            <a:ext cx="96584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89080"/>
                <a:tab algn="l" pos="2193840"/>
                <a:tab algn="l" pos="4002120"/>
                <a:tab algn="l" pos="5715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a50021"/>
                </a:solidFill>
                <a:latin typeface="Arial"/>
              </a:rPr>
              <a:t>Achtergron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6600ff"/>
                </a:solidFill>
                <a:latin typeface="Arial"/>
              </a:rPr>
              <a:t>Menselij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Onveili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6699ff"/>
                </a:solidFill>
                <a:latin typeface="Arial"/>
              </a:rPr>
              <a:t>Ongev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fcc00"/>
                </a:solidFill>
                <a:latin typeface="Arial"/>
              </a:rPr>
              <a:t>Lets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2193840"/>
                <a:tab algn="l" pos="4002120"/>
                <a:tab algn="l" pos="5715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6600ff"/>
                </a:solidFill>
                <a:latin typeface="Arial"/>
              </a:rPr>
              <a:t>falen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handelen c.q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9080"/>
                <a:tab algn="l" pos="2193840"/>
                <a:tab algn="l" pos="4002120"/>
                <a:tab algn="l" pos="5715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f03900"/>
                </a:solidFill>
                <a:latin typeface="Arial"/>
              </a:rPr>
              <a:t>situa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7842-9003-4493-9D6A-5ED8E6D4BC2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htergro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 herleiden tot vier hoofdcategorië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arakter en aanl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pvoeding en oplei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rganisatorische en werkomstandighe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rivé omstandighe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D131-7E7F-48A0-9883-6E573FBD81D4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e voorkom je een ongeval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1244520" y="5549760"/>
            <a:ext cx="1067040" cy="32256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2755800" y="549756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6489360" y="549756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8000640" y="549756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246320" y="3056040"/>
            <a:ext cx="0" cy="281628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13000" y="2735280"/>
            <a:ext cx="0" cy="281448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757600" y="3005280"/>
            <a:ext cx="0" cy="281448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824280" y="2682720"/>
            <a:ext cx="0" cy="281484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491160" y="3005280"/>
            <a:ext cx="0" cy="281448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9069480" y="2682720"/>
            <a:ext cx="0" cy="281484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002440" y="3005280"/>
            <a:ext cx="0" cy="281448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558200" y="2682720"/>
            <a:ext cx="0" cy="281484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>
            <a:off x="6489360" y="2682720"/>
            <a:ext cx="1066680" cy="32256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2755800" y="2682720"/>
            <a:ext cx="1067040" cy="32256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2755800" y="4049640"/>
            <a:ext cx="1067040" cy="322200"/>
          </a:xfrm>
          <a:prstGeom prst="line">
            <a:avLst/>
          </a:prstGeom>
          <a:ln w="507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1244520" y="4102200"/>
            <a:ext cx="1067040" cy="32220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1244520" y="2735280"/>
            <a:ext cx="1067040" cy="320760"/>
          </a:xfrm>
          <a:prstGeom prst="line">
            <a:avLst/>
          </a:prstGeom>
          <a:ln w="507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6489360" y="4102200"/>
            <a:ext cx="1066680" cy="322200"/>
          </a:xfrm>
          <a:prstGeom prst="line">
            <a:avLst/>
          </a:prstGeom>
          <a:ln w="507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8000640" y="4049640"/>
            <a:ext cx="1066680" cy="32220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8000640" y="2682720"/>
            <a:ext cx="1066680" cy="322560"/>
          </a:xfrm>
          <a:prstGeom prst="line">
            <a:avLst/>
          </a:prstGeom>
          <a:ln w="507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609560" y="3543480"/>
            <a:ext cx="247680" cy="23148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854440" y="3008160"/>
            <a:ext cx="247680" cy="2336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476520" y="378468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698480" y="4911840"/>
            <a:ext cx="247680" cy="231840"/>
          </a:xfrm>
          <a:prstGeom prst="ellipse">
            <a:avLst/>
          </a:prstGeom>
          <a:solidFill>
            <a:srgbClr val="a5002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854440" y="440532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476520" y="5232240"/>
            <a:ext cx="247680" cy="231840"/>
          </a:xfrm>
          <a:prstGeom prst="ellipse">
            <a:avLst/>
          </a:prstGeom>
          <a:solidFill>
            <a:srgbClr val="66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588000" y="450864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099280" y="44290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8721720" y="42670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210440" y="4268880"/>
            <a:ext cx="247680" cy="2332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588000" y="402588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210440" y="386568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547380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210440" y="523224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8099280" y="547380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8099280" y="3946680"/>
            <a:ext cx="247680" cy="2314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588000" y="3060720"/>
            <a:ext cx="247680" cy="23184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8099280" y="306072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8721720" y="2900520"/>
            <a:ext cx="247680" cy="23148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210440" y="2900520"/>
            <a:ext cx="247680" cy="231480"/>
          </a:xfrm>
          <a:prstGeom prst="ellipse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8721720" y="378468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8454960" y="346392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8721720" y="53132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454960" y="4911840"/>
            <a:ext cx="247680" cy="23184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711680" y="2090880"/>
            <a:ext cx="1440" cy="144756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4711320" y="3218040"/>
            <a:ext cx="1066680" cy="32040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4711320" y="1770120"/>
            <a:ext cx="1066680" cy="320760"/>
          </a:xfrm>
          <a:prstGeom prst="line">
            <a:avLst/>
          </a:prstGeom>
          <a:ln w="50760">
            <a:solidFill>
              <a:srgbClr val="ff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778360" y="1770120"/>
            <a:ext cx="1800" cy="144792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4711320" y="401760"/>
            <a:ext cx="1066680" cy="322200"/>
          </a:xfrm>
          <a:prstGeom prst="line">
            <a:avLst/>
          </a:prstGeom>
          <a:ln w="50760">
            <a:solidFill>
              <a:srgbClr val="ff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4711680" y="720360"/>
            <a:ext cx="0" cy="1366920"/>
          </a:xfrm>
          <a:prstGeom prst="line">
            <a:avLst/>
          </a:prstGeom>
          <a:ln w="50760">
            <a:solidFill>
              <a:srgbClr val="ff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5778360" y="401400"/>
            <a:ext cx="0" cy="1368360"/>
          </a:xfrm>
          <a:prstGeom prst="line">
            <a:avLst/>
          </a:prstGeom>
          <a:ln w="50760">
            <a:solidFill>
              <a:srgbClr val="ff66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432400" y="2981160"/>
            <a:ext cx="247680" cy="23364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076720" y="249876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809960" y="2178000"/>
            <a:ext cx="247680" cy="23328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F626-1DE6-40CC-9C3D-4A3AE0909C6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orkomen van ongeva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stapp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ppen / Opheff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en onderzoe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atregelen ne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eren op resulta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415C-FB72-41F5-B7E6-FDE5B64436F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00280" y="322200"/>
            <a:ext cx="906768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vent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00280" y="1528920"/>
            <a:ext cx="9067680" cy="49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ef risicobeperken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atreg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m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ast, orde en netheid,bedrijfsblindheid, sleu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organis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ocedures, BHV team, verantwoordelijkheden, toezicht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techni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ntwerp, opstelling, spanningen, statische elektriciteit, lawaai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omge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awaai, brandblusmiddelen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aarschuwingsborden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009A-F260-47D8-8FC2-A3321D5E9C71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6" name=""/>
          <p:cNvGraphicFramePr/>
          <p:nvPr/>
        </p:nvGraphicFramePr>
        <p:xfrm>
          <a:off x="1778040" y="1249200"/>
          <a:ext cx="712476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040" y="1249200"/>
                    <a:ext cx="712476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8" name=""/>
          <p:cNvGraphicFramePr/>
          <p:nvPr/>
        </p:nvGraphicFramePr>
        <p:xfrm>
          <a:off x="1778040" y="1249200"/>
          <a:ext cx="7124760" cy="475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78040" y="1249200"/>
                    <a:ext cx="712476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0" name=""/>
          <p:cNvGraphicFramePr/>
          <p:nvPr/>
        </p:nvGraphicFramePr>
        <p:xfrm>
          <a:off x="1778040" y="1249200"/>
          <a:ext cx="7124760" cy="4753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78040" y="1249200"/>
                    <a:ext cx="712476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12" name="" descr=""/>
          <p:cNvPicPr/>
          <p:nvPr/>
        </p:nvPicPr>
        <p:blipFill>
          <a:blip r:embed="rId7"/>
          <a:stretch/>
        </p:blipFill>
        <p:spPr>
          <a:xfrm>
            <a:off x="557280" y="380880"/>
            <a:ext cx="9744120" cy="6162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C78E-74FF-488F-9290-AB80190D4617}" type="slidenum">
              <a:t>2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s er toch een ongeval gebeu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veiligingsmaatreg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 gebruik van persoonlijke beschermingsmidde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 afzetten van het werkgeb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 plaatsen van waarschuwingsb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 gebruik van gastest appar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rgen voor brandblussers en een juiste instruc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dekken van putten en rioler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 gebruik van werkvergunn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scherming tegen vallende voorwerp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C3DD-1243-498C-87AB-95409D7409D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gevallen zonder ernstig let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dat gev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middellijk melden bij directe chef betrokk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roffen persoon naar verbandka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jna-ongevall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914400" y="4508640"/>
            <a:ext cx="8839080" cy="19206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Zij moeten met een formulier gemeld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worden aan d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werkgever.  Deze heeft da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e kans om hem te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onderzoeken zoda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deze situatie / handeling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de toekom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geen schad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600" spc="-1" strike="noStrike">
                <a:solidFill>
                  <a:srgbClr val="000000"/>
                </a:solidFill>
                <a:latin typeface="Arial"/>
              </a:rPr>
              <a:t>en/of letsel tot gevolg heeft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1FD5-3D92-4425-A2B3-610C4FEFDD3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geval en Veilighei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geval en bijna-onge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ilighe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09640" y="5153040"/>
            <a:ext cx="9137520" cy="11160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t bewust nemen van 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anvaardbaar ris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09640" y="2739960"/>
            <a:ext cx="9048600" cy="11336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en ongeval is een ongewen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beurtenis met schade en/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sel tot gevol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CBE3-515C-498B-977F-449677FC519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gevallen met ernstig let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efonisch waarschuwen (1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am en afd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ats onge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ard van de verwond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antal slachto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ar ambulance moet k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at plaats herha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7086600" y="2286000"/>
            <a:ext cx="2960640" cy="3997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AF4C-F816-4CB6-B2A5-8EDA5EFD7191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gevallen met ernstig lets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arschuw de directe chef van het slachtoff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Zorg voor coördinatie bij hul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arschuw veiligheidsdien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t op eigen veiligheid bij red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leen geschoolde personen mogen EHBO verlen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iets aan werkomgeving verander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E01B-403E-4E95-AA35-DFD71DFA94C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etstoepassing en werkonderbrek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 bestaat het recht op werkonderbreking als vold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an de volgende 3 voorwaard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 gaat om gevaar voor uzelf 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e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 gevaar dreigt di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 directe chef is ervan op de hoogte gebrach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4263-51C4-47D6-A216-61BD387E854C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00280" y="642600"/>
            <a:ext cx="906768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 melden van ongeva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00280" y="2090520"/>
            <a:ext cx="9067680" cy="354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onderscheiden drie soort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geva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gevallen met ernsti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gevallen zonder ernstig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jna-ongeval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42840" y="5638680"/>
            <a:ext cx="8782200" cy="9558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e ongevallen die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meld te wor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2214-8089-4ADE-8265-E291D266E21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902120" y="642960"/>
            <a:ext cx="4608720" cy="63612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20680" y="666720"/>
            <a:ext cx="63374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 ijsbergtheorie,…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e is “top”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t je ziet is maar…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F118-677C-4953-88E4-D0A4FF1B5971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00280" y="280800"/>
            <a:ext cx="9067680" cy="96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 ijsbergtheor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00280" y="5105520"/>
            <a:ext cx="90676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nstige ongevallen terugdringen do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strijd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n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veilige handeling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/ situa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waarbij de rol van de direct  leidinggevende cruciaal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63640" y="1539720"/>
            <a:ext cx="6865920" cy="3302280"/>
          </a:xfrm>
          <a:custGeom>
            <a:avLst/>
            <a:gdLst/>
            <a:ahLst/>
            <a:rect l="l" t="t" r="r" b="b"/>
            <a:pathLst>
              <a:path w="2935" h="3065">
                <a:moveTo>
                  <a:pt x="1622" y="10"/>
                </a:moveTo>
                <a:lnTo>
                  <a:pt x="1565" y="0"/>
                </a:lnTo>
                <a:lnTo>
                  <a:pt x="1526" y="130"/>
                </a:lnTo>
                <a:lnTo>
                  <a:pt x="1448" y="209"/>
                </a:lnTo>
                <a:lnTo>
                  <a:pt x="1422" y="313"/>
                </a:lnTo>
                <a:lnTo>
                  <a:pt x="1343" y="391"/>
                </a:lnTo>
                <a:lnTo>
                  <a:pt x="1304" y="430"/>
                </a:lnTo>
                <a:lnTo>
                  <a:pt x="1278" y="470"/>
                </a:lnTo>
                <a:lnTo>
                  <a:pt x="1278" y="509"/>
                </a:lnTo>
                <a:lnTo>
                  <a:pt x="1278" y="548"/>
                </a:lnTo>
                <a:lnTo>
                  <a:pt x="1226" y="561"/>
                </a:lnTo>
                <a:lnTo>
                  <a:pt x="1187" y="561"/>
                </a:lnTo>
                <a:lnTo>
                  <a:pt x="1174" y="522"/>
                </a:lnTo>
                <a:lnTo>
                  <a:pt x="1174" y="483"/>
                </a:lnTo>
                <a:lnTo>
                  <a:pt x="1174" y="456"/>
                </a:lnTo>
                <a:lnTo>
                  <a:pt x="1135" y="483"/>
                </a:lnTo>
                <a:lnTo>
                  <a:pt x="1109" y="522"/>
                </a:lnTo>
                <a:lnTo>
                  <a:pt x="1109" y="574"/>
                </a:lnTo>
                <a:lnTo>
                  <a:pt x="1109" y="613"/>
                </a:lnTo>
                <a:lnTo>
                  <a:pt x="1109" y="652"/>
                </a:lnTo>
                <a:lnTo>
                  <a:pt x="1096" y="691"/>
                </a:lnTo>
                <a:lnTo>
                  <a:pt x="1096" y="730"/>
                </a:lnTo>
                <a:lnTo>
                  <a:pt x="1070" y="769"/>
                </a:lnTo>
                <a:lnTo>
                  <a:pt x="1070" y="796"/>
                </a:lnTo>
                <a:lnTo>
                  <a:pt x="1070" y="835"/>
                </a:lnTo>
                <a:lnTo>
                  <a:pt x="1057" y="874"/>
                </a:lnTo>
                <a:lnTo>
                  <a:pt x="1057" y="926"/>
                </a:lnTo>
                <a:lnTo>
                  <a:pt x="1043" y="965"/>
                </a:lnTo>
                <a:lnTo>
                  <a:pt x="1043" y="1004"/>
                </a:lnTo>
                <a:lnTo>
                  <a:pt x="1030" y="1043"/>
                </a:lnTo>
                <a:lnTo>
                  <a:pt x="1017" y="1095"/>
                </a:lnTo>
                <a:lnTo>
                  <a:pt x="1017" y="1122"/>
                </a:lnTo>
                <a:lnTo>
                  <a:pt x="991" y="1161"/>
                </a:lnTo>
                <a:lnTo>
                  <a:pt x="978" y="1239"/>
                </a:lnTo>
                <a:lnTo>
                  <a:pt x="965" y="1278"/>
                </a:lnTo>
                <a:lnTo>
                  <a:pt x="939" y="1317"/>
                </a:lnTo>
                <a:lnTo>
                  <a:pt x="939" y="1356"/>
                </a:lnTo>
                <a:lnTo>
                  <a:pt x="913" y="1395"/>
                </a:lnTo>
                <a:lnTo>
                  <a:pt x="900" y="1474"/>
                </a:lnTo>
                <a:lnTo>
                  <a:pt x="887" y="1552"/>
                </a:lnTo>
                <a:lnTo>
                  <a:pt x="861" y="1591"/>
                </a:lnTo>
                <a:lnTo>
                  <a:pt x="822" y="1617"/>
                </a:lnTo>
                <a:lnTo>
                  <a:pt x="783" y="1630"/>
                </a:lnTo>
                <a:lnTo>
                  <a:pt x="744" y="1630"/>
                </a:lnTo>
                <a:lnTo>
                  <a:pt x="704" y="1656"/>
                </a:lnTo>
                <a:lnTo>
                  <a:pt x="665" y="1656"/>
                </a:lnTo>
                <a:lnTo>
                  <a:pt x="626" y="1643"/>
                </a:lnTo>
                <a:lnTo>
                  <a:pt x="626" y="1604"/>
                </a:lnTo>
                <a:lnTo>
                  <a:pt x="600" y="1565"/>
                </a:lnTo>
                <a:lnTo>
                  <a:pt x="587" y="1526"/>
                </a:lnTo>
                <a:lnTo>
                  <a:pt x="561" y="1565"/>
                </a:lnTo>
                <a:lnTo>
                  <a:pt x="548" y="1604"/>
                </a:lnTo>
                <a:lnTo>
                  <a:pt x="522" y="1643"/>
                </a:lnTo>
                <a:lnTo>
                  <a:pt x="483" y="1682"/>
                </a:lnTo>
                <a:lnTo>
                  <a:pt x="457" y="1734"/>
                </a:lnTo>
                <a:lnTo>
                  <a:pt x="444" y="1774"/>
                </a:lnTo>
                <a:lnTo>
                  <a:pt x="444" y="1813"/>
                </a:lnTo>
                <a:lnTo>
                  <a:pt x="444" y="1865"/>
                </a:lnTo>
                <a:lnTo>
                  <a:pt x="444" y="1917"/>
                </a:lnTo>
                <a:lnTo>
                  <a:pt x="444" y="2047"/>
                </a:lnTo>
                <a:lnTo>
                  <a:pt x="418" y="2100"/>
                </a:lnTo>
                <a:lnTo>
                  <a:pt x="391" y="2191"/>
                </a:lnTo>
                <a:lnTo>
                  <a:pt x="352" y="2282"/>
                </a:lnTo>
                <a:lnTo>
                  <a:pt x="339" y="2321"/>
                </a:lnTo>
                <a:lnTo>
                  <a:pt x="326" y="2360"/>
                </a:lnTo>
                <a:lnTo>
                  <a:pt x="313" y="2412"/>
                </a:lnTo>
                <a:lnTo>
                  <a:pt x="287" y="2439"/>
                </a:lnTo>
                <a:lnTo>
                  <a:pt x="274" y="2517"/>
                </a:lnTo>
                <a:lnTo>
                  <a:pt x="235" y="2543"/>
                </a:lnTo>
                <a:lnTo>
                  <a:pt x="196" y="2543"/>
                </a:lnTo>
                <a:lnTo>
                  <a:pt x="157" y="2543"/>
                </a:lnTo>
                <a:lnTo>
                  <a:pt x="118" y="2543"/>
                </a:lnTo>
                <a:lnTo>
                  <a:pt x="91" y="2543"/>
                </a:lnTo>
                <a:lnTo>
                  <a:pt x="65" y="2582"/>
                </a:lnTo>
                <a:lnTo>
                  <a:pt x="52" y="2621"/>
                </a:lnTo>
                <a:lnTo>
                  <a:pt x="26" y="2673"/>
                </a:lnTo>
                <a:lnTo>
                  <a:pt x="13" y="2712"/>
                </a:lnTo>
                <a:lnTo>
                  <a:pt x="0" y="2765"/>
                </a:lnTo>
                <a:lnTo>
                  <a:pt x="0" y="2804"/>
                </a:lnTo>
                <a:lnTo>
                  <a:pt x="26" y="2843"/>
                </a:lnTo>
                <a:lnTo>
                  <a:pt x="78" y="2882"/>
                </a:lnTo>
                <a:lnTo>
                  <a:pt x="105" y="2908"/>
                </a:lnTo>
                <a:lnTo>
                  <a:pt x="157" y="2947"/>
                </a:lnTo>
                <a:lnTo>
                  <a:pt x="209" y="2986"/>
                </a:lnTo>
                <a:lnTo>
                  <a:pt x="261" y="3012"/>
                </a:lnTo>
                <a:lnTo>
                  <a:pt x="365" y="3038"/>
                </a:lnTo>
                <a:lnTo>
                  <a:pt x="470" y="3051"/>
                </a:lnTo>
                <a:lnTo>
                  <a:pt x="652" y="3051"/>
                </a:lnTo>
                <a:lnTo>
                  <a:pt x="913" y="3064"/>
                </a:lnTo>
                <a:lnTo>
                  <a:pt x="1226" y="3064"/>
                </a:lnTo>
                <a:lnTo>
                  <a:pt x="1487" y="3064"/>
                </a:lnTo>
                <a:lnTo>
                  <a:pt x="1617" y="3064"/>
                </a:lnTo>
                <a:lnTo>
                  <a:pt x="1656" y="3064"/>
                </a:lnTo>
                <a:lnTo>
                  <a:pt x="1696" y="3064"/>
                </a:lnTo>
                <a:lnTo>
                  <a:pt x="1735" y="3064"/>
                </a:lnTo>
                <a:lnTo>
                  <a:pt x="1813" y="3064"/>
                </a:lnTo>
                <a:lnTo>
                  <a:pt x="1943" y="3064"/>
                </a:lnTo>
                <a:lnTo>
                  <a:pt x="2100" y="3064"/>
                </a:lnTo>
                <a:lnTo>
                  <a:pt x="2230" y="3064"/>
                </a:lnTo>
                <a:lnTo>
                  <a:pt x="2361" y="3064"/>
                </a:lnTo>
                <a:lnTo>
                  <a:pt x="2517" y="3064"/>
                </a:lnTo>
                <a:lnTo>
                  <a:pt x="2674" y="3064"/>
                </a:lnTo>
                <a:lnTo>
                  <a:pt x="2778" y="3051"/>
                </a:lnTo>
                <a:lnTo>
                  <a:pt x="2830" y="3012"/>
                </a:lnTo>
                <a:lnTo>
                  <a:pt x="2882" y="2973"/>
                </a:lnTo>
                <a:lnTo>
                  <a:pt x="2908" y="2934"/>
                </a:lnTo>
                <a:lnTo>
                  <a:pt x="2934" y="2895"/>
                </a:lnTo>
                <a:lnTo>
                  <a:pt x="2934" y="2843"/>
                </a:lnTo>
                <a:lnTo>
                  <a:pt x="2934" y="2804"/>
                </a:lnTo>
                <a:lnTo>
                  <a:pt x="2908" y="2765"/>
                </a:lnTo>
                <a:lnTo>
                  <a:pt x="2869" y="2765"/>
                </a:lnTo>
                <a:lnTo>
                  <a:pt x="2791" y="2765"/>
                </a:lnTo>
                <a:lnTo>
                  <a:pt x="2713" y="2752"/>
                </a:lnTo>
                <a:lnTo>
                  <a:pt x="2608" y="2738"/>
                </a:lnTo>
                <a:lnTo>
                  <a:pt x="2530" y="2725"/>
                </a:lnTo>
                <a:lnTo>
                  <a:pt x="2491" y="2712"/>
                </a:lnTo>
                <a:lnTo>
                  <a:pt x="2465" y="2673"/>
                </a:lnTo>
                <a:lnTo>
                  <a:pt x="2426" y="2634"/>
                </a:lnTo>
                <a:lnTo>
                  <a:pt x="2400" y="2530"/>
                </a:lnTo>
                <a:lnTo>
                  <a:pt x="2374" y="2426"/>
                </a:lnTo>
                <a:lnTo>
                  <a:pt x="2361" y="2399"/>
                </a:lnTo>
                <a:lnTo>
                  <a:pt x="2348" y="2347"/>
                </a:lnTo>
                <a:lnTo>
                  <a:pt x="2348" y="2295"/>
                </a:lnTo>
                <a:lnTo>
                  <a:pt x="2348" y="2191"/>
                </a:lnTo>
                <a:lnTo>
                  <a:pt x="2348" y="2152"/>
                </a:lnTo>
                <a:lnTo>
                  <a:pt x="2361" y="2113"/>
                </a:lnTo>
                <a:lnTo>
                  <a:pt x="2374" y="2073"/>
                </a:lnTo>
                <a:lnTo>
                  <a:pt x="2374" y="2034"/>
                </a:lnTo>
                <a:lnTo>
                  <a:pt x="2374" y="1995"/>
                </a:lnTo>
                <a:lnTo>
                  <a:pt x="2348" y="1943"/>
                </a:lnTo>
                <a:lnTo>
                  <a:pt x="2308" y="1904"/>
                </a:lnTo>
                <a:lnTo>
                  <a:pt x="2295" y="1865"/>
                </a:lnTo>
                <a:lnTo>
                  <a:pt x="2269" y="1826"/>
                </a:lnTo>
                <a:lnTo>
                  <a:pt x="2269" y="1787"/>
                </a:lnTo>
                <a:lnTo>
                  <a:pt x="2256" y="1760"/>
                </a:lnTo>
                <a:lnTo>
                  <a:pt x="2243" y="1682"/>
                </a:lnTo>
                <a:lnTo>
                  <a:pt x="2230" y="1643"/>
                </a:lnTo>
                <a:lnTo>
                  <a:pt x="2217" y="1591"/>
                </a:lnTo>
                <a:lnTo>
                  <a:pt x="2217" y="1487"/>
                </a:lnTo>
                <a:lnTo>
                  <a:pt x="2204" y="1382"/>
                </a:lnTo>
                <a:lnTo>
                  <a:pt x="2191" y="1343"/>
                </a:lnTo>
                <a:lnTo>
                  <a:pt x="2178" y="1291"/>
                </a:lnTo>
                <a:lnTo>
                  <a:pt x="2139" y="1265"/>
                </a:lnTo>
                <a:lnTo>
                  <a:pt x="2100" y="1265"/>
                </a:lnTo>
                <a:lnTo>
                  <a:pt x="2061" y="1265"/>
                </a:lnTo>
                <a:lnTo>
                  <a:pt x="2035" y="1226"/>
                </a:lnTo>
                <a:lnTo>
                  <a:pt x="2022" y="1122"/>
                </a:lnTo>
                <a:lnTo>
                  <a:pt x="2022" y="1082"/>
                </a:lnTo>
                <a:lnTo>
                  <a:pt x="2022" y="1043"/>
                </a:lnTo>
                <a:lnTo>
                  <a:pt x="2035" y="1004"/>
                </a:lnTo>
                <a:lnTo>
                  <a:pt x="2061" y="965"/>
                </a:lnTo>
                <a:lnTo>
                  <a:pt x="2061" y="926"/>
                </a:lnTo>
                <a:lnTo>
                  <a:pt x="2048" y="887"/>
                </a:lnTo>
                <a:lnTo>
                  <a:pt x="2022" y="848"/>
                </a:lnTo>
                <a:lnTo>
                  <a:pt x="1982" y="743"/>
                </a:lnTo>
                <a:lnTo>
                  <a:pt x="1969" y="665"/>
                </a:lnTo>
                <a:lnTo>
                  <a:pt x="1956" y="626"/>
                </a:lnTo>
                <a:lnTo>
                  <a:pt x="1943" y="574"/>
                </a:lnTo>
                <a:lnTo>
                  <a:pt x="1930" y="535"/>
                </a:lnTo>
                <a:lnTo>
                  <a:pt x="1852" y="456"/>
                </a:lnTo>
                <a:lnTo>
                  <a:pt x="1826" y="417"/>
                </a:lnTo>
                <a:lnTo>
                  <a:pt x="1800" y="378"/>
                </a:lnTo>
                <a:lnTo>
                  <a:pt x="1774" y="339"/>
                </a:lnTo>
                <a:lnTo>
                  <a:pt x="1735" y="300"/>
                </a:lnTo>
                <a:lnTo>
                  <a:pt x="1709" y="261"/>
                </a:lnTo>
                <a:lnTo>
                  <a:pt x="1682" y="222"/>
                </a:lnTo>
                <a:lnTo>
                  <a:pt x="1643" y="209"/>
                </a:lnTo>
                <a:lnTo>
                  <a:pt x="1630" y="170"/>
                </a:lnTo>
                <a:lnTo>
                  <a:pt x="1604" y="130"/>
                </a:lnTo>
                <a:lnTo>
                  <a:pt x="1578" y="91"/>
                </a:lnTo>
                <a:lnTo>
                  <a:pt x="1622" y="1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43400" y="228600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114800" y="281952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4114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66880" y="3962520"/>
            <a:ext cx="457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952880" y="1828800"/>
            <a:ext cx="1003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43400" y="2286000"/>
            <a:ext cx="2125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rnsti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et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38480" y="2819520"/>
            <a:ext cx="2840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ets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et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er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95680" y="3429000"/>
            <a:ext cx="1295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HB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733920" y="4191120"/>
            <a:ext cx="2819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veili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situa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6577-B2B9-423F-8A49-D25D01F2455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2-2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00280" y="281160"/>
            <a:ext cx="906768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ugdringen van onveilige handelingen/situa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90520" y="1606680"/>
            <a:ext cx="10199520" cy="5059080"/>
          </a:xfrm>
          <a:prstGeom prst="triangle">
            <a:avLst>
              <a:gd name="adj" fmla="val 49986"/>
            </a:avLst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39880" y="5943600"/>
            <a:ext cx="7188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.000 gevallen van onveilige handelingen en/of situa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403280" y="5584680"/>
            <a:ext cx="797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27200" y="4800600"/>
            <a:ext cx="57787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3000 (bijna) ongevallen met gering letsel/ehbo zonder verzu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01840" y="4653000"/>
            <a:ext cx="6176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4084560"/>
            <a:ext cx="46800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0 ongevallen met letsel met verzu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24080" y="3886200"/>
            <a:ext cx="4604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762360" y="3200400"/>
            <a:ext cx="34005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30 ongevallen m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rnstig letsel met verzu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73600" y="3102120"/>
            <a:ext cx="3031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257800" y="2133720"/>
            <a:ext cx="318960" cy="914400"/>
          </a:xfrm>
          <a:prstGeom prst="rect">
            <a:avLst/>
          </a:prstGeom>
          <a:solidFill>
            <a:srgbClr val="ff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029200" y="2362320"/>
            <a:ext cx="762120" cy="228600"/>
          </a:xfrm>
          <a:prstGeom prst="rect">
            <a:avLst/>
          </a:prstGeom>
          <a:solidFill>
            <a:srgbClr val="ff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48320" y="2438280"/>
            <a:ext cx="785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9491-CD69-45BB-B24D-36052C4AF230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2-2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800280" y="2090520"/>
            <a:ext cx="90676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00280" y="281160"/>
            <a:ext cx="9067680" cy="12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rugdringen van onveilige handelingen/situa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505320" y="1600200"/>
            <a:ext cx="3733560" cy="5059440"/>
          </a:xfrm>
          <a:prstGeom prst="triangle">
            <a:avLst>
              <a:gd name="adj" fmla="val 49986"/>
            </a:avLst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952880" y="5943600"/>
            <a:ext cx="8384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.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916440" y="5584680"/>
            <a:ext cx="29192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029200" y="4952880"/>
            <a:ext cx="762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248000" y="4653000"/>
            <a:ext cx="22622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05520" y="4084560"/>
            <a:ext cx="6094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37080" y="3886200"/>
            <a:ext cx="16844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276720"/>
            <a:ext cx="457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829040" y="3102120"/>
            <a:ext cx="11066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029200" y="2514600"/>
            <a:ext cx="7858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arbeidsongeval" descr=""/>
          <p:cNvPicPr/>
          <p:nvPr/>
        </p:nvPicPr>
        <p:blipFill>
          <a:blip r:embed="rId1"/>
          <a:stretch/>
        </p:blipFill>
        <p:spPr>
          <a:xfrm>
            <a:off x="838080" y="5410080"/>
            <a:ext cx="1771920" cy="1501920"/>
          </a:xfrm>
          <a:prstGeom prst="rect">
            <a:avLst/>
          </a:prstGeom>
          <a:ln w="0">
            <a:noFill/>
          </a:ln>
        </p:spPr>
      </p:pic>
      <p:pic>
        <p:nvPicPr>
          <p:cNvPr id="94" name="images" descr=""/>
          <p:cNvPicPr/>
          <p:nvPr/>
        </p:nvPicPr>
        <p:blipFill>
          <a:blip r:embed="rId2"/>
          <a:stretch/>
        </p:blipFill>
        <p:spPr>
          <a:xfrm>
            <a:off x="7467480" y="4572000"/>
            <a:ext cx="1524240" cy="11415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rcRect l="0" t="0" r="2107" b="0"/>
          <a:stretch/>
        </p:blipFill>
        <p:spPr>
          <a:xfrm>
            <a:off x="2847960" y="3657600"/>
            <a:ext cx="922320" cy="1305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6553080" y="2666880"/>
            <a:ext cx="2362320" cy="1440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5"/>
          <a:srcRect l="0" t="0" r="13984" b="0"/>
          <a:stretch/>
        </p:blipFill>
        <p:spPr>
          <a:xfrm>
            <a:off x="3886200" y="1981080"/>
            <a:ext cx="762120" cy="95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43CC-DA2C-455C-A752-6414CF00F168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2-2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00280" y="642960"/>
            <a:ext cx="9067680" cy="96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orzaken - Gevol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00280" y="1780920"/>
            <a:ext cx="9067680" cy="457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or Heinrich en Lateiner werd 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dominotheorie ontwikke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evat 5 onderdel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chtergro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karak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enselijk fa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veilige handeling of situ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nge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chade en/of letsel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39F6-9A6E-44B0-A409-A94D6B0D89D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vca 1-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4T18:39:37Z</dcterms:created>
  <dc:creator>Hajo Kleijburg</dc:creator>
  <dc:description>Revisie 0</dc:description>
  <dc:language>en-US</dc:language>
  <cp:lastModifiedBy>Robbert Oosterom</cp:lastModifiedBy>
  <cp:lastPrinted>2000-05-31T16:35:47Z</cp:lastPrinted>
  <dcterms:modified xsi:type="dcterms:W3CDTF">2013-09-26T21:38:03Z</dcterms:modified>
  <cp:revision>31</cp:revision>
  <dc:subject>Les 2</dc:subject>
  <dc:title>Basisveiligheid (VCA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um voltooid">
    <vt:filetime>2000-03-14T23:00:00Z</vt:filetime>
  </property>
</Properties>
</file>