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10666413" cy="7239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BB8F-2AB9-419C-BCD9-DF08368C0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0280" y="435924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4106-64AF-4F95-991C-2BDE4D8B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4680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2827-EAB1-46B0-A786-C624BB244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6640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3216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028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6640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3216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C327-B608-475D-8670-A8E7EF19B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C264-B9BF-465C-B2A2-A061109F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399D-8AED-44A1-AF30-2C3C8662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B8DF-C18D-48C9-940E-FBDFCE1A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3E22-CCD6-402C-B66A-3DA5D1B5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0280" y="642600"/>
            <a:ext cx="906768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F913-6C86-4747-92E6-5E9EC584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3D33-5AF4-4AAE-B755-D84DD250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4680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0FBA-C8E7-4256-85D4-C2A35BB0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D724-F335-4331-AF8A-7FB3B986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99920" y="6595560"/>
            <a:ext cx="222228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45000" y="6595560"/>
            <a:ext cx="33782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45320" y="6595560"/>
            <a:ext cx="22226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19BEE76-4225-4737-875C-87F460606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0280" y="642960"/>
            <a:ext cx="9067680" cy="193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SVEILIGHEI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99840" y="2498400"/>
            <a:ext cx="7467480" cy="349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0AAC-0FB2-48D2-A5AB-0354FE89B88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0280" y="230040"/>
            <a:ext cx="9067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voorkom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2960" y="1419120"/>
            <a:ext cx="9067680" cy="14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or Heinrich en Veiligheidskundi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teiner werd de dominotheorie opgest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948960" y="566748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774880" y="566748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487760" y="56674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222600" y="56674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024400" y="56674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2560" y="31748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19240" y="28526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76680" y="31748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89560" y="31748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26560" y="31748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24760" y="31748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43360" y="28526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56240" y="28526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291440" y="28526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093240" y="28526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948960" y="427212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222600" y="43005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8024400" y="427212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8024400" y="28526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222600" y="285264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487760" y="285264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774880" y="28526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948960" y="285264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774880" y="430200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487760" y="4249800"/>
            <a:ext cx="106704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745480" y="30178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23400" y="3259080"/>
            <a:ext cx="2473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745480" y="40068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123400" y="41450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478720" y="363204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43680" y="30178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1600" y="320688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84600" y="3230640"/>
            <a:ext cx="2494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365760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95600" y="4086360"/>
            <a:ext cx="247680" cy="2332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73520" y="3179880"/>
            <a:ext cx="247680" cy="2314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51360" y="36320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07040" y="401148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21600" y="417204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943680" y="39830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123400" y="46274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745480" y="4386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1600" y="559260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40280" y="49766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84600" y="462744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07040" y="54547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17920" y="5402160"/>
            <a:ext cx="24912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73520" y="46274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71600" y="5029200"/>
            <a:ext cx="247680" cy="2332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21600" y="4654440"/>
            <a:ext cx="24732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23400" y="559260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745480" y="537840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43680" y="44658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478720" y="50068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43680" y="543096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6E28-D05B-4F6A-A6D7-2BC347F3F82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00280" y="17748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antwoordelijk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00280" y="1366920"/>
            <a:ext cx="9067680" cy="49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dereen is verantwoordelijk voor veilighe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1EA5-C50B-4F86-974A-CC538262563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 handelen / 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377280" y="2349360"/>
            <a:ext cx="0" cy="28162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8310240" y="5165640"/>
            <a:ext cx="1066680" cy="3207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10600" y="267192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73960" y="267192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40640" y="2349360"/>
            <a:ext cx="0" cy="28162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27760" y="2349360"/>
            <a:ext cx="0" cy="28162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61080" y="2671920"/>
            <a:ext cx="0" cy="28144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79880" y="2349360"/>
            <a:ext cx="0" cy="281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16080" y="267192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6573600" y="5165640"/>
            <a:ext cx="1066680" cy="3207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860720" y="5165640"/>
            <a:ext cx="106668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012840" y="516564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8310240" y="234936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8310240" y="3924360"/>
            <a:ext cx="1066680" cy="3207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6576840" y="2349360"/>
            <a:ext cx="106704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012840" y="392436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012840" y="23493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860720" y="2349360"/>
            <a:ext cx="1066680" cy="3225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860720" y="3900600"/>
            <a:ext cx="106668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573600" y="39006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211040" y="23493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211040" y="39006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211040" y="516564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1320" y="2349360"/>
            <a:ext cx="0" cy="281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14280" y="267192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407440" y="270504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918640" y="489888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029880" y="408924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029880" y="363528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029880" y="249228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5120" y="379584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520120" y="42274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763120" y="312912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763120" y="454968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407440" y="503712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784920" y="377352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294680" y="25146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84920" y="27050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84920" y="42274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672240" y="50594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94680" y="49514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294680" y="3508200"/>
            <a:ext cx="24768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94680" y="40672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8800" y="3181320"/>
            <a:ext cx="2476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581800" y="361152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59360" y="272736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15040" y="457668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81800" y="492768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59360" y="4227480"/>
            <a:ext cx="2476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65240" y="5614920"/>
            <a:ext cx="77360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568600"/>
                <a:tab algn="l" pos="4570560"/>
                <a:tab algn="l" pos="63784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99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68600"/>
                <a:tab algn="l" pos="4570560"/>
                <a:tab algn="l" pos="63784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68600"/>
                <a:tab algn="l" pos="4570560"/>
                <a:tab algn="l" pos="63784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90600" y="4187880"/>
            <a:ext cx="11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EAD8-406C-4803-A2CB-17E9A3D6386C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beeld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lijke bestrating op de werkpl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voldoende beveiligingen op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brek aan orde en ne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sen, dampen of stof in de werk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voldoende verlichting of 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772400" y="990720"/>
            <a:ext cx="2195640" cy="2098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3B33-BFFA-4514-9BFA-63123924E54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286000" y="2016000"/>
            <a:ext cx="6553080" cy="407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999E-4719-4841-A507-869F7BB9AEE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beeld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pen over een steiger waar steigerplanken zijn verwijd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stoere bink uitha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n slijpbril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l bevestigen aan ondeugdelijk ophangp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loeropeningen niet afde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1CFA-B229-4D90-9CF8-F67DBDBA7B1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e han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5050080" cy="398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AB14-1DE1-4C10-AF95-DC2D24E2A92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elingen / gevaarlijke situa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lijk vaste verhouding tu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80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.o.v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vaarlijke situa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0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EF17-4FED-4A7D-B7EF-3497C5141C9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00280" y="17748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antwoordelijk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00280" y="1366920"/>
            <a:ext cx="9067680" cy="49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pak van onveilige hande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ten sto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zo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tructie g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a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ciplinaire 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633F-98BE-455C-B3F5-8E38AE53585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heffen onveilige situa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8096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f onveilige situaties op do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096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gn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veiligen / afsche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arschu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eren inschak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BCCA-1AEF-4087-BA9B-EC086D4DDF6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n Theorie naar Prakt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co definit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mate van waarschijnlijkheid dat 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paald ongewenst effect zal optred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ico’s bij uw we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ort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nis en vakbekwaam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p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ding (mentalite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24280" y="3733920"/>
            <a:ext cx="5640480" cy="799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CO = KANS x E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FC5C-92BE-4F81-B61F-6EE2B029065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00280" y="2808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00280" y="162540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60560" y="2976480"/>
            <a:ext cx="0" cy="281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056960" y="54687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815920" y="5521320"/>
            <a:ext cx="106668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4576680" y="552132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6222600" y="546876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8070480" y="546876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056960" y="265428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27240" y="265428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19520" y="3027240"/>
            <a:ext cx="0" cy="28162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86200" y="2706840"/>
            <a:ext cx="0" cy="28144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8480" y="297648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140760" y="265428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074080" y="297648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291440" y="265428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224760" y="297648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45160" y="2654280"/>
            <a:ext cx="25560" cy="2878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1056960" y="40212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815920" y="2706840"/>
            <a:ext cx="1066680" cy="3204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4576680" y="26542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6222600" y="26542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8070480" y="26542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815920" y="4021200"/>
            <a:ext cx="106668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576680" y="402120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6222600" y="41022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8070480" y="39988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282160" y="298116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791560" y="281952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43680" y="281952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21600" y="298116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673520" y="298116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14560" y="306072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37000" y="37846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95960" y="378468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940280" y="33829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73520" y="434808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548560" y="335916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321600" y="402588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943680" y="386568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791560" y="4267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169120" y="392256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791560" y="376236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37000" y="5232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27240" y="43480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21600" y="442908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169120" y="43768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943680" y="42670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21600" y="539424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43680" y="52322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940280" y="4778280"/>
            <a:ext cx="24912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295960" y="523224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524800" y="48308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791560" y="5232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169120" y="5394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4720" y="5916600"/>
            <a:ext cx="94330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86080"/>
                <a:tab algn="l" pos="4098960"/>
                <a:tab algn="l" pos="581184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Menselij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99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6080"/>
                <a:tab algn="l" pos="4098960"/>
                <a:tab algn="l" pos="581184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fal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6080"/>
                <a:tab algn="l" pos="4098960"/>
                <a:tab algn="l" pos="581184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D99C-AAEB-4D70-BB75-F5E07DCB228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e grondsla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w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ku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wi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D6D0-0819-424A-8BF2-DDAD9B29342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00280" y="3330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htergro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948960" y="521028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2774880" y="521028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4487760" y="52102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6222600" y="52102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8024400" y="52102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52560" y="27176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19240" y="23954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776680" y="27176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489560" y="27176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026560" y="27176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224760" y="27176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3360" y="23954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556240" y="23954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91440" y="23954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093240" y="23954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948960" y="381492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6222600" y="38433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8024400" y="381492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8024400" y="23954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222600" y="239544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4487760" y="239544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774880" y="23954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948960" y="239544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774880" y="384480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4487760" y="3792600"/>
            <a:ext cx="106704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745480" y="25606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123400" y="2801880"/>
            <a:ext cx="2473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745480" y="35496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123400" y="36878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478720" y="317484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943680" y="25606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321600" y="274968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84600" y="2773440"/>
            <a:ext cx="2494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71600" y="320040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495600" y="3629160"/>
            <a:ext cx="247680" cy="2332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73520" y="2722680"/>
            <a:ext cx="247680" cy="2314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851360" y="31748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07040" y="355428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321600" y="371484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43680" y="35258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123400" y="41702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745480" y="39290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321600" y="513540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40280" y="45194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84600" y="417024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07040" y="49975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17920" y="4944960"/>
            <a:ext cx="24912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73520" y="4170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71600" y="4572000"/>
            <a:ext cx="247680" cy="2332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321600" y="4197240"/>
            <a:ext cx="24732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123400" y="513540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745480" y="492120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943680" y="40086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478720" y="45496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43680" y="497376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04720" y="5708520"/>
            <a:ext cx="96584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9080"/>
                <a:tab algn="l" pos="2193840"/>
                <a:tab algn="l" pos="4002120"/>
                <a:tab algn="l" pos="5715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a50021"/>
                </a:solidFill>
                <a:latin typeface="Arial"/>
              </a:rPr>
              <a:t>Achtergro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Menselij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Onveili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99ff"/>
                </a:solidFill>
                <a:latin typeface="Arial"/>
              </a:rPr>
              <a:t>Ongev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2193840"/>
                <a:tab algn="l" pos="4002120"/>
                <a:tab algn="l" pos="5715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fal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2193840"/>
                <a:tab algn="l" pos="4002120"/>
                <a:tab algn="l" pos="5715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A1B6-3B35-474B-AD54-D53CDA03236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htergr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herleiden tot vier hoofdcategorië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arakter en aanl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voeding en op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rganisatorische en werkomstandig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ivé omstandig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9CDC-47ED-4176-957A-69AFF9D661C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voorkom je een ongeval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1244520" y="5549760"/>
            <a:ext cx="1067040" cy="32256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2755800" y="549756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6489360" y="54975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8000640" y="549756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246320" y="3056040"/>
            <a:ext cx="0" cy="281628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13000" y="2735280"/>
            <a:ext cx="0" cy="281448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757600" y="3005280"/>
            <a:ext cx="0" cy="28144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24280" y="268272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491160" y="300528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9069480" y="268272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02440" y="300528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558200" y="268272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6489360" y="268272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2755800" y="268272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2755800" y="40496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1244520" y="4102200"/>
            <a:ext cx="106704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1244520" y="2735280"/>
            <a:ext cx="1067040" cy="32076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6489360" y="41022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8000640" y="40496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8000640" y="268272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609560" y="3543480"/>
            <a:ext cx="247680" cy="2314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854440" y="3008160"/>
            <a:ext cx="24768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76520" y="37846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698480" y="491184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854440" y="440532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76520" y="5232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588000" y="450864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099280" y="4429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721720" y="4267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210440" y="42688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588000" y="40258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210440" y="386568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547380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210440" y="52322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099280" y="54738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099280" y="394668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588000" y="306072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099280" y="30607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721720" y="290052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210440" y="290052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721720" y="37846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454960" y="34639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721720" y="5313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454960" y="49118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711680" y="2090880"/>
            <a:ext cx="1440" cy="14475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4711320" y="3218040"/>
            <a:ext cx="1066680" cy="3204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711320" y="1770120"/>
            <a:ext cx="1066680" cy="32076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778360" y="1770120"/>
            <a:ext cx="1800" cy="144792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4711320" y="401760"/>
            <a:ext cx="1066680" cy="32220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4711680" y="720360"/>
            <a:ext cx="0" cy="136692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5778360" y="401400"/>
            <a:ext cx="0" cy="136836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432400" y="2981160"/>
            <a:ext cx="24768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076720" y="249876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09960" y="217800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B4A6-48BD-47D0-B0EF-C3826EEB2AD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kom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tapp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pen / Ophe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en onderzo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atregelen n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eren op resul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E03D-0540-461C-8A99-F7A076779F5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00280" y="322200"/>
            <a:ext cx="9067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00280" y="1528920"/>
            <a:ext cx="906768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f risicobeperken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m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ast, orde en netheid,bedrijfsblindheid, sleu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rgan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cedures, BHV team, verantwoordelijkheden, toezicht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techn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twerp, opstelling, spanningen, statische elektriciteit, lawaai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mg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waai, brandblusmiddelen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sborde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DE20-D15A-4D9C-A26D-EB6D2B681CE3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2" name="" descr=""/>
          <p:cNvPicPr/>
          <p:nvPr/>
        </p:nvPicPr>
        <p:blipFill>
          <a:blip r:embed="rId7"/>
          <a:stretch/>
        </p:blipFill>
        <p:spPr>
          <a:xfrm>
            <a:off x="557280" y="380880"/>
            <a:ext cx="9744120" cy="6162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06E9-831D-451E-94AE-DB8A79A8ED10}" type="slidenum">
              <a:t>2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s er toch een ongeval gebeu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veiligings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ebruik van persoonlijke beschermingsmid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afzetten van het werkgeb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plaatsen van waarschuwingsb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ebruik van gastest appar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rgen voor brandblussers en een juiste instru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dekken van putten en rioler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ebruik van werkvergunn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scherming tegen vallende voorwer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C129-D1C6-4D52-BDC8-1DC6DF9F310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evallen zonder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dat gev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middellijk melden bij directe chef betrokk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roffen persoon naar verbandka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jna-ongeval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14400" y="4508640"/>
            <a:ext cx="8839080" cy="19206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ij moeten met een formulier gemel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orden aan d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erkgever.  Deze heeft da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kans om hem t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onderzoeken zoda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ze situatie / handeling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de toekom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geen schad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n/of letsel tot gevolg heef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D0A5-5A65-4022-9578-B600996D61A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eval en Veilig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al en bijna-ong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ilig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09640" y="5153040"/>
            <a:ext cx="9137520" cy="1116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 bewust nemen van 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vaardbaar ri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9640" y="2739960"/>
            <a:ext cx="9048600" cy="11336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ongeval is een ongewen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beurtenis met schade en/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el tot gevo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47F9-4F08-44D5-A09A-0F4DB7238FA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evallen met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fonisch waarschuwen (1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am en af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ats ong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rd van de verwon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ntal slachto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ar ambulance moet k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at plaats herh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7086600" y="2286000"/>
            <a:ext cx="2960640" cy="399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B6E8-52CA-4482-A835-3C6028C1BB10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evallen met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arschuw de directe chef van het slachtoff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org voor coördinatie bij hul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arschuw veiligheidsdien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t op eigen veiligheid bij red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een geschoolde personen mogen EHBO verl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iets aan werkomgeving verande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D459-7300-44D5-B3E4-41C2D1EA6CA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etstoepassing en werkonderbrek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 bestaat het recht op werkonderbreking als vold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an de volgende 3 voorwaa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aat om gevaar voor uzelf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evaar dreigt di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directe chef is ervan op de hoogte gebrac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5B74-7F50-4AC7-91AA-2D8FB7CD6396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meld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354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onderscheiden drie soor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allen met ernsti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allen zonder ernsti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na-ongev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2840" y="5638680"/>
            <a:ext cx="8782200" cy="9558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 ongevallen die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meld te wor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3A69-70BB-4F42-AD5A-FF652CAF258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902120" y="642960"/>
            <a:ext cx="4608720" cy="6361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0680" y="666720"/>
            <a:ext cx="633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ijsbergtheorie,…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e is “top”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 je ziet is maar…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2632-70A1-4769-8332-9ADC5179FD5F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0280" y="280800"/>
            <a:ext cx="9067680" cy="96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ijsbergtheo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0280" y="5105520"/>
            <a:ext cx="9067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nstige ongevallen terugdringen do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trijd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/ situa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bij de rol van de direct  leidinggevende cruciaal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63640" y="1539720"/>
            <a:ext cx="6865920" cy="3302280"/>
          </a:xfrm>
          <a:custGeom>
            <a:avLst/>
            <a:gdLst/>
            <a:ahLst/>
            <a:rect l="l" t="t" r="r" b="b"/>
            <a:pathLst>
              <a:path w="2935" h="3065">
                <a:moveTo>
                  <a:pt x="1622" y="10"/>
                </a:moveTo>
                <a:lnTo>
                  <a:pt x="1565" y="0"/>
                </a:lnTo>
                <a:lnTo>
                  <a:pt x="1526" y="130"/>
                </a:lnTo>
                <a:lnTo>
                  <a:pt x="1448" y="209"/>
                </a:lnTo>
                <a:lnTo>
                  <a:pt x="1422" y="313"/>
                </a:lnTo>
                <a:lnTo>
                  <a:pt x="1343" y="391"/>
                </a:lnTo>
                <a:lnTo>
                  <a:pt x="1304" y="430"/>
                </a:lnTo>
                <a:lnTo>
                  <a:pt x="1278" y="470"/>
                </a:lnTo>
                <a:lnTo>
                  <a:pt x="1278" y="509"/>
                </a:lnTo>
                <a:lnTo>
                  <a:pt x="1278" y="548"/>
                </a:lnTo>
                <a:lnTo>
                  <a:pt x="1226" y="561"/>
                </a:lnTo>
                <a:lnTo>
                  <a:pt x="1187" y="561"/>
                </a:lnTo>
                <a:lnTo>
                  <a:pt x="1174" y="522"/>
                </a:lnTo>
                <a:lnTo>
                  <a:pt x="1174" y="483"/>
                </a:lnTo>
                <a:lnTo>
                  <a:pt x="1174" y="456"/>
                </a:lnTo>
                <a:lnTo>
                  <a:pt x="1135" y="483"/>
                </a:lnTo>
                <a:lnTo>
                  <a:pt x="1109" y="522"/>
                </a:lnTo>
                <a:lnTo>
                  <a:pt x="1109" y="574"/>
                </a:lnTo>
                <a:lnTo>
                  <a:pt x="1109" y="613"/>
                </a:lnTo>
                <a:lnTo>
                  <a:pt x="1109" y="652"/>
                </a:lnTo>
                <a:lnTo>
                  <a:pt x="1096" y="691"/>
                </a:lnTo>
                <a:lnTo>
                  <a:pt x="1096" y="730"/>
                </a:lnTo>
                <a:lnTo>
                  <a:pt x="1070" y="769"/>
                </a:lnTo>
                <a:lnTo>
                  <a:pt x="1070" y="796"/>
                </a:lnTo>
                <a:lnTo>
                  <a:pt x="1070" y="835"/>
                </a:lnTo>
                <a:lnTo>
                  <a:pt x="1057" y="874"/>
                </a:lnTo>
                <a:lnTo>
                  <a:pt x="1057" y="926"/>
                </a:lnTo>
                <a:lnTo>
                  <a:pt x="1043" y="965"/>
                </a:lnTo>
                <a:lnTo>
                  <a:pt x="1043" y="1004"/>
                </a:lnTo>
                <a:lnTo>
                  <a:pt x="1030" y="1043"/>
                </a:lnTo>
                <a:lnTo>
                  <a:pt x="1017" y="1095"/>
                </a:lnTo>
                <a:lnTo>
                  <a:pt x="1017" y="1122"/>
                </a:lnTo>
                <a:lnTo>
                  <a:pt x="991" y="1161"/>
                </a:lnTo>
                <a:lnTo>
                  <a:pt x="978" y="1239"/>
                </a:lnTo>
                <a:lnTo>
                  <a:pt x="965" y="1278"/>
                </a:lnTo>
                <a:lnTo>
                  <a:pt x="939" y="1317"/>
                </a:lnTo>
                <a:lnTo>
                  <a:pt x="939" y="1356"/>
                </a:lnTo>
                <a:lnTo>
                  <a:pt x="913" y="1395"/>
                </a:lnTo>
                <a:lnTo>
                  <a:pt x="900" y="1474"/>
                </a:lnTo>
                <a:lnTo>
                  <a:pt x="887" y="1552"/>
                </a:lnTo>
                <a:lnTo>
                  <a:pt x="861" y="1591"/>
                </a:lnTo>
                <a:lnTo>
                  <a:pt x="822" y="1617"/>
                </a:lnTo>
                <a:lnTo>
                  <a:pt x="783" y="1630"/>
                </a:lnTo>
                <a:lnTo>
                  <a:pt x="744" y="1630"/>
                </a:lnTo>
                <a:lnTo>
                  <a:pt x="704" y="1656"/>
                </a:lnTo>
                <a:lnTo>
                  <a:pt x="665" y="1656"/>
                </a:lnTo>
                <a:lnTo>
                  <a:pt x="626" y="1643"/>
                </a:lnTo>
                <a:lnTo>
                  <a:pt x="626" y="1604"/>
                </a:lnTo>
                <a:lnTo>
                  <a:pt x="600" y="1565"/>
                </a:lnTo>
                <a:lnTo>
                  <a:pt x="587" y="1526"/>
                </a:lnTo>
                <a:lnTo>
                  <a:pt x="561" y="1565"/>
                </a:lnTo>
                <a:lnTo>
                  <a:pt x="548" y="1604"/>
                </a:lnTo>
                <a:lnTo>
                  <a:pt x="522" y="1643"/>
                </a:lnTo>
                <a:lnTo>
                  <a:pt x="483" y="1682"/>
                </a:lnTo>
                <a:lnTo>
                  <a:pt x="457" y="1734"/>
                </a:lnTo>
                <a:lnTo>
                  <a:pt x="444" y="1774"/>
                </a:lnTo>
                <a:lnTo>
                  <a:pt x="444" y="1813"/>
                </a:lnTo>
                <a:lnTo>
                  <a:pt x="444" y="1865"/>
                </a:lnTo>
                <a:lnTo>
                  <a:pt x="444" y="1917"/>
                </a:lnTo>
                <a:lnTo>
                  <a:pt x="444" y="2047"/>
                </a:lnTo>
                <a:lnTo>
                  <a:pt x="418" y="2100"/>
                </a:lnTo>
                <a:lnTo>
                  <a:pt x="391" y="2191"/>
                </a:lnTo>
                <a:lnTo>
                  <a:pt x="352" y="2282"/>
                </a:lnTo>
                <a:lnTo>
                  <a:pt x="339" y="2321"/>
                </a:lnTo>
                <a:lnTo>
                  <a:pt x="326" y="2360"/>
                </a:lnTo>
                <a:lnTo>
                  <a:pt x="313" y="2412"/>
                </a:lnTo>
                <a:lnTo>
                  <a:pt x="287" y="2439"/>
                </a:lnTo>
                <a:lnTo>
                  <a:pt x="274" y="2517"/>
                </a:lnTo>
                <a:lnTo>
                  <a:pt x="235" y="2543"/>
                </a:lnTo>
                <a:lnTo>
                  <a:pt x="196" y="2543"/>
                </a:lnTo>
                <a:lnTo>
                  <a:pt x="157" y="2543"/>
                </a:lnTo>
                <a:lnTo>
                  <a:pt x="118" y="2543"/>
                </a:lnTo>
                <a:lnTo>
                  <a:pt x="91" y="2543"/>
                </a:lnTo>
                <a:lnTo>
                  <a:pt x="65" y="2582"/>
                </a:lnTo>
                <a:lnTo>
                  <a:pt x="52" y="2621"/>
                </a:lnTo>
                <a:lnTo>
                  <a:pt x="26" y="2673"/>
                </a:lnTo>
                <a:lnTo>
                  <a:pt x="13" y="2712"/>
                </a:lnTo>
                <a:lnTo>
                  <a:pt x="0" y="2765"/>
                </a:lnTo>
                <a:lnTo>
                  <a:pt x="0" y="2804"/>
                </a:lnTo>
                <a:lnTo>
                  <a:pt x="26" y="2843"/>
                </a:lnTo>
                <a:lnTo>
                  <a:pt x="78" y="2882"/>
                </a:lnTo>
                <a:lnTo>
                  <a:pt x="105" y="2908"/>
                </a:lnTo>
                <a:lnTo>
                  <a:pt x="157" y="2947"/>
                </a:lnTo>
                <a:lnTo>
                  <a:pt x="209" y="2986"/>
                </a:lnTo>
                <a:lnTo>
                  <a:pt x="261" y="3012"/>
                </a:lnTo>
                <a:lnTo>
                  <a:pt x="365" y="3038"/>
                </a:lnTo>
                <a:lnTo>
                  <a:pt x="470" y="3051"/>
                </a:lnTo>
                <a:lnTo>
                  <a:pt x="652" y="3051"/>
                </a:lnTo>
                <a:lnTo>
                  <a:pt x="913" y="3064"/>
                </a:lnTo>
                <a:lnTo>
                  <a:pt x="1226" y="3064"/>
                </a:lnTo>
                <a:lnTo>
                  <a:pt x="1487" y="3064"/>
                </a:lnTo>
                <a:lnTo>
                  <a:pt x="1617" y="3064"/>
                </a:lnTo>
                <a:lnTo>
                  <a:pt x="1656" y="3064"/>
                </a:lnTo>
                <a:lnTo>
                  <a:pt x="1696" y="3064"/>
                </a:lnTo>
                <a:lnTo>
                  <a:pt x="1735" y="3064"/>
                </a:lnTo>
                <a:lnTo>
                  <a:pt x="1813" y="3064"/>
                </a:lnTo>
                <a:lnTo>
                  <a:pt x="1943" y="3064"/>
                </a:lnTo>
                <a:lnTo>
                  <a:pt x="2100" y="3064"/>
                </a:lnTo>
                <a:lnTo>
                  <a:pt x="2230" y="3064"/>
                </a:lnTo>
                <a:lnTo>
                  <a:pt x="2361" y="3064"/>
                </a:lnTo>
                <a:lnTo>
                  <a:pt x="2517" y="3064"/>
                </a:lnTo>
                <a:lnTo>
                  <a:pt x="2674" y="3064"/>
                </a:lnTo>
                <a:lnTo>
                  <a:pt x="2778" y="3051"/>
                </a:lnTo>
                <a:lnTo>
                  <a:pt x="2830" y="3012"/>
                </a:lnTo>
                <a:lnTo>
                  <a:pt x="2882" y="2973"/>
                </a:lnTo>
                <a:lnTo>
                  <a:pt x="2908" y="2934"/>
                </a:lnTo>
                <a:lnTo>
                  <a:pt x="2934" y="2895"/>
                </a:lnTo>
                <a:lnTo>
                  <a:pt x="2934" y="2843"/>
                </a:lnTo>
                <a:lnTo>
                  <a:pt x="2934" y="2804"/>
                </a:lnTo>
                <a:lnTo>
                  <a:pt x="2908" y="2765"/>
                </a:lnTo>
                <a:lnTo>
                  <a:pt x="2869" y="2765"/>
                </a:lnTo>
                <a:lnTo>
                  <a:pt x="2791" y="2765"/>
                </a:lnTo>
                <a:lnTo>
                  <a:pt x="2713" y="2752"/>
                </a:lnTo>
                <a:lnTo>
                  <a:pt x="2608" y="2738"/>
                </a:lnTo>
                <a:lnTo>
                  <a:pt x="2530" y="2725"/>
                </a:lnTo>
                <a:lnTo>
                  <a:pt x="2491" y="2712"/>
                </a:lnTo>
                <a:lnTo>
                  <a:pt x="2465" y="2673"/>
                </a:lnTo>
                <a:lnTo>
                  <a:pt x="2426" y="2634"/>
                </a:lnTo>
                <a:lnTo>
                  <a:pt x="2400" y="2530"/>
                </a:lnTo>
                <a:lnTo>
                  <a:pt x="2374" y="2426"/>
                </a:lnTo>
                <a:lnTo>
                  <a:pt x="2361" y="2399"/>
                </a:lnTo>
                <a:lnTo>
                  <a:pt x="2348" y="2347"/>
                </a:lnTo>
                <a:lnTo>
                  <a:pt x="2348" y="2295"/>
                </a:lnTo>
                <a:lnTo>
                  <a:pt x="2348" y="2191"/>
                </a:lnTo>
                <a:lnTo>
                  <a:pt x="2348" y="2152"/>
                </a:lnTo>
                <a:lnTo>
                  <a:pt x="2361" y="2113"/>
                </a:lnTo>
                <a:lnTo>
                  <a:pt x="2374" y="2073"/>
                </a:lnTo>
                <a:lnTo>
                  <a:pt x="2374" y="2034"/>
                </a:lnTo>
                <a:lnTo>
                  <a:pt x="2374" y="1995"/>
                </a:lnTo>
                <a:lnTo>
                  <a:pt x="2348" y="1943"/>
                </a:lnTo>
                <a:lnTo>
                  <a:pt x="2308" y="1904"/>
                </a:lnTo>
                <a:lnTo>
                  <a:pt x="2295" y="1865"/>
                </a:lnTo>
                <a:lnTo>
                  <a:pt x="2269" y="1826"/>
                </a:lnTo>
                <a:lnTo>
                  <a:pt x="2269" y="1787"/>
                </a:lnTo>
                <a:lnTo>
                  <a:pt x="2256" y="1760"/>
                </a:lnTo>
                <a:lnTo>
                  <a:pt x="2243" y="1682"/>
                </a:lnTo>
                <a:lnTo>
                  <a:pt x="2230" y="1643"/>
                </a:lnTo>
                <a:lnTo>
                  <a:pt x="2217" y="1591"/>
                </a:lnTo>
                <a:lnTo>
                  <a:pt x="2217" y="1487"/>
                </a:lnTo>
                <a:lnTo>
                  <a:pt x="2204" y="1382"/>
                </a:lnTo>
                <a:lnTo>
                  <a:pt x="2191" y="1343"/>
                </a:lnTo>
                <a:lnTo>
                  <a:pt x="2178" y="1291"/>
                </a:lnTo>
                <a:lnTo>
                  <a:pt x="2139" y="1265"/>
                </a:lnTo>
                <a:lnTo>
                  <a:pt x="2100" y="1265"/>
                </a:lnTo>
                <a:lnTo>
                  <a:pt x="2061" y="1265"/>
                </a:lnTo>
                <a:lnTo>
                  <a:pt x="2035" y="1226"/>
                </a:lnTo>
                <a:lnTo>
                  <a:pt x="2022" y="1122"/>
                </a:lnTo>
                <a:lnTo>
                  <a:pt x="2022" y="1082"/>
                </a:lnTo>
                <a:lnTo>
                  <a:pt x="2022" y="1043"/>
                </a:lnTo>
                <a:lnTo>
                  <a:pt x="2035" y="1004"/>
                </a:lnTo>
                <a:lnTo>
                  <a:pt x="2061" y="965"/>
                </a:lnTo>
                <a:lnTo>
                  <a:pt x="2061" y="926"/>
                </a:lnTo>
                <a:lnTo>
                  <a:pt x="2048" y="887"/>
                </a:lnTo>
                <a:lnTo>
                  <a:pt x="2022" y="848"/>
                </a:lnTo>
                <a:lnTo>
                  <a:pt x="1982" y="743"/>
                </a:lnTo>
                <a:lnTo>
                  <a:pt x="1969" y="665"/>
                </a:lnTo>
                <a:lnTo>
                  <a:pt x="1956" y="626"/>
                </a:lnTo>
                <a:lnTo>
                  <a:pt x="1943" y="574"/>
                </a:lnTo>
                <a:lnTo>
                  <a:pt x="1930" y="535"/>
                </a:lnTo>
                <a:lnTo>
                  <a:pt x="1852" y="456"/>
                </a:lnTo>
                <a:lnTo>
                  <a:pt x="1826" y="417"/>
                </a:lnTo>
                <a:lnTo>
                  <a:pt x="1800" y="378"/>
                </a:lnTo>
                <a:lnTo>
                  <a:pt x="1774" y="339"/>
                </a:lnTo>
                <a:lnTo>
                  <a:pt x="1735" y="300"/>
                </a:lnTo>
                <a:lnTo>
                  <a:pt x="1709" y="261"/>
                </a:lnTo>
                <a:lnTo>
                  <a:pt x="1682" y="222"/>
                </a:lnTo>
                <a:lnTo>
                  <a:pt x="1643" y="209"/>
                </a:lnTo>
                <a:lnTo>
                  <a:pt x="1630" y="170"/>
                </a:lnTo>
                <a:lnTo>
                  <a:pt x="1604" y="130"/>
                </a:lnTo>
                <a:lnTo>
                  <a:pt x="1578" y="91"/>
                </a:lnTo>
                <a:lnTo>
                  <a:pt x="1622" y="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4340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14800" y="28195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411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3962520"/>
            <a:ext cx="457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1828800"/>
            <a:ext cx="1003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2286000"/>
            <a:ext cx="2125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nst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t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2819520"/>
            <a:ext cx="2840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3429000"/>
            <a:ext cx="129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H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33920" y="4191120"/>
            <a:ext cx="2819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F000-FA0B-48B1-844F-3DC28BC7E7C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2-2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00280" y="281160"/>
            <a:ext cx="90676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ugdringen van onveilige handelingen/situa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0520" y="1606680"/>
            <a:ext cx="10199520" cy="5059080"/>
          </a:xfrm>
          <a:prstGeom prst="triangle">
            <a:avLst>
              <a:gd name="adj" fmla="val 49986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39880" y="5943600"/>
            <a:ext cx="7188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.000 gevallen van onveilige handelingen en/of situa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03280" y="5584680"/>
            <a:ext cx="797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27200" y="4800600"/>
            <a:ext cx="57787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000 (bijna) ongevallen met gering letsel/ehbo zonder verzu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1840" y="4653000"/>
            <a:ext cx="617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4084560"/>
            <a:ext cx="4680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ongevallen met letsel met verzu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3886200"/>
            <a:ext cx="4604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62360" y="3200400"/>
            <a:ext cx="34005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0 ongevallen m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nstig letsel met verzu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73600" y="3102120"/>
            <a:ext cx="3031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57800" y="2133720"/>
            <a:ext cx="318960" cy="91440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2362320"/>
            <a:ext cx="762120" cy="22860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2438280"/>
            <a:ext cx="785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2BB7-6F35-48CC-B8AF-FFE279DB7551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2-2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00280" y="281160"/>
            <a:ext cx="90676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ugdringen van onveilige handelingen/situa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05320" y="1600200"/>
            <a:ext cx="3733560" cy="5059440"/>
          </a:xfrm>
          <a:prstGeom prst="triangle">
            <a:avLst>
              <a:gd name="adj" fmla="val 49986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952880" y="594360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16440" y="5584680"/>
            <a:ext cx="2919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495288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48000" y="4653000"/>
            <a:ext cx="2262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05520" y="4084560"/>
            <a:ext cx="60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37080" y="3886200"/>
            <a:ext cx="1684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276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29040" y="3102120"/>
            <a:ext cx="1106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29200" y="2514600"/>
            <a:ext cx="785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arbeidsongeval" descr=""/>
          <p:cNvPicPr/>
          <p:nvPr/>
        </p:nvPicPr>
        <p:blipFill>
          <a:blip r:embed="rId1"/>
          <a:stretch/>
        </p:blipFill>
        <p:spPr>
          <a:xfrm>
            <a:off x="838080" y="5410080"/>
            <a:ext cx="1771920" cy="1501920"/>
          </a:xfrm>
          <a:prstGeom prst="rect">
            <a:avLst/>
          </a:prstGeom>
          <a:ln w="0">
            <a:noFill/>
          </a:ln>
        </p:spPr>
      </p:pic>
      <p:pic>
        <p:nvPicPr>
          <p:cNvPr id="94" name="images" descr=""/>
          <p:cNvPicPr/>
          <p:nvPr/>
        </p:nvPicPr>
        <p:blipFill>
          <a:blip r:embed="rId2"/>
          <a:stretch/>
        </p:blipFill>
        <p:spPr>
          <a:xfrm>
            <a:off x="7467480" y="4572000"/>
            <a:ext cx="1524240" cy="1141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rcRect l="0" t="0" r="2107" b="0"/>
          <a:stretch/>
        </p:blipFill>
        <p:spPr>
          <a:xfrm>
            <a:off x="2847960" y="3657600"/>
            <a:ext cx="922320" cy="1305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553080" y="2666880"/>
            <a:ext cx="2362320" cy="1440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rcRect l="0" t="0" r="13984" b="0"/>
          <a:stretch/>
        </p:blipFill>
        <p:spPr>
          <a:xfrm>
            <a:off x="3886200" y="1981080"/>
            <a:ext cx="762120" cy="95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1495-CDB3-4C49-AE8B-F18674510638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2-2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00280" y="642960"/>
            <a:ext cx="9067680" cy="96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orzaken - Gevol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00280" y="1780920"/>
            <a:ext cx="9067680" cy="457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Heinrich en Lateiner werd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minotheorie ontwikke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at 5 onderd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htergro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karak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veilige handeling of situ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g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de en/of letsel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F1F2-6187-40FA-8325-B65262D337B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4T18:39:37Z</dcterms:created>
  <dc:creator>Hajo Kleijburg</dc:creator>
  <dc:description>Revisie 0</dc:description>
  <dc:language>en-US</dc:language>
  <cp:lastModifiedBy>Robbert Oosterom</cp:lastModifiedBy>
  <cp:lastPrinted>2000-05-31T16:35:47Z</cp:lastPrinted>
  <dcterms:modified xsi:type="dcterms:W3CDTF">2013-09-26T21:38:03Z</dcterms:modified>
  <cp:revision>31</cp:revision>
  <dc:subject>Les 2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