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16FF-1538-421C-8838-494280C57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3CD1-EF12-4C7A-A3A9-6F60AEA78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FD7E-E9E2-4B11-BA07-92ABB68BE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FD9F-06E0-4487-82D4-69207B374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76F1-A27B-40DE-A291-9E2441724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C971-2DEF-4E3D-8920-4BDF52AF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DEDB-0BB0-4637-AEBD-1B7AF13A6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FEEF-2AD0-466F-AF3E-53ED21A76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D92B-0970-474B-A3AD-83F82959E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FDBB-774D-4C25-BBB8-E555CCA5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46DA-2D3C-4E60-A8AB-04AC8350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B4F9-A22A-4381-AC3F-A56C10B9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9F16E-13F4-4379-8A32-27D7A8DC6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tom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eldwoordenboek pla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l + kn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90800" y="1600200"/>
            <a:ext cx="5162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ng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76360" y="1187280"/>
            <a:ext cx="5904000" cy="56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8569440" cy="57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17600" y="1125360"/>
            <a:ext cx="451332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87280" y="1117440"/>
            <a:ext cx="6624720" cy="57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idmond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4360" y="1236600"/>
            <a:ext cx="7343640" cy="55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11280" y="1144440"/>
            <a:ext cx="7705800" cy="570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stuiving ins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2347920"/>
            <a:ext cx="914400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5:40:07Z</dcterms:created>
  <dc:creator>johan</dc:creator>
  <dc:description/>
  <dc:language>en-US</dc:language>
  <cp:lastModifiedBy>johan</cp:lastModifiedBy>
  <dcterms:modified xsi:type="dcterms:W3CDTF">2009-03-15T15:40:29Z</dcterms:modified>
  <cp:revision>1</cp:revision>
  <dc:subject/>
  <dc:title>anatomie</dc:title>
</cp:coreProperties>
</file>