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2E4-3207-4DF2-9914-7D067CB1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E1C-1A54-4BC1-96EF-016F42D9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835-9D82-44CE-9048-13A2A4B3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7DA-4E48-42B5-AC73-775B87BB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EE7-B561-41E3-9C65-7522254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1E8-B3CB-4B52-876F-591D124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7F2-246E-4C92-ACA0-9C374DE8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001-59F3-48ED-9E0D-738499E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4BE-14F2-4988-AB6E-4B7AA7A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792-FF47-41E3-9A73-B14C5FD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E91-1355-4520-A72C-8F5748B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D4F-0574-41C7-981D-FBD4CC3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859-E119-466D-9FE0-A9AA3B36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ldwoordenboek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l + k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0800" y="1600200"/>
            <a:ext cx="516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187280"/>
            <a:ext cx="590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56944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17600" y="1125360"/>
            <a:ext cx="45133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117440"/>
            <a:ext cx="66247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dmond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236600"/>
            <a:ext cx="734364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1144440"/>
            <a:ext cx="7705800" cy="57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uiving ins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47920"/>
            <a:ext cx="9144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0:07Z</dcterms:created>
  <dc:creator>johan</dc:creator>
  <dc:description/>
  <dc:language>en-US</dc:language>
  <cp:lastModifiedBy>johan</cp:lastModifiedBy>
  <dcterms:modified xsi:type="dcterms:W3CDTF">2009-03-15T15:40:29Z</dcterms:modified>
  <cp:revision>1</cp:revision>
  <dc:subject/>
  <dc:title>anatomie</dc:title>
</cp:coreProperties>
</file>