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A64-FDD2-4C5A-B6A6-616C042E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025-40E1-4D68-9E73-297AEE3E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0C5-2ED4-46DE-B05A-A86E9461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A5F-3721-4104-900A-33F1B9DE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656-2273-458D-82F2-328ACE2B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F07-1633-46D5-8071-FE0AF5C0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16F-F170-4828-9F80-4D7C8AFE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D21-1CB4-4FF7-9EAE-1863C950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996-3412-407E-A27F-76620FEF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6A0-84D4-4E89-A796-EE7A7636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C1A-715B-40A6-AC72-569AB7F9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38D-DD7B-43C9-B7E5-B0E46622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CEA1-0829-461B-BE8C-A172F1492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ldwoordenboek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 + k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0800" y="1600200"/>
            <a:ext cx="516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187280"/>
            <a:ext cx="590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569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17600" y="1125360"/>
            <a:ext cx="45133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117440"/>
            <a:ext cx="6624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dmond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236600"/>
            <a:ext cx="7343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144440"/>
            <a:ext cx="7705800" cy="57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uiving ins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792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0:07Z</dcterms:created>
  <dc:creator>johan</dc:creator>
  <dc:description/>
  <dc:language>en-US</dc:language>
  <cp:lastModifiedBy>johan</cp:lastModifiedBy>
  <dcterms:modified xsi:type="dcterms:W3CDTF">2009-03-15T15:40:29Z</dcterms:modified>
  <cp:revision>1</cp:revision>
  <dc:subject/>
  <dc:title>anatomie</dc:title>
</cp:coreProperties>
</file>