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35ED-58F0-4448-9892-E4AB51EC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0C9-2C1A-4F13-9951-A37FA90D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C7A-C31A-4851-83AB-F4198F17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3FD-47F0-4ED3-B811-DEDE5BA7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44B3-DE77-429B-A8FF-B08A1E80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F695-BA73-44FA-9628-36FA1493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125-F5F9-420A-B715-55738289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5DB6-A54A-42FC-947A-22434110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EDCB-4F8D-4C12-A11F-EAF328AD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BE86-7A6A-474E-A6F0-76E1EF9D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FEA-2580-4BCC-907E-D15D7CCC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931-D2D8-4D7F-81B0-6E564B58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FA80-6626-4A76-92EA-E48FF2AA5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t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ldwoordenboek 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l + k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90800" y="1600200"/>
            <a:ext cx="516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76360" y="1187280"/>
            <a:ext cx="5904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56944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17600" y="1125360"/>
            <a:ext cx="45133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1117440"/>
            <a:ext cx="66247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dmond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1236600"/>
            <a:ext cx="734364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1144440"/>
            <a:ext cx="7705800" cy="57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uiving ins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47920"/>
            <a:ext cx="9144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5:40:07Z</dcterms:created>
  <dc:creator>johan</dc:creator>
  <dc:description/>
  <dc:language>en-US</dc:language>
  <cp:lastModifiedBy>johan</cp:lastModifiedBy>
  <dcterms:modified xsi:type="dcterms:W3CDTF">2009-03-15T15:40:29Z</dcterms:modified>
  <cp:revision>1</cp:revision>
  <dc:subject/>
  <dc:title>anatomie</dc:title>
</cp:coreProperties>
</file>