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787-5E0A-49A3-8287-0ED61435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CE0-FD5F-410D-994C-21084657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BE7-D685-4CB1-B51C-54F79823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E27-5391-4B7F-8813-73E0624E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516-21AB-40BB-A4A0-CBB846B0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D76-2298-4625-8391-74F57C2B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378-CBBC-413F-8291-ACCB42E3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EC5-61B8-4CE1-B899-CC3C6FDD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375-4317-42B8-9EA3-7D7E8239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29A-26D8-418E-9C68-8D9BDF7A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249-A78C-4CC3-9C15-B2E30786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A5E-391F-41F8-BD31-C9614C4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CAC1-13F5-4EEC-BDFF-AD69ECC4C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ldwoordenboek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 + k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0800" y="1600200"/>
            <a:ext cx="516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187280"/>
            <a:ext cx="590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569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17600" y="1125360"/>
            <a:ext cx="451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117440"/>
            <a:ext cx="6624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dmond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236600"/>
            <a:ext cx="7343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144440"/>
            <a:ext cx="7705800" cy="57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uiving ins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792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0:07Z</dcterms:created>
  <dc:creator>johan</dc:creator>
  <dc:description/>
  <dc:language>en-US</dc:language>
  <cp:lastModifiedBy>johan</cp:lastModifiedBy>
  <dcterms:modified xsi:type="dcterms:W3CDTF">2009-03-15T15:40:29Z</dcterms:modified>
  <cp:revision>1</cp:revision>
  <dc:subject/>
  <dc:title>anatomie</dc:title>
</cp:coreProperties>
</file>