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935-91DF-4C45-8EC6-0556389F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CF1-3559-44EB-8927-52EFCF9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15A-F5FB-462C-8403-D9A7056B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803-6B79-4419-A5C0-258848AD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04E-4A09-4651-8277-7BF1F4D0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A69-3E9A-4381-89DA-9B97D2B4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097-B60C-4170-BFE3-5C64DBC7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B76-9859-49C2-814F-53E82BC8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67C-9A28-4DCF-BC98-B14D37FD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581-A14F-4008-94BD-6D8E3B28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40C-48EE-462B-870A-DAD93ED6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C5E-E426-44BD-A313-AA1B0D22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F5B7-294E-407F-87A6-160E59D0F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ldwoordenboek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 + k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0800" y="1600200"/>
            <a:ext cx="516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187280"/>
            <a:ext cx="590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569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17600" y="1125360"/>
            <a:ext cx="451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117440"/>
            <a:ext cx="6624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dmond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236600"/>
            <a:ext cx="7343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144440"/>
            <a:ext cx="7705800" cy="57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uiving ins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792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0:07Z</dcterms:created>
  <dc:creator>johan</dc:creator>
  <dc:description/>
  <dc:language>en-US</dc:language>
  <cp:lastModifiedBy>johan</cp:lastModifiedBy>
  <dcterms:modified xsi:type="dcterms:W3CDTF">2009-03-15T15:40:29Z</dcterms:modified>
  <cp:revision>1</cp:revision>
  <dc:subject/>
  <dc:title>anatomie</dc:title>
</cp:coreProperties>
</file>