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E1EB-738F-4F6E-81D2-BEEE179C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AC98-3497-4A7B-BDF2-59093B49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CF42-36BD-440F-A20F-468CC896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1424-FFB9-416C-8842-8F8FDA05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1E9C-2381-45F1-82B0-DF1478D8E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8167-5A8A-476A-ACF0-7F553B6B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4C9B-1D6D-4711-A653-E93AA9F2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A5AF-18F2-4178-862E-36A5C9B8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5846-504D-4574-88B9-5F502866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826D-C65C-4FE2-A9A4-43F22EA5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1A1A-B518-452C-BAFC-69405C14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B097-28FB-4EDC-B14C-E153DDED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BE8F-3723-466E-B30A-12AB53A0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FB4A-5456-4A3E-890A-B6F82EA6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3D94-7749-4091-96C1-E11E94AD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305E-7654-4146-BC0B-2E6F7E0A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43C3-CF19-48ED-8E10-655ADC66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4301-BD2D-4BAC-95EB-F1BC4BCA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3B93-EE0A-4724-B809-8AA974DA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D816-7D12-4D3A-968F-1E5B4598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F1E6-1BD4-4BAB-BF60-B9E557FC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BE12-4798-4DDE-B41D-AF83DBBC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8B63-09DF-4FA7-A7C7-40B2FE85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489F-350B-4FFC-AF03-7547AE7F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3C59-79E7-4350-8F51-DC7E251D9C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9733-0A91-4E46-B6F1-53BE3326A3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Dichtheid van een objec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t zie ik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ibb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66720" y="51055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k slaap uit hoo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lachten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ken van ontla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ds 5 da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ssel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ds 2 dagen verbete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 opnieuw aangeboden met fecaal bra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95400"/>
            <a:ext cx="9144000" cy="6441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115920"/>
            <a:ext cx="9144000" cy="6443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23585" t="52068" r="54534" b="19560"/>
          <a:stretch/>
        </p:blipFill>
        <p:spPr>
          <a:xfrm>
            <a:off x="1763640" y="2133720"/>
            <a:ext cx="4176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t zit daar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 het een kogel i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414360"/>
            <a:ext cx="914400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t zit daar?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ing pong b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441360"/>
            <a:ext cx="910764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t is het dan wel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721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93080" cy="6669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1440"/>
            <a:ext cx="8964720" cy="6721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0" y="1440"/>
            <a:ext cx="8893080" cy="6669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539640" y="17640"/>
            <a:ext cx="784872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umé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e dichter de st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 te witter het röntgenbe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cht is …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al/steen is …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stanje is…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n Dribbel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.I.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9:19:49Z</dcterms:created>
  <dc:creator>Evert</dc:creator>
  <dc:description/>
  <dc:language>en-US</dc:language>
  <cp:lastModifiedBy>evert</cp:lastModifiedBy>
  <dcterms:modified xsi:type="dcterms:W3CDTF">2009-05-12T18:24:23Z</dcterms:modified>
  <cp:revision>5</cp:revision>
  <dc:subject/>
  <dc:title>Dichtheid van onderwerp</dc:title>
</cp:coreProperties>
</file>