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C29-75E3-4E0C-8489-D661AEF3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22A-29E9-4930-8E7C-4A7C948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7CD-6D56-4BD9-850F-98BE25F5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637-556C-416E-B5D6-99136919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CA1-463B-4B82-8B83-9AB9D015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1C0-9C2F-4414-9FE5-E093A9AE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18F-8691-42B2-9799-CFCBCBE6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346-4C2A-44F8-9C95-499AC482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568-9D31-4C23-B84E-AFD234AA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189-1B19-4E3B-947D-7C02E30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3D4-6244-4155-87FF-8E718875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BE9-463A-4F60-B3FC-1361095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8411-FE4F-477A-94F3-8911BB315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E:/radiologie/Verdacht%20van%20melanoom" TargetMode="External"/><Relationship Id="rId3" Type="http://schemas.openxmlformats.org/officeDocument/2006/relationships/hyperlink" Target="file:///E:/radiologie/Verdacht%20van%20melanoom" TargetMode="External"/><Relationship Id="rId4" Type="http://schemas.openxmlformats.org/officeDocument/2006/relationships/hyperlink" Target="file:///E:/radiologie/Verdacht%20van%20melanoom" TargetMode="External"/><Relationship Id="rId5" Type="http://schemas.openxmlformats.org/officeDocument/2006/relationships/hyperlink" Target="file:///E:/radiologie/Verdacht%20van%20melanoom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kincancer.dermis.net/content/e04typesof/e154/e155/index_eng.html" TargetMode="External"/><Relationship Id="rId3" Type="http://schemas.openxmlformats.org/officeDocument/2006/relationships/hyperlink" Target="http://skincancer.dermis.net/content/e04typesof/e154/e155/index_eng.html" TargetMode="External"/><Relationship Id="rId4" Type="http://schemas.openxmlformats.org/officeDocument/2006/relationships/hyperlink" Target="http://skincancer.dermis.net/content/e04typesof/e154/e155/index_eng.html" TargetMode="External"/><Relationship Id="rId5" Type="http://schemas.openxmlformats.org/officeDocument/2006/relationships/hyperlink" Target="http://skincancer.dermis.net/content/e04typesof/e154/e155/index_eng.html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önt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36640" y="1655640"/>
            <a:ext cx="56689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lan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kincancer.dermis.net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content/e04typesof/e154/e155/index_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724120" y="189000"/>
            <a:ext cx="4827600" cy="666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1225440" y="0"/>
            <a:ext cx="66931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27468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nl-NL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kincancer.dermis.net</a:t>
            </a:r>
            <a:r>
              <a:rPr b="0" lang="nl-NL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content/e04typesof/e154/e155/index_</a:t>
            </a:r>
            <a:r>
              <a:rPr b="0" lang="nl-NL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ng.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3840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öntgenstralen raken obje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len worden doorgel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len worden geabsorb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trooiing van de stra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a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öntgenbui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Tekening blz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afragma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epaalt grootte stralenbun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ien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kV en mAs-ge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ooistralenroo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contrast verbeterd, maar grotere hoeveelheid straling nodig, en geeft soms stre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tografische plaat waarop opname wordt gemaa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aken van een röntgenfo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ssette l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öntgenapparaat goed boven cass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chtbundel (= stralenbundel) precies op cass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ventueel instellen kV en mAs wa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15% regeling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V met 15% omlaag= mAs factor 2 omho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oier contrast, dezelfde zwa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er goed position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Komt nog uitgebreid aan b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twikkel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STAPP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wikk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er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 be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fix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p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kan er allemaal mis g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zw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w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weinig contrast, wel voldoende zw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zwart bij goede kV en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vl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te vl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nkere vl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laten emulsie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LIGHEID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er gevoel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edvormende organ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lachts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g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kk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voel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g, lever, d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s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nig gevoel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 en h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Rontgenruimte"/>
          <p:cNvPicPr/>
          <p:nvPr/>
        </p:nvPicPr>
        <p:blipFill>
          <a:blip r:embed="rId2"/>
          <a:stretch/>
        </p:blipFill>
        <p:spPr>
          <a:xfrm>
            <a:off x="5651640" y="2205000"/>
            <a:ext cx="1533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zelf en andere zeer goed bescher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oorten straling van bela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i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ndels energiepakketj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otonen / quant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schapp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dringend verm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king op fotografische pl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mogen tot luminescen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schadiging weef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e str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chtbaar door lichtvi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dat je ALTIJD buiten de directe stralenbundel blijf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oistr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hiermee onvermijd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nen bij dieren niet buiten de ruimte gaan staan, zoals in humane geneesku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kun je wel do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 foc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 diafrag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terkingsscherm in cass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oonlijk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den sc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den handschoe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an nog niet in directe bunde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klier besche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dge altijd 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g enkele rege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deskundigen mogen apparaat bed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moet je aan de dosislimieten hou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Tabel blz.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ngere vrouwen en personen onder 18 jaar mogen niet aan straling worden bloot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ordringend 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 van doordringen hangt af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kte van he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omnummer van de ma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htheid van de ma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-inhoud van de stra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hardheid” stra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king op fotografische pla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e laag emulsie zodat genoeg absorptie optree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erkingsscherm(en) in cass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öntgenstralen belichten film (samen met fluorescerende lichtstralen die ontstaan….komt hierna aan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 meer stralen film bereiken des te zwarter wordt dat stukje film (ook zichtbaar licht heeft dit ef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sette goed dicht laten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esc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mige stoffen lichten op bij bestralen met röntgenstr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ht dat ontstaat heeft grotere fotografische werking dan röntgenstralen 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102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chadiging weef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ibelemme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elverwoes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stekingsverwek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nbeschadi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ef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meteen merk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Huiddefec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.g.v. str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Basaalcelcarcin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800" y="539280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80 % van de huidkan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50292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laveiselcarcin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00720" y="5445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41:30Z</dcterms:created>
  <dc:creator>Janne van Gompel</dc:creator>
  <dc:description/>
  <dc:language>en-US</dc:language>
  <cp:lastModifiedBy>default</cp:lastModifiedBy>
  <dcterms:modified xsi:type="dcterms:W3CDTF">2009-09-14T12:39:56Z</dcterms:modified>
  <cp:revision>9</cp:revision>
  <dc:subject/>
  <dc:title>Röntgen 1</dc:title>
</cp:coreProperties>
</file>