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E95-EB53-4C1D-88B7-D925EE29EC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öntgenfoto van een andere hond die 8 weken drachtig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welke richting is de foto genomen? Ds of s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s er goed gediafragmeerd? Zie je de lendewervels, heupbeen (=darmbeen) vaag, dijbeen (femur), ontlasting in einddarm (colon/rec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24F3-BC24-49BF-85E5-327355780D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jonge groene leguaan heeft onvoldoende vit d3 en calcium in het voer gek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witte pijl zie je botnieuwvorming dat als reactie op het te slappe (flexibele?) bot gevorm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ot zelf is erg dun met een breuk (zwarte pijl) onder de heupk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ze pathologische fractuur komt dus niet in de eerste plaats door trauma maar door deficiënte voe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B58-726E-428C-9491-E36C29D9B5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deze groene leguaan lijdt aan tekorten aan vit d3 en calc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lstrekt abnormale kromming van de wervelkol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E88E-F3E7-4732-BB9C-52C5ACA63A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ofo van een witkeel varaan met zand obstipat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gelijk tgv huisvesting op zand of door veel zand op voeds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u moet je chirurgisch ingrijpen. Dit is niet altijd succesvol. Laxeren helpt hier niet m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D11A-CAF2-4942-BE5E-613EFE7283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oodwang schildpad met meerdere fracturen tgv 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r toeval werden de kiezeltjes waarmee het mdkanaal vol zat aangetroff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E4E0-B2DF-43AB-B573-5D15A0CA14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g even terug naar dit plaatje wat zie je ook al we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 was die spondylose voor iets? Welk gevolg heeft die spondyl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umbosacrale instabiliteit: probleem in de achter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109-4AB8-4BF6-94EC-F4BB3C3478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ze hond heeft geen last van lumbosacrale instabiliteit. Dankzij?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D9E-F15D-4B2B-89E6-D0ECA11164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acam is een sterke pijnstiller die honden met lumbosacrale instabiliteit  een vermindering van de pijn gev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051B-F1CA-4117-B880-F207B13BD4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chematische projectie van een normaal beeld van de heup van een herder van 5 jaar 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C260-F3AE-4FCF-878A-868DC5B1EB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u röntgenfoto  van het normale beeld. Herken je de botstructuren van het schematische beeld van de vorige d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vooral op de normale knik die de laatste wervel met het heiligbeen maakt op de plek van het lumbosacrale gewri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C0C5-3D40-4F6E-BBC9-CDFD774DC4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r is een knik ontstaan in het ruggenmergkanaal tussen de laatste lendewervel en het heiligbe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geeft de instabiliteit weer tussen deze twee botten (in dit geval door een afwijking in 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tontwikkeling: namelijk de botnieuwvorming hier zwart aangegeven: de spondyl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16E4-72A4-4F50-AD47-DA6688691F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9BA0-7386-455C-9F3A-9F3016C0D1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99CC-CDA9-423B-9B04-516DB91897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C18-CDB7-430E-A680-7531176CBE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6B9-F51F-4E1B-9D3C-6E64726D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86D-01ED-4C1A-85EB-2AF2CA9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C66-095C-41EA-AEDE-26AD325D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105-3101-413B-9419-8FB0DC19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77B-9C12-4604-B3ED-463446E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1DC-E134-4F3A-BCEF-3D745E00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698-D2C7-44B9-94E8-4AA3CD5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C07-447A-4185-8C42-11A215B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A3D-F747-4386-9E97-4E61E08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0F7-1BD2-4CB8-853B-E812905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267-A57A-4C58-BD3A-ABBB4E0B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8C8-9B64-407C-94E1-9E00CC5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0C14-897D-48E4-9FD6-8EDD5166F2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33811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ogische bee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ijdelijke aanduiding voor inhoud 4" descr="rofo gravide ut met pup2.jpg"/>
          <p:cNvPicPr/>
          <p:nvPr/>
        </p:nvPicPr>
        <p:blipFill>
          <a:blip r:embed="rId1"/>
          <a:stretch/>
        </p:blipFill>
        <p:spPr>
          <a:xfrm>
            <a:off x="981000" y="993600"/>
            <a:ext cx="7020000" cy="510228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A4A-AA66-43B9-B796-4AAF366076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leguaan rofo op maat"/>
          <p:cNvPicPr/>
          <p:nvPr/>
        </p:nvPicPr>
        <p:blipFill>
          <a:blip r:embed="rId1"/>
          <a:stretch/>
        </p:blipFill>
        <p:spPr>
          <a:xfrm>
            <a:off x="1589040" y="1981080"/>
            <a:ext cx="596412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CCBC-2600-44E5-9EB7-6603002BF4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leguaan met knik op maat"/>
          <p:cNvPicPr/>
          <p:nvPr/>
        </p:nvPicPr>
        <p:blipFill>
          <a:blip r:embed="rId1"/>
          <a:stretch/>
        </p:blipFill>
        <p:spPr>
          <a:xfrm>
            <a:off x="1644480" y="1981080"/>
            <a:ext cx="585324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67A5-566B-4834-AD62-5AC765D72A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varaan"/>
          <p:cNvPicPr/>
          <p:nvPr/>
        </p:nvPicPr>
        <p:blipFill>
          <a:blip r:embed="rId1"/>
          <a:stretch/>
        </p:blipFill>
        <p:spPr>
          <a:xfrm>
            <a:off x="3124080" y="457200"/>
            <a:ext cx="4192560" cy="5867280"/>
          </a:xfrm>
          <a:prstGeom prst="rect">
            <a:avLst/>
          </a:prstGeom>
          <a:ln w="0">
            <a:noFill/>
          </a:ln>
        </p:spPr>
      </p:pic>
      <p:sp>
        <p:nvSpPr>
          <p:cNvPr id="9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BDF8-DC8C-4DA3-9169-D36D4AEDBE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roodwang"/>
          <p:cNvPicPr/>
          <p:nvPr/>
        </p:nvPicPr>
        <p:blipFill>
          <a:blip r:embed="rId1"/>
          <a:stretch/>
        </p:blipFill>
        <p:spPr>
          <a:xfrm>
            <a:off x="1454040" y="1981080"/>
            <a:ext cx="623412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32A-5F92-49A7-B82F-CCA1C780D87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lumbsacrinstab rofig2 met tekst"/>
          <p:cNvPicPr/>
          <p:nvPr/>
        </p:nvPicPr>
        <p:blipFill>
          <a:blip r:embed="rId1"/>
          <a:stretch/>
        </p:blipFill>
        <p:spPr>
          <a:xfrm>
            <a:off x="0" y="2490840"/>
            <a:ext cx="8458200" cy="3367080"/>
          </a:xfrm>
          <a:prstGeom prst="rect">
            <a:avLst/>
          </a:prstGeom>
          <a:ln w="0">
            <a:noFill/>
          </a:ln>
        </p:spPr>
      </p:pic>
      <p:sp>
        <p:nvSpPr>
          <p:cNvPr id="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429A-BC34-4A57-8644-A98C8F17FB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etacam zonder"/>
          <p:cNvPicPr/>
          <p:nvPr/>
        </p:nvPicPr>
        <p:blipFill>
          <a:blip r:embed="rId1"/>
          <a:stretch/>
        </p:blipFill>
        <p:spPr>
          <a:xfrm>
            <a:off x="297180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6E24-CC2A-4DB3-841E-3812A38937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metacam met"/>
          <p:cNvPicPr/>
          <p:nvPr/>
        </p:nvPicPr>
        <p:blipFill>
          <a:blip r:embed="rId1"/>
          <a:stretch/>
        </p:blipFill>
        <p:spPr>
          <a:xfrm>
            <a:off x="297180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5B0-8B92-4CD3-9611-1C5A23D5FF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Lumbo-sacrale</a:t>
            </a: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instabilite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Instabiliteit tussen twee wervels (laatste lumbale (lende) en de sacrale “wervel” (heiligbeen) veroorzaakt beknelling van zenuwen in de onderru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orzaken: ras predispositie, trauma, leeftijd, onbekende factor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Symptomen: ongemak en functiever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Diagnose: </a:t>
            </a:r>
            <a:r>
              <a:rPr b="1" i="1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röntg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 onderzoek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(contrast en c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502-FC7C-4A02-A8FD-A602BA9543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ogische beel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lumbsacrinstab schema1"/>
          <p:cNvPicPr/>
          <p:nvPr/>
        </p:nvPicPr>
        <p:blipFill>
          <a:blip r:embed="rId1"/>
          <a:stretch/>
        </p:blipFill>
        <p:spPr>
          <a:xfrm>
            <a:off x="0" y="2203560"/>
            <a:ext cx="8458200" cy="399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3357720" y="142920"/>
            <a:ext cx="2714400" cy="2293920"/>
          </a:xfrm>
          <a:prstGeom prst="rect">
            <a:avLst/>
          </a:prstGeom>
          <a:ln w="0">
            <a:noFill/>
          </a:ln>
        </p:spPr>
      </p:pic>
      <p:sp>
        <p:nvSpPr>
          <p:cNvPr id="57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2A1-6F0A-4F3B-BA02-1ABBE62BC2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nk 7" descr=""/>
          <p:cNvPicPr/>
          <p:nvPr/>
        </p:nvPicPr>
        <p:blipFill>
          <a:blip r:embed="rId3"/>
          <a:stretch/>
        </p:blipFill>
        <p:spPr>
          <a:xfrm>
            <a:off x="5222880" y="849240"/>
            <a:ext cx="17636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lumbsacrinstab rofig1 met tekst"/>
          <p:cNvPicPr/>
          <p:nvPr/>
        </p:nvPicPr>
        <p:blipFill>
          <a:blip r:embed="rId1"/>
          <a:stretch/>
        </p:blipFill>
        <p:spPr>
          <a:xfrm>
            <a:off x="0" y="2452680"/>
            <a:ext cx="8458200" cy="3451320"/>
          </a:xfrm>
          <a:prstGeom prst="rect">
            <a:avLst/>
          </a:prstGeom>
          <a:ln w="0">
            <a:noFill/>
          </a:ln>
        </p:spPr>
      </p:pic>
      <p:sp>
        <p:nvSpPr>
          <p:cNvPr id="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732-C430-4CC7-ABD6-6FD0215E85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20862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öntgenfoto van het normale be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matisch beeld van de afwijking: lumbo-sacrale instabilit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lumbsacrinstab schema2"/>
          <p:cNvPicPr/>
          <p:nvPr/>
        </p:nvPicPr>
        <p:blipFill>
          <a:blip r:embed="rId1"/>
          <a:stretch/>
        </p:blipFill>
        <p:spPr>
          <a:xfrm>
            <a:off x="0" y="2141640"/>
            <a:ext cx="8458200" cy="4128840"/>
          </a:xfrm>
          <a:prstGeom prst="rect">
            <a:avLst/>
          </a:prstGeom>
          <a:ln w="0">
            <a:noFill/>
          </a:ln>
        </p:spPr>
      </p:pic>
      <p:sp>
        <p:nvSpPr>
          <p:cNvPr id="6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9E26-C656-40DD-A4AF-4888C3D368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1"/>
          <p:cNvSpPr/>
          <p:nvPr/>
        </p:nvSpPr>
        <p:spPr>
          <a:xfrm>
            <a:off x="601200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ndy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kstvak 2"/>
          <p:cNvSpPr/>
          <p:nvPr/>
        </p:nvSpPr>
        <p:spPr>
          <a:xfrm>
            <a:off x="6012000" y="270828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nik in ruggemerg-ka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adiologi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olitiehond"/>
          <p:cNvPicPr/>
          <p:nvPr/>
        </p:nvPicPr>
        <p:blipFill>
          <a:blip r:embed="rId1"/>
          <a:stretch/>
        </p:blipFill>
        <p:spPr>
          <a:xfrm>
            <a:off x="2590920" y="609480"/>
            <a:ext cx="5222880" cy="5943600"/>
          </a:xfrm>
          <a:prstGeom prst="rect">
            <a:avLst/>
          </a:prstGeom>
          <a:ln w="0">
            <a:noFill/>
          </a:ln>
        </p:spPr>
      </p:pic>
      <p:sp>
        <p:nvSpPr>
          <p:cNvPr id="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F32-F5F9-4B44-98FE-F1B2E7F78A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lumbsacrinstab rofig2 met tekst"/>
          <p:cNvPicPr/>
          <p:nvPr/>
        </p:nvPicPr>
        <p:blipFill>
          <a:blip r:embed="rId1"/>
          <a:stretch/>
        </p:blipFill>
        <p:spPr>
          <a:xfrm>
            <a:off x="0" y="2492280"/>
            <a:ext cx="845820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197-4C61-44EB-ADF4-E20D2463FA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46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öntgen beeld van de afwijking: lumbo-sacrale instabilit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kstvak 3"/>
          <p:cNvSpPr/>
          <p:nvPr/>
        </p:nvSpPr>
        <p:spPr>
          <a:xfrm>
            <a:off x="826920" y="328464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knik: in het ruggenmergkana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57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öntgen-contrastonderz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mati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0E86-3C58-4559-9C82-34B048976E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kstvak 1"/>
          <p:cNvSpPr/>
          <p:nvPr/>
        </p:nvSpPr>
        <p:spPr>
          <a:xfrm>
            <a:off x="6156360" y="907920"/>
            <a:ext cx="266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ntrastvloeistof is rondom de zenuwen geïnjecteerd en is op het myelogram als wit zichtba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kstvak 2"/>
          <p:cNvSpPr/>
          <p:nvPr/>
        </p:nvSpPr>
        <p:spPr>
          <a:xfrm>
            <a:off x="6156360" y="3284640"/>
            <a:ext cx="24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ntrastvloeistof wordt onderbroken bij de lumbosacrale overgang bij de zieke h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ijdelijke aanduiding voor inhoud 4" descr="Naamloos.png"/>
          <p:cNvPicPr/>
          <p:nvPr/>
        </p:nvPicPr>
        <p:blipFill>
          <a:blip r:embed="rId1"/>
          <a:srcRect l="-13469" t="0" r="-13469" b="0"/>
          <a:stretch/>
        </p:blipFill>
        <p:spPr>
          <a:xfrm>
            <a:off x="-828720" y="17733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ast-onderzo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6F6-BF00-4C07-B5D7-BB4EA1BFA2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ijdelijke aanduiding voor inhoud 2" descr="Naamloos2.png"/>
          <p:cNvPicPr/>
          <p:nvPr/>
        </p:nvPicPr>
        <p:blipFill>
          <a:blip r:embed="rId1"/>
          <a:srcRect l="0" t="-4419" r="0" b="-4419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Tekstvak 3"/>
          <p:cNvSpPr/>
          <p:nvPr/>
        </p:nvSpPr>
        <p:spPr>
          <a:xfrm>
            <a:off x="684360" y="299736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stvloeistof maakt ruggenmerg zichtba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kstvak 8"/>
          <p:cNvSpPr/>
          <p:nvPr/>
        </p:nvSpPr>
        <p:spPr>
          <a:xfrm>
            <a:off x="1116000" y="4005360"/>
            <a:ext cx="244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derbreking van contrastvloeistof duidt de plek aan waar het ruggenmerg in de knel z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50:17Z</dcterms:created>
  <dc:creator>H W Hessel</dc:creator>
  <dc:description/>
  <dc:language>en-US</dc:language>
  <cp:lastModifiedBy>Huub Hessel</cp:lastModifiedBy>
  <dcterms:modified xsi:type="dcterms:W3CDTF">2014-09-22T20:09:47Z</dcterms:modified>
  <cp:revision>19</cp:revision>
  <dc:subject/>
  <dc:title>Radiologie 3</dc:title>
</cp:coreProperties>
</file>