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B4CF-E9B8-4B5C-96E1-0AF33740DC0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3D80-684B-46FD-8463-B2E3175BCA4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4519-C57F-4961-9563-023AB381958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D802-69E1-4AC3-928A-6CABDAD1553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FFC1-9FBC-41D5-BB8B-1BDE166B12F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8476-B20B-4DEF-BD74-37E67B913D3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5474-C4F2-4F8F-9B1E-1EE685A40AB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710D-533D-4BA5-8EAB-61CD3037AF4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4180-18B4-406F-8BF3-B50199D9878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EC8C-4542-4AB4-B106-9B512E6B6DB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rtikel digitale röntgenologie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art bij paard: keuring voor de verzekering omvat vele foto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 van de hoefkatrol 4x, sesambeenderen 8x, sprong diverse opnamen. Uitdaging met stilstaand paard, vraag van professionele organisa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asisprincipes klassieke 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o buis die stralen genereerd die na het passeren van van het op te nemen object ro gevoelig materiaal belic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schil in analoog –digitaal: ipv film herbruikbare image plate (detector), dus geen chemisch ontwikkelproces m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ED40-977D-4C9C-8E10-7E0A9BAA713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C56C-CD07-4EDA-9214-0E7155C1B64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CBB4-310B-44F5-82C1-DCBE46DBBF6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5D4C-DFD2-4D4B-B820-B4D0085FDFA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FE60-0D06-460A-93B0-B20C1C3ED66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wikkelautoma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F9C8-8275-426F-A259-56101690714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53F8-32A3-4CEC-B663-1F62239B2E8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F793-353E-4736-8971-0AEC0FEAE31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D895-E6ED-40AA-85D3-F21248DD000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4F43-B2AE-41B7-8D5F-A4BA5BC5F0A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130-05EB-49C6-B617-149E8F97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B83-8065-41FA-8C9B-CF53EE8D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DE8-62EA-48FB-9BD7-8FE6CFE6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15F-281C-4179-80DA-E9D7A68D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0F69-CCA0-4FA4-BEB9-25D5425B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573F-F61C-49AE-B8F5-9D1D5EF2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7DC3-22F1-4687-9822-C36C1A48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C6F0-3754-4E4C-964F-D1F83B2C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CC16-3015-4508-B987-D47185DE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C6E2-068E-4CEB-8BD3-41476E39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8D0D-2AE8-47F8-91A9-E6B9596A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E05-7C83-457C-A4DD-E31A0CAE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288B-12E3-46FE-96D9-7A798013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51A4-1580-4DEB-8866-9835D759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1ED7-DD52-411D-8F84-D4EF7EFF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188B-37AD-4B07-B096-5A61F60E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B4D2-3FD9-4A8D-92FE-360EF2A0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10128-0FBE-41EA-8562-26544A80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41B9-889B-46A9-8F4B-F68E2966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9CA85-96C6-4DE8-9E48-E61DDC81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621E-36F6-48EE-9346-AF9C1194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818BF-1372-4B97-AB6C-19AA0DBA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494-A158-453F-B045-58A8894D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3E790-A479-4B68-B0F6-090DB3C0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27BB6-BB89-4310-AF4D-4E7EDE03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9DE6B-E034-4520-97F9-42AA5FDF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D984C-F030-4255-90D5-67B19BA4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ED4F-7FF4-49F5-98AB-D4197A95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A1AAA-0527-48C5-A7C8-2BDD0D91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F58FB-3CFA-48D1-BE1D-EF384530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5EF-F0A0-421F-AF33-1335EE70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B14-C67B-4FA2-BEB7-304B40CF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C53-7978-4C20-9CA6-598F27EE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B05-26C7-4C23-B934-BFBF2752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D93-52D2-4B3B-88CE-A9FF65D9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675-86B5-42BE-BA34-B9FAA389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EB1F-6C21-4308-BB03-19797F57EE0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EB38-6384-4E62-8058-FA4C4485E8C0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B0AD-4DDA-4D7A-894D-1DF42413142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4920" y="2491920"/>
            <a:ext cx="806436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otokwaliteit: oorzaken van mislukte foto</a:t>
            </a:r>
            <a:r>
              <a:rPr b="0" lang="ja-JP" sz="3200" spc="-1" strike="noStrike">
                <a:solidFill>
                  <a:srgbClr val="898989"/>
                </a:solidFill>
                <a:latin typeface="Calibri"/>
              </a:rPr>
              <a:t>’</a:t>
            </a: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og niet alle praktijken hebben digitale röntgen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578E-550E-4F2D-A9D0-3F074C09D67D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P1010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A95C-9CA3-4B56-A3D4-52DC9B3A0DD1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4" descr="P1010006"/>
          <p:cNvPicPr/>
          <p:nvPr/>
        </p:nvPicPr>
        <p:blipFill>
          <a:blip r:embed="rId1"/>
          <a:stretch/>
        </p:blipFill>
        <p:spPr>
          <a:xfrm>
            <a:off x="-468360" y="-674640"/>
            <a:ext cx="9801360" cy="7351560"/>
          </a:xfrm>
          <a:prstGeom prst="rect">
            <a:avLst/>
          </a:prstGeom>
          <a:ln w="0">
            <a:noFill/>
          </a:ln>
        </p:spPr>
      </p:pic>
      <p:sp>
        <p:nvSpPr>
          <p:cNvPr id="25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058F-4028-488E-A98C-4F3E8C7856CB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P1010008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87C2-822B-4F24-8B6C-341EAEF7A1B9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P1010021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602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P1010021"/>
          <p:cNvPicPr/>
          <p:nvPr/>
        </p:nvPicPr>
        <p:blipFill>
          <a:blip r:embed="rId2">
            <a:grayscl/>
          </a:blip>
          <a:srcRect l="27357" t="68956" r="4911" b="0"/>
          <a:stretch/>
        </p:blipFill>
        <p:spPr>
          <a:xfrm>
            <a:off x="0" y="0"/>
            <a:ext cx="9144000" cy="3911760"/>
          </a:xfrm>
          <a:prstGeom prst="rect">
            <a:avLst/>
          </a:prstGeom>
          <a:ln w="0">
            <a:noFill/>
          </a:ln>
        </p:spPr>
      </p:pic>
      <p:sp>
        <p:nvSpPr>
          <p:cNvPr id="267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C4D5-F905-41E8-A761-125CAEF0B517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P1010019"/>
          <p:cNvPicPr/>
          <p:nvPr/>
        </p:nvPicPr>
        <p:blipFill>
          <a:blip r:embed="rId1"/>
          <a:stretch/>
        </p:blipFill>
        <p:spPr>
          <a:xfrm>
            <a:off x="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AC72-F591-400F-8461-A86D2F1C91BF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P1010020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4159-C480-4B04-ACF0-06D6C858955E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P7170081"/>
          <p:cNvPicPr/>
          <p:nvPr/>
        </p:nvPicPr>
        <p:blipFill>
          <a:blip r:embed="rId1"/>
          <a:srcRect l="32678" t="32942" r="32717" b="33381"/>
          <a:stretch/>
        </p:blipFill>
        <p:spPr>
          <a:xfrm>
            <a:off x="0" y="0"/>
            <a:ext cx="9144000" cy="6673680"/>
          </a:xfrm>
          <a:prstGeom prst="rect">
            <a:avLst/>
          </a:prstGeom>
          <a:ln w="0">
            <a:noFill/>
          </a:ln>
        </p:spPr>
      </p:pic>
      <p:sp>
        <p:nvSpPr>
          <p:cNvPr id="27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3065-8275-4154-94C6-AC11E1B79874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P1010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79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EEDD-211A-4637-BD0A-571C96142F03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hthoek 1"/>
          <p:cNvSpPr/>
          <p:nvPr/>
        </p:nvSpPr>
        <p:spPr>
          <a:xfrm>
            <a:off x="611280" y="1628640"/>
            <a:ext cx="777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keerd doka licht gebruik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volg: slui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jvoorbeeld lamp met te hoog wat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e door een onbelichte film te ontwikkel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ie wel in het doka licht geweest i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ze dient glashelder te zij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raad doos met films is te oud of te warm bew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volg: auto ontwikk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org er ook voor dat de voorraad doos geen strooistraling (&lt;2m) op kan pakken: gevolg ook slui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kstvak 2"/>
          <p:cNvSpPr/>
          <p:nvPr/>
        </p:nvSpPr>
        <p:spPr>
          <a:xfrm>
            <a:off x="372600" y="611280"/>
            <a:ext cx="85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ndere (nog niet genoemde) oorzaken van mislukte opna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ijdelijke aanduiding voor voetteks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30BC-25C3-467B-850A-DE593CDD3AA2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P1010003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ADAD-0045-4388-81E5-5DB395BEC791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itale röntgenologi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name cassette bevat een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maging plat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e plate bevat een laagje fos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osfor wordt door rö straling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geslage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ze laag bevat dus in geheugen de rö fo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r aan die laag kan je nog steeds niets z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een unit wordt de plate met laser belicht (afgeslot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an dus ook omgezet in een digitaal be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7A74-D538-477C-B507-D0195BF055D6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548080" y="1162080"/>
            <a:ext cx="4047840" cy="4533840"/>
          </a:xfrm>
          <a:prstGeom prst="rect">
            <a:avLst/>
          </a:prstGeom>
          <a:ln w="0">
            <a:noFill/>
          </a:ln>
        </p:spPr>
      </p:pic>
      <p:sp>
        <p:nvSpPr>
          <p:cNvPr id="289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D352-9EFA-4F38-A8D6-D0163E275E26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P1010004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92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8637-F9B5-4D4E-BE16-41B3670149D4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P1010017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95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BC34-2E88-432E-9BF6-A9B60F8D00E8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5" descr="P1010014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E731-6A1F-4602-BE82-A5E1464DA5CD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itale röntgenologi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Tijdelijke aanduiding voor inhoud 3" descr=""/>
          <p:cNvPicPr/>
          <p:nvPr/>
        </p:nvPicPr>
        <p:blipFill>
          <a:blip r:embed="rId1"/>
          <a:srcRect l="7561" t="14914" r="4983" b="13413"/>
          <a:stretch/>
        </p:blipFill>
        <p:spPr>
          <a:xfrm>
            <a:off x="395280" y="1557360"/>
            <a:ext cx="8572680" cy="3959280"/>
          </a:xfrm>
          <a:prstGeom prst="rect">
            <a:avLst/>
          </a:prstGeom>
          <a:ln w="0">
            <a:noFill/>
          </a:ln>
        </p:spPr>
      </p:pic>
      <p:sp>
        <p:nvSpPr>
          <p:cNvPr id="220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8E22-318E-44D3-9C6C-43B15F1CB4D9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itale röntgenologi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3127320" cy="5546880"/>
          </a:xfrm>
          <a:prstGeom prst="rect">
            <a:avLst/>
          </a:prstGeom>
          <a:ln w="0">
            <a:noFill/>
          </a:ln>
        </p:spPr>
      </p:pic>
      <p:sp>
        <p:nvSpPr>
          <p:cNvPr id="224" name="Tekstvak 4"/>
          <p:cNvSpPr/>
          <p:nvPr/>
        </p:nvSpPr>
        <p:spPr>
          <a:xfrm>
            <a:off x="6024960" y="2924280"/>
            <a:ext cx="23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ntwikkel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ijdelijke aanduiding voor voettekst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2970-A773-4831-A1B0-71FA1703B15E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twikkel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Klassenuitje dap 0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ijdelijke aanduiding voor dianumm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B257-A902-4230-A7A7-339BC09A0D3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matig ontwikk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Tijdelijke aanduiding voor inhoud 1" descr=""/>
          <p:cNvPicPr/>
          <p:nvPr/>
        </p:nvPicPr>
        <p:blipFill>
          <a:blip r:embed="rId1"/>
          <a:srcRect l="1926" t="388" r="0" b="0"/>
          <a:stretch/>
        </p:blipFill>
        <p:spPr>
          <a:xfrm>
            <a:off x="900000" y="1484280"/>
            <a:ext cx="5015160" cy="4778280"/>
          </a:xfrm>
          <a:prstGeom prst="rect">
            <a:avLst/>
          </a:prstGeom>
          <a:ln w="0">
            <a:noFill/>
          </a:ln>
        </p:spPr>
      </p:pic>
      <p:sp>
        <p:nvSpPr>
          <p:cNvPr id="234" name="Tekstvak 1"/>
          <p:cNvSpPr/>
          <p:nvPr/>
        </p:nvSpPr>
        <p:spPr>
          <a:xfrm>
            <a:off x="6516720" y="1989000"/>
            <a:ext cx="194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appen in ontwikkelproc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ntwikkelb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opb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Fixeerb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poelb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ijdelijke aanduiding voor voetteks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6695-0B25-4BE7-B66C-4B34EAD1EE69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ontwikkelaar"/>
          <p:cNvPicPr/>
          <p:nvPr/>
        </p:nvPicPr>
        <p:blipFill>
          <a:blip r:embed="rId1"/>
          <a:stretch/>
        </p:blipFill>
        <p:spPr>
          <a:xfrm>
            <a:off x="1984320" y="0"/>
            <a:ext cx="517536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2BC9-A300-4E86-A1F4-F70972D90561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P1010013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009000" cy="6756480"/>
          </a:xfrm>
          <a:prstGeom prst="rect">
            <a:avLst/>
          </a:prstGeom>
          <a:ln w="0">
            <a:noFill/>
          </a:ln>
        </p:spPr>
      </p:pic>
      <p:sp>
        <p:nvSpPr>
          <p:cNvPr id="241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0BF4-003D-463F-B9FB-8EB7BE7B4784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38kv"/>
          <p:cNvPicPr/>
          <p:nvPr/>
        </p:nvPicPr>
        <p:blipFill>
          <a:blip r:embed="rId1"/>
          <a:stretch/>
        </p:blipFill>
        <p:spPr>
          <a:xfrm>
            <a:off x="3132000" y="0"/>
            <a:ext cx="31752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43kv"/>
          <p:cNvPicPr/>
          <p:nvPr/>
        </p:nvPicPr>
        <p:blipFill>
          <a:blip r:embed="rId2"/>
          <a:stretch/>
        </p:blipFill>
        <p:spPr>
          <a:xfrm>
            <a:off x="0" y="0"/>
            <a:ext cx="315612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48kv"/>
          <p:cNvPicPr/>
          <p:nvPr/>
        </p:nvPicPr>
        <p:blipFill>
          <a:blip r:embed="rId3"/>
          <a:stretch/>
        </p:blipFill>
        <p:spPr>
          <a:xfrm>
            <a:off x="6227640" y="0"/>
            <a:ext cx="28242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DGW 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90BE-6F34-4BF8-B75F-72881775CD72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9:34:34Z</dcterms:created>
  <dc:creator>VoE</dc:creator>
  <dc:description/>
  <dc:language>en-US</dc:language>
  <cp:lastModifiedBy>Huub Hessel</cp:lastModifiedBy>
  <cp:lastPrinted>2011-10-04T06:22:47Z</cp:lastPrinted>
  <dcterms:modified xsi:type="dcterms:W3CDTF">2014-09-03T19:41:21Z</dcterms:modified>
  <cp:revision>22</cp:revision>
  <dc:subject/>
  <dc:title>Radiologie </dc:title>
</cp:coreProperties>
</file>