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05F-DF05-4D91-A139-4F7B88C9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EB2-C093-458C-8087-817D3307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BF9-8F1B-4148-8573-52601FAE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4E9-A31B-4003-8EE3-8E2BF55D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3CB4-28BF-4296-A921-94615888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3FF4-0D80-4772-95BE-D97D3642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2799-92B9-4151-80C9-20B5058A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EBB-DE69-4046-95B4-13209021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8204-D871-406C-B8C9-B6F81B4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B863-017E-4EC8-A5BC-56F9A08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686C-241A-4DC2-BCE2-CAC6117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C39-1FFC-4B32-9BB1-0FA80BD1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B5F-6649-4B77-BB3C-BF39A61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07EE-1417-4E2A-8404-295AB20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EFC-3B29-488A-A818-DED96B4F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B913-607B-4E5E-8D7C-5240B7ED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4308-29F2-4623-BF50-946202F2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84BA-F0E4-43C2-A63A-72082591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45DE-08F0-4166-BCFF-857BEA29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785F-F791-472A-BFF7-8A98241A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C0AD-DDA3-42CB-AFED-30A7CE5E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3461-A1F9-4CE9-A2AB-42B819C7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61A-3638-40F1-B3D5-436E925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B173-B8E5-4689-A114-0446AC5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215D-8318-467F-8540-426FD69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07CD-03C5-4212-ACA1-216C715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B5E2-2DFB-4AA1-94A6-CE6C4F2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8EAE-4733-4CD9-9EA6-C6A3A15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8248-74C6-4E79-BE06-34F0A774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8AC4-1E02-45B1-83C3-4686D940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C2CA-BD37-482A-99BE-C9289FCD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288A-5A1D-473D-B452-7A325160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46A1-AC7E-4E5C-AA95-39C7460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A62-040E-4885-BDC7-B391DCBD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5CF8-35D3-489C-B629-C4194B3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1514-B729-44CC-AB70-A6530C51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613F-746C-46AA-9AD9-D700C8C5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09C2-20DE-4F91-BBCD-5D41562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E490-EF23-4E18-81F9-967AFF8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1B89-32D7-4481-8810-5F4E2D3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1EBE-22DB-42C2-B2C4-2EDED6A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118D-77EF-45BC-A731-75138C24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191D-8F56-4E87-9B5B-2FB06820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FEBE7-5C59-4859-B29F-44EC179F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4EA-75A2-4283-A64A-6E966FF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4638-57BC-4DE2-84CA-91058286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BCA8-2AF7-443A-B39E-161EEF9C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AEA4-26B0-4CB6-9BDA-3FE1C2EA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1034-7183-400B-AB0B-89D4D089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80C8-4C8E-42E2-A342-5237CF5A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356E-3289-4C37-97E8-73E9889C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6D1D-EAA1-408D-8DFF-77FE057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17C6-354A-407A-8DB2-EECDC35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B76A-0B16-4370-B306-505E84CA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3D021-956B-4CE8-890F-96411B44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733-B689-48ED-847D-2877AB6B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07F9-A9A2-4FEF-A75B-B7AFFDD7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956B9-49B1-45C7-BF4E-B2B67F97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AA0C-745E-450B-A4F1-51E75EC2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2856-55F2-4B90-8D9B-55ED481D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9C85-0277-468D-BABF-2529390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F463-5501-4458-A7B8-53BBD1BD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934CF-957E-443C-8E15-57B4F8D6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BC55-7F13-44F2-9A00-FDD71F4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9479-CD62-42DE-BA21-3016F40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866D-14AF-440E-9C19-0939485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56C-33FA-404C-9074-D1BB1C8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A50A-95B6-481E-B726-95DF0088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0228F-9879-4EAB-B9BD-9DAC947C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C299-EE5B-42C6-871F-FE372361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2AE7-661D-4A28-B211-ADFC6116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2ADC-BE14-47B0-A70E-9E30918C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450A-0D1E-420A-9ABF-2709F15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EA63D-EA09-443C-A2F7-47DD21C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D917C-07BB-4645-BDD2-C2FBE727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FE723-9800-4ADF-B602-E0A9DF38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D1F4-EE4D-4E68-91E6-01B2E33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4FD-98A5-4067-9EFB-C29567A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CAF3-2A18-4425-AC29-CEF0223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2D99F-F027-408A-9DD6-541165E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1C4B-3296-4134-AAAC-566F287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B83D-87FA-4DC3-A6F6-CE4F96F6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1528-33F8-463D-8175-B1920DFD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1E53-1EC9-452E-B845-01480206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F4E2-F027-44F9-958B-2E7C287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3323-EB3E-4913-9E16-DDEBF1E0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B8CD-6589-48B6-B6BF-7679DA2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A99D-9F10-4A2D-9954-B8D68FAE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366-9C2D-497F-9DB3-C68182A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B8499-00B1-4B65-8E07-EA65A2E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3CD1-AF4F-4DCC-ADD8-422F74B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FD14-7FD0-4D7A-888C-85C5393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393FC-64B4-4256-88F0-F460655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B011B-A24D-4F2B-B745-BCA200E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2905-6A76-47B5-908A-16BDBCFB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8769-9E69-4652-95BE-1716E993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A1AF-A504-48FB-A6B8-B21DD039E256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C2F-7110-4C6E-B978-4224918E8E41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41B3-D326-4A96-8A58-6EA25FDA7616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AF6-F57A-4D3D-8E0A-C7B0879F9B6A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7209-F251-4456-B531-B71F10FD14AA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DD5-25DD-4CB5-BF31-C6720907D506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000F-BBB7-4114-B697-79C8E2709C00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FB5F-5480-4827-A7DA-F8C26413E060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desk.nl/vertering/puzzel-mond-_en_keelholte.php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at voedt jou, deel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Les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" descr="C:\Users\Ilse Theuws\Documents\SCHOOL\LEERJAAR 3\Stage\wat voedt jou, deel 2\imagesCAHW7COU.jpg"/>
          <p:cNvPicPr/>
          <p:nvPr/>
        </p:nvPicPr>
        <p:blipFill>
          <a:blip r:embed="rId1"/>
          <a:stretch/>
        </p:blipFill>
        <p:spPr>
          <a:xfrm>
            <a:off x="539640" y="189000"/>
            <a:ext cx="4032360" cy="325764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 rot="20600400">
            <a:off x="4830480" y="1038240"/>
            <a:ext cx="391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Spijsverter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De mond en keelholte</a:t>
            </a:r>
            <a:r>
              <a:rPr b="0" lang="nl-NL" sz="18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maire smak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2" descr="C:\Users\Ilse Theuws\Documents\SCHOOL\LEERJAAR 3\Stage\wat voedt jou, deel 2\175559_962_1185287375821-afbeelding_1.jpg"/>
          <p:cNvPicPr/>
          <p:nvPr/>
        </p:nvPicPr>
        <p:blipFill>
          <a:blip r:embed="rId1"/>
          <a:stretch/>
        </p:blipFill>
        <p:spPr>
          <a:xfrm>
            <a:off x="826920" y="1125360"/>
            <a:ext cx="68518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biodesk.nl/vertering/puzzel-mond-_en_keelholte.ph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1" name="Picture 2" descr="C:\Users\Ilse Theuws\Documents\SCHOOL\LEERJAAR 3\Stage\wat voedt jou, deel 2\456klachten10slikken.jpg"/>
          <p:cNvPicPr/>
          <p:nvPr/>
        </p:nvPicPr>
        <p:blipFill>
          <a:blip r:embed="rId1"/>
          <a:stretch/>
        </p:blipFill>
        <p:spPr>
          <a:xfrm>
            <a:off x="1042920" y="379440"/>
            <a:ext cx="65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ijsverter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t betekent: spijsvertering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e mondholte, la 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nemen van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lpen bij het fijnmaken van het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engen met speek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evoegen van het spijsverteringsenzym: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nemen van smaak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dere belangrijke functies van de mond: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om kauwen we eigenlijk ?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C:\Users\Ilse Theuws\Documents\SCHOOL\LEERJAAR 3\Stage\wat voedt jou, deel 2\untitled.bmp"/>
          <p:cNvPicPr/>
          <p:nvPr/>
        </p:nvPicPr>
        <p:blipFill>
          <a:blip r:embed="rId1"/>
          <a:stretch/>
        </p:blipFill>
        <p:spPr>
          <a:xfrm>
            <a:off x="539640" y="2060640"/>
            <a:ext cx="3672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staat uit water, slijm en een enzy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ucinen: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maken het speeksel viskeus (dikker) en behoeden de mond voor uitdrog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Groeifactoren stimuleren wondgene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Antistoffen (eiwitten tegen lichaamsvreemde stoff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onder andere het enzym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Amylase breekt zetmeel 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unctie speekse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Vergemakkelijken van het slikken en het naar beneden glijden van voedsel door de slokda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klier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.5 L per dag produceren deze klieren speeksel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3 grote speekselklieren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or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5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kaak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70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toon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C:\Users\Ilse Theuws\Documents\SCHOOL\LEERJAAR 3\Stage\wat voedt jou, deel 2\7c8bc673333ca3fbe1914ca1b33ab8d0dr.jpg"/>
          <p:cNvPicPr/>
          <p:nvPr/>
        </p:nvPicPr>
        <p:blipFill>
          <a:blip r:embed="rId1"/>
          <a:stretch/>
        </p:blipFill>
        <p:spPr>
          <a:xfrm>
            <a:off x="1547640" y="703440"/>
            <a:ext cx="55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C:\Users\Ilse Theuws\Documents\SCHOOL\LEERJAAR 3\Stage\wat voedt jou, deel 2\mondholtekst.jpg"/>
          <p:cNvPicPr/>
          <p:nvPr/>
        </p:nvPicPr>
        <p:blipFill>
          <a:blip r:embed="rId1"/>
          <a:stretch/>
        </p:blipFill>
        <p:spPr>
          <a:xfrm>
            <a:off x="0" y="0"/>
            <a:ext cx="6804000" cy="5059440"/>
          </a:xfrm>
          <a:prstGeom prst="rect">
            <a:avLst/>
          </a:prstGeom>
          <a:ln w="0">
            <a:noFill/>
          </a:ln>
        </p:spPr>
      </p:pic>
      <p:sp>
        <p:nvSpPr>
          <p:cNvPr id="371" name="Plus 4"/>
          <p:cNvSpPr/>
          <p:nvPr/>
        </p:nvSpPr>
        <p:spPr>
          <a:xfrm>
            <a:off x="2050920" y="5300640"/>
            <a:ext cx="6877080" cy="936720"/>
          </a:xfrm>
          <a:custGeom>
            <a:avLst/>
            <a:gdLst/>
            <a:ahLst/>
            <a:rect l="l" t="t" r="r" b="b"/>
            <a:pathLst>
              <a:path w="6877050" h="936625">
                <a:moveTo>
                  <a:pt x="911553" y="358165"/>
                </a:moveTo>
                <a:lnTo>
                  <a:pt x="3328378" y="358165"/>
                </a:lnTo>
                <a:lnTo>
                  <a:pt x="3328378" y="124150"/>
                </a:lnTo>
                <a:lnTo>
                  <a:pt x="3548672" y="124150"/>
                </a:lnTo>
                <a:lnTo>
                  <a:pt x="3548672" y="358165"/>
                </a:lnTo>
                <a:lnTo>
                  <a:pt x="5965497" y="358165"/>
                </a:lnTo>
                <a:lnTo>
                  <a:pt x="5965497" y="578460"/>
                </a:lnTo>
                <a:lnTo>
                  <a:pt x="3548672" y="578460"/>
                </a:lnTo>
                <a:lnTo>
                  <a:pt x="3548672" y="812475"/>
                </a:lnTo>
                <a:lnTo>
                  <a:pt x="3328378" y="812475"/>
                </a:lnTo>
                <a:lnTo>
                  <a:pt x="3328378" y="578460"/>
                </a:lnTo>
                <a:lnTo>
                  <a:pt x="911553" y="578460"/>
                </a:lnTo>
                <a:lnTo>
                  <a:pt x="911553" y="358165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kstvak 5"/>
          <p:cNvSpPr/>
          <p:nvPr/>
        </p:nvSpPr>
        <p:spPr>
          <a:xfrm>
            <a:off x="1763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kstvak 6"/>
          <p:cNvSpPr/>
          <p:nvPr/>
        </p:nvSpPr>
        <p:spPr>
          <a:xfrm>
            <a:off x="824400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k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Ru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maakpupil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uwen, slikken, spreken, proev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4:50Z</dcterms:created>
  <dc:creator>Ilse Theuws</dc:creator>
  <dc:description/>
  <dc:language>en-US</dc:language>
  <cp:lastModifiedBy>Ilse Theuws</cp:lastModifiedBy>
  <dcterms:modified xsi:type="dcterms:W3CDTF">2016-04-01T08:07:10Z</dcterms:modified>
  <cp:revision>15</cp:revision>
  <dc:subject/>
  <dc:title>Wat voedt jou, deel 2</dc:title>
</cp:coreProperties>
</file>