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70A-A1CB-4344-AB79-67998CE5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7B8F-BCCE-4128-B2E5-93DBBE66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C2A-0728-42E1-9F6A-C38D22E4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C613-E5CC-4162-A186-6CFA9E82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A8BA-AC0F-4D76-9E8E-C81BF14E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A6F1-B499-4953-8FDE-6218AB02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D63A-6240-4472-BEF1-8E95E0F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7072-F3E0-4B63-AD12-03FFEEFE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0386-CD2F-4968-88A1-572818D5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505-C3B7-4A36-9BFA-21198B57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6098-8EBC-442B-A5B3-EDA0E276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629-6E96-4240-8524-9DD4B27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3DC2-1DF0-4136-A6D0-136C4C86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651-F5A3-4108-BD00-7384DCC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6E8-2D8C-40C1-8089-CCD2ECCE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F9D0-1E52-42BF-81F1-476FC785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9C06-C1A4-423E-A54E-2EF7631F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FD3A-0812-4ABC-9434-A1A88EC48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D7C2-7DA1-4211-BA1E-7356D463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C964C-D6DD-4426-9371-AB3B4D7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D339A-C283-4F60-8EF9-C2C12E6F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DF43F-8AAB-4615-8F2F-FEB133F2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F673-63F7-4332-AD9E-629B9500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498BB-F255-417A-8B53-7964073B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9CFF-2AFE-46E0-BD44-54E90C88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86021-D8A5-43E3-8D4E-8DD37A2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4DED-6D92-462D-9462-DA788C73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3644-A712-41FC-9655-C3B615FA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A7E83-DE9E-4924-9ED0-326B23AD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4383D-F523-4097-8F8C-CE41EF6F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44CF-B084-42AA-9757-2B0C1213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A208-6B02-4F75-B39B-0E9AD85E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8FA25-0513-45CE-92E1-C2A71EAA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DFA4-740C-463B-B8B0-DDBE146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F5B0-1A7B-4A1E-BE59-767E81C9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AD95C-CAEF-4A68-8660-75BE4C19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91F6B-0B8A-4E7E-AC13-B0C9A063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721EE-84AB-4F7B-8649-D0E56791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8234E-BB6C-4C1B-A62F-BA604FC7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42AA2-8BB4-4625-A650-17A10F8D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2C9CE-5817-4160-9346-ABA3D691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C0AD-5C4A-429D-9F99-AFC68342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F319B-0E6E-4E98-83E2-9918FEE1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46DB-2E70-49A9-A73D-BE3AB7EA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C3E-CA08-41B9-9B41-513417AF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0818-BDC4-4765-8A03-9F07F6A9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C433-DF1C-4C3C-A5E6-97A47406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F5B7-FF51-4223-A683-7A2F7CB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8D2B-C533-4BBE-A1E4-D9E4982E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C3F09-2DA7-496D-893B-343E45EF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0B5D-1AFE-449D-8C1D-DC285CEE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CE0E-AD23-44BF-8A91-17114B1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F25A3-55A6-40B3-834D-6286EB22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BED83-5A6F-4693-829A-25B4EF0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A1B1-6AE3-4919-8987-42641561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E7C-525E-431B-94E9-F1706663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EC3EE-8EAF-49C3-B370-979555E4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E05A6-DFFA-4AFB-86AD-4E296311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558E8-A157-4389-8398-605A0CC5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4DB8A-0C6D-4F6A-AE0B-B50C73D4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AAE3-4D14-4335-8152-15E01071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528A4-D2F9-4F70-AB9C-DBD2F170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97D45-6D79-4C2F-A709-A4CB0FD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9CBF-9EB6-4D20-AD7B-E4572DB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6B5C-037C-46B7-8F80-06E458CA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00CD3-6096-4337-BF66-3F13EC40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641-AFC4-43F8-B81C-CC7CDC2D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2DADE-28B0-451B-8D87-4F5795F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99CE6-F397-4FDE-A8D4-CA1890BE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C69CD-51FE-42CC-B3AB-8EA2118F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BB81A-389B-4AC9-AEEC-9014AB7D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E6315-C07C-48D2-828B-0989C220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880A3-B00F-45A7-9FA0-CB664468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3922-F11C-41A5-98A3-AF30A9B6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70CA-DE16-4FBA-B9C5-8AD022FC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60C09-9128-4ABC-96F2-88392AAC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8E3F3-1128-4871-B687-19DF4DA9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17C-F511-4825-9041-8B500EF7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82F7-8A7E-43C9-ABCB-992E6F1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C5976-4631-41A3-811E-856B966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C7960-1090-49F9-958E-735AEE1B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5C15-1B60-4E1F-B7C1-EECC8E95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23CC-533A-416B-B573-B73E0B71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1999A-1B04-4282-A6B3-0FB80164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766A3-AFE0-4A53-869A-675AD101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EF633-F902-44C3-94B1-E8635134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80C13-E6C5-4EEE-B59A-0F936533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7BC9E-37D5-4DD8-B5CC-B8DFD698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D8C5-0EEA-4E9B-900A-90D4D4A1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6760E-2962-416C-A25C-499BC285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A4F2A-988A-441F-8B16-E74C32D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69622-4A34-4249-814B-080667E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37970-9E0E-4163-BD7B-123C6FDA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ED6BD-3FDF-40A1-B671-514E5CAF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37A19-046D-469D-8393-D43F98C6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8AE24-E5B2-4768-BB0E-B28CE649D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2154-AB66-4F66-ABE7-F6FA66E0579D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hoek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40C-A03C-46D7-B31F-2392338163F2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hthoe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F2DC-8306-4DA9-A07E-7F4A7EC29EC5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e verbindingslijn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e verbindingslijn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Gelijkbenige driehoek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Gelijkbenige driehoek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BB8E-A30C-4E01-9127-8B1230FAA994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BFD-8228-4A1D-BA57-298BFBFD21BE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e verbindingslijn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elijkbenige driehoek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26AC-8447-48FD-B729-0D2506590645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hthoek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4F5-B0DB-4C63-98C6-1BC50260F72E}" type="slidenum">
              <a:rPr b="0" lang="nl-NL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hte verbindingslijn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lijkbenige driehoek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e verbindingslijn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3EE8-172D-43C7-86AB-4766A6B3C270}" type="slidenum">
              <a:rPr b="0" lang="nl-NL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biodesk.nl/vertering/puzzel-mond-_en_keelholte.php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at voedt jou, deel 2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464653"/>
                </a:solidFill>
                <a:latin typeface="Bookman Old Style"/>
              </a:rPr>
              <a:t>Les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1" descr="C:\Users\Ilse Theuws\Documents\SCHOOL\LEERJAAR 3\Stage\wat voedt jou, deel 2\imagesCAHW7COU.jpg"/>
          <p:cNvPicPr/>
          <p:nvPr/>
        </p:nvPicPr>
        <p:blipFill>
          <a:blip r:embed="rId1"/>
          <a:stretch/>
        </p:blipFill>
        <p:spPr>
          <a:xfrm>
            <a:off x="539640" y="189000"/>
            <a:ext cx="4032360" cy="325764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 rot="20600400">
            <a:off x="4830480" y="1038240"/>
            <a:ext cx="39160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Spijsvertering</a:t>
            </a:r>
            <a:br>
              <a:rPr sz="2800"/>
            </a:br>
            <a:br>
              <a:rPr sz="2800"/>
            </a:br>
            <a:r>
              <a:rPr b="0" lang="nl-NL" sz="2800" spc="-1" strike="noStrike">
                <a:solidFill>
                  <a:srgbClr val="0070c0"/>
                </a:solidFill>
                <a:latin typeface="Bookman Old Style"/>
              </a:rPr>
              <a:t>De mond en keelholte</a:t>
            </a:r>
            <a:r>
              <a:rPr b="0" lang="nl-NL" sz="1800" spc="-1" strike="noStrike">
                <a:solidFill>
                  <a:srgbClr val="0070c0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Primaire smak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7" name="Picture 2" descr="C:\Users\Ilse Theuws\Documents\SCHOOL\LEERJAAR 3\Stage\wat voedt jou, deel 2\175559_962_1185287375821-afbeelding_1.jpg"/>
          <p:cNvPicPr/>
          <p:nvPr/>
        </p:nvPicPr>
        <p:blipFill>
          <a:blip r:embed="rId1"/>
          <a:stretch/>
        </p:blipFill>
        <p:spPr>
          <a:xfrm>
            <a:off x="826920" y="1125360"/>
            <a:ext cx="68518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biodesk.nl/vertering/puzzel-mond-_en_keelholte.ph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81" name="Picture 2" descr="C:\Users\Ilse Theuws\Documents\SCHOOL\LEERJAAR 3\Stage\wat voedt jou, deel 2\456klachten10slikken.jpg"/>
          <p:cNvPicPr/>
          <p:nvPr/>
        </p:nvPicPr>
        <p:blipFill>
          <a:blip r:embed="rId1"/>
          <a:stretch/>
        </p:blipFill>
        <p:spPr>
          <a:xfrm>
            <a:off x="1042920" y="379440"/>
            <a:ext cx="65534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ijsverter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t betekent: spijsvertering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De mondholte, la o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nemen van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elpen bij het fijnmaken van het voed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engen met speeks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oevoegen van het spijsverteringsenzym: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nemen van smaak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ndere belangrijke functies van de mond: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Waarom kauwen we eigenlijk ?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2" name="Picture 2" descr="C:\Users\Ilse Theuws\Documents\SCHOOL\LEERJAAR 3\Stage\wat voedt jou, deel 2\untitled.bmp"/>
          <p:cNvPicPr/>
          <p:nvPr/>
        </p:nvPicPr>
        <p:blipFill>
          <a:blip r:embed="rId1"/>
          <a:stretch/>
        </p:blipFill>
        <p:spPr>
          <a:xfrm>
            <a:off x="539640" y="2060640"/>
            <a:ext cx="3672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staat uit water, slijm en een enzy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Mucinen: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maken het speeksel viskeus (dikker) en behoeden de mond voor uitdrog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Groeifactoren stimuleren wondgenez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Antistoffen (eiwitten tegen lichaamsvreemde stoff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Speeksel bevat onder andere het enzym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i="1" lang="nl-NL" sz="2400" spc="-1" strike="noStrike">
                <a:solidFill>
                  <a:srgbClr val="000000"/>
                </a:solidFill>
                <a:latin typeface="Gill Sans MT"/>
              </a:rPr>
              <a:t>Amylase breekt zetmeel af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Functie speekse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ill Sans MT"/>
              </a:rPr>
              <a:t>Vergemakkelijken van het slikken en het naar beneden glijden van voedsel door de slokdar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speekselkliere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.5 L per dag produceren deze klieren speeksel</a:t>
            </a:r>
            <a:br>
              <a:rPr sz="2600"/>
            </a:b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3 grote speekselklieren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or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5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kaak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70 %</a:t>
            </a: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- ondertoonspeekselklieren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5 %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68" name="Picture 2" descr="C:\Users\Ilse Theuws\Documents\SCHOOL\LEERJAAR 3\Stage\wat voedt jou, deel 2\7c8bc673333ca3fbe1914ca1b33ab8d0dr.jpg"/>
          <p:cNvPicPr/>
          <p:nvPr/>
        </p:nvPicPr>
        <p:blipFill>
          <a:blip r:embed="rId1"/>
          <a:stretch/>
        </p:blipFill>
        <p:spPr>
          <a:xfrm>
            <a:off x="1547640" y="703440"/>
            <a:ext cx="5545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0" name="Picture 2" descr="C:\Users\Ilse Theuws\Documents\SCHOOL\LEERJAAR 3\Stage\wat voedt jou, deel 2\mondholtekst.jpg"/>
          <p:cNvPicPr/>
          <p:nvPr/>
        </p:nvPicPr>
        <p:blipFill>
          <a:blip r:embed="rId1"/>
          <a:stretch/>
        </p:blipFill>
        <p:spPr>
          <a:xfrm>
            <a:off x="0" y="0"/>
            <a:ext cx="6804000" cy="5059440"/>
          </a:xfrm>
          <a:prstGeom prst="rect">
            <a:avLst/>
          </a:prstGeom>
          <a:ln w="0">
            <a:noFill/>
          </a:ln>
        </p:spPr>
      </p:pic>
      <p:sp>
        <p:nvSpPr>
          <p:cNvPr id="371" name="Plus 4"/>
          <p:cNvSpPr/>
          <p:nvPr/>
        </p:nvSpPr>
        <p:spPr>
          <a:xfrm>
            <a:off x="2050920" y="5300640"/>
            <a:ext cx="6877080" cy="936720"/>
          </a:xfrm>
          <a:custGeom>
            <a:avLst/>
            <a:gdLst/>
            <a:ahLst/>
            <a:rect l="l" t="t" r="r" b="b"/>
            <a:pathLst>
              <a:path w="6877050" h="936625">
                <a:moveTo>
                  <a:pt x="911553" y="358165"/>
                </a:moveTo>
                <a:lnTo>
                  <a:pt x="3328378" y="358165"/>
                </a:lnTo>
                <a:lnTo>
                  <a:pt x="3328378" y="124150"/>
                </a:lnTo>
                <a:lnTo>
                  <a:pt x="3548672" y="124150"/>
                </a:lnTo>
                <a:lnTo>
                  <a:pt x="3548672" y="358165"/>
                </a:lnTo>
                <a:lnTo>
                  <a:pt x="5965497" y="358165"/>
                </a:lnTo>
                <a:lnTo>
                  <a:pt x="5965497" y="578460"/>
                </a:lnTo>
                <a:lnTo>
                  <a:pt x="3548672" y="578460"/>
                </a:lnTo>
                <a:lnTo>
                  <a:pt x="3548672" y="812475"/>
                </a:lnTo>
                <a:lnTo>
                  <a:pt x="3328378" y="812475"/>
                </a:lnTo>
                <a:lnTo>
                  <a:pt x="3328378" y="578460"/>
                </a:lnTo>
                <a:lnTo>
                  <a:pt x="911553" y="578460"/>
                </a:lnTo>
                <a:lnTo>
                  <a:pt x="911553" y="358165"/>
                </a:lnTo>
                <a:close/>
              </a:path>
            </a:pathLst>
          </a:custGeom>
          <a:solidFill>
            <a:srgbClr val="727ca3"/>
          </a:solidFill>
          <a:ln w="19080">
            <a:solidFill>
              <a:srgbClr val="5259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kstvak 5"/>
          <p:cNvSpPr/>
          <p:nvPr/>
        </p:nvSpPr>
        <p:spPr>
          <a:xfrm>
            <a:off x="176364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kstvak 6"/>
          <p:cNvSpPr/>
          <p:nvPr/>
        </p:nvSpPr>
        <p:spPr>
          <a:xfrm>
            <a:off x="8244000" y="551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Gill Sans MT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464653"/>
                </a:solidFill>
                <a:latin typeface="Bookman Old Style"/>
              </a:rPr>
              <a:t>To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k slijmv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Ruw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maakpupil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auwen, slikken, spreken, proev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34:50Z</dcterms:created>
  <dc:creator>Ilse Theuws</dc:creator>
  <dc:description/>
  <dc:language>en-US</dc:language>
  <cp:lastModifiedBy>Ilse Theuws</cp:lastModifiedBy>
  <dcterms:modified xsi:type="dcterms:W3CDTF">2016-04-01T08:07:10Z</dcterms:modified>
  <cp:revision>15</cp:revision>
  <dc:subject/>
  <dc:title>Wat voedt jou, deel 2</dc:title>
</cp:coreProperties>
</file>