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D83-BA5E-46F7-AE15-8336DA11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4F1-2922-4FBC-B163-DAFA553D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E64-ABCC-4DC6-9D89-18FC8DC8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AF9-CD6F-4E7F-82B5-12499D3B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5DB5-A3C2-4059-BEA0-E9B3B3C5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8292-50D1-48DC-BBCC-7773B769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7E0D-D83F-464A-ACA1-A926CC63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968C-AA5E-4C61-8925-26A09E44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7891-20D8-4E93-8D24-A466380E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7A8C-0ABC-4B59-B316-DEEE58F2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79C4-9C87-4C23-8E49-1D983ED0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FB5-2846-4122-98D8-DA0C44B2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5F20-2053-49B6-B067-2E4F39EE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2BEB-7F6D-49E6-B28B-20DCE526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CCEF-EEF3-4873-9DC5-CEA8140A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C3EF-4862-4FE1-91C1-0BCCD67C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C309-484B-4D04-8148-14258B90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CFB51-8C62-4232-874D-871F2BF8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1360D-3D6D-4135-8147-9E8B810B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D9AC5-B13C-4613-9AC4-13CC5341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5140C-6F5B-4653-BD71-B9532457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973D0-677E-4EBB-978A-92FF7628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118-4501-4CB3-9B40-4F4AED1E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5F14F-D8FD-4A3F-B0D0-DE1015F9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07F64-BAA5-4E97-BD3F-861101D5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F707-81D4-46A3-AC76-26D0F8D0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0B4C6-12B5-4C2A-95B9-A565DF47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F1757-8396-4506-B620-534954A9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4A394-E15E-4B58-8C7A-1684E602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AE9C5-F145-4445-8858-E6B9FA50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0083-9039-45DF-B97D-962ACACE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57A15-BD58-4001-B846-E96898A3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C73BA-4A6B-4E34-A387-84CFAE69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F46-70CF-4353-8FBF-3B8D7D98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19023-3330-41BB-B4DA-9DFCCC1A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96B77-C6FE-484A-A116-3D0D62FD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3F957-65AB-4807-9EF3-69036C0A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71926-605C-4C9F-A9D0-A9D4FF5F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D8E0F-AEBF-44D8-A4EA-77D976F7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8F70B-B255-40F4-9C90-7263B58C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FA224-30F3-4586-89F1-BCED9C69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9A934-2D28-46FF-915F-E8D050C9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637B6-F7DA-4648-8BDB-2B6E6FB8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D79A2-587D-4E43-8C7B-6549BEB5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7E72-6F16-43BA-B506-F8333C07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82CE3-2A07-4804-892B-F8020E2F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BE0BA-E16E-46AD-BEF6-3421D601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22EC1-5DAE-4457-966A-51B843F6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3CEC7-447C-4E11-8DB8-401ED620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42977-BC36-42C0-9FB8-BE981886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E9F19-A833-47DB-B63F-A6343F86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83899-4918-4155-84C1-5A6D565A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B1FC1-BEC7-404B-B896-E9E10A05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00EB7-B1BE-4099-8F00-27A5243F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063D2-BEB5-445C-A1CA-7868AE3E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E82-D445-483D-BEF0-4D0D0277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2674F-A4A8-4C5F-BF6E-CB9EC9AC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E5F1E-9140-49C7-8AEB-2F1A73F2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B9E0E-BEA5-4812-AC0E-C6F85AE1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F25DC-7854-478A-B269-7FF50FA9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B0A09-668F-4722-8334-93BA2458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046F1-E9C8-4163-A51F-CCF2374C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C22D1-B85F-48E2-9BCC-401DE2F2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3E7AE-0C0C-4E53-9339-729FD489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1BA24-C653-4A1F-B27C-533249D7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C333C-BF2D-4C4D-95AD-953A67E5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8A0-41BE-4B80-8D97-74DAFF5F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60ED2-BACD-4909-AA1D-B0C8BB29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28441-AA89-461C-AA73-56F43254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F43B5-717B-4D03-9445-94152E96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09291-8ED5-43C9-81D7-394C457E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9F4E3-2C8C-4597-98BD-F772DDD3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E6B4E-7C87-49BB-B89B-2DA843D5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ABE09-520E-4192-893E-CC12D3A8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E5C5E-3C9E-4650-9DFD-4916F858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3E8A4-9D77-42FF-85F6-7CA797AC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EE1DB-01A4-4B49-92FC-7DFA7794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721-E929-4EDD-83BA-7708068D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A63F8-A00E-4C52-94E6-6320A9F4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F0873-D4A8-4139-BF77-13491856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3B17E-EDF0-4ADF-BC1F-6A3B6DB9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C9CCC-710A-4E36-B00B-76CDAB8A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E56FA-1712-4ADC-BC9E-000F14AF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81136-B276-47DE-AC9E-84CB934F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B0299-C39B-45D8-A11E-632B10FB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F346F-0077-4DDE-B843-2FF8E750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7E262-637B-47F7-9038-53EAB9FE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23E91-644F-42E0-B459-919574B0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7BE-5CB9-4B92-A361-29FA5FC8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28603-22C4-4F81-AC4B-D1F00E38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5822A-F61A-46F3-9F50-A1D416A6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20FE9-862A-4769-BCE4-F4B9CDD1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11592-15DB-4849-8A47-BC785AE2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04236-2D6D-47F5-9543-5F8C2CE8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7B1FD-CD24-468B-B9F8-29A9FC03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68963-A341-40CC-A5EC-536B9F00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BAF5-3832-4AF5-9E2E-B0B84BAD3D55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hoe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08D9-F27B-421A-B5BE-EE99C77595B7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3537-88FE-47C2-A188-DFE6A42C9673}" type="slidenum"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BA2D-9762-404C-86BD-24F883DF67CC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907F-C3CD-4C61-9271-A9B7B702B6AA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Gelijkbenige driehoe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0C17-08A4-426D-BFE7-1400C49DB326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hthoe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F400-B991-4990-9757-2FA1F00FF3AC}" type="slidenum"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e verbindingslijn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A712-B745-4ACE-8991-B0BDD7DAC671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iodesk.nl/vertering/puzzel-mond-_en_keelholte.php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Wat voedt jou, deel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64653"/>
                </a:solidFill>
                <a:latin typeface="Bookman Old Style"/>
              </a:rPr>
              <a:t>Les 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1" descr="C:\Users\Ilse Theuws\Documents\SCHOOL\LEERJAAR 3\Stage\wat voedt jou, deel 2\imagesCAHW7COU.jpg"/>
          <p:cNvPicPr/>
          <p:nvPr/>
        </p:nvPicPr>
        <p:blipFill>
          <a:blip r:embed="rId1"/>
          <a:stretch/>
        </p:blipFill>
        <p:spPr>
          <a:xfrm>
            <a:off x="539640" y="189000"/>
            <a:ext cx="4032360" cy="325764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4"/>
          <p:cNvSpPr/>
          <p:nvPr/>
        </p:nvSpPr>
        <p:spPr>
          <a:xfrm rot="20600400">
            <a:off x="4830480" y="1038240"/>
            <a:ext cx="3916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70c0"/>
                </a:solidFill>
                <a:latin typeface="Bookman Old Style"/>
              </a:rPr>
              <a:t>Spijsvertering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70c0"/>
                </a:solidFill>
                <a:latin typeface="Bookman Old Style"/>
              </a:rPr>
              <a:t>De mond en keelholte</a:t>
            </a:r>
            <a:r>
              <a:rPr b="0" lang="nl-NL" sz="1800" spc="-1" strike="noStrike">
                <a:solidFill>
                  <a:srgbClr val="0070c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Primaire smak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7" name="Picture 2" descr="C:\Users\Ilse Theuws\Documents\SCHOOL\LEERJAAR 3\Stage\wat voedt jou, deel 2\175559_962_1185287375821-afbeelding_1.jpg"/>
          <p:cNvPicPr/>
          <p:nvPr/>
        </p:nvPicPr>
        <p:blipFill>
          <a:blip r:embed="rId1"/>
          <a:stretch/>
        </p:blipFill>
        <p:spPr>
          <a:xfrm>
            <a:off x="826920" y="1125360"/>
            <a:ext cx="68518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www.biodesk.nl/vertering/puzzel-mond-_en_keelholte.ph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1" name="Picture 2" descr="C:\Users\Ilse Theuws\Documents\SCHOOL\LEERJAAR 3\Stage\wat voedt jou, deel 2\456klachten10slikken.jpg"/>
          <p:cNvPicPr/>
          <p:nvPr/>
        </p:nvPicPr>
        <p:blipFill>
          <a:blip r:embed="rId1"/>
          <a:stretch/>
        </p:blipFill>
        <p:spPr>
          <a:xfrm>
            <a:off x="1042920" y="379440"/>
            <a:ext cx="655344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ijsverter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t betekent: spijsvertering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De mondholte, la 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nemen van voed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elpen bij het fijnmaken van het voed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engen met speek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oevoegen van het spijsverteringsenzym: amyl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arnemen van smaak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ndere belangrijke functies van de mond: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arom kauwen we eigenlijk ?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Picture 2" descr="C:\Users\Ilse Theuws\Documents\SCHOOL\LEERJAAR 3\Stage\wat voedt jou, deel 2\untitled.bmp"/>
          <p:cNvPicPr/>
          <p:nvPr/>
        </p:nvPicPr>
        <p:blipFill>
          <a:blip r:embed="rId1"/>
          <a:stretch/>
        </p:blipFill>
        <p:spPr>
          <a:xfrm>
            <a:off x="539640" y="2060640"/>
            <a:ext cx="36720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eekse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staat uit water, slijm en een enzy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vat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Mucinen: </a:t>
            </a:r>
            <a:r>
              <a:rPr b="0" i="1" lang="nl-NL" sz="2400" spc="-1" strike="noStrike">
                <a:solidFill>
                  <a:srgbClr val="000000"/>
                </a:solidFill>
                <a:latin typeface="Gill Sans MT"/>
              </a:rPr>
              <a:t>maken het speeksel viskeus (dikker) en behoeden de mond voor uitdrog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Groeifactoren stimuleren wondgenez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Antistoffen (eiwitten tegen lichaamsvreemde stoff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vat onder andere het enzym amyl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Gill Sans MT"/>
              </a:rPr>
              <a:t>Amylase breekt zetmeel af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Functie speekse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Vergemakkelijken van het slikken en het naar beneden glijden van voedsel door de slokdar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eekselklier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.5 L per dag produceren deze klieren speeksel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3 grote speekselklieren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or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5 %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nderkaak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70 %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ndertoon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5 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8" name="Picture 2" descr="C:\Users\Ilse Theuws\Documents\SCHOOL\LEERJAAR 3\Stage\wat voedt jou, deel 2\7c8bc673333ca3fbe1914ca1b33ab8d0dr.jpg"/>
          <p:cNvPicPr/>
          <p:nvPr/>
        </p:nvPicPr>
        <p:blipFill>
          <a:blip r:embed="rId1"/>
          <a:stretch/>
        </p:blipFill>
        <p:spPr>
          <a:xfrm>
            <a:off x="1547640" y="703440"/>
            <a:ext cx="5545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0" name="Picture 2" descr="C:\Users\Ilse Theuws\Documents\SCHOOL\LEERJAAR 3\Stage\wat voedt jou, deel 2\mondholtekst.jpg"/>
          <p:cNvPicPr/>
          <p:nvPr/>
        </p:nvPicPr>
        <p:blipFill>
          <a:blip r:embed="rId1"/>
          <a:stretch/>
        </p:blipFill>
        <p:spPr>
          <a:xfrm>
            <a:off x="0" y="0"/>
            <a:ext cx="6804000" cy="5059440"/>
          </a:xfrm>
          <a:prstGeom prst="rect">
            <a:avLst/>
          </a:prstGeom>
          <a:ln w="0">
            <a:noFill/>
          </a:ln>
        </p:spPr>
      </p:pic>
      <p:sp>
        <p:nvSpPr>
          <p:cNvPr id="371" name="Plus 4"/>
          <p:cNvSpPr/>
          <p:nvPr/>
        </p:nvSpPr>
        <p:spPr>
          <a:xfrm>
            <a:off x="2050920" y="5300640"/>
            <a:ext cx="6877080" cy="936720"/>
          </a:xfrm>
          <a:custGeom>
            <a:avLst/>
            <a:gdLst/>
            <a:ahLst/>
            <a:rect l="l" t="t" r="r" b="b"/>
            <a:pathLst>
              <a:path w="6877050" h="936625">
                <a:moveTo>
                  <a:pt x="911553" y="358165"/>
                </a:moveTo>
                <a:lnTo>
                  <a:pt x="3328378" y="358165"/>
                </a:lnTo>
                <a:lnTo>
                  <a:pt x="3328378" y="124150"/>
                </a:lnTo>
                <a:lnTo>
                  <a:pt x="3548672" y="124150"/>
                </a:lnTo>
                <a:lnTo>
                  <a:pt x="3548672" y="358165"/>
                </a:lnTo>
                <a:lnTo>
                  <a:pt x="5965497" y="358165"/>
                </a:lnTo>
                <a:lnTo>
                  <a:pt x="5965497" y="578460"/>
                </a:lnTo>
                <a:lnTo>
                  <a:pt x="3548672" y="578460"/>
                </a:lnTo>
                <a:lnTo>
                  <a:pt x="3548672" y="812475"/>
                </a:lnTo>
                <a:lnTo>
                  <a:pt x="3328378" y="812475"/>
                </a:lnTo>
                <a:lnTo>
                  <a:pt x="3328378" y="578460"/>
                </a:lnTo>
                <a:lnTo>
                  <a:pt x="911553" y="578460"/>
                </a:lnTo>
                <a:lnTo>
                  <a:pt x="911553" y="358165"/>
                </a:lnTo>
                <a:close/>
              </a:path>
            </a:pathLst>
          </a:custGeom>
          <a:solidFill>
            <a:srgbClr val="727ca3"/>
          </a:solidFill>
          <a:ln w="19080">
            <a:solidFill>
              <a:srgbClr val="5259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kstvak 5"/>
          <p:cNvSpPr/>
          <p:nvPr/>
        </p:nvSpPr>
        <p:spPr>
          <a:xfrm>
            <a:off x="1763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kstvak 6"/>
          <p:cNvSpPr/>
          <p:nvPr/>
        </p:nvSpPr>
        <p:spPr>
          <a:xfrm>
            <a:off x="824400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To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k slijmv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Ruw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maakpupil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auwen, slikken, spreken, proev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34:50Z</dcterms:created>
  <dc:creator>Ilse Theuws</dc:creator>
  <dc:description/>
  <dc:language>en-US</dc:language>
  <cp:lastModifiedBy>Ilse Theuws</cp:lastModifiedBy>
  <dcterms:modified xsi:type="dcterms:W3CDTF">2016-04-01T08:07:10Z</dcterms:modified>
  <cp:revision>15</cp:revision>
  <dc:subject/>
  <dc:title>Wat voedt jou, deel 2</dc:title>
</cp:coreProperties>
</file>