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F12-748B-423F-9E27-0FC1534F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1F8-5834-420C-BDA6-4F12509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B98-1AE1-4C54-9D58-0AEE98B2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152-5911-4E30-8F2C-F00982BE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2E83-8A19-4865-B449-F5E69E6D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B83-7C27-4694-A3C4-B370E89C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8A50-1B80-4D4A-9B6B-5FEC2FF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CE8A-DD46-4B35-8E81-DCBC625D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D781-B7EF-4436-AA7C-FBCCF961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C4DF-0CFD-4061-8C4B-037D4891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3487-53E5-4ADA-A49C-D96AC574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CAE-BA63-47B0-924A-3F174112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68B-451A-4A38-8473-639CAA5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1C4B-E390-44CD-92AA-373E5D8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8D9-B04A-43B3-8DF2-FBF5610D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BE9E-C50F-448C-AEBA-9833D565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48E5-3A74-4F80-BC28-40C46FF1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07EF-CA16-47B2-A9BA-E27F995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3148-697D-4B0D-89D6-FD62F1C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0282-C7A8-4850-B94F-6871A12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3987-0D48-4EF2-9028-CDE1814E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FFFD-B3CE-43C4-96DB-B9B34529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D24-47DD-4ACE-B853-2BBFD439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D8EF-2C32-4DEF-BDD6-2B5174F6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FF8E-3E83-4E52-A9D1-26A3C5A4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9FBA-E04E-4FEE-BC25-50BC178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1D38-5067-43FD-964E-1569DCD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B6D2-A864-4ADA-A43D-6AF06376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5BD3-9459-4121-841D-FB3177B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A8C2-D204-4A87-99D1-2B842659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B4BF-5007-42DE-99D3-B999D4B0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542C-B5A6-4756-9763-8909FE0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CD96-8AC0-4063-A22E-242AD72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B14-CA65-4434-BE85-48DEC838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150A-1E51-4FEA-A815-C33307A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68EB-C159-4B52-AB0C-9D1664B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FA4B-5BDF-4D01-A040-F248339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D120-1194-4880-9E33-CD85237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4337-C2F0-4AE2-82FC-9947FCC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E530-DA9F-4002-B67A-4AD9C46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5363-7C7F-4FB3-9238-632518A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9B7C-8D66-4A69-ADEB-A2C2ABEF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98A5-08E4-4B0C-AE83-E54E0E88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48C5-C0C5-4B26-B0E9-7627E795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C61-C01C-4F0C-BA74-129519F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F1C4-B4BB-4DDF-B292-AB4479D6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1F03-B979-4183-8DA1-B6826002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432F-3573-4918-8C8A-42DDFA8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EA2B-F72C-4A28-999A-90BA9200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4AF9-F129-4587-A9DE-6975471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1368-A368-4CB3-ACAF-E1F0E5E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B76D7-1235-46CA-9447-524F6CDC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7AD3-EBFA-44D0-94F1-CF1C145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BEF5-580A-4658-9F07-3D3916B8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6ADF-1C89-4A10-A15A-C248E3B0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5D8-8E6A-4A0F-9404-841DBE82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5437F-EF27-4FDF-A849-525C3040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43CB6-B305-4AF1-91A0-D59D3473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14BB-0C73-4BFE-A707-C4844C5C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6138-37C3-4303-9D3C-0243B82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090E-E6D5-4AE9-8637-8D8C7218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2B23A-D760-4D13-AADA-EC26FF8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9E0B-D621-41AF-B783-6D2344C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DA04-C7BF-4EB9-9334-2D14986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1F27-E012-4CC5-9394-A703ACD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E428-5F56-477F-BC44-2B007B8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C46-32D7-4C76-AE99-1DED3A3F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D192-98BC-452C-BDCA-94474D0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4811-3044-4317-8689-AE208345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4D53-11F3-49FB-8B29-D41D00A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9BBDF-5C70-4EAE-8BAE-49D5AD3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6D50-3785-41C9-872A-F0A481D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7BB1-7997-4F35-A209-2E30EF71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91D8B-DD54-4679-98D7-F488ED8F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2A91-89A9-4889-997D-36E2BB5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170C-179D-4873-B0C9-0AA2716C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CF88-34E1-47CF-AA67-3F5486A2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198-1345-42E1-8A50-C4D00AD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62A9-AE7A-4674-AA65-9E21C22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FF090-CFD0-410D-A6C2-DA81176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6D07-95D4-421C-8E65-36ABE8F3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307F9-7552-43C3-811A-F257AAAD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A577B-D96E-4ED4-91D0-3AC7679D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D25D-D43B-4B3E-BAFE-DC29E1DE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C7103-8D52-4B48-A756-E8494863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9750B-8186-4B93-AC75-C5A1C0C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2D94A-7711-4E0E-B011-353F6AE5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08AA-4825-42E8-9F46-574D7952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D90-F9A2-46C8-9ED6-B243EE5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BBEB-386B-43BA-9862-7C97A2DD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3410A-9530-49E7-B368-B8E454A9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B134E-1F57-4E44-9C6D-868F1159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68DDD-9F1A-4A6C-A4AD-43B4D34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C3592-AD98-4D52-88B8-032243AF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EFE7-3615-4127-87AD-0617E9B1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F50C3-5A1E-4733-9C6D-320E2B9D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174-E9E7-4B9C-9E9D-51A8509E1E0D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EA8-5D40-4A57-8689-1CBE6CF64069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2C9-AD97-42CF-8AA2-905304EA23DD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DE76-B5F7-431E-B0F5-CD2AC5739F39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A0A-7398-4CA4-8E8B-7FBA5F1F653F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8758-DC49-4A17-B055-6FB5993B66C5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21FD-45D5-4D22-A6E0-97AB99E0426A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8F9D-B14F-4CCD-A590-AE3C7901542F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desk.nl/vertering/puzzel-mond-_en_keelholte.php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at voedt jou, deel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Les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" descr="C:\Users\Ilse Theuws\Documents\SCHOOL\LEERJAAR 3\Stage\wat voedt jou, deel 2\imagesCAHW7COU.jpg"/>
          <p:cNvPicPr/>
          <p:nvPr/>
        </p:nvPicPr>
        <p:blipFill>
          <a:blip r:embed="rId1"/>
          <a:stretch/>
        </p:blipFill>
        <p:spPr>
          <a:xfrm>
            <a:off x="539640" y="189000"/>
            <a:ext cx="4032360" cy="325764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 rot="20600400">
            <a:off x="4830480" y="1038240"/>
            <a:ext cx="391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Spijsverter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De mond en keelholte</a:t>
            </a:r>
            <a:r>
              <a:rPr b="0" lang="nl-NL" sz="18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maire smak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2" descr="C:\Users\Ilse Theuws\Documents\SCHOOL\LEERJAAR 3\Stage\wat voedt jou, deel 2\175559_962_1185287375821-afbeelding_1.jpg"/>
          <p:cNvPicPr/>
          <p:nvPr/>
        </p:nvPicPr>
        <p:blipFill>
          <a:blip r:embed="rId1"/>
          <a:stretch/>
        </p:blipFill>
        <p:spPr>
          <a:xfrm>
            <a:off x="826920" y="1125360"/>
            <a:ext cx="68518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biodesk.nl/vertering/puzzel-mond-_en_keelholte.ph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1" name="Picture 2" descr="C:\Users\Ilse Theuws\Documents\SCHOOL\LEERJAAR 3\Stage\wat voedt jou, deel 2\456klachten10slikken.jpg"/>
          <p:cNvPicPr/>
          <p:nvPr/>
        </p:nvPicPr>
        <p:blipFill>
          <a:blip r:embed="rId1"/>
          <a:stretch/>
        </p:blipFill>
        <p:spPr>
          <a:xfrm>
            <a:off x="1042920" y="379440"/>
            <a:ext cx="65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ijsverter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t betekent: spijsvertering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e mondholte, la 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nemen van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lpen bij het fijnmaken van het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engen met speek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evoegen van het spijsverteringsenzym: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nemen van smaak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dere belangrijke functies van de mond: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om kauwen we eigenlijk ?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C:\Users\Ilse Theuws\Documents\SCHOOL\LEERJAAR 3\Stage\wat voedt jou, deel 2\untitled.bmp"/>
          <p:cNvPicPr/>
          <p:nvPr/>
        </p:nvPicPr>
        <p:blipFill>
          <a:blip r:embed="rId1"/>
          <a:stretch/>
        </p:blipFill>
        <p:spPr>
          <a:xfrm>
            <a:off x="539640" y="2060640"/>
            <a:ext cx="3672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staat uit water, slijm en een enzy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ucinen: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maken het speeksel viskeus (dikker) en behoeden de mond voor uitdrog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Groeifactoren stimuleren wondgene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Antistoffen (eiwitten tegen lichaamsvreemde stoff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onder andere het enzym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Amylase breekt zetmeel 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unctie speekse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Vergemakkelijken van het slikken en het naar beneden glijden van voedsel door de slokda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klier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.5 L per dag produceren deze klieren speeksel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3 grote speekselklieren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or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5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kaak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70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toon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C:\Users\Ilse Theuws\Documents\SCHOOL\LEERJAAR 3\Stage\wat voedt jou, deel 2\7c8bc673333ca3fbe1914ca1b33ab8d0dr.jpg"/>
          <p:cNvPicPr/>
          <p:nvPr/>
        </p:nvPicPr>
        <p:blipFill>
          <a:blip r:embed="rId1"/>
          <a:stretch/>
        </p:blipFill>
        <p:spPr>
          <a:xfrm>
            <a:off x="1547640" y="703440"/>
            <a:ext cx="55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C:\Users\Ilse Theuws\Documents\SCHOOL\LEERJAAR 3\Stage\wat voedt jou, deel 2\mondholtekst.jpg"/>
          <p:cNvPicPr/>
          <p:nvPr/>
        </p:nvPicPr>
        <p:blipFill>
          <a:blip r:embed="rId1"/>
          <a:stretch/>
        </p:blipFill>
        <p:spPr>
          <a:xfrm>
            <a:off x="0" y="0"/>
            <a:ext cx="6804000" cy="5059440"/>
          </a:xfrm>
          <a:prstGeom prst="rect">
            <a:avLst/>
          </a:prstGeom>
          <a:ln w="0">
            <a:noFill/>
          </a:ln>
        </p:spPr>
      </p:pic>
      <p:sp>
        <p:nvSpPr>
          <p:cNvPr id="371" name="Plus 4"/>
          <p:cNvSpPr/>
          <p:nvPr/>
        </p:nvSpPr>
        <p:spPr>
          <a:xfrm>
            <a:off x="2050920" y="5300640"/>
            <a:ext cx="6877080" cy="936720"/>
          </a:xfrm>
          <a:custGeom>
            <a:avLst/>
            <a:gdLst/>
            <a:ahLst/>
            <a:rect l="l" t="t" r="r" b="b"/>
            <a:pathLst>
              <a:path w="6877050" h="936625">
                <a:moveTo>
                  <a:pt x="911553" y="358165"/>
                </a:moveTo>
                <a:lnTo>
                  <a:pt x="3328378" y="358165"/>
                </a:lnTo>
                <a:lnTo>
                  <a:pt x="3328378" y="124150"/>
                </a:lnTo>
                <a:lnTo>
                  <a:pt x="3548672" y="124150"/>
                </a:lnTo>
                <a:lnTo>
                  <a:pt x="3548672" y="358165"/>
                </a:lnTo>
                <a:lnTo>
                  <a:pt x="5965497" y="358165"/>
                </a:lnTo>
                <a:lnTo>
                  <a:pt x="5965497" y="578460"/>
                </a:lnTo>
                <a:lnTo>
                  <a:pt x="3548672" y="578460"/>
                </a:lnTo>
                <a:lnTo>
                  <a:pt x="3548672" y="812475"/>
                </a:lnTo>
                <a:lnTo>
                  <a:pt x="3328378" y="812475"/>
                </a:lnTo>
                <a:lnTo>
                  <a:pt x="3328378" y="578460"/>
                </a:lnTo>
                <a:lnTo>
                  <a:pt x="911553" y="578460"/>
                </a:lnTo>
                <a:lnTo>
                  <a:pt x="911553" y="358165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kstvak 5"/>
          <p:cNvSpPr/>
          <p:nvPr/>
        </p:nvSpPr>
        <p:spPr>
          <a:xfrm>
            <a:off x="1763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kstvak 6"/>
          <p:cNvSpPr/>
          <p:nvPr/>
        </p:nvSpPr>
        <p:spPr>
          <a:xfrm>
            <a:off x="824400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k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Ru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maakpupil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uwen, slikken, spreken, proev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4:50Z</dcterms:created>
  <dc:creator>Ilse Theuws</dc:creator>
  <dc:description/>
  <dc:language>en-US</dc:language>
  <cp:lastModifiedBy>Ilse Theuws</cp:lastModifiedBy>
  <dcterms:modified xsi:type="dcterms:W3CDTF">2016-04-01T08:07:10Z</dcterms:modified>
  <cp:revision>15</cp:revision>
  <dc:subject/>
  <dc:title>Wat voedt jou, deel 2</dc:title>
</cp:coreProperties>
</file>