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DD82-106C-4919-A4E4-64953135E2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 laag, bindweefsellaag, spierlaag</a:t>
            </a:r>
            <a:endParaRPr b="0" lang="en-US" sz="1200" spc="-1" strike="noStrike">
              <a:solidFill>
                <a:srgbClr val="000000"/>
              </a:solidFill>
              <a:latin typeface="Calibri"/>
            </a:endParaRPr>
          </a:p>
        </p:txBody>
      </p:sp>
      <p:sp>
        <p:nvSpPr>
          <p:cNvPr id="49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BEF7-8DA8-4C38-B208-47F13997DD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peptase) is een pro-enzym dat tijdens de vroegste stadia van de spijsvertering in de maag eiwitmoleculen splitst zodat eiwitten kunnen worden afgebroken/verteerd tot enkel nog vrij lange aminozuurketens, polypeptiden genoemd (vertering van eiwitten is nu voltoo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klieren produceren geen pepsine maar pepsinogeen, een inactief enzym (pepsine is normaal gezien in de vorm van pepsinogeen aanwezig). Pepsinogeen kan door bepaalde cellen in de maagwand (hoofd- of kliercellen), naast zoutzuur en slijm worden afgescheiden, dit vormt samen met gastrine het maagsap/maagzuur. Het sterk toenemen van de hoeveelheid maagzuur in de maag, waardoor een sterk zuur milieu in de maag ontstaat waardoor Pepsine werkzaam wordt, aangezien pepsine alleen werkzaam is in een sterk zuur milieu (pH-optimum 2,5). Pepsine kan ook zelf pepsinogeen activeren. Het activeren van pepsinogeen is dus een proces dat zichzelf versterkt, een dergelijk proces wordt positieve terugkoppeling genoem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het zure voedsel uit de maag, in kleine hoeveelheden in de twaalfvingerige darm aankomt, stopt de werking van pepsine na enige tijd, aangezien de twaalfvingerige darm het voedsel licht basisch maakt, waardoor pepsine weer het inactieve pepsinogeen wordt. Wanneer pepsinogeen in een milieu terecht komt met een hoge zuurgraad, wordt het weer omgezet in het actieve peps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is een agressief enzym dat gemakkelijk de eigen maagwand kan oplossen, de maagwand is echter bekleed met een dikke slijmlaag die de maag ook beschermt tegen andere enzymen zoals lipase en eventueel gal bij galbrak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48F8-91DC-4D83-BF30-28D99A79A0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961E-467E-43DA-B9F7-C37FE4F888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ier vul je samen met de leerlingen de onderdelen in door op het digibord te schrijven met C-tools.</a:t>
            </a:r>
            <a:endParaRPr b="0" lang="en-US" sz="1200" spc="-1" strike="noStrike">
              <a:solidFill>
                <a:srgbClr val="000000"/>
              </a:solidFill>
              <a:latin typeface="Calibri"/>
            </a:endParaRPr>
          </a:p>
        </p:txBody>
      </p:sp>
      <p:sp>
        <p:nvSpPr>
          <p:cNvPr id="47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0D28-A798-4F52-9693-FA21C5328F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BD15-BF2D-4D88-99CA-85AD52BD6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3643-8556-4646-98CA-BC8125DDA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6329-5B21-4DD2-9572-802C70EE7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e kan het hier navertellen en aanwijzen op het bord ?</a:t>
            </a:r>
            <a:endParaRPr b="0" lang="en-US" sz="1200" spc="-1" strike="noStrike">
              <a:solidFill>
                <a:srgbClr val="000000"/>
              </a:solidFill>
              <a:latin typeface="Calibri"/>
            </a:endParaRPr>
          </a:p>
        </p:txBody>
      </p:sp>
      <p:sp>
        <p:nvSpPr>
          <p:cNvPr id="48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284A-6099-46B6-BEAF-6B0EF95406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03194-840C-44FF-A3B0-C9F074AEC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0D0F5-1ACB-447E-A820-D97F669B5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10E15-AAF8-410B-BD1B-B130845E3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C8FB8-2F07-44D5-B30C-87C9FB85C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2E7CE-4034-465A-B141-94D8D63D5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ACA72-76BE-4645-8389-F82A7E969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2B18A-3A6C-477C-903C-9E3DC5ECC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213AF-A4EE-4760-B2AF-40AD33F4F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E16B8-B537-4474-BC53-16D3309D7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D0382-19AC-4EED-9602-E238EB5EF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30826-157D-427A-A35A-DA622BD93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5EB3-8A27-4B41-940E-63305A653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87166-EFA6-4E2A-BF39-6FC71E025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A53AA-185F-4A39-ACE3-0B921C216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CF43F-841A-46BC-8A65-E5B7D9B8D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85E5E-B915-4B06-AE7D-EA1A1FF81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0D5F9-2CDC-4B22-987B-BF532AE7B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AE7574-6E85-4CF6-96F1-E1C491D61D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81348-24ED-48FC-996D-02CBC5C84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30F5B-6842-4219-8936-EF2C7BFAE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2B6AE-0397-4C79-9179-4FBA3A074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963D1-4D22-4D9F-87AB-2336E7AEE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1AA33-5E3C-4D72-8521-C19F11AD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B6035-C167-44D7-B475-E29363B31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C2EDB-C896-4F63-A906-C231A0B71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A5B37-6450-4522-AA29-7610BA09F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5B90F-5B89-471C-A871-951919D6A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1EFA50-63C7-4CBC-BBCF-E05F808406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16413-E6CC-4974-9D22-6C920DE3E7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0636B-B022-4C8D-87FB-6FB096FA70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274652-D2C2-4B24-B0B3-F4921A3B66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9B234-BAE5-41DB-8E2B-52627FFEB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BF432-82AA-4C74-94ED-C1618DE6C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34370-2509-4677-BF8C-29782A578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97958-A95C-4BC2-AFE2-2D834AF4D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79536-566C-4B9D-AFBB-E907AC251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16CB5E-B9EB-42D0-A018-51DCFCD04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42335-8FA2-4B0A-8990-2498674DE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59F63-E71E-455F-8E0D-8CA97686F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C2EF7-B4A5-40F7-9F8C-25E9296FC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291A0-480B-4BD4-A2AB-063B19DB1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78E5DB-69EC-40EF-937A-AC5FD5ED97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DCD516-B9C0-4254-A7E0-C65F3C304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DDB2F9-6CC8-4ADF-B45B-4C5EE1F31F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D99E-3AE1-4344-8420-D76CC2998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1F045-8E7E-4CC2-8DF7-E3C44794E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4FEB2-A2DA-46E7-BB74-E13629416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8E179-9BE3-4182-BDBE-6352BACDB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40E93-7439-4C4B-AF05-D783CA954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3223B-F6F6-4423-B92D-9406C3BE3A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08C16-B413-4404-9E26-C9A035FD2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76145-75D8-4609-A6FE-4B3BFC571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C2281-38CE-4279-8824-E5F799B3F1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80ABC-ECEF-478D-AB59-0AEFF76BA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7D54E4-4F9E-40E4-8A41-C2BC744C64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EFF80-2941-4835-9F8B-8BF5A3450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959855-0BCD-410F-A210-7F937F7663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7F0EDB-F022-4CB5-9EC6-120A19FACF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5D3B4-6CAB-4351-BDBB-9002B778E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5C50DE-3890-4B7E-A12D-73C9A07FD7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65D82-180E-46DC-AC37-EEC965989E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DC1194-22DB-4464-8566-DC665D19C4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5B67B0-BC1A-440A-B1EE-6D6BA26F5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B3C30-3162-46E3-91BB-5CDB84FAF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4BCA6-004D-4621-96A5-EFE42B50D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C065E-8866-4B5A-B883-62CE768FC3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96B6C-EF1C-41B5-94A2-59932C809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9B1038-AEC9-41DD-B3B8-B9EAF02747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2BA201-B5FC-435C-A4E3-CE1C403538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1E1945-7088-4D22-A932-69415C0346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C4F1D5-3F36-47BC-88F9-FA511F8DD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101215-70A2-47C0-A2F4-55AB86E00D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6899B6-3618-4B4A-BF22-AF7E47A0D0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CC6FA-2715-40CC-BE71-263F19396A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9D70E0-3888-4009-AC10-5D7816EA6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C46F0-344D-426B-97FF-59B0B5229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948A8-A42A-42CF-BE68-BF99872E4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FBAD-1580-44D6-A3DC-AF14917A1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F7AF8-9ABA-479F-8DC7-932491E48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8EFCF4-CDB8-4CE5-BBC8-088E5542D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EB011B-117B-44FA-95FE-58CD9269E7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4582CE-9250-4F1E-8CE3-B0222688EF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640DB7-D446-4F04-9C5C-EF618A3A51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6D0378-C4F0-488C-A1E7-6198308E0D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358A5C-AE8A-4E42-A719-2BF3CA67F7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79E0B1-6BE0-4DA3-A940-9E171ED79A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A3486D-ED3F-4D7A-894B-49A9A294E1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EC8AF5-40AE-411A-8B42-25E4FAD11A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5775-4110-4ACB-8727-F10BAC697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FAA3E5-6170-4531-8EFD-14F4C59EF8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C06FE-A297-410F-8C9D-ACCA12DF9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77CFFD-F1F7-49A6-8DED-4242793ED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54ACD-E120-4FE9-ACB1-8148C9D54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1C7D75-5DE1-49C1-BB28-4ED018A617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5FAF5D-C68B-473E-8677-032EA2549F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52042E-A1C3-41CC-9047-9D6348F10A5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DAA7-323A-4252-AC61-CED89D25899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FE80-81CF-4877-ABD6-3157AE49A04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BDE7-0229-4220-B975-B444287378B5}"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A50C-2956-4A04-9CA9-5238D0CB994D}"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D63E-DA22-4C64-8C54-0034A6676A9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FFEF-2A6D-4E31-9FF8-4F8738C8E876}"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26D2-DF96-4BC8-9041-677FAEFB9635}"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EF7A-92D1-4C5D-BBA2-C04C5BB7728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Wat voedt jou, deel 2</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Les 2</a:t>
            </a: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61" name="Picture 2" descr="http://www.praktijknatuurlijkgenezen.nl/images/detox_diet.jpg"/>
          <p:cNvPicPr/>
          <p:nvPr/>
        </p:nvPicPr>
        <p:blipFill>
          <a:blip r:embed="rId1"/>
          <a:stretch/>
        </p:blipFill>
        <p:spPr>
          <a:xfrm>
            <a:off x="179280" y="189000"/>
            <a:ext cx="518472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e slokdarm produceert geen enzymen</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vertering van zetmeel door speekselamylase gaat wel door</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Van binnen naar buiten is de opbouw van de slokdarmwand </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vli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indweefsellaa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ierlaa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 maag (ventriculus) </a:t>
            </a:r>
            <a:endParaRPr b="0" lang="en-US" sz="3200" spc="-1" strike="noStrike">
              <a:solidFill>
                <a:srgbClr val="464653"/>
              </a:solidFill>
              <a:latin typeface="Bookman Old Style"/>
            </a:endParaRPr>
          </a:p>
        </p:txBody>
      </p:sp>
      <p:sp>
        <p:nvSpPr>
          <p:cNvPr id="457" name=""/>
          <p:cNvSpPr txBox="1"/>
          <p:nvPr/>
        </p:nvSpPr>
        <p:spPr>
          <a:xfrm>
            <a:off x="468360" y="119700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ill Sans MT"/>
              </a:rPr>
              <a:t>Sterk verwijd deel (1500 ml. volume) van het spijsverteringskanaal met de functies: </a:t>
            </a:r>
            <a:br>
              <a:rPr sz="2800"/>
            </a:br>
            <a:br>
              <a:rPr sz="2800"/>
            </a:br>
            <a:r>
              <a:rPr b="0" lang="nl-NL" sz="2800" spc="-1" strike="noStrike">
                <a:solidFill>
                  <a:srgbClr val="000000"/>
                </a:solidFill>
                <a:latin typeface="Gill Sans MT"/>
              </a:rPr>
              <a:t>- tijdelijke opslagplaats</a:t>
            </a:r>
            <a:br>
              <a:rPr sz="2800"/>
            </a:br>
            <a:r>
              <a:rPr b="0" lang="nl-NL" sz="2800" spc="-1" strike="noStrike">
                <a:solidFill>
                  <a:srgbClr val="000000"/>
                </a:solidFill>
                <a:latin typeface="Gill Sans MT"/>
              </a:rPr>
              <a:t>- kneden en mengen van voedsel met het maagsap</a:t>
            </a:r>
            <a:br>
              <a:rPr sz="2800"/>
            </a:br>
            <a:r>
              <a:rPr b="0" lang="nl-NL" sz="2800" spc="-1" strike="noStrike">
                <a:solidFill>
                  <a:srgbClr val="000000"/>
                </a:solidFill>
                <a:latin typeface="Gill Sans MT"/>
              </a:rPr>
              <a:t>- maagsap afscheiden</a:t>
            </a:r>
            <a:br>
              <a:rPr sz="2800"/>
            </a:br>
            <a:r>
              <a:rPr b="0" lang="nl-NL" sz="2800" spc="-1" strike="noStrike">
                <a:solidFill>
                  <a:srgbClr val="000000"/>
                </a:solidFill>
                <a:latin typeface="Gill Sans MT"/>
              </a:rPr>
              <a:t>- het voedsel continu in kleine porties doorgeven aan          de dunne darm</a:t>
            </a:r>
            <a:br>
              <a:rPr sz="2800"/>
            </a:br>
            <a:r>
              <a:rPr b="0" lang="nl-NL"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464653"/>
                </a:solidFill>
                <a:latin typeface="Bookman Old Style"/>
              </a:rPr>
              <a:t>Wandlagen waaruit de maag is opgebouwd</a:t>
            </a:r>
            <a:endParaRPr b="0" lang="en-US" sz="29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lijmvlies</a:t>
            </a:r>
            <a:endParaRPr b="0" lang="en-US" sz="32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terk geplooid wanneer de maag leeg is</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klieren die maagsap mak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slijm beschermt de maagwan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ofdcellen scheiden inactieve </a:t>
            </a:r>
            <a:r>
              <a:rPr b="1" lang="en-US" sz="2400" spc="-1" strike="noStrike">
                <a:solidFill>
                  <a:srgbClr val="000000"/>
                </a:solidFill>
                <a:latin typeface="Gill Sans MT"/>
              </a:rPr>
              <a:t>pepsinogeen </a:t>
            </a:r>
            <a:r>
              <a:rPr b="0" lang="en-US" sz="2400" spc="-1" strike="noStrike">
                <a:solidFill>
                  <a:srgbClr val="000000"/>
                </a:solidFill>
                <a:latin typeface="Gill Sans MT"/>
              </a:rPr>
              <a:t>af,</a:t>
            </a:r>
            <a:r>
              <a:rPr b="1" lang="en-US" sz="2400" spc="-1" strike="noStrike">
                <a:solidFill>
                  <a:srgbClr val="000000"/>
                </a:solidFill>
                <a:latin typeface="Gill Sans MT"/>
              </a:rPr>
              <a:t> </a:t>
            </a:r>
            <a:r>
              <a:rPr b="0" lang="en-US" sz="2400" spc="-1" strike="noStrike">
                <a:solidFill>
                  <a:srgbClr val="000000"/>
                </a:solidFill>
                <a:latin typeface="Gill Sans MT"/>
              </a:rPr>
              <a:t>dat geactiveerd wordt tot pepsine als het gemengd wordt met zoutzuur</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63" name=""/>
          <p:cNvSpPr txBox="1"/>
          <p:nvPr/>
        </p:nvSpPr>
        <p:spPr>
          <a:xfrm>
            <a:off x="457200" y="1219320"/>
            <a:ext cx="8229600" cy="4946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maag bestaat uit de volgende dele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mon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za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lichaa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hol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portier</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64" name="Picture 2" descr="http://1.bp.blogspot.com/_P9gydy3an44/TKK0RH1YR9I/AAAAAAAANfs/hsvH2tpRZ4Q/s1600/Achloorhydrie+(onvoldoende+afscheiding+van+maagsappen,+zwakke+maag).jpeg"/>
          <p:cNvPicPr/>
          <p:nvPr/>
        </p:nvPicPr>
        <p:blipFill>
          <a:blip r:embed="rId1"/>
          <a:stretch/>
        </p:blipFill>
        <p:spPr>
          <a:xfrm>
            <a:off x="4211640" y="2276640"/>
            <a:ext cx="4581360" cy="45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ap</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agsap (1500ml./etmaal) bestaat uit:</a:t>
            </a:r>
            <a:br>
              <a:rPr sz="2600"/>
            </a:br>
            <a:r>
              <a:rPr b="0" lang="en-US" sz="2600" spc="-1" strike="noStrike">
                <a:solidFill>
                  <a:srgbClr val="000000"/>
                </a:solidFill>
                <a:latin typeface="Gill Sans MT"/>
              </a:rPr>
              <a:t>-  </a:t>
            </a:r>
            <a:r>
              <a:rPr b="1" lang="en-US" sz="2600" spc="-1" strike="noStrike">
                <a:solidFill>
                  <a:srgbClr val="000000"/>
                </a:solidFill>
                <a:latin typeface="Gill Sans MT"/>
              </a:rPr>
              <a:t>zoutzuur</a:t>
            </a:r>
            <a:br>
              <a:rPr sz="2600"/>
            </a:br>
            <a:r>
              <a:rPr b="0" lang="en-US" sz="2600" spc="-1" strike="noStrike">
                <a:solidFill>
                  <a:srgbClr val="000000"/>
                </a:solidFill>
                <a:latin typeface="Gill Sans MT"/>
              </a:rPr>
              <a:t>-  </a:t>
            </a:r>
            <a:r>
              <a:rPr b="1" lang="en-US" sz="2600" spc="-1" strike="noStrike">
                <a:solidFill>
                  <a:srgbClr val="000000"/>
                </a:solidFill>
                <a:latin typeface="Gill Sans MT"/>
              </a:rPr>
              <a:t>pepsine</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acteriën die eventueel mee komen met voedsel of speeksel worden gedood</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anmaak ‘Intrinsieke factor’</a:t>
            </a:r>
            <a:br>
              <a:rPr sz="2600"/>
            </a:br>
            <a:br>
              <a:rPr sz="2600"/>
            </a:br>
            <a:br>
              <a:rPr sz="2600"/>
            </a:br>
            <a:br>
              <a:rPr sz="2600"/>
            </a:br>
            <a:r>
              <a:rPr b="1"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fselhormoon: gastrin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470" name="Picture 2" descr=""/>
          <p:cNvPicPr/>
          <p:nvPr/>
        </p:nvPicPr>
        <p:blipFill>
          <a:blip r:embed="rId1"/>
          <a:stretch/>
        </p:blipFill>
        <p:spPr>
          <a:xfrm>
            <a:off x="0" y="0"/>
            <a:ext cx="7848720" cy="680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zweer</a:t>
            </a: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Maagzweer:</a:t>
            </a:r>
            <a:r>
              <a:rPr b="0" lang="nl-NL" sz="2600" spc="-1" strike="noStrike">
                <a:solidFill>
                  <a:srgbClr val="000000"/>
                </a:solidFill>
                <a:latin typeface="Gill Sans MT"/>
              </a:rPr>
              <a:t> beschadiging van het slijmvlies.</a:t>
            </a:r>
            <a:br>
              <a:rPr sz="2600"/>
            </a:br>
            <a:r>
              <a:rPr b="0" lang="nl-NL" sz="2600" spc="-1" strike="noStrike">
                <a:solidFill>
                  <a:srgbClr val="000000"/>
                </a:solidFill>
                <a:latin typeface="Gill Sans MT"/>
              </a:rPr>
              <a:t>Meest voorkomende oorzaak: infectie door</a:t>
            </a:r>
            <a:br>
              <a:rPr sz="2600"/>
            </a:br>
            <a:r>
              <a:rPr b="0" lang="nl-NL" sz="2600" spc="-1" strike="noStrike">
                <a:solidFill>
                  <a:srgbClr val="000000"/>
                </a:solidFill>
                <a:latin typeface="Gill Sans MT"/>
              </a:rPr>
              <a:t>helicobacter pylori bacterie.</a:t>
            </a:r>
            <a:br>
              <a:rPr sz="2600"/>
            </a:br>
            <a:br>
              <a:rPr sz="2600"/>
            </a:br>
            <a:r>
              <a:rPr b="0" lang="nl-NL" sz="2600" spc="-1" strike="noStrike">
                <a:solidFill>
                  <a:srgbClr val="000000"/>
                </a:solidFill>
                <a:latin typeface="Gill Sans MT"/>
              </a:rPr>
              <a:t>Andere gevolgen kunnen zijn:</a:t>
            </a:r>
            <a:br>
              <a:rPr sz="2600"/>
            </a:br>
            <a:r>
              <a:rPr b="0" lang="nl-NL" sz="2600" spc="-1" strike="noStrike">
                <a:solidFill>
                  <a:srgbClr val="000000"/>
                </a:solidFill>
                <a:latin typeface="Gill Sans MT"/>
              </a:rPr>
              <a:t>- overmatige productie van zuur </a:t>
            </a:r>
            <a:br>
              <a:rPr sz="2600"/>
            </a:br>
            <a:r>
              <a:rPr b="0" lang="nl-NL" sz="2600" spc="-1" strike="noStrike">
                <a:solidFill>
                  <a:srgbClr val="000000"/>
                </a:solidFill>
                <a:latin typeface="Gill Sans MT"/>
              </a:rPr>
              <a:t>- onvoldoende productie van slijm </a:t>
            </a:r>
            <a:br>
              <a:rPr sz="2600"/>
            </a:br>
            <a:r>
              <a:rPr b="0" lang="nl-NL" sz="2600" spc="-1" strike="noStrike">
                <a:solidFill>
                  <a:srgbClr val="000000"/>
                </a:solidFill>
                <a:latin typeface="Gill Sans MT"/>
              </a:rPr>
              <a:t>  dat de maag tegen dit zuur bescherm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Herhaling</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unctie van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Latijnse naam voor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komt speeksel vandaa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bestaat speeksel uit?</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imaire smaken die de tong kan waarnem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65" name="Picture 2" descr=""/>
          <p:cNvPicPr/>
          <p:nvPr/>
        </p:nvPicPr>
        <p:blipFill>
          <a:blip r:embed="rId1"/>
          <a:stretch/>
        </p:blipFill>
        <p:spPr>
          <a:xfrm>
            <a:off x="1116000" y="189000"/>
            <a:ext cx="7367760" cy="61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en maag</a:t>
            </a:r>
            <a:endParaRPr b="0" lang="en-US" sz="3200" spc="-1" strike="noStrike">
              <a:solidFill>
                <a:srgbClr val="464653"/>
              </a:solidFill>
              <a:latin typeface="Bookman Old Style"/>
            </a:endParaRPr>
          </a:p>
        </p:txBody>
      </p:sp>
      <p:pic>
        <p:nvPicPr>
          <p:cNvPr id="367" name="Picture 2" descr="41_11MouthToStomach_3-U"/>
          <p:cNvPicPr/>
          <p:nvPr/>
        </p:nvPicPr>
        <p:blipFill>
          <a:blip r:embed="rId1"/>
          <a:stretch/>
        </p:blipFill>
        <p:spPr>
          <a:xfrm>
            <a:off x="457200" y="129852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41_11MouthToStomach_1-U"/>
          <p:cNvPicPr/>
          <p:nvPr/>
        </p:nvPicPr>
        <p:blipFill>
          <a:blip r:embed="rId1"/>
          <a:stretch/>
        </p:blipFill>
        <p:spPr>
          <a:xfrm>
            <a:off x="304920" y="990720"/>
            <a:ext cx="8548560" cy="4962240"/>
          </a:xfrm>
          <a:prstGeom prst="rect">
            <a:avLst/>
          </a:prstGeom>
          <a:ln w="0">
            <a:noFill/>
          </a:ln>
        </p:spPr>
      </p:pic>
      <p:sp>
        <p:nvSpPr>
          <p:cNvPr id="369" name="Rectangle 6"/>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7"/>
          <p:cNvSpPr/>
          <p:nvPr/>
        </p:nvSpPr>
        <p:spPr>
          <a:xfrm>
            <a:off x="15228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71" name="Text Box 28"/>
          <p:cNvSpPr/>
          <p:nvPr/>
        </p:nvSpPr>
        <p:spPr>
          <a:xfrm>
            <a:off x="711360" y="28321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72" name="Text Box 29"/>
          <p:cNvSpPr/>
          <p:nvPr/>
        </p:nvSpPr>
        <p:spPr>
          <a:xfrm>
            <a:off x="2465280" y="1378080"/>
            <a:ext cx="126864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73" name="Text Box 30"/>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74" name="Text Box 31"/>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75" name="Line 32"/>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6" name="Line 33"/>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Text Box 35"/>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78" name="Text Box 36"/>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379" name="Text Box 37"/>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380" name="Line 38"/>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39"/>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382" name="Text Box 40"/>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383" name="Line 41"/>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42"/>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44"/>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86" name="Line 45"/>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46"/>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4" descr="41_11MouthToStomach_2-U"/>
          <p:cNvPicPr/>
          <p:nvPr/>
        </p:nvPicPr>
        <p:blipFill>
          <a:blip r:embed="rId1"/>
          <a:stretch/>
        </p:blipFill>
        <p:spPr>
          <a:xfrm>
            <a:off x="297000" y="947880"/>
            <a:ext cx="8548560" cy="4962240"/>
          </a:xfrm>
          <a:prstGeom prst="rect">
            <a:avLst/>
          </a:prstGeom>
          <a:ln w="0">
            <a:noFill/>
          </a:ln>
        </p:spPr>
      </p:pic>
      <p:sp>
        <p:nvSpPr>
          <p:cNvPr id="389" name="Rectangle 25"/>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8"/>
          <p:cNvSpPr/>
          <p:nvPr/>
        </p:nvSpPr>
        <p:spPr>
          <a:xfrm>
            <a:off x="22860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91" name="Text Box 79"/>
          <p:cNvSpPr/>
          <p:nvPr/>
        </p:nvSpPr>
        <p:spPr>
          <a:xfrm>
            <a:off x="762120" y="28195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92" name="Text Box 80"/>
          <p:cNvSpPr/>
          <p:nvPr/>
        </p:nvSpPr>
        <p:spPr>
          <a:xfrm>
            <a:off x="2362320" y="129528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93" name="Text Box 81"/>
          <p:cNvSpPr/>
          <p:nvPr/>
        </p:nvSpPr>
        <p:spPr>
          <a:xfrm>
            <a:off x="228600" y="182880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94" name="Text Box 82"/>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95" name="Line 83"/>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96" name="Line 84"/>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85"/>
          <p:cNvSpPr/>
          <p:nvPr/>
        </p:nvSpPr>
        <p:spPr>
          <a:xfrm>
            <a:off x="357120" y="233028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86"/>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99" name="Text Box 87"/>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00" name="Text Box 88"/>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01" name="Line 89"/>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90"/>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03" name="Text Box 91"/>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04" name="Line 92"/>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93"/>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95"/>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7" name="Line 96"/>
          <p:cNvSpPr/>
          <p:nvPr/>
        </p:nvSpPr>
        <p:spPr>
          <a:xfrm flipH="1">
            <a:off x="1999800" y="1676520"/>
            <a:ext cx="43812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97"/>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98"/>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10" name="Text Box 99"/>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11" name="Text Box 100"/>
          <p:cNvSpPr/>
          <p:nvPr/>
        </p:nvSpPr>
        <p:spPr>
          <a:xfrm>
            <a:off x="3621240" y="3092400"/>
            <a:ext cx="104616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2"/>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103"/>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41_11MouthToStomach_3-U"/>
          <p:cNvPicPr/>
          <p:nvPr/>
        </p:nvPicPr>
        <p:blipFill>
          <a:blip r:embed="rId1"/>
          <a:stretch/>
        </p:blipFill>
        <p:spPr>
          <a:xfrm>
            <a:off x="297000" y="947880"/>
            <a:ext cx="8548560" cy="4962240"/>
          </a:xfrm>
          <a:prstGeom prst="rect">
            <a:avLst/>
          </a:prstGeom>
          <a:ln w="0">
            <a:noFill/>
          </a:ln>
        </p:spPr>
      </p:pic>
      <p:sp>
        <p:nvSpPr>
          <p:cNvPr id="415" name="Rectangle 3"/>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228600" y="251460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417" name="Text Box 5"/>
          <p:cNvSpPr/>
          <p:nvPr/>
        </p:nvSpPr>
        <p:spPr>
          <a:xfrm>
            <a:off x="609480" y="2819520"/>
            <a:ext cx="69084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418" name="Text Box 6"/>
          <p:cNvSpPr/>
          <p:nvPr/>
        </p:nvSpPr>
        <p:spPr>
          <a:xfrm>
            <a:off x="2438280" y="121932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br>
              <a:rPr sz="1400"/>
            </a:br>
            <a:r>
              <a:rPr b="1" lang="en-US" sz="1400" spc="-1" strike="noStrike">
                <a:solidFill>
                  <a:srgbClr val="000000"/>
                </a:solidFill>
                <a:latin typeface="Arial"/>
                <a:ea typeface="ヒラギノ角ゴ Pro W3"/>
              </a:rPr>
              <a:t>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419" name="Text Box 7"/>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420" name="Text Box 8"/>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421" name="Line 9"/>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22" name="Line 10"/>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12"/>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424" name="Text Box 13"/>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25" name="Text Box 14"/>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26" name="Line 15"/>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Text Box 16"/>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28" name="Text Box 17"/>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29" name="Line 18"/>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9"/>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971640" y="2660760"/>
            <a:ext cx="98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2"/>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3"/>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4"/>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35" name="Text Box 25"/>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36" name="Line 28"/>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9"/>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Text Box 30"/>
          <p:cNvSpPr/>
          <p:nvPr/>
        </p:nvSpPr>
        <p:spPr>
          <a:xfrm>
            <a:off x="7824960" y="15559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ottenhoofd</a:t>
            </a:r>
            <a:br>
              <a:rPr sz="1400"/>
            </a:br>
            <a:r>
              <a:rPr b="1" lang="en-US" sz="1400" spc="-1" strike="noStrike">
                <a:solidFill>
                  <a:srgbClr val="000000"/>
                </a:solidFill>
                <a:latin typeface="Arial"/>
                <a:ea typeface="ヒラギノ角ゴ Pro W3"/>
              </a:rPr>
              <a:t>klepje omhoog</a:t>
            </a:r>
            <a:endParaRPr b="0" lang="en-US" sz="1400" spc="-1" strike="noStrike">
              <a:solidFill>
                <a:srgbClr val="000000"/>
              </a:solidFill>
              <a:latin typeface="Arial"/>
            </a:endParaRPr>
          </a:p>
        </p:txBody>
      </p:sp>
      <p:sp>
        <p:nvSpPr>
          <p:cNvPr id="439" name="Text Box 31"/>
          <p:cNvSpPr/>
          <p:nvPr/>
        </p:nvSpPr>
        <p:spPr>
          <a:xfrm>
            <a:off x="7818480" y="2406600"/>
            <a:ext cx="100152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40" name="Text Box 32"/>
          <p:cNvSpPr/>
          <p:nvPr/>
        </p:nvSpPr>
        <p:spPr>
          <a:xfrm>
            <a:off x="7843680" y="417204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uitspier </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41" name="Text Box 33"/>
          <p:cNvSpPr/>
          <p:nvPr/>
        </p:nvSpPr>
        <p:spPr>
          <a:xfrm>
            <a:off x="6248520" y="32004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2" name="Text Box 34"/>
          <p:cNvSpPr/>
          <p:nvPr/>
        </p:nvSpPr>
        <p:spPr>
          <a:xfrm>
            <a:off x="7831080" y="35622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Ge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3" name="Text Box 35"/>
          <p:cNvSpPr/>
          <p:nvPr/>
        </p:nvSpPr>
        <p:spPr>
          <a:xfrm>
            <a:off x="6248520" y="39625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4" name="Text Box 36"/>
          <p:cNvSpPr/>
          <p:nvPr/>
        </p:nvSpPr>
        <p:spPr>
          <a:xfrm>
            <a:off x="7315200" y="5359320"/>
            <a:ext cx="730080" cy="127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45" name="Text Box 37"/>
          <p:cNvSpPr/>
          <p:nvPr/>
        </p:nvSpPr>
        <p:spPr>
          <a:xfrm>
            <a:off x="6248520" y="2362320"/>
            <a:ext cx="747720" cy="52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8"/>
          <p:cNvSpPr/>
          <p:nvPr/>
        </p:nvSpPr>
        <p:spPr>
          <a:xfrm>
            <a:off x="7308720" y="40194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39"/>
          <p:cNvSpPr/>
          <p:nvPr/>
        </p:nvSpPr>
        <p:spPr>
          <a:xfrm flipH="1">
            <a:off x="7689960" y="4286160"/>
            <a:ext cx="12672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0"/>
          <p:cNvSpPr/>
          <p:nvPr/>
        </p:nvSpPr>
        <p:spPr>
          <a:xfrm flipH="1">
            <a:off x="7645320" y="365760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41"/>
          <p:cNvSpPr/>
          <p:nvPr/>
        </p:nvSpPr>
        <p:spPr>
          <a:xfrm>
            <a:off x="7270920" y="32194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43"/>
          <p:cNvSpPr/>
          <p:nvPr/>
        </p:nvSpPr>
        <p:spPr>
          <a:xfrm flipV="1">
            <a:off x="7308720" y="1650600"/>
            <a:ext cx="48276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41_11MouthToStomach_3-U"/>
          <p:cNvPicPr/>
          <p:nvPr/>
        </p:nvPicPr>
        <p:blipFill>
          <a:blip r:embed="rId1"/>
          <a:stretch/>
        </p:blipFill>
        <p:spPr>
          <a:xfrm>
            <a:off x="0" y="380880"/>
            <a:ext cx="926316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Oesophagu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 slokdarm is een 25 cm lange, gespierde transportbuis tussen keelholte en maag</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e:  </a:t>
            </a:r>
            <a:r>
              <a:rPr b="0" lang="en-US" sz="2800" spc="-1" strike="noStrike">
                <a:solidFill>
                  <a:srgbClr val="000000"/>
                </a:solidFill>
                <a:latin typeface="Gill Sans MT"/>
              </a:rPr>
              <a:t>het voedsel uit de keelholte naar de maag transportere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edselpassage duurt </a:t>
            </a:r>
            <a:r>
              <a:rPr b="0" lang="en-US" sz="2800" spc="-1" strike="noStrike">
                <a:solidFill>
                  <a:srgbClr val="000000"/>
                </a:solidFill>
                <a:latin typeface="Gill Sans MT"/>
                <a:ea typeface="Arial"/>
              </a:rPr>
              <a:t>± </a:t>
            </a:r>
            <a:r>
              <a:rPr b="0" lang="en-US" sz="2800" spc="-1" strike="noStrike">
                <a:solidFill>
                  <a:srgbClr val="000000"/>
                </a:solidFill>
                <a:latin typeface="Gill Sans MT"/>
              </a:rPr>
              <a:t>10 sec.</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8:51Z</dcterms:created>
  <dc:creator>Ilse Theuws</dc:creator>
  <dc:description/>
  <dc:language>en-US</dc:language>
  <cp:lastModifiedBy>Ilse Theuws</cp:lastModifiedBy>
  <cp:lastPrinted>2013-01-09T09:57:27Z</cp:lastPrinted>
  <dcterms:modified xsi:type="dcterms:W3CDTF">2013-01-09T12:59:17Z</dcterms:modified>
  <cp:revision>12</cp:revision>
  <dc:subject/>
  <dc:title>Wat voedt jou, deel 2</dc:title>
</cp:coreProperties>
</file>