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98C7-5E34-4657-8047-023BFA1C188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root oppervlak door plooien in deze plooien liggen de darmsapkl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CAC0-A57C-4E70-9682-0F511B51C80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bsorbatie via epitheelcellen in het bl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darmvlo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3 epitheelcellen</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04DB-983B-4F52-AA2E-B117223D3A4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zetmeel in maltos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 zuur maken en zo bacteriën en ziekte kiemen dod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hoeft alleen actief te zijn als er ook daadwerkelijk voedsel in de maag z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bindweefsellaag, spierlaa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eiwitt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neden van voedsel, voedsel mengen met maagsapp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wit die om vitamine B12 gaat zitten zodat het niet kapot gaat door het zoutzuur en opgenomen kan worden in het bloe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scherming van de maagwan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esophagus</a:t>
            </a:r>
            <a:endParaRPr b="0" lang="en-US" sz="1200" spc="-1" strike="noStrike">
              <a:solidFill>
                <a:srgbClr val="000000"/>
              </a:solidFill>
              <a:latin typeface="Calibri"/>
            </a:endParaRPr>
          </a:p>
        </p:txBody>
      </p:sp>
      <p:sp>
        <p:nvSpPr>
          <p:cNvPr id="39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AF50-83CC-4C92-BA42-E06C09261CC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260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ontleding: in kleine hoeveelheden doorlaten van de zure maaginhou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voedsel de darmwand raakt, sluit het maagportier in een reflex</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gang buizen in de dunne darm is de Papil van Vater</a:t>
            </a:r>
            <a:endParaRPr b="0" lang="en-US" sz="1200" spc="-1" strike="noStrike">
              <a:solidFill>
                <a:srgbClr val="000000"/>
              </a:solidFill>
              <a:latin typeface="Calibri"/>
            </a:endParaRPr>
          </a:p>
        </p:txBody>
      </p:sp>
      <p:sp>
        <p:nvSpPr>
          <p:cNvPr id="39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DCFF-87A1-4253-B415-2EB3894496A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neutraliseren gebeurd door het alvleeskliersap, deze heeft een PH tussen de 10 en 12 (basisch). De chymus wordt geneutraliseerd zodat de enzymen kunnen werk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istaltische beweging zorgt ervoor dat sappen met de voedselbrij gemengd worden en deze brij wordt voortgestuwd. </a:t>
            </a:r>
            <a:endParaRPr b="0" lang="en-US" sz="1200" spc="-1" strike="noStrike">
              <a:solidFill>
                <a:srgbClr val="000000"/>
              </a:solidFill>
              <a:latin typeface="Calibri"/>
            </a:endParaRPr>
          </a:p>
        </p:txBody>
      </p:sp>
      <p:sp>
        <p:nvSpPr>
          <p:cNvPr id="40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797C-F2EF-4CB8-9CF3-68FA87C6829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rmonen die worden afgegeven aan het bloed zijn: insuline en glucagon. Dit noemen we endocriene klier, vanwege de hormonen die rechtstreeks naar de bloedbaan g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vleesklier produceert ongeveer 1,2 liter spijsverteringssapp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is een exogene klier omdat wat de alvleesklier produceert niet direct in de bloedbaan komt</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BC85-6E08-4023-82A0-97EE141AAD04}"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Natriumbicarbonaat: NaHCO3 </a:t>
            </a:r>
            <a:r>
              <a:rPr b="0" lang="nl-NL" sz="1200" spc="-1" strike="noStrike">
                <a:solidFill>
                  <a:srgbClr val="000000"/>
                </a:solidFill>
                <a:latin typeface="Wingdings"/>
                <a:ea typeface="Wingdings"/>
              </a:rPr>
              <a:t></a:t>
            </a:r>
            <a:r>
              <a:rPr b="0" lang="nl-NL" sz="1200" spc="-1" strike="noStrike">
                <a:solidFill>
                  <a:srgbClr val="000000"/>
                </a:solidFill>
                <a:latin typeface="Calibri"/>
              </a:rPr>
              <a:t> stof met een zuurbindend verm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amylase: Amylase uit de pancreas. Deze zorgt voor de laatste afbraak van het zetmeel in malt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roteïnase: Afbreken van eiwitten in kortere en losse aminozuur(ket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lipase: Afbreken van vetten </a:t>
            </a:r>
            <a:r>
              <a:rPr b="0" lang="nl-NL" sz="1200" spc="-1" strike="noStrike">
                <a:solidFill>
                  <a:srgbClr val="000000"/>
                </a:solidFill>
                <a:latin typeface="Wingdings"/>
                <a:ea typeface="Wingdings"/>
              </a:rPr>
              <a:t></a:t>
            </a:r>
            <a:r>
              <a:rPr b="0" lang="nl-NL" sz="1200" spc="-1" strike="noStrike">
                <a:solidFill>
                  <a:srgbClr val="000000"/>
                </a:solidFill>
                <a:latin typeface="Calibri"/>
              </a:rPr>
              <a:t> splitst vetten in vetzuren en glycerol</a:t>
            </a:r>
            <a:endParaRPr b="0" lang="en-US" sz="1200" spc="-1" strike="noStrike">
              <a:solidFill>
                <a:srgbClr val="000000"/>
              </a:solidFill>
              <a:latin typeface="Calibri"/>
            </a:endParaRPr>
          </a:p>
        </p:txBody>
      </p:sp>
      <p:sp>
        <p:nvSpPr>
          <p:cNvPr id="40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885B-CF04-4576-A29B-4BC419711D8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blaas kan 30 ml opsl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n maakt 15ml/kg/per dag 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men vette maaltijden eet wordt cholecystokine afgegeven, dit zorgt ervoor dat de galblaas samentrekt en de inhoud het darmkanaal in gaat. </a:t>
            </a: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F9F2-5582-4804-8DA5-64B058F20B3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ter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slijm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natriumbicarbonaat </a:t>
            </a:r>
            <a:r>
              <a:rPr b="0" lang="nl-NL" sz="1200" spc="-1" strike="noStrike">
                <a:solidFill>
                  <a:srgbClr val="000000"/>
                </a:solidFill>
                <a:latin typeface="Wingdings"/>
                <a:ea typeface="Wingdings"/>
              </a:rPr>
              <a:t></a:t>
            </a:r>
            <a:r>
              <a:rPr b="0" lang="nl-NL" sz="1200" spc="-1" strike="noStrike">
                <a:solidFill>
                  <a:srgbClr val="000000"/>
                </a:solidFill>
                <a:latin typeface="Calibri"/>
              </a:rPr>
              <a:t> NaHCO3, neutraliseert de zuurgraad</a:t>
            </a:r>
            <a:r>
              <a:rPr b="0" lang="nl-NL" sz="1200" spc="-1" strike="noStrike">
                <a:solidFill>
                  <a:srgbClr val="000000"/>
                </a:solidFill>
                <a:latin typeface="Calibri"/>
              </a:rPr>
              <a:t>	</a:t>
            </a:r>
            <a:br>
              <a:rPr sz="1200"/>
            </a:br>
            <a:r>
              <a:rPr b="0" lang="nl-NL" sz="1200" spc="-1" strike="noStrike">
                <a:solidFill>
                  <a:srgbClr val="000000"/>
                </a:solidFill>
                <a:latin typeface="Calibri"/>
              </a:rPr>
              <a:t>galzure zouten </a:t>
            </a:r>
            <a:r>
              <a:rPr b="0" lang="nl-NL" sz="1200" spc="-1" strike="noStrike">
                <a:solidFill>
                  <a:srgbClr val="000000"/>
                </a:solidFill>
                <a:latin typeface="Wingdings"/>
                <a:ea typeface="Wingdings"/>
              </a:rPr>
              <a:t></a:t>
            </a:r>
            <a:r>
              <a:rPr b="0" lang="nl-NL" sz="1200" spc="-1" strike="noStrike">
                <a:solidFill>
                  <a:srgbClr val="000000"/>
                </a:solidFill>
                <a:latin typeface="Calibri"/>
              </a:rPr>
              <a:t> emulgeren vetten (zorgen dat dit kleinere bolletjes worden) zodat vetsplitsende enzymen hier beter op in kunnen werken</a:t>
            </a:r>
            <a:br>
              <a:rPr sz="1200"/>
            </a:br>
            <a:r>
              <a:rPr b="0" lang="nl-NL" sz="1200" spc="-1" strike="noStrike">
                <a:solidFill>
                  <a:srgbClr val="000000"/>
                </a:solidFill>
                <a:latin typeface="Calibri"/>
              </a:rPr>
              <a:t>cholesterol </a:t>
            </a:r>
            <a:br>
              <a:rPr sz="1200"/>
            </a:br>
            <a:r>
              <a:rPr b="0" lang="nl-NL" sz="1200" spc="-1" strike="noStrike">
                <a:solidFill>
                  <a:srgbClr val="000000"/>
                </a:solidFill>
                <a:latin typeface="Calibri"/>
              </a:rPr>
              <a:t>fosfolipiden </a:t>
            </a:r>
            <a:r>
              <a:rPr b="0" lang="nl-NL" sz="1200" spc="-1" strike="noStrike">
                <a:solidFill>
                  <a:srgbClr val="000000"/>
                </a:solidFill>
                <a:latin typeface="Wingdings"/>
                <a:ea typeface="Wingdings"/>
              </a:rPr>
              <a:t></a:t>
            </a:r>
            <a:r>
              <a:rPr b="0" lang="nl-NL" sz="1200" spc="-1" strike="noStrike">
                <a:solidFill>
                  <a:srgbClr val="000000"/>
                </a:solidFill>
                <a:latin typeface="Calibri"/>
              </a:rPr>
              <a:t> vetten waarbij 1 vetzuur is vervangen door een fosfor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kleurstoffen (Bilirubine) </a:t>
            </a:r>
            <a:r>
              <a:rPr b="0" lang="nl-NL" sz="1200" spc="-1" strike="noStrike">
                <a:solidFill>
                  <a:srgbClr val="000000"/>
                </a:solidFill>
                <a:latin typeface="Wingdings"/>
                <a:ea typeface="Wingdings"/>
              </a:rPr>
              <a:t></a:t>
            </a:r>
            <a:r>
              <a:rPr b="0" lang="nl-NL" sz="1200" spc="-1" strike="noStrike">
                <a:solidFill>
                  <a:srgbClr val="000000"/>
                </a:solidFill>
                <a:latin typeface="Calibri"/>
              </a:rPr>
              <a:t> afvalstof dat vrij komt bij de afbraak van rode bloedcellen. Deze stof is giftig voor het lichaam en wordt via het gal uit het lichaam verwijd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uten worden aan het einde van de dunne darm/begin dikke darm in de bloedbaan opgenomen en naar de lever getransporteerd (kringloop)</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4F90-43CA-460C-9B39-67C0E31FA3D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ypsinogeen wordt door de alvleesklier afgegeven, dit is op het moment inactief. Door het enzym enterokinase wordt het actief en is het trypsine. Trypsine breekt eiwitten af in peptiden (kortere aminozuurketens) e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tidasen breekt peptiden af i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isacharidasen breken lange ketens van glucosemoleculen af tot monosachariden</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lactase </a:t>
            </a:r>
            <a:r>
              <a:rPr b="0" lang="nl-NL" sz="1200" spc="-1" strike="noStrike">
                <a:solidFill>
                  <a:srgbClr val="000000"/>
                </a:solidFill>
                <a:latin typeface="Wingdings"/>
                <a:ea typeface="Wingdings"/>
              </a:rPr>
              <a:t></a:t>
            </a:r>
            <a:r>
              <a:rPr b="0" lang="nl-NL" sz="1200" spc="-1" strike="noStrike">
                <a:solidFill>
                  <a:srgbClr val="000000"/>
                </a:solidFill>
                <a:latin typeface="Calibri"/>
              </a:rPr>
              <a:t> lac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gala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maltase </a:t>
            </a:r>
            <a:r>
              <a:rPr b="0" lang="nl-NL" sz="1200" spc="-1" strike="noStrike">
                <a:solidFill>
                  <a:srgbClr val="000000"/>
                </a:solidFill>
                <a:latin typeface="Wingdings"/>
                <a:ea typeface="Wingdings"/>
              </a:rPr>
              <a:t></a:t>
            </a:r>
            <a:r>
              <a:rPr b="0" lang="nl-NL" sz="1200" spc="-1" strike="noStrike">
                <a:solidFill>
                  <a:srgbClr val="000000"/>
                </a:solidFill>
                <a:latin typeface="Calibri"/>
              </a:rPr>
              <a:t>  mala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gluc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sacharase </a:t>
            </a:r>
            <a:r>
              <a:rPr b="0" lang="nl-NL" sz="1200" spc="-1" strike="noStrike">
                <a:solidFill>
                  <a:srgbClr val="000000"/>
                </a:solidFill>
                <a:latin typeface="Wingdings"/>
                <a:ea typeface="Wingdings"/>
              </a:rPr>
              <a:t></a:t>
            </a:r>
            <a:r>
              <a:rPr b="0" lang="nl-NL" sz="1200" spc="-1" strike="noStrike">
                <a:solidFill>
                  <a:srgbClr val="000000"/>
                </a:solidFill>
                <a:latin typeface="Calibri"/>
              </a:rPr>
              <a:t> sachar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fru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D340-26F9-49DA-88F8-EE2285689872}"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61B65-8325-49EF-8E82-F1E63B2BC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275BA-1E65-46B5-BF85-BE609DF64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93F40-7595-48A4-8FCF-A727A436C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99EA4-AE3A-4303-AA5F-45C3B6BD5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ABC8D-4D2D-4BF6-8372-CAAF11AA0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107C0-C10D-47E8-BC5E-08CED8F12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692EF-2D30-4149-87A7-0F33F8DAA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22FBF-03E7-4E4B-AD29-4B28B5E39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AB2E6-41A9-413B-B6D0-BE163CBF8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0333F-1F54-4F16-95E7-724752A34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B8DB6-878E-40A1-A667-8157BEA3B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AA901-B92D-4488-8265-1F17EE49E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94641-F57B-4907-BBBD-1BBEC8D3D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94109-8B92-4F68-8B42-FFF278738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3C414-4B9B-4590-B519-EDE4AF411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D6833-2B80-4F36-94F3-E7B8BF25E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02C2C5-F5D1-4292-AC2A-4BA5D068D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E26C80-08D9-4765-8B9F-8BF488318B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58BC4-2B39-45A4-AA4B-D69AD9BA8E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4B666-955B-4938-A752-B25EE71B5B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CC12EB-8CA3-4E6C-A55C-273B42277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A678B-3262-4EDD-8AB3-81BF48349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96801-77F7-4490-A046-3E2686D8E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9FDA40-A3DA-439B-B3A5-187B50F5D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BF3EB9-B982-4538-B452-A93D3E4C4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4426E-4D26-4337-90A2-522845062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50D95-E957-4ADB-A5B6-7AD4CCF40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8C6DA-FF3A-478F-9CAF-2AF20B82E4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808323-CA99-48F9-9FD1-2990D15251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1BF1C3-29D7-4F37-8D28-FFBE41B7DF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DAA2BA-B35D-4268-9C97-332053F415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4FDA72-EFA7-490D-83BD-3D8864C84E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4FC44E-7C42-4F83-8A70-806CA5DDF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BB2D1-D53B-460C-BEEE-348A0B3BD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AA5CB9-AF33-41E7-9C32-AE7AEB03AF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607646-89CC-42CA-9E59-F374E5CBAC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41120-4558-44FC-B455-93D65192CF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A89D7-458B-4269-84B0-E67748369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2CA6F-D1B2-474D-B334-F6633456E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22C6E-1E4F-4A22-83FF-332AAAB98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A62625-902B-4A61-AA07-EAA4FF258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3C6E21-57EB-40E0-A2A7-D52AC0D17C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22D542-9443-4611-B855-840840D9F3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3D7686-4774-4BBC-BC4E-526126F228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69775-8663-42BC-963C-C0467A111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8E441-20F7-48A7-B1CA-AE9D0C1EF3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74DB42-1D77-4F0A-B3D2-F8A7AF0ED3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64B89A-48F5-442B-A5DC-1E1304CA55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65736F-E783-4F5B-B6EF-E16698834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F44986-C83E-4E06-8660-346EB9BDEE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A07762-69D0-4E5B-9823-3F98F72FB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6AEFB-8B48-4530-A669-08433539C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C8B06-719F-400E-BCEB-ED4C40DC9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E3B850-2389-4252-A113-9FE8260244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2A137D-0F61-43A3-B3D8-1662B2CE39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24D07-6B39-4D73-9D4A-3619286AA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A1EAF8-AF7C-4331-93DF-5F8EE97103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60473E-7F4F-41C9-8BC4-8F1BA2DB3F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E22068-C5C7-4678-9B0D-FFB45C818A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EA3AB-D367-4846-A24E-91B890B98B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2FB414-CB4D-4B1E-8740-A5D6D871CE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170404-A5BE-4827-9E9D-1598091426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709C5A-1CA9-4460-8C7C-D7B67BCBFB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463B3-A3B8-42FA-BB36-517D1B2517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2807A1-B3BE-4139-9064-2B0FA366C8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3F9ED-F4DE-44A5-9652-90FC28E06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0C76-D251-49A6-BB2E-0CD6AA455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DABF62-B09F-46DB-8C2F-C3EB7D94B2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FE9369-E3F1-4B7E-8C21-E8A28F7915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0B4F27-7BB8-4688-BD0B-10565CB783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3274FB-6F63-4A35-B026-ECCCBDF292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56CF48-9009-424B-9798-95ED3E41B4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A5EF46-AEB0-4F6A-8142-8F0D3E7462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3CF7C4-A006-42F1-A662-61C504BD58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EE128C-2B23-4847-91EF-72900EB84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D733D5-6908-4C4A-A19C-E0136C226F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D53F31-22D8-4309-BAE6-81630E3F1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5C3CC-316B-4F48-85FB-1011FDE1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7690A-0928-450B-A481-41DFA9B405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539EA6-F71C-4CBE-9A4A-B1ACC4216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9CC6E7-C766-4B3D-BB73-E2EDC840ED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5D431C-3CF5-488F-9646-5A5409B843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CB2FE1-08E9-49DE-BE48-84FC5E549C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CA8287-1F33-4EF9-A6C3-7585D26030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4D8E80-3C11-4FDF-AC6A-A62AFF1230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F3C276-0F1F-4C92-B375-1BB580A64C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1C1AE3-749E-4614-ADFC-8DF4548F03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257F0D-270F-4857-9838-22B010550B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C8E0A-D01A-45DD-A494-9530BEBF1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33A938-9E2F-4B22-8528-28586AC806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5DB11-B186-4F57-A2EA-DB6880FA02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5516C2-C19D-4DFE-8259-8896041865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79A451-11E8-479D-9BC8-DADB53198F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90D992-EF2F-43E2-9CC8-D4C2548E22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01CFB8-EDE6-47BC-8947-D73FB239DF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497401-4806-490E-B490-BB3ABD29B05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5E27-27B7-414F-AC49-90271983B202}"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1E2C-484D-40C6-8313-2C4A32B97A2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A2C5-D070-4692-82FD-9E40BC6E2BFA}"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FDDB-C545-4B49-A8F0-57B457CE079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1B57-CB25-4214-B4F6-E5898CB5EC53}"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9692-0BED-417A-BC6D-5FE56131FAE8}"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1BC5-B330-4F64-AC58-04B2BCDD18A3}"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ED3B-5883-4BA2-8CA3-EE773237B6E4}"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Bookman Old Style"/>
              </a:rPr>
              <a:t>Alvleesklier, galblaas, twaalfvingerige darm</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pic>
        <p:nvPicPr>
          <p:cNvPr id="361" name="Picture 2" descr="http://www.biologiesite.nl/lev_bestanden/levgalduo.jpg"/>
          <p:cNvPicPr/>
          <p:nvPr/>
        </p:nvPicPr>
        <p:blipFill>
          <a:blip r:embed="rId1">
            <a:grayscl/>
          </a:blip>
          <a:stretch/>
        </p:blipFill>
        <p:spPr>
          <a:xfrm>
            <a:off x="395280" y="189000"/>
            <a:ext cx="5165640" cy="3456000"/>
          </a:xfrm>
          <a:prstGeom prst="rect">
            <a:avLst/>
          </a:prstGeom>
          <a:ln w="0">
            <a:noFill/>
          </a:ln>
        </p:spPr>
      </p:pic>
      <p:sp>
        <p:nvSpPr>
          <p:cNvPr id="362" name="Rechthoek 4"/>
          <p:cNvSpPr/>
          <p:nvPr/>
        </p:nvSpPr>
        <p:spPr>
          <a:xfrm>
            <a:off x="826920" y="0"/>
            <a:ext cx="3240360" cy="1413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6" name="Picture 36" descr="41_15aSmallIntestine-U"/>
          <p:cNvPicPr/>
          <p:nvPr/>
        </p:nvPicPr>
        <p:blipFill>
          <a:blip r:embed="rId1"/>
          <a:stretch/>
        </p:blipFill>
        <p:spPr>
          <a:xfrm>
            <a:off x="2340000" y="1123920"/>
            <a:ext cx="6553080" cy="559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9" name="Picture 5" descr="41_15-SmallIntestine-U"/>
          <p:cNvPicPr/>
          <p:nvPr/>
        </p:nvPicPr>
        <p:blipFill>
          <a:blip r:embed="rId1"/>
          <a:stretch/>
        </p:blipFill>
        <p:spPr>
          <a:xfrm>
            <a:off x="0" y="1628640"/>
            <a:ext cx="9129600" cy="446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ttps://www.youtube.com/watch?v=JTphyweJcu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efenvrage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amyla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is de functie van zoutzuu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wordt er in de maag pepsinogeen geproduceerd en niet gelijk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3 lagen rondom de maa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heeft een maag een laag met spier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doet de intrinsiek facto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produceert de maag slij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slokdarm in het latij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biologiesite.nl/lev_bestanden/levgalduo.jpg"/>
          <p:cNvPicPr/>
          <p:nvPr/>
        </p:nvPicPr>
        <p:blipFill>
          <a:blip r:embed="rId1"/>
          <a:stretch/>
        </p:blipFill>
        <p:spPr>
          <a:xfrm>
            <a:off x="-612720" y="0"/>
            <a:ext cx="9860040" cy="6597720"/>
          </a:xfrm>
          <a:prstGeom prst="rect">
            <a:avLst/>
          </a:prstGeom>
          <a:ln w="0">
            <a:noFill/>
          </a:ln>
        </p:spPr>
      </p:pic>
      <p:sp>
        <p:nvSpPr>
          <p:cNvPr id="368" name="Rechthoek 4"/>
          <p:cNvSpPr/>
          <p:nvPr/>
        </p:nvSpPr>
        <p:spPr>
          <a:xfrm>
            <a:off x="468360" y="189000"/>
            <a:ext cx="6048360" cy="2232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hthoek 5"/>
          <p:cNvSpPr/>
          <p:nvPr/>
        </p:nvSpPr>
        <p:spPr>
          <a:xfrm rot="20084400">
            <a:off x="927000" y="1825200"/>
            <a:ext cx="1441440" cy="7923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Twaalfvingerigedarm (duodenu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 twaalfvingerig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zameling sappen van de galblaas en alvleeskli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eutraliseren zure chym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portier (pylor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25 cm lang (12 inches/12 duimbreedte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fvoerbuizen galblaas en alvleesklie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 (pancrea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rmonen afgeven aan het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alvleeskliersap (pancreassa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exogene klier</a:t>
            </a:r>
            <a:endParaRPr b="0" lang="en-US" sz="2600" spc="-1" strike="noStrike">
              <a:solidFill>
                <a:srgbClr val="000000"/>
              </a:solidFill>
              <a:latin typeface="Gill Sans MT"/>
            </a:endParaRPr>
          </a:p>
        </p:txBody>
      </p:sp>
      <p:pic>
        <p:nvPicPr>
          <p:cNvPr id="374" name="Picture 2" descr=""/>
          <p:cNvPicPr/>
          <p:nvPr/>
        </p:nvPicPr>
        <p:blipFill>
          <a:blip r:embed="rId1"/>
          <a:stretch/>
        </p:blipFill>
        <p:spPr>
          <a:xfrm>
            <a:off x="611280" y="3068640"/>
            <a:ext cx="8273880" cy="282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sap</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Alvleeskliersap bevat:</a:t>
            </a:r>
            <a:br>
              <a:rPr sz="2600"/>
            </a:br>
            <a:r>
              <a:rPr b="0" lang="nl-NL" sz="2600" spc="-1" strike="noStrike" u="sng">
                <a:solidFill>
                  <a:srgbClr val="000000"/>
                </a:solidFill>
                <a:uFillTx/>
                <a:latin typeface="Gill Sans MT"/>
              </a:rPr>
              <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Natriumbicarbona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amyl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roteïn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lipas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3132000" y="2133720"/>
            <a:ext cx="5543640" cy="4108320"/>
          </a:xfrm>
          <a:prstGeom prst="rect">
            <a:avLst/>
          </a:prstGeom>
          <a:ln w="0">
            <a:noFill/>
          </a:ln>
        </p:spPr>
      </p:pic>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blaas (vesica fellia)</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gal o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wordt ingedik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afgeven aan de twaalfvingerige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Gal is een uitscheidingsproduct van de lever.</a:t>
            </a:r>
            <a:br>
              <a:rPr sz="3200"/>
            </a:br>
            <a:br>
              <a:rPr sz="3200"/>
            </a:br>
            <a:r>
              <a:rPr b="0" lang="nl-NL" sz="3200" spc="-1" strike="noStrike" u="sng">
                <a:solidFill>
                  <a:srgbClr val="000000"/>
                </a:solidFill>
                <a:uFillTx/>
                <a:latin typeface="Gill Sans MT"/>
              </a:rPr>
              <a:t>Gal bevat:</a:t>
            </a:r>
            <a:br>
              <a:rPr sz="3200"/>
            </a:br>
            <a:r>
              <a:rPr b="0" lang="nl-NL" sz="3200" spc="-1" strike="noStrike">
                <a:solidFill>
                  <a:srgbClr val="000000"/>
                </a:solidFill>
                <a:latin typeface="Gill Sans MT"/>
              </a:rPr>
              <a:t>water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slijm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natriumbicarbona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galzure zouten</a:t>
            </a:r>
            <a:br>
              <a:rPr sz="3200"/>
            </a:br>
            <a:r>
              <a:rPr b="0" lang="nl-NL" sz="3200" spc="-1" strike="noStrike">
                <a:solidFill>
                  <a:srgbClr val="000000"/>
                </a:solidFill>
                <a:latin typeface="Gill Sans MT"/>
              </a:rPr>
              <a:t>cholesterol </a:t>
            </a:r>
            <a:br>
              <a:rPr sz="3200"/>
            </a:br>
            <a:r>
              <a:rPr b="0" lang="nl-NL" sz="3200" spc="-1" strike="noStrike">
                <a:solidFill>
                  <a:srgbClr val="000000"/>
                </a:solidFill>
                <a:latin typeface="Gill Sans MT"/>
              </a:rPr>
              <a:t>fosfolipiden</a:t>
            </a:r>
            <a:endParaRPr b="0" lang="en-US" sz="32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  </a:t>
            </a:r>
            <a:r>
              <a:rPr b="0" lang="nl-NL" sz="3200" spc="-1" strike="noStrike">
                <a:solidFill>
                  <a:srgbClr val="000000"/>
                </a:solidFill>
                <a:latin typeface="Gill Sans MT"/>
              </a:rPr>
              <a:t>galkleurstoffen (bilirubine) </a:t>
            </a:r>
            <a:r>
              <a:rPr b="0" lang="nl-NL" sz="32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darmsapklieren produceren 2-3 l./etmaal met daari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nterokinase: trypsinogeen </a:t>
            </a:r>
            <a:r>
              <a:rPr b="0" lang="nl-NL" sz="2300" spc="-1" strike="noStrike">
                <a:solidFill>
                  <a:srgbClr val="464653"/>
                </a:solidFill>
                <a:latin typeface="Wingdings"/>
                <a:ea typeface="Wingdings"/>
              </a:rPr>
              <a:t></a:t>
            </a:r>
            <a:r>
              <a:rPr b="0" lang="nl-NL" sz="2300" spc="-1" strike="noStrike">
                <a:solidFill>
                  <a:srgbClr val="464653"/>
                </a:solidFill>
                <a:latin typeface="Gill Sans MT"/>
              </a:rPr>
              <a:t> trypsin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Pept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isachar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4 - 6 meter lang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90 % opname voedingsstoffen (10 % dikke dar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5 uur in de dunne darm voordat het de dikke darm in gaa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4:45:36Z</dcterms:created>
  <dc:creator>Ilse Theuws</dc:creator>
  <dc:description/>
  <dc:language>en-US</dc:language>
  <cp:lastModifiedBy>Merel Verhofstadt</cp:lastModifiedBy>
  <cp:lastPrinted>2014-02-10T07:04:02Z</cp:lastPrinted>
  <dcterms:modified xsi:type="dcterms:W3CDTF">2016-03-31T13:26:44Z</dcterms:modified>
  <cp:revision>48</cp:revision>
  <dc:subject/>
  <dc:title>Alvleesklier, galblaas, twaalfvingerige darm</dc:title>
</cp:coreProperties>
</file>