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BA5-3CA2-4FA2-A1C3-BB9B7F14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F4D-13EF-47D3-BF4C-6DFEBC0D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595-F8D8-4F41-AE51-5352EB7E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35D-7A94-45A7-AE9A-35F3ECCC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46F8-5B52-440A-B092-2B947C2A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2500-A5D9-4302-9104-53F4D8A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E51C-9847-44CD-BF08-A898B73D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5CF2-958B-40C9-8059-5000CD93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E10C-5A96-474A-AF76-763C4EC1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925F-3AF8-4790-A667-A2658078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DBC7-E664-4E76-A612-ECA29DD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19D-2620-4B43-9A9D-3046CCCF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23C5-C08C-434C-8542-E8DC4A5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B705-78E2-4CA6-BB53-63A47BAD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BE4B-5B29-4E50-8637-64859B5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0410-8C9B-48F1-8D46-96009EF5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2546-9C38-4E95-87BC-A5B2EE12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8BD26-F656-41CD-9926-72766C2F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D56D-BBA9-4A88-B3E7-672E6407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A41A-56A4-4147-9D8D-1E8A65FF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F389-82FB-468A-968B-A7ED8F3D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D6F0-F706-4BFC-B743-04F3CF27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678-DB5C-4653-9AAA-E509CFCA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2E42-D48C-49D0-89D1-7C1CE8BB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12DC-5EF4-4859-9DF2-FF040068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34C0-F9D9-47F6-87EF-AAA9A989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A47B-87AE-46FB-9DA6-ED9FD1A2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117B-73A4-47CB-8B5C-1FECC80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5740-9AE9-46A0-96EB-1F783C50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C495-02F2-4F93-A121-9E39A8B6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C57F-E496-4968-9DDB-B159C21D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B17A6-C9E6-47F1-B7AA-DF613C18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493E-6397-490D-9746-0285B0F4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E0A-A1AB-4974-A805-466AFEF9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D4B2-4324-49CB-AE7F-145D0EE1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C068-C0C1-40CE-990C-9AE13FAA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C7225-02D2-489F-A793-134356A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413E-A38E-4E48-9531-795EF3A6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09E7-5D3D-459B-BB19-37C31DF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3BAE-12AF-4184-B3D1-84B1156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2B17-6336-40B1-8F9E-6D6D8CE2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8FEB4-50E5-43AF-9F52-F0FF7B4B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AAAB-4FCB-4FC5-9E20-C03FAD88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BE07D-5A49-4CDB-87CF-D1ED98A9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BF3-317D-4DE3-82A1-C7739EA8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FA27-46E6-4C53-80CC-B8942DDB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C218-696C-4819-8B82-D59E59FB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2AF4B-7A68-486C-B5C5-4668BB71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BD59-3288-47C3-93A5-4C30B914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2667-2900-4058-A0B6-E5BB1523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68E49-48DA-439E-B6B8-B86243CF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94304-5C6B-4AB6-9F25-381B3B1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B3EC5-1B89-487B-B613-F7F3B28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86403-9AB0-4D88-90CA-83DA1277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5321-D91B-4FF7-83AD-44D751E1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4A8-E17B-4DC8-96FF-6FD81C68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753D-9305-4F7A-994F-E7474FF0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26520-0802-481F-A15F-099689DE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276A-B67C-419E-BC19-8FB1E5FF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1B07F-CA95-4978-9F53-BD38747A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C73BE-0418-41E5-B1DC-706EDFC5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5311-5DC8-4FA0-84BA-27144C8F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DD6DA-0279-4B9A-B3FF-74763FC1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60D5D-5300-4B57-9184-D7B239E2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0A51-0AC3-4973-B2EE-61BD9BF4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AFEC8-0C78-4DD7-A150-D086148A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C2F-66C7-49B5-9E71-E6748721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F73BE-A141-4491-9547-F08F8ACB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E2598-A905-40AC-864B-79C37F05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9540-1780-4538-A7B1-7524CA5D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9853-8992-4AF8-8E67-BF975FF1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DDCE9-7A9E-440B-A542-5C2934EF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F2E9E-469F-46F3-9EFB-8991B749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1053C-3C58-4C18-A1D8-0BDCCEBD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6175D-6A4A-43BB-AD2E-9BA0BBF1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EF98-ED68-4949-8794-52A2BFFD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D1D90-88AF-436D-ABE4-8AAF5DA7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24C-8C1E-482C-82C4-38452BF4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5CD61-2592-4B12-B835-AEDFE4E8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5FDC9-EA10-44F2-BB07-FFFE903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55FA0-BD5E-4DDC-91AA-8858DDA6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C8D2F-F59D-4D1E-B11B-9BEFE861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84D2E-9C33-4EE9-9D14-243463B6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2F878-FBA5-4BB5-8B0C-E4121351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D054-CE31-4BF1-A55C-1FE1C214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790DE-FA33-441C-9617-D0439F07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76319-F620-41BD-9158-49EA4B5E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DC7DE-38D8-4924-96F9-94EAFA16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6A5-86E3-4984-AA0C-5002B741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CFE53-5AE3-4509-A2D7-9F1F8E4F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37658-A7A2-44BA-B947-8CF8643E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5407-A3B7-43B7-97B6-6085456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FCDBA-B1C2-48FD-9CC6-16CC7557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70A67-8492-468E-A119-D311A209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13106-056B-483B-9CF2-65303AF6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406E2-7445-442E-B557-2CC38E01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3CB-18C3-4FCF-9AA3-49251D18E827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C99A-69FE-4D6B-94F8-A6E4F2F4AC5B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A9DA-1416-472F-B436-575DF64196CB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5186-CCF3-4664-AE12-D706231AB903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BDC-732E-4D92-8078-2C9FB0BAFB46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3D0C-C1C8-4749-9017-85A704DAB29D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0F70-58D7-4BD6-83D1-A89BE27A0F30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 verbindingslijn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9C3F-8D71-4BE6-9C26-AA108A02587E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odesk.nl/vertering/puzzel-mond-_en_keelholte.php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at voedt jou, deel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Les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1" descr="C:\Users\Ilse Theuws\Documents\SCHOOL\LEERJAAR 3\Stage\wat voedt jou, deel 2\imagesCAHW7COU.jpg"/>
          <p:cNvPicPr/>
          <p:nvPr/>
        </p:nvPicPr>
        <p:blipFill>
          <a:blip r:embed="rId1"/>
          <a:stretch/>
        </p:blipFill>
        <p:spPr>
          <a:xfrm>
            <a:off x="539640" y="189000"/>
            <a:ext cx="4032360" cy="325764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 rot="20600400">
            <a:off x="4830480" y="1038240"/>
            <a:ext cx="3916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Spijsvertering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De mond en keelholte</a:t>
            </a:r>
            <a:r>
              <a:rPr b="0" lang="nl-NL" sz="1800" spc="-1" strike="noStrike">
                <a:solidFill>
                  <a:srgbClr val="0070c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Primaire smak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7" name="Picture 2" descr="C:\Users\Ilse Theuws\Documents\SCHOOL\LEERJAAR 3\Stage\wat voedt jou, deel 2\175559_962_1185287375821-afbeelding_1.jpg"/>
          <p:cNvPicPr/>
          <p:nvPr/>
        </p:nvPicPr>
        <p:blipFill>
          <a:blip r:embed="rId1"/>
          <a:stretch/>
        </p:blipFill>
        <p:spPr>
          <a:xfrm>
            <a:off x="826920" y="1125360"/>
            <a:ext cx="68518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biodesk.nl/vertering/puzzel-mond-_en_keelholte.ph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1" name="Picture 2" descr="C:\Users\Ilse Theuws\Documents\SCHOOL\LEERJAAR 3\Stage\wat voedt jou, deel 2\456klachten10slikken.jpg"/>
          <p:cNvPicPr/>
          <p:nvPr/>
        </p:nvPicPr>
        <p:blipFill>
          <a:blip r:embed="rId1"/>
          <a:stretch/>
        </p:blipFill>
        <p:spPr>
          <a:xfrm>
            <a:off x="1042920" y="379440"/>
            <a:ext cx="65534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ijsverter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t betekent: spijsvertering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e mondholte, la 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nemen van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lpen bij het fijnmaken van het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engen met speek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oevoegen van het spijsverteringsenzym: amyl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nemen van smaak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ndere belangrijke functies van de mond: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om kauwen we eigenlijk ?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C:\Users\Ilse Theuws\Documents\SCHOOL\LEERJAAR 3\Stage\wat voedt jou, deel 2\untitled.bmp"/>
          <p:cNvPicPr/>
          <p:nvPr/>
        </p:nvPicPr>
        <p:blipFill>
          <a:blip r:embed="rId1"/>
          <a:stretch/>
        </p:blipFill>
        <p:spPr>
          <a:xfrm>
            <a:off x="539640" y="2060640"/>
            <a:ext cx="3672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staat uit water, slijm en een enzy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ucinen: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maken het speeksel viskeus (dikker) en behoeden de mond voor uitdrog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Groeifactoren stimuleren wondgenez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Antistoffen (eiwitten tegen lichaamsvreemde stoff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onder andere het enzym amyl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Amylase breekt zetmeel a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unctie speekse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Vergemakkelijken van het slikken en het naar beneden glijden van voedsel door de slokda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klier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.5 L per dag produceren deze klieren speeksel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3 grote speekselklieren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or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5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kaak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70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toon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5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8" name="Picture 2" descr="C:\Users\Ilse Theuws\Documents\SCHOOL\LEERJAAR 3\Stage\wat voedt jou, deel 2\7c8bc673333ca3fbe1914ca1b33ab8d0dr.jpg"/>
          <p:cNvPicPr/>
          <p:nvPr/>
        </p:nvPicPr>
        <p:blipFill>
          <a:blip r:embed="rId1"/>
          <a:stretch/>
        </p:blipFill>
        <p:spPr>
          <a:xfrm>
            <a:off x="1547640" y="703440"/>
            <a:ext cx="554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0" name="Picture 2" descr="C:\Users\Ilse Theuws\Documents\SCHOOL\LEERJAAR 3\Stage\wat voedt jou, deel 2\mondholtekst.jpg"/>
          <p:cNvPicPr/>
          <p:nvPr/>
        </p:nvPicPr>
        <p:blipFill>
          <a:blip r:embed="rId1"/>
          <a:stretch/>
        </p:blipFill>
        <p:spPr>
          <a:xfrm>
            <a:off x="0" y="0"/>
            <a:ext cx="6804000" cy="5059440"/>
          </a:xfrm>
          <a:prstGeom prst="rect">
            <a:avLst/>
          </a:prstGeom>
          <a:ln w="0">
            <a:noFill/>
          </a:ln>
        </p:spPr>
      </p:pic>
      <p:sp>
        <p:nvSpPr>
          <p:cNvPr id="371" name="Plus 4"/>
          <p:cNvSpPr/>
          <p:nvPr/>
        </p:nvSpPr>
        <p:spPr>
          <a:xfrm>
            <a:off x="2050920" y="5300640"/>
            <a:ext cx="6877080" cy="936720"/>
          </a:xfrm>
          <a:custGeom>
            <a:avLst/>
            <a:gdLst/>
            <a:ahLst/>
            <a:rect l="l" t="t" r="r" b="b"/>
            <a:pathLst>
              <a:path w="6877050" h="936625">
                <a:moveTo>
                  <a:pt x="911553" y="358165"/>
                </a:moveTo>
                <a:lnTo>
                  <a:pt x="3328378" y="358165"/>
                </a:lnTo>
                <a:lnTo>
                  <a:pt x="3328378" y="124150"/>
                </a:lnTo>
                <a:lnTo>
                  <a:pt x="3548672" y="124150"/>
                </a:lnTo>
                <a:lnTo>
                  <a:pt x="3548672" y="358165"/>
                </a:lnTo>
                <a:lnTo>
                  <a:pt x="5965497" y="358165"/>
                </a:lnTo>
                <a:lnTo>
                  <a:pt x="5965497" y="578460"/>
                </a:lnTo>
                <a:lnTo>
                  <a:pt x="3548672" y="578460"/>
                </a:lnTo>
                <a:lnTo>
                  <a:pt x="3548672" y="812475"/>
                </a:lnTo>
                <a:lnTo>
                  <a:pt x="3328378" y="812475"/>
                </a:lnTo>
                <a:lnTo>
                  <a:pt x="3328378" y="578460"/>
                </a:lnTo>
                <a:lnTo>
                  <a:pt x="911553" y="578460"/>
                </a:lnTo>
                <a:lnTo>
                  <a:pt x="911553" y="358165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kstvak 5"/>
          <p:cNvSpPr/>
          <p:nvPr/>
        </p:nvSpPr>
        <p:spPr>
          <a:xfrm>
            <a:off x="1763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kstvak 6"/>
          <p:cNvSpPr/>
          <p:nvPr/>
        </p:nvSpPr>
        <p:spPr>
          <a:xfrm>
            <a:off x="824400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To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k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Ru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maakpupil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auwen, slikken, spreken, proev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34:50Z</dcterms:created>
  <dc:creator>Ilse Theuws</dc:creator>
  <dc:description/>
  <dc:language>en-US</dc:language>
  <cp:lastModifiedBy>Ilse Theuws</cp:lastModifiedBy>
  <dcterms:modified xsi:type="dcterms:W3CDTF">2016-04-01T08:07:10Z</dcterms:modified>
  <cp:revision>15</cp:revision>
  <dc:subject/>
  <dc:title>Wat voedt jou, deel 2</dc:title>
</cp:coreProperties>
</file>