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BC6-519A-4200-86F0-DC808AE6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923-D531-46D9-A410-B29A3AAD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E1A-2FF7-433C-83AE-D1607BFA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B60-A6FF-485C-BBE6-775EC0EC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5607-D390-4AF1-A48E-B0A1BDC8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AE1B-776E-4789-A1EB-429D74E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D7C-B99F-4DE8-8188-3086D02A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4A1F-DEF1-4138-A45C-8F691CA3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B81B-64A5-4E2D-9C2F-CD00412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488-FE7A-4A5A-9ACE-8CE27936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F755-6C4E-455F-8A9E-8A678989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292-183A-4E55-8F21-37F3433C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A43B-BC3A-4A5B-8321-FE3E002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F1F7-4FFD-48AD-A6DC-03DE802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8AD-D19E-4512-8811-9C82805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3724-8E52-40DF-85DE-9839E9F3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122F-BC38-45CE-9B4A-023C1F15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9997-DB6A-41BD-9CF4-45C198EF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BD61-D472-4621-99BA-0E23BA9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AE9D-9D21-43E6-A225-67AD939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0117-EF4F-4596-8C31-5D708022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71B9-48D7-45A8-B40E-2CF8B071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527-C0D8-46F6-A062-E4E2532E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DB57A-A458-4708-8E24-B5784558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3566-764F-4D7D-9FA9-89DA50F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E0F1-A5EA-454B-8304-45F62764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ADDB-10CD-4CB6-AC1D-5E4883B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67F3-1B6F-46E3-8D6C-4B44B5F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3A13-A2F1-4848-9496-FEEC1E23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69CD-FF05-43C0-96BE-612168CC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CC60-54A5-4389-BEF6-7D9F1098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6B2AD-8F8C-4363-B138-8C0A717F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AF9A-CA34-4AA1-B4B7-3584A933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9D9-02C2-4278-BB71-139D4531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B51C-7F42-4CB1-A40B-98F320B7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3430-1920-4F23-871B-8E993F3E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AF22-9098-4798-AA4E-74AC72E5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C1FE-13CA-49EA-9F92-127E76A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5D0EB-010A-4AF0-BB3C-2667D148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AD80-1661-43A1-BDEC-5A66F8B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9BBE-CE1E-4DB7-9B34-83E9E03B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4C5C7-1E2B-46F4-95F1-28A38AE5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4205-B13B-4B54-B02C-E8DF866E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4292-59E6-4F19-A2DF-12C64C56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99E-1C46-4290-8337-BF1AE3FF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1CC9-FBC0-47E9-9AF5-2BEA0A9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196FA-386C-4DDD-BA5C-EB67025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ECD48-9B4B-4AA2-A87F-6F4EAB70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B3DC-90B4-4A4D-9177-D00FB1DD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9C27-B6EC-4A66-A0EA-EAB6648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22B4E-AD30-48A7-858F-17C8863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10C0-74A0-46F8-8B8D-5C49330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CCA6-3772-4E37-BD83-1E53B69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AF04-CC50-4BBC-AE65-F1B13613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8238C-4412-44A9-BC93-DA6B9473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3EA-E118-45FD-8F6C-08B9007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D38FD-2C08-419C-AFCF-18989185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DBEC-228E-40EF-A22A-49A77A46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86F3-D874-453B-9FEF-ECE2F1CA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FB387-9E5F-4586-A510-D4F21F4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A65DE-475F-48CB-B563-F79DD403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1424-2444-4A8F-9710-ADB7724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86A9E-0C75-4B38-9966-65FE61B9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381A-EB23-444E-9B09-649E58C0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90EB-602D-4B55-9A95-6467657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7FB7-27F3-4558-A0FE-6144DAA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1BC-7656-4AEE-8EDB-60F17F39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CB0E-9AA8-4D88-B726-8F3C6088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68B1-7D30-40B6-97C3-8E73B5B6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F6C0-66C7-4B61-818E-815ECBE8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C8EA5-F2A6-4509-8133-93C3E9CB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4EACB-F379-44C9-B93A-FCC944C0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A964C-E5F4-423B-B671-D84915B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2AD7-F4C6-4A4B-86FF-9209EEA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9276-27FC-4FC4-81DF-75145BA5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08B19-A59B-4B18-BD8D-A84BB3AE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74858-7C1B-4349-9E65-1EEDA969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AD5-7A02-4B23-A58F-223669A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93139-0370-4F0F-A14A-7DFF61B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4BC21-C6D3-4F1E-847F-1E0E27C0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63DA2-FF2B-4DB7-BF47-DCB272D6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98323-299F-496C-B8C6-601EFB58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D70D-0051-41AF-B78F-DA75C892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1A445-88A5-4F49-AA44-91650728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57696-C3C4-4FCA-AD16-F65A7A5B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841CC-1699-43D6-9D02-8DD3FAD4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A4967-B2BB-4D18-952D-7AE341F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624C1-BA89-483E-9FBB-F9EDA59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9A5-CFE8-42EF-AFDD-8C34D87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AA003-B824-45B6-81AF-B01CD35F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60D2-232D-4120-845D-56FF5D2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7B5E-3BF0-4B9E-9216-A3A8D4F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A07F4-EB78-4654-A6C2-F87A2FB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4B67D-1750-48EF-B172-32AFAFD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7705A-68DD-442C-907D-74374782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E0960-2008-4278-B801-49BDB402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1C2-3370-434F-8F9A-7F36A2C81EED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C325-18AC-4C81-8601-1D41BD266E15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DB2-EA75-47E9-8713-17FA7E42DBCF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015-6437-46DF-97BD-5945CB08C38E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C050-F2A4-40CE-9D1F-EE8BF61D57FF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2412-332C-42A1-893F-F3484E2D2067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5DF1-9541-4B9D-8F14-F8BE86AE62F3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EFE-13A6-42B3-B2A8-8D2C4B4CAAE8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desk.nl/vertering/puzzel-mond-_en_keelholte.php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at voedt jou, deel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Les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" descr="C:\Users\Ilse Theuws\Documents\SCHOOL\LEERJAAR 3\Stage\wat voedt jou, deel 2\imagesCAHW7COU.jpg"/>
          <p:cNvPicPr/>
          <p:nvPr/>
        </p:nvPicPr>
        <p:blipFill>
          <a:blip r:embed="rId1"/>
          <a:stretch/>
        </p:blipFill>
        <p:spPr>
          <a:xfrm>
            <a:off x="539640" y="189000"/>
            <a:ext cx="4032360" cy="325764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 rot="20600400">
            <a:off x="4830480" y="1038240"/>
            <a:ext cx="3916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Spijsverter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De mond en keelholte</a:t>
            </a:r>
            <a:r>
              <a:rPr b="0" lang="nl-NL" sz="1800" spc="-1" strike="noStrike">
                <a:solidFill>
                  <a:srgbClr val="0070c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maire smak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7" name="Picture 2" descr="C:\Users\Ilse Theuws\Documents\SCHOOL\LEERJAAR 3\Stage\wat voedt jou, deel 2\175559_962_1185287375821-afbeelding_1.jpg"/>
          <p:cNvPicPr/>
          <p:nvPr/>
        </p:nvPicPr>
        <p:blipFill>
          <a:blip r:embed="rId1"/>
          <a:stretch/>
        </p:blipFill>
        <p:spPr>
          <a:xfrm>
            <a:off x="826920" y="1125360"/>
            <a:ext cx="68518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biodesk.nl/vertering/puzzel-mond-_en_keelholte.ph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1" name="Picture 2" descr="C:\Users\Ilse Theuws\Documents\SCHOOL\LEERJAAR 3\Stage\wat voedt jou, deel 2\456klachten10slikken.jpg"/>
          <p:cNvPicPr/>
          <p:nvPr/>
        </p:nvPicPr>
        <p:blipFill>
          <a:blip r:embed="rId1"/>
          <a:stretch/>
        </p:blipFill>
        <p:spPr>
          <a:xfrm>
            <a:off x="1042920" y="379440"/>
            <a:ext cx="65534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ijsverter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t betekent: spijsvertering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e mondholte, la 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nemen van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lpen bij het fijnmaken van het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engen met speek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evoegen van het spijsverteringsenzym: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nemen van smaak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dere belangrijke functies van de mond: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om kauwen we eigenlijk ?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C:\Users\Ilse Theuws\Documents\SCHOOL\LEERJAAR 3\Stage\wat voedt jou, deel 2\untitled.bmp"/>
          <p:cNvPicPr/>
          <p:nvPr/>
        </p:nvPicPr>
        <p:blipFill>
          <a:blip r:embed="rId1"/>
          <a:stretch/>
        </p:blipFill>
        <p:spPr>
          <a:xfrm>
            <a:off x="539640" y="2060640"/>
            <a:ext cx="3672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staat uit water, slijm en een enzy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ucinen: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maken het speeksel viskeus (dikker) en behoeden de mond voor uitdrog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Groeifactoren stimuleren wondgene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Antistoffen (eiwitten tegen lichaamsvreemde stoff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onder andere het enzym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Amylase breekt zetmeel a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unctie speekse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Vergemakkelijken van het slikken en het naar beneden glijden van voedsel door de slokda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klier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.5 L per dag produceren deze klieren speeksel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3 grote speekselklieren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or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5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kaak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70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toon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5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Picture 2" descr="C:\Users\Ilse Theuws\Documents\SCHOOL\LEERJAAR 3\Stage\wat voedt jou, deel 2\7c8bc673333ca3fbe1914ca1b33ab8d0dr.jpg"/>
          <p:cNvPicPr/>
          <p:nvPr/>
        </p:nvPicPr>
        <p:blipFill>
          <a:blip r:embed="rId1"/>
          <a:stretch/>
        </p:blipFill>
        <p:spPr>
          <a:xfrm>
            <a:off x="1547640" y="703440"/>
            <a:ext cx="55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Picture 2" descr="C:\Users\Ilse Theuws\Documents\SCHOOL\LEERJAAR 3\Stage\wat voedt jou, deel 2\mondholtekst.jpg"/>
          <p:cNvPicPr/>
          <p:nvPr/>
        </p:nvPicPr>
        <p:blipFill>
          <a:blip r:embed="rId1"/>
          <a:stretch/>
        </p:blipFill>
        <p:spPr>
          <a:xfrm>
            <a:off x="0" y="0"/>
            <a:ext cx="6804000" cy="5059440"/>
          </a:xfrm>
          <a:prstGeom prst="rect">
            <a:avLst/>
          </a:prstGeom>
          <a:ln w="0">
            <a:noFill/>
          </a:ln>
        </p:spPr>
      </p:pic>
      <p:sp>
        <p:nvSpPr>
          <p:cNvPr id="371" name="Plus 4"/>
          <p:cNvSpPr/>
          <p:nvPr/>
        </p:nvSpPr>
        <p:spPr>
          <a:xfrm>
            <a:off x="2050920" y="5300640"/>
            <a:ext cx="6877080" cy="936720"/>
          </a:xfrm>
          <a:custGeom>
            <a:avLst/>
            <a:gdLst/>
            <a:ahLst/>
            <a:rect l="l" t="t" r="r" b="b"/>
            <a:pathLst>
              <a:path w="6877050" h="936625">
                <a:moveTo>
                  <a:pt x="911553" y="358165"/>
                </a:moveTo>
                <a:lnTo>
                  <a:pt x="3328378" y="358165"/>
                </a:lnTo>
                <a:lnTo>
                  <a:pt x="3328378" y="124150"/>
                </a:lnTo>
                <a:lnTo>
                  <a:pt x="3548672" y="124150"/>
                </a:lnTo>
                <a:lnTo>
                  <a:pt x="3548672" y="358165"/>
                </a:lnTo>
                <a:lnTo>
                  <a:pt x="5965497" y="358165"/>
                </a:lnTo>
                <a:lnTo>
                  <a:pt x="5965497" y="578460"/>
                </a:lnTo>
                <a:lnTo>
                  <a:pt x="3548672" y="578460"/>
                </a:lnTo>
                <a:lnTo>
                  <a:pt x="3548672" y="812475"/>
                </a:lnTo>
                <a:lnTo>
                  <a:pt x="3328378" y="812475"/>
                </a:lnTo>
                <a:lnTo>
                  <a:pt x="3328378" y="578460"/>
                </a:lnTo>
                <a:lnTo>
                  <a:pt x="911553" y="578460"/>
                </a:lnTo>
                <a:lnTo>
                  <a:pt x="911553" y="358165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kstvak 5"/>
          <p:cNvSpPr/>
          <p:nvPr/>
        </p:nvSpPr>
        <p:spPr>
          <a:xfrm>
            <a:off x="1763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kstvak 6"/>
          <p:cNvSpPr/>
          <p:nvPr/>
        </p:nvSpPr>
        <p:spPr>
          <a:xfrm>
            <a:off x="824400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To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k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Ru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maakpupil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uwen, slikken, spreken, proev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4:50Z</dcterms:created>
  <dc:creator>Ilse Theuws</dc:creator>
  <dc:description/>
  <dc:language>en-US</dc:language>
  <cp:lastModifiedBy>Ilse Theuws</cp:lastModifiedBy>
  <dcterms:modified xsi:type="dcterms:W3CDTF">2016-04-01T08:07:10Z</dcterms:modified>
  <cp:revision>15</cp:revision>
  <dc:subject/>
  <dc:title>Wat voedt jou, deel 2</dc:title>
</cp:coreProperties>
</file>