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F812-4193-4C6F-81DF-C7D47A30C1F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lhydraten, eiwitten, vitami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lasma-eiw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t voor heet transport van vetten in de bloedbaa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aak medicijnen</a:t>
            </a:r>
            <a:endParaRPr b="0" lang="en-US" sz="1200" spc="-1" strike="noStrike">
              <a:solidFill>
                <a:srgbClr val="000000"/>
              </a:solidFill>
              <a:latin typeface="Calibri"/>
            </a:endParaRPr>
          </a:p>
        </p:txBody>
      </p:sp>
      <p:sp>
        <p:nvSpPr>
          <p:cNvPr id="42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03F8-3D3A-451E-8713-78EDF322C00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3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2A1F-985F-43DB-A358-A2EB6E1F182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ese: Hierbij wordt glucose, onder invloed van insuline, omgezet in glucog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olyse: Hierbij wordt glucogeen, onder invloed van glucagon, omgezet in glucose</a:t>
            </a:r>
            <a:endParaRPr b="0" lang="en-US" sz="1200" spc="-1" strike="noStrike">
              <a:solidFill>
                <a:srgbClr val="000000"/>
              </a:solidFill>
              <a:latin typeface="Calibri"/>
            </a:endParaRPr>
          </a:p>
        </p:txBody>
      </p:sp>
      <p:sp>
        <p:nvSpPr>
          <p:cNvPr id="43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09C2-F646-4436-A24E-62095D714E5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wordt afgegeven aan het bloed om glucosespiegel op peil te houd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voorziet alle cellen van energi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heb je ongeveer 160 gram glucose nodig</a:t>
            </a:r>
            <a:endParaRPr b="0" lang="en-US" sz="1200" spc="-1" strike="noStrike">
              <a:solidFill>
                <a:srgbClr val="000000"/>
              </a:solidFill>
              <a:latin typeface="Calibri"/>
            </a:endParaRPr>
          </a:p>
        </p:txBody>
      </p:sp>
      <p:sp>
        <p:nvSpPr>
          <p:cNvPr id="43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46D4-67D2-423E-9B65-0D27BF72A29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inozuren – uit voeding of skelet, na vasten uit het skele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ycerol – uit verteerde vett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zuur – gevormd door spieren bij grote insp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AC00-7C5C-46D4-B00A-F3FFB49CD71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e van plasma-eiwitten – plasma eiwitten zorgen voor stroperigheid en de juiste PH waarde van het bloed, transportmiddel, zorgt voor stoll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zetting tot glucose – levert energie of wordt opgeslagen in het vetweefse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ansamineren van aminozuren – De lever kan het ene aminozuur veranderen in het andere bij een tekort. Essentiële aminozuren kunnen niet gemaakt worden, maar komen uit de voeding</a:t>
            </a:r>
            <a:endParaRPr b="0" lang="en-US" sz="1200" spc="-1" strike="noStrike">
              <a:solidFill>
                <a:srgbClr val="000000"/>
              </a:solidFill>
              <a:latin typeface="Calibri"/>
            </a:endParaRPr>
          </a:p>
        </p:txBody>
      </p:sp>
      <p:sp>
        <p:nvSpPr>
          <p:cNvPr id="44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7C2C-DBBB-405B-9DB9-1786E3EAB09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pogene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kan omgezet worden in vetten en zo orden opgeslagen</a:t>
            </a:r>
            <a:endParaRPr b="0" lang="en-US" sz="1200" spc="-1" strike="noStrike">
              <a:solidFill>
                <a:srgbClr val="000000"/>
              </a:solidFill>
              <a:latin typeface="Calibri"/>
            </a:endParaRPr>
          </a:p>
        </p:txBody>
      </p:sp>
      <p:sp>
        <p:nvSpPr>
          <p:cNvPr id="4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20A9-DCAA-4EE6-B1A2-313DB76EC54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d – slokdarm – maag – dunne dar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ylase – pepsine – lipase – pancreasamylase – pancreaslipase – peptidase – maltase sacharase – lactas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uodenu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 verichtingen van het maagsarmkanaal en alle processen die daar in plaats vinden om het voedsel te verteren.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7E6E-C5A8-4547-BFF6-488A0C61AB7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ppendix</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inde d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rtelda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deldarm</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ECC8-EC8C-477E-9DB5-AB26584CDB0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 geen plooien of villi me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ndweefsel: rijk aan bloedv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erlaag: voor de darmperistaltiek</a:t>
            </a: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3B8B-3C29-4A75-B60D-D8932D0BB6F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cteriën beschermen ons tegen ziekte verwekkende bacteriën. Als de darmen vol zitten met goede bacteriën is er geen plaats meer voor andere bacterië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de vertering van de resterende voedselbrij komen zuren en gassen vrij die zorgen voor de stimulatie van de darmperistaltiek</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is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koolhydr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ot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eiwitten, hierbij ontstaan sterk ruikende gassen</a:t>
            </a: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9C16-ED57-4342-B0EA-3A0372CA995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De dikke darm produceert geen spijsverteringssap , wel slijm.</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2134-19A7-4A91-8DA9-FC44A1C4F95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l het bloed loopt vanuit het spijsverteringskanaal door de lever voordat het in de algemene bloedsomloop terecht komt. Dankzij deze bloedtoevoer kunnen levercellen opgenomen voedingsstoffen of gifstoffen uit het bloed halen voordat ze de rest van het lichaam bereiken. De lever registreert en past de concentraties aan voedingsstoffen aan. </a:t>
            </a:r>
            <a:endParaRPr b="0" lang="en-US" sz="1200" spc="-1" strike="noStrike">
              <a:solidFill>
                <a:srgbClr val="000000"/>
              </a:solidFill>
              <a:latin typeface="Calibri"/>
            </a:endParaRPr>
          </a:p>
        </p:txBody>
      </p:sp>
      <p:sp>
        <p:nvSpPr>
          <p:cNvPr id="42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697A-A39A-41A8-A749-8BFA4E3550C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6E1BE-3353-4AE0-8F71-ECB5BD93F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848F0-A07B-422D-96C3-211D30365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DECC9-D785-45D2-965C-55B2408ED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2DF3B-8124-48FA-8D3C-8136DD1ED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FBAB9-C532-4103-9FA5-5A90D37AD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81053-08A3-4F9F-8F6E-549BBD7AF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D5F9B-97FD-4165-A4AF-8B9FF5416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16979-FDB1-45D5-9654-0AF6D277E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CA0A0-FD23-408D-9179-9E2CCF97E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96B4D-0DC4-42AF-A101-7C275524C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9C0E8-F99E-492B-9120-DDF642375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9026F-0A76-4CA0-8F55-C24C6DEB4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B11C1-6923-4110-98E3-DC881C5EC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4675E-5883-40D3-B209-4C30C5F59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98CCB-B14D-4A52-9B1A-16E67A980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8E880-90CB-4D6E-93CA-C4438D9F7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BCDFC-F6DB-4F52-B05C-10041F7F2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04F8B0-D4C2-4A32-A392-6AD876BC08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EB0DB6-E4DE-4D27-974A-F1ED458AB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B3A31-AF62-4041-B9E1-12D335E43C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26380A-21F2-4450-8DFC-21304D8D5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511B42-F352-49AA-807C-FECD282C8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8D32D-D8E6-46FD-B350-3CF314315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AB7639-F918-463D-B779-261EB2A1F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F8E60-9DFC-4FE1-9B85-C8BE596CC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410B4-8210-42D7-8585-69140380D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63208-55BD-4F85-A02D-9373571EF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B79783-ED5A-411D-90CF-9E294DD07E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66B477-DA33-427E-BDC1-238FA4BF9B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37438-87BA-4BF1-A584-97A480CCBE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5000E7-7F19-4AEA-9AA5-D60C0ACFD0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9B6C7-34CE-4D25-8554-0B52AA6728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B620E3-5B00-45AE-A890-2FC905CE4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F58FA-55C4-443B-A819-D1EF283DA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F5C6CC-5B18-49BD-B602-E8422E35C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FFB9DE-4FAF-42D4-9EF3-CFD5A9D0F1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8FBBD-2347-4214-A9B9-A37FFFF33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32E63-1684-45E0-A5B0-EBDBE0062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3A4FC-E347-4A15-A9DC-28AA8C4E3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BBE87-FB39-4595-BF8B-8276FA04C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F2711-22F3-47A9-AA02-82BCF9AF6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5002E8-3D11-44EB-A6A8-3F8416B9FE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DD270-E4F9-456B-87DB-7582B256A7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BE9F27-F313-4A61-8A68-EF172C4E26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DEFDE-EF8E-4E1C-BDA5-2EFB5599C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5F8C5B-997E-47BB-9419-54840D0311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6ED7E-1EE1-4D04-A1C6-DC66E43E1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EFD8B3-AB4B-4669-93DD-5B6D99D39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005C46-6933-462B-A9AF-5D6848E2AE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FCD96E-1622-41A5-AC1D-9BF138F23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B3D04-1343-45DC-ACC8-0AA8C0480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48C1A-C0EA-489A-9819-D4927B4E1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E4462-F886-451A-9A81-B759FBBEB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1DA351-6A1E-4390-B28C-5BB911B348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BC0D0C-EE83-4E3D-93A9-5F2D1DE077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2FD17-20B9-4958-9682-8356A1C00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BD22BA-C1FE-40EC-B083-13920007DD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F3BB94-F831-42B3-AB60-E9CBD61A6B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4AD7EF-2E3D-40B4-9E42-1B5C4BB3D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803CEF-731E-4DD6-85A7-BBB4DCC956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7CB89-5732-411A-A920-7432E217AF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1FCBE-6212-45AB-9A8C-C765789FC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7F1ED-86EC-48D1-A093-BBF0AD4EE5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81837-5CE8-48AD-B72D-95BB7ECF5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0E64D-7337-4C23-B9FD-44ECA2B2A3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C3756-6791-4C05-BDFA-1928735C5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FFD8-6828-497C-A58C-F4AA4241B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D84E6-7D7D-4C22-B784-8F73D671ED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92E7D8-E0E9-44BF-AB19-C0ACD8EE5F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B9FF3E-7894-43D5-B10B-04C783A437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11CF26-CC1C-4AB4-ACB5-72A95B6AA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1942B2-DE5B-438A-B4F1-BE667DAE0B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2D8A28-341A-4202-AED0-DD5BF84206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4AB89C-4178-408A-9F42-436E9CD0D4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5F6474-D279-4468-BF18-EDE747D00A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116B6-165C-4D13-85D2-9A149AE513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C1B6B-7A6B-4631-AEEB-CE485C582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80E45-73B1-4E9A-99B9-69CF0540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2B18B-4B87-475A-A427-95C39515F0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DAB0F-4533-4352-B6FE-8658062E6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526D15-20A9-4673-A8A8-740D1044F8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03220F-882C-41DD-B6DC-A75A942AE1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5D6A75-EF68-423A-88F5-9193651700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BED10D-CBE1-40DC-A12C-25389507A4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459089-53D4-4B57-B429-DA57FAA59D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0B61C8-870A-464E-882A-D3D150FBDD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C34DA7-30AE-4965-B51C-30EC079F71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95399F-475C-4ECB-B905-1CF28E5A8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63A7-BBC5-48E2-8B53-F5F0E70E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9ADF86-F2C5-4688-AEF5-324A56C82E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384052-1749-489B-A3FC-68B5C21017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E99F3-48E6-4E2D-8B1E-282E05EBDF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B9ABCE-EBCE-4378-861F-0A7B981F60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E5939F-A70F-4DF5-BE29-C40A02513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BA5687-9F92-4302-BDCF-71ACA791DD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5F8ED5-A030-42B8-A524-84F94759949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1546-EC32-4218-99A2-C4540A49A7FA}"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2AAD-3FB0-450C-B719-38D0DCFDCDAB}"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08F8-A586-481E-B596-2D44F61A27EA}"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4A08-6503-4DB2-9607-687C5D08CAA0}"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5148F-DF98-4B66-AE73-8D1A43608290}"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B686-C6AA-47D5-8F78-683E6AB091F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27F8-09BA-472B-82E1-6AA5C935B64D}"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902F-85BB-4079-88CC-6D793EF471C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www.youtube.com/watch?v=J3jp5B66mz8&amp;nohtml5=Fals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Dikke darm en de lever</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lever</a:t>
            </a:r>
            <a:endParaRPr b="0" lang="en-US" sz="3200" spc="-1" strike="noStrike">
              <a:solidFill>
                <a:srgbClr val="464653"/>
              </a:solidFill>
              <a:latin typeface="Bookman Old Style"/>
            </a:endParaRPr>
          </a:p>
        </p:txBody>
      </p:sp>
      <p:sp>
        <p:nvSpPr>
          <p:cNvPr id="380" name=""/>
          <p:cNvSpPr txBox="1"/>
          <p:nvPr/>
        </p:nvSpPr>
        <p:spPr>
          <a:xfrm>
            <a:off x="46836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pslag voedingsstoff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van albumi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lipoproteï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stollingseiwit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glucose uit aminozuren of glycero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ntgiften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orming en opslag van vitamin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loed reservoi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rmte br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Rol in de stofwisseling</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voedingsstoffen op en staat ze a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Regelt voedingsstoffen samenstelling blo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se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iwi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Ve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lucosestofwisseling</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oudt de glucoseconcentratie van het bloedplasma min of meer constant met behulp van hormonen. Hierbij zijn twee processen voortdurend aan de ga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e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olys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ls de glucosespiegel van het bloed stijgt neemt de lever glucose op en zet dit om in glycogeen dat wordt opgeslag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alt de glucosespiegel breekt de lever de glycogeen af en geeft glucose af aan het bloed.</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6" name="Picture 2" descr=""/>
          <p:cNvPicPr/>
          <p:nvPr/>
        </p:nvPicPr>
        <p:blipFill>
          <a:blip r:embed="rId1"/>
          <a:stretch/>
        </p:blipFill>
        <p:spPr>
          <a:xfrm>
            <a:off x="0" y="-69840"/>
            <a:ext cx="9144000" cy="692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8" name="Picture 2" descr=""/>
          <p:cNvPicPr/>
          <p:nvPr/>
        </p:nvPicPr>
        <p:blipFill>
          <a:blip r:embed="rId1"/>
          <a:stretch/>
        </p:blipFill>
        <p:spPr>
          <a:xfrm>
            <a:off x="0" y="0"/>
            <a:ext cx="9144000" cy="694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 hebben genoeg glycogeenvoorraad voor de dagelijkse behoefte. Bij overmatige, langdurige inspanning of na vasten is de voorraad op. De lever is in staat om glucose te maken uit andere stoffen dan glycoge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minozur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ycero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elkzuu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pogenese</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nneer er een grote aanvoer van enkelvoudige suikers naar de lever is, kan de lever deze omzetten in vett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it proces heet lipogenes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vet wordt in het bindweefsel vervoerd en opgeslag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Eiwitstofwisseling</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ehalve voor het maken van de enzymen die binnen in de levercel actief zijn, gebruikt de lever ook aminozuren voor andere doeleinden, met een functie voor de rest van het lichaam.</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Productie van plasma-eiwit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mzetting tot gluco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Transamineren van aminozuren</a:t>
            </a:r>
            <a:br>
              <a:rPr sz="2300"/>
            </a:br>
            <a:r>
              <a:rPr b="0" lang="nl-NL" sz="2300" spc="-1" strike="noStrike">
                <a:solidFill>
                  <a:srgbClr val="464653"/>
                </a:solidFill>
                <a:latin typeface="Gill Sans MT"/>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etstofwisseling</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Zoals bij glucose en eiwitstofwisseling benoemt is, is de lever in staat tot lipgenes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maakt ook cholesterol. Dit zet de lever vervolgens met vetzuren om tot galzouten. Deze worden met de gal afgevoerd naar de dunnen darm.</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gifting</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mmoniak: veelvoorkomend afbraak produc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ilirubine: afgevoerd via de g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eneesmiddelen: worden onwerkzaam of bijna onwerkzaam gemaakt in de lever. Afgebroken geneesmiddelen worden uitgescheiden via gal en niere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ragen</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organen heeft de spijsbrij/chymus al gepasseerd voordat hij terecht komt in de dikke darm? Schrijf op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enzymen hebben al op de spijsbrij/chymus ingewerkt?</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twaalfvingerige darm in het latijn?</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functies van de twaalfvingerige darm</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betekent spijsverter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productie</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is het uitscheidingsproduct van de lev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zuren in de gal zorgen voor het verteren van vetten. Galzuren worden in de darmwand weer opgenomen, komen weer in de lever terrecht en wordt weer uitgescheiden via gal.</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itaminestofwisseling</a:t>
            </a:r>
            <a:endParaRPr b="0" lang="en-US" sz="32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eeft een belangrijke functie in de opslag van verschillende vitamines. Zoals vitamine:</a:t>
            </a:r>
            <a:br>
              <a:rPr sz="2600"/>
            </a:br>
            <a:r>
              <a:rPr b="0" lang="nl-NL" sz="2600" spc="-1" strike="noStrike">
                <a:solidFill>
                  <a:srgbClr val="000000"/>
                </a:solidFill>
                <a:latin typeface="Gill Sans MT"/>
              </a:rPr>
              <a:t>A, B2, B12 en D</a:t>
            </a:r>
            <a:br>
              <a:rPr sz="2600"/>
            </a:br>
            <a:br>
              <a:rPr sz="2600"/>
            </a:br>
            <a:r>
              <a:rPr b="0" lang="nl-NL" sz="2600" spc="-1" strike="noStrike">
                <a:solidFill>
                  <a:srgbClr val="000000"/>
                </a:solidFill>
                <a:latin typeface="Gill Sans MT"/>
              </a:rPr>
              <a:t>De galzouten die de lever maakt, zijn belangrijk voor de resorptie (opname) van vetoplosbare vitamines. </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Bloedreservoir</a:t>
            </a:r>
            <a:endParaRPr b="0" lang="en-US" sz="3200" spc="-1" strike="noStrike">
              <a:solidFill>
                <a:srgbClr val="464653"/>
              </a:solidFill>
              <a:latin typeface="Bookman Old Style"/>
            </a:endParaRPr>
          </a:p>
        </p:txBody>
      </p:sp>
      <p:sp>
        <p:nvSpPr>
          <p:cNvPr id="40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Hoeveelheid bloed in lever kan variëren. Doordat de spanning in de lever wand kan toenemen of dalen kan er meer of minder bloed in de lever bevinden.</a:t>
            </a:r>
            <a:br>
              <a:rPr sz="2600"/>
            </a:b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fweer</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bevinden zich witte bloedcellen die deel uitmaken van het afweer systeem </a:t>
            </a:r>
            <a:br>
              <a:rPr sz="2600"/>
            </a:br>
            <a:r>
              <a:rPr b="0" lang="nl-NL" sz="2600" spc="-1" strike="noStrike">
                <a:solidFill>
                  <a:srgbClr val="464653"/>
                </a:solidFill>
                <a:latin typeface="Gill Sans MT"/>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Warmte bron </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vinden veel reacties plaats waar warmte bij vrijkomt.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b292ca"/>
                </a:solidFill>
                <a:uFillTx/>
                <a:latin typeface="Gill Sans MT"/>
                <a:hlinkClick r:id="rId1"/>
              </a:rPr>
              <a:t>https://www.youtube.com/watch?v=J3jp5B66mz8&amp;nohtml5=Fal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ikke darm (colo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dikke darm bestaat uit 3 del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blind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kart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end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integraalmedischcentrum.nl/admin/media/Colon2.jpg"/>
          <p:cNvPicPr/>
          <p:nvPr/>
        </p:nvPicPr>
        <p:blipFill>
          <a:blip r:embed="rId1"/>
          <a:stretch/>
        </p:blipFill>
        <p:spPr>
          <a:xfrm>
            <a:off x="1332000" y="522360"/>
            <a:ext cx="5761080" cy="63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Dikke darmwa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Uit welke lagen zou een darmwand bestaa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dikke dar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dikken voedselbrij/darminhou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or opname van water uit de darminhoud</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rmflora</a:t>
            </a:r>
            <a:r>
              <a:rPr b="0" lang="nl-NL" sz="2600" spc="-1" strike="noStrike">
                <a:solidFill>
                  <a:srgbClr val="7f7f7f"/>
                </a:solidFill>
                <a:latin typeface="Gill Sans MT"/>
              </a:rPr>
              <a: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7f7f7f"/>
                </a:solidFill>
                <a:latin typeface="Gill Sans MT"/>
              </a:rPr>
              <a:t>De bacteriën hebben uiteenlopende functie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Maken van vitamines K en B5</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Vertering van bepaalde onderdelen van de voedselbrok</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Gisting en rotting van de darminhoud</a:t>
            </a:r>
            <a:br>
              <a:rPr sz="2000"/>
            </a:br>
            <a:r>
              <a:rPr b="0" lang="nl-NL" sz="2000" spc="-1" strike="noStrike">
                <a:solidFill>
                  <a:srgbClr val="7f7f7f"/>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gelijks wordt er zo’n 7-8 liter vocht geproduceerd </a:t>
            </a:r>
            <a:br>
              <a:rPr sz="2600"/>
            </a:br>
            <a:r>
              <a:rPr b="0" lang="nl-NL" sz="2600" spc="-1" strike="noStrike">
                <a:solidFill>
                  <a:srgbClr val="000000"/>
                </a:solidFill>
                <a:latin typeface="Gill Sans MT"/>
              </a:rPr>
              <a:t>(speeksel, maagsap, gal, pancreassap, darmsap)</a:t>
            </a:r>
            <a:br>
              <a:rPr sz="2600"/>
            </a:br>
            <a:br>
              <a:rPr sz="2600"/>
            </a:br>
            <a:r>
              <a:rPr b="0" lang="nl-NL" sz="2600" spc="-1" strike="noStrike">
                <a:solidFill>
                  <a:srgbClr val="000000"/>
                </a:solidFill>
                <a:latin typeface="Gill Sans MT"/>
              </a:rPr>
              <a:t>Een groot deel wordt door de dunne darm geabsorbeerd. +/- 1,5L komt er mee de dikke darm binnen. </a:t>
            </a:r>
            <a:br>
              <a:rPr sz="2600"/>
            </a:br>
            <a:r>
              <a:rPr b="0" lang="nl-NL" sz="2600" spc="-1" strike="noStrike">
                <a:solidFill>
                  <a:srgbClr val="000000"/>
                </a:solidFill>
                <a:latin typeface="Gill Sans MT"/>
              </a:rPr>
              <a:t>De dikke darm absorbeert nog ongeveer 1,4 L.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Gill Sans MT"/>
              </a:rPr>
              <a:t>En 0,1 L wordt met de ontlasting uitgescheid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lasting (face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ontlasting bestaat ui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Half verteerde en onverteerde voedselres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at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de en levende bacterië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fgestoten darmwandcell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Zou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alkleurstoff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ngeveer 20 uur na de maaltij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ever (de hepar)</a:t>
            </a:r>
            <a:endParaRPr b="0" lang="en-US" sz="3200" spc="-1" strike="noStrike">
              <a:solidFill>
                <a:srgbClr val="464653"/>
              </a:solidFill>
              <a:latin typeface="Bookman Old Style"/>
            </a:endParaRPr>
          </a:p>
        </p:txBody>
      </p:sp>
      <p:sp>
        <p:nvSpPr>
          <p:cNvPr id="377" name=""/>
          <p:cNvSpPr txBox="1"/>
          <p:nvPr/>
        </p:nvSpPr>
        <p:spPr>
          <a:xfrm>
            <a:off x="457200" y="1218960"/>
            <a:ext cx="8229600" cy="5234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otste en zwaarste klier van ons lichaa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gt 1,5 kilo en ligt rechtsboven in de buikholt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te rechter kwab, kleine re linkerkwab</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Temperatuur ± 40 °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bruikt veel energ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r>
              <a:rPr b="0" lang="nl-NL" sz="2600" spc="-1" strike="noStrike">
                <a:solidFill>
                  <a:srgbClr val="000000"/>
                </a:solidFill>
                <a:latin typeface="Gill Sans MT"/>
              </a:rPr>
              <a:t>centrale’ van de stofwissel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8" name="Picture 5" descr=""/>
          <p:cNvPicPr/>
          <p:nvPr/>
        </p:nvPicPr>
        <p:blipFill>
          <a:blip r:embed="rId1"/>
          <a:stretch/>
        </p:blipFill>
        <p:spPr>
          <a:xfrm>
            <a:off x="6413400" y="2205000"/>
            <a:ext cx="273060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10:18:21Z</dcterms:created>
  <dc:creator>Ilse Theuws</dc:creator>
  <dc:description/>
  <dc:language>en-US</dc:language>
  <cp:lastModifiedBy>Merel Verhofstadt</cp:lastModifiedBy>
  <cp:lastPrinted>2014-02-20T07:00:15Z</cp:lastPrinted>
  <dcterms:modified xsi:type="dcterms:W3CDTF">2016-04-07T12:03:22Z</dcterms:modified>
  <cp:revision>63</cp:revision>
  <dc:subject/>
  <dc:title>Dikke darm en de lever</dc:title>
</cp:coreProperties>
</file>