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F56-42B0-4904-B3FD-3EB6F8BA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8FD-BEB8-444E-BAB9-296D5851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F7E-2B6D-4893-A6CE-FB21F470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505-3D6F-43E6-B624-56F58853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24C4-6101-4DBB-ABEC-63291BD8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2F8F-6307-4813-B76B-ED7F8A6D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8ACF-661A-446A-B56C-3098C329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29AE-5FAD-4865-9320-5294D9BF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BC07-B9E0-4F5E-AD6E-8E51A1F9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6191-3441-4B2A-B5D1-917A7AC5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AE89-F9AF-4D8C-B0E7-4E325B26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A47-E194-4183-8CDF-53F1D629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4C0C-C771-4F3E-862B-09B490F3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58A4-DE0D-4E2F-B5A2-6A149F35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01EE-894E-476B-AC95-EBE14255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0936-BCC5-4465-B5B8-541C9FE1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FC79-DEA4-440A-81B0-C3D65DD5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E09-5C66-4168-8FFF-23C0FF74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FBD-DA9B-479B-B465-99CD17DC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45D-8636-471A-8C2F-7110B141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AFF-BA28-44FB-B2E7-7498FD9E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BFD-9F01-4E5D-AEB4-43DC8EE1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8B3-C27E-4B29-8FAB-68BA14B8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F9C-5211-4A8E-A021-4C42F509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A5D7-6507-4865-86C1-035AF0E5C7D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E8BC-9DF1-4076-BE87-8FDDE702330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Meewerkend voorwer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Lijdend voorwer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grammaire"/>
          <p:cNvPicPr/>
          <p:nvPr/>
        </p:nvPicPr>
        <p:blipFill>
          <a:blip r:embed="rId1"/>
          <a:stretch/>
        </p:blipFill>
        <p:spPr>
          <a:xfrm>
            <a:off x="2627280" y="476280"/>
            <a:ext cx="38163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geef een boek aan j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geeft mij een brie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e donne un livre à toi. / Je te donne un liv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donne une lettre à moi. / Il me donne une let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/ 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u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M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donne un livre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ui donne un liv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donner une invitation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ui donner une invit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téléphone toujours à ses am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llons donner un cadeau à vou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demandé son adresse à son meilleur ami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 of voorwerp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heb een vriend, ik zie hem vaak na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heeft een vriendin, hij ziet haar altijd op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’ai un copain, je le vois souvent après l’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a une copine, il la voit toujours dans l´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</a:t>
            </a:r>
            <a:r>
              <a:rPr b="0" lang="nl-NL" sz="2400" spc="-1" strike="noStrike">
                <a:solidFill>
                  <a:srgbClr val="ffffff"/>
                </a:solidFill>
                <a:latin typeface="Berlin Sans FB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 / He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L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’ai deux cousin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es vois souv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a un cadeau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e donner à Pierr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une sœu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Ik ken – connaître - haar goed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Vous allez écrire une lettr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Morgen ga ik het lezen – lire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vons envoyé l’invitati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Zij heeft het ontvangen – recevoir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6:31:32Z</dcterms:created>
  <dc:creator>Algemeen</dc:creator>
  <dc:description/>
  <dc:language>en-US</dc:language>
  <cp:lastModifiedBy>Rob Nijhuis</cp:lastModifiedBy>
  <dcterms:modified xsi:type="dcterms:W3CDTF">2012-09-10T09:12:29Z</dcterms:modified>
  <cp:revision>15</cp:revision>
  <dc:subject/>
  <dc:title>Dia 1</dc:title>
</cp:coreProperties>
</file>