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62F5-B2CA-4D5A-B1B8-1E9D9068EB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udio 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ezittelijk voor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 pronom possess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D647-4350-4866-97C3-61F00701F7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vorm van het bezittelijk voor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Mon, ma, mes, ton, ta, tes enzovoort zijn bezittelijke voornaamwoorden. De vorm van bezittelijk voornaamwoord wordt bepaald door het zelfstandig naamwoord dat erachter sta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: de vorm wordt dus niet bepaald door de bezitter. Kijk goed naar de voorbeelde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invloeien zinnen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Emilie a un chien. C’est </a:t>
            </a:r>
            <a:r>
              <a:rPr b="0" i="1" lang="en-US" sz="900" spc="-1" strike="noStrike">
                <a:solidFill>
                  <a:srgbClr val="9bbb59"/>
                </a:solidFill>
                <a:latin typeface="Calibri"/>
              </a:rPr>
              <a:t>son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 chi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 Emilie heeft een hond. Het is </a:t>
            </a:r>
            <a:r>
              <a:rPr b="1" i="1" lang="en-US" sz="900" spc="-1" strike="noStrike">
                <a:solidFill>
                  <a:srgbClr val="1f497d"/>
                </a:solidFill>
                <a:latin typeface="Calibri"/>
              </a:rPr>
              <a:t>haar</a:t>
            </a:r>
            <a:r>
              <a:rPr b="1" lang="en-US" sz="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hon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FR: Marc a une voiture. C’est </a:t>
            </a:r>
            <a:r>
              <a:rPr b="0" i="1" lang="en-US" sz="900" spc="-1" strike="noStrike">
                <a:solidFill>
                  <a:srgbClr val="1f497d"/>
                </a:solidFill>
                <a:latin typeface="Calibri"/>
              </a:rPr>
              <a:t>sa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voitur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 Marc heeft een auto. Het is </a:t>
            </a:r>
            <a:r>
              <a:rPr b="1" i="1" lang="en-US" sz="900" spc="-1" strike="noStrike">
                <a:solidFill>
                  <a:srgbClr val="1f497d"/>
                </a:solidFill>
                <a:latin typeface="Calibri"/>
              </a:rPr>
              <a:t>zijn</a:t>
            </a:r>
            <a:r>
              <a:rPr b="1" lang="en-US" sz="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aut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Als het zelfstandig naamwoord met een klinker of met een stomme h of begint, gebruik dan de mannelijke vorm van het bezittelijk voornaamwoord ook al is het zelfstandig naamwoord vrouwelijk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FR: Julie est </a:t>
            </a:r>
            <a:r>
              <a:rPr b="0" i="1" lang="nl-NL" sz="900" spc="-1" strike="noStrike">
                <a:solidFill>
                  <a:srgbClr val="1f497d"/>
                </a:solidFill>
                <a:latin typeface="Calibri"/>
              </a:rPr>
              <a:t>mon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ami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FR: Elle m’a raconté </a:t>
            </a:r>
            <a:r>
              <a:rPr b="0" i="1" lang="nl-NL" sz="900" spc="-1" strike="noStrike">
                <a:solidFill>
                  <a:srgbClr val="1f497d"/>
                </a:solidFill>
                <a:latin typeface="Calibri"/>
              </a:rPr>
              <a:t>son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histoir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NL: Raadpleeg het Manuel en bestudeer de volledige lijst van bezittelijke voornaamwoord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et bezittelijk voornaamwoord zelfstandig gebruik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ezittelijk voornaamwoord neemt een andere vorm aan als het zelfstandig gebruikt wordt, er staat dan geen zelfstandig naamwoord direkt naast. Een paar voorbeel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A qui est ce livre? - C’est mon livre. - C’est le m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Van wie is dit boek?? Het is mijn boek – het is de mijne. Let op het zelfstandig naamwoord. Het zelfstandig naamwoord bepaalt ook hier de vorm van het zelfstandig gebruikte bezittelijk voornaamwoord. Kijk nog maar e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Ces clés, ce sont les vôtres? – Oui, ce sont les mien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Deze sleutels, zijn het de uwe? – Ja, het zijn de mij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Raadpleeg het Manuel en bestudeer de volledige lijst van zelfstandig gebruikte bezittelijke voornaamwo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5C2-0E44-4E45-9141-F3DCDD8C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20D-77A9-4595-8F16-B50EE891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634-E2FE-418F-88B4-9F9C4D0D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129A-EAD1-4E08-B75B-9323C277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3B1-E6C7-4B7D-A5DA-FD04F0F7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905-D01C-49C6-9174-2B66AD08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CC1-109A-44DD-B71F-7A52ACD2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8B36-8385-4C25-857E-183C3B1F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9D3-E6A5-4C37-8CFE-F86B44D6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EDE-0805-4CC6-8EB1-992679C3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61D-C3E3-459A-A954-82C90BD4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750-CAB1-4FD5-8398-D4BFB4DF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3C4D-40C5-47D2-8064-ED3C53A8BE4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 BEZITTELIJK VOORNAAMWO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E PRONOM POSSESS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vorm van het bezittelijk voornaam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3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t bezittelijk voornaamwoord wordt bepaald door het zelfstandi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ornaamwoord dat erachter staa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milie a un chien. 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on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chi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rc a une voiture. 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a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voitu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mme h / klinker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 mannelijke v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Julie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mon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i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lle m’a raconté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on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 h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stoi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adpleeg het Manu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8212320" cy="8571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6"/>
          <p:cNvSpPr/>
          <p:nvPr/>
        </p:nvSpPr>
        <p:spPr>
          <a:xfrm>
            <a:off x="357120" y="3929040"/>
            <a:ext cx="8212320" cy="4287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7"/>
          <p:cNvSpPr/>
          <p:nvPr/>
        </p:nvSpPr>
        <p:spPr>
          <a:xfrm>
            <a:off x="857160" y="592920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oog 8"/>
          <p:cNvSpPr/>
          <p:nvPr/>
        </p:nvSpPr>
        <p:spPr>
          <a:xfrm flipH="1" flipV="1" rot="18761400">
            <a:off x="3351960" y="214416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oog 9"/>
          <p:cNvSpPr/>
          <p:nvPr/>
        </p:nvSpPr>
        <p:spPr>
          <a:xfrm flipH="1" flipV="1" rot="18761400">
            <a:off x="3494520" y="271620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Boog 10"/>
          <p:cNvSpPr/>
          <p:nvPr/>
        </p:nvSpPr>
        <p:spPr>
          <a:xfrm flipH="1" flipV="1" rot="18761400">
            <a:off x="1780560" y="407304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8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8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Boog 12"/>
          <p:cNvSpPr/>
          <p:nvPr/>
        </p:nvSpPr>
        <p:spPr>
          <a:xfrm flipH="1" flipV="1" rot="18761400">
            <a:off x="2565720" y="464508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lfstandig gebruik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39640" y="1476360"/>
            <a:ext cx="822960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Zelfstandig gebruikt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en andere v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A qui est ce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livr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mon</a:t>
            </a:r>
            <a:r>
              <a:rPr b="0" lang="en-US" sz="22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ivre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’es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n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es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clé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, ce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vôtr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Oui, ce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mienn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adpleeg het Manu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6"/>
          <p:cNvSpPr/>
          <p:nvPr/>
        </p:nvSpPr>
        <p:spPr>
          <a:xfrm>
            <a:off x="360360" y="1500120"/>
            <a:ext cx="792648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al 8"/>
          <p:cNvSpPr/>
          <p:nvPr/>
        </p:nvSpPr>
        <p:spPr>
          <a:xfrm>
            <a:off x="785880" y="457200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2:57Z</dcterms:modified>
  <cp:revision>185</cp:revision>
  <dc:subject/>
  <dc:title>L’ADJECTIF</dc:title>
</cp:coreProperties>
</file>