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9523-6AAD-4843-9F89-35F2075163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Unité 3, Grammaire I, audio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De trappen van vergelij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s degrés de compara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1C52-3C81-4A69-80C0-99357580A2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De zinnen moeten één voor één invloeien, op het juiste moment, synchroon aan de animati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vergrotende tr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comparat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De vergrotende trap maak je door het woord </a:t>
            </a:r>
            <a:r>
              <a:rPr b="0" i="1" lang="nl-NL" sz="1200" spc="-1" strike="noStrike">
                <a:solidFill>
                  <a:srgbClr val="000000"/>
                </a:solidFill>
                <a:latin typeface="Calibri"/>
              </a:rPr>
              <a:t>plus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voor een bijvoeglijk naamwoord of bijwoord te zet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R: Charles est grand.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Charles est plus grand que Domin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Charles is groot. Charles is groter dan Dominic. ‘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Plus grand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’  betekent dus ‘groter’. ‘Dan’ wordt vertaald me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e bébé dort longtemps. Le bébé dort plus longtemps que sa m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De baby slaapt lang. De baby slaapt langer dan zijn moeder. ‘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Plus longtemp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’ betekent dus ‘langer’.  ‘Langer’ is hier een bijwoord, want het zegt iets over een werkwoord, namelijk sla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overtreffende trap, deel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superlatif, première par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Voor de overtreffende trap moet je eerst weten of je het combineert met een bijvoeglijk naamwoord of met een bijwoor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Met een bijvoeglijk naamwoord maak je de overtreffende trap doo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, la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of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voor de vergrotende trap te zet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Du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o est le plus vite rap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o is het snelst. Léo is mannelijk, daarom gebruik je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Christine est la plus gran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Christine is het grootst. Hier zeggen we </a:t>
            </a:r>
            <a:r>
              <a:rPr b="0" i="1" lang="en-US" sz="1200" spc="-1" strike="noStrike" u="sng">
                <a:solidFill>
                  <a:srgbClr val="1f497d"/>
                </a:solidFill>
                <a:uFillTx/>
                <a:latin typeface="Calibri"/>
              </a:rPr>
              <a:t>la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 plus grand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omdat het om een vrouw gaat. De overtreffende trap krijgt dus de vrouwelijke vorm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Ces photos sont les plus bel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Deze foto’s zijn het mooist. Foto’s is hier meervoud, dus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Let op: Normaal gesproken komt het bijvoeglijk naamwoord achter het zelfstandig naamwoord. Ook de overtreffende trap komt er dan achter te staan. Du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Une femme intelligente. La femme la plus intellig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Een intelligente vrouw. De intelligentste vrou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Maar als het bijvoeglijk naamwoord vóór het zelfstandig naamwoord staat, komt ook de overtreffende trap ervoor te staan. Kijk maar naar het volgende voorbeel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Une jolie femme. La plus jolie fem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Een mooie vrouw. De mooiste vrou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In unité 1 heb je geleerd wanneer het bijvoeglijk naamwoord vóór het zelfstandig naamwoord komt. Kijk nog maar eens in paragraaf 3.5 van je Manu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overtreffende trap, dee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superlatif, deuxième par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We hebben gezien dat je de overtreffende trap kunt maken van een bijvoeglijk naamwoord. Maar de overtreffende trap kan ook gemaakt worden met een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bijwoord. De overtreffende trap met een bijwoord maak je doo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voor de vergrotende trap te zetten. Dus: le + vergrotende tr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Patricia court plus vite que moi. Patricia  court le plus v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Patricia rent sneller dan ik. Patricia rent het snel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Zoals je ziet, maakt het bij bijwoorden niet uit of de persoon om wie het gaat mannelijk of vrouwelijk is. Je gebruikt hier altijd 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Richard mange plus lentement que son fr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Richard eet langzamer dan zijn bro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Richard mange le plus lent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Richard eet het langzaam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8408-88B7-4898-AE04-6AFC20A084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5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Andere vergelijkin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kunt ook nog andere vergelijkingen maken. We geven hier enkele voorbeel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t een bijvoeglijk naamwoor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aussi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even interessant als de film. Of: Dit boek is net zo interessant als d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moins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minder interessant dan d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le moins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het minst interess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t een bijwoord zijn deze vormen precies hetzelfde. Kijk ma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aussi gentime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t even vriendelijk als Abdel. Of: net zo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moins gentime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t minder vriendelijk dan 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le moins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gent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 het minst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: aussi betekent in deze zinnen dus niet ‘ook’, maar ‘even’ of ‘net zo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6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Uitzonderingen, deel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urlijk kent het Frans ook hier weer een aantal uitzonderingen. Ten eerste is er een speciale vorm voor ‘goed’. ‘Goed – beter – best’ is in het Fran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on – meilleur – le meilleu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n combinatie met een bijvoeglijk naamwoord. In combinatie met een bijwoord gebruik j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i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ieu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Kijk maar naar de voorbeeld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Théo est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éo is de beste leerling van de kl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a est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a meilleur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a is de beste leerling van de klas. We hebben gezien dat de overtreffende trap in combinatie met een bijvoeglijk naamwoord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of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bij zich kan hebben. Omdat Léa vrouwelijk is, is het hie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 meilleure élèv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In het meervoud krijg je d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Théo  et Léa sont les meilleurs élèves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éo en Léa zijn de beste leerlingen van de kl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Let op: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is afgeleid van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bo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 Omda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bo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voor het zelfstandig naamwoord komt, kom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er ook vo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Dan nog twee zinnen met een bijwoor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Théo travaille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eo werkt het b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a travaille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a werkt het best. Je ziet, met een bijwoord gebruiken we altijd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ook als het om een vrouw ga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F71C-522F-4C9C-A701-F16A8DFC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92E-195C-4EA0-AF90-9902A11B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77E2-2CBA-4B71-B34B-47AFF3BD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3BE-0A06-435B-B953-F897DFCB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E2DB-B045-4118-AC6F-3D931FA9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609-BA1A-4010-93B5-563B7590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DF5F-B56A-4F17-B2C0-98B4DB49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C26F-5AA1-4282-90A9-BE1B07F5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DA61-18E6-43C0-8A25-B6C3208C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F65-98D1-44E4-8345-EA81F1C3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E1BA-CFAF-4C6F-9AB1-9A98DDBD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193-F879-4944-BE97-90C7A888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E237-44C0-4613-8BE0-80BB6E7EDE1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TRAPPEN VAN VERGELIJ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ES DEGRÉS DE COMPARAI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vergrotende trap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comparatif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00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lu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bijvoeglijk naamwoord of bijwoord (+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arles est gran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arles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grand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Domin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e bébé dort longtemp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e bébé dor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longtemps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sa mè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5926320" cy="57168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overtreffende trap 1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superlatif 1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539640" y="1476360"/>
            <a:ext cx="82296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 een bijvoeglijk naamwoord: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vergrotende tr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o es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rapid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ristine es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a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grand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es photos son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s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bell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Une femme </a:t>
            </a:r>
            <a:r>
              <a:rPr b="0" i="1" lang="nl-NL" sz="2200" spc="-1" strike="noStrike">
                <a:solidFill>
                  <a:srgbClr val="1f497d"/>
                </a:solidFill>
                <a:latin typeface="Calibri"/>
              </a:rPr>
              <a:t>intelligent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La femme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a plus intelligent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Une </a:t>
            </a:r>
            <a:r>
              <a:rPr b="0" i="1" lang="nl-NL" sz="2200" spc="-1" strike="noStrike">
                <a:solidFill>
                  <a:srgbClr val="1f497d"/>
                </a:solidFill>
                <a:latin typeface="Calibri"/>
              </a:rPr>
              <a:t>joli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femme.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a plus jolie</a:t>
            </a:r>
            <a:r>
              <a:rPr b="0" lang="nl-NL" sz="2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fem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hthoek 6"/>
          <p:cNvSpPr/>
          <p:nvPr/>
        </p:nvSpPr>
        <p:spPr>
          <a:xfrm>
            <a:off x="360360" y="1500120"/>
            <a:ext cx="756936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al 9"/>
          <p:cNvSpPr/>
          <p:nvPr/>
        </p:nvSpPr>
        <p:spPr>
          <a:xfrm>
            <a:off x="630360" y="3929040"/>
            <a:ext cx="42840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overtreffende trap 2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superlatif 2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147636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 een bijwoord: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vergrotende tra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Patricia cour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vit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que mo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Patricia cour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vit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Richard mang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lent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que son frè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Richard mange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lent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7"/>
          <p:cNvSpPr/>
          <p:nvPr/>
        </p:nvSpPr>
        <p:spPr>
          <a:xfrm>
            <a:off x="360360" y="1500120"/>
            <a:ext cx="514188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ere vergelij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539640" y="1476360"/>
            <a:ext cx="82296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t een bijvoeglijk naamwoor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ussi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oins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e moins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t een bijwoor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ussi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oins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e moins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zonder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640" y="1476000"/>
            <a:ext cx="832968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oed – beter – bes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voeglijk naamwoord =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eilleu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 meill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woord =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ien – mieux – le mieu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eilleur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a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a meilleur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 et Léa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meilleur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s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óór het zelfstandig naamwoord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travaill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ux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a travaill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ux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vaal 7"/>
          <p:cNvSpPr/>
          <p:nvPr/>
        </p:nvSpPr>
        <p:spPr>
          <a:xfrm>
            <a:off x="630360" y="4357800"/>
            <a:ext cx="428400" cy="428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IJL-RECHTS 8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hthoek 9"/>
          <p:cNvSpPr/>
          <p:nvPr/>
        </p:nvSpPr>
        <p:spPr>
          <a:xfrm>
            <a:off x="360360" y="1500120"/>
            <a:ext cx="6711840" cy="12146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6:38Z</dcterms:modified>
  <cp:revision>171</cp:revision>
  <dc:subject/>
  <dc:title>L’ADJECTIF</dc:title>
</cp:coreProperties>
</file>