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B2BF-7546-47B2-872D-F9C95520D1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Unité 3, Grammaire I, audio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 trappen van vergelij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s degrés de compara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3829-8392-425D-8139-B841F8F527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De zinnen moeten één voor één invloeien, op het juiste moment, synchroon aan de animati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ergrotende tr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comparat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De vergrotende trap maak je door het woord </a:t>
            </a:r>
            <a:r>
              <a:rPr b="0" i="1" lang="nl-NL" sz="1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oor een bijvoeglijk naamwoord of bijwoord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R: Charles est grand.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Charles est plus grand que Domi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arles is groot. Charles is groter dan Dominic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grand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 betekent dus ‘groter’. ‘Dan’ wordt vertaald me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e bébé dort longtemps. Le bébé dort plus longtemps que sa m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 baby slaapt lang. De baby slaapt langer dan zijn moeder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longtemp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betekent dus ‘langer’.  ‘Langer’ is hier een bijwoord, want het zegt iets over een werkwoord, namelijk sla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premièr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Voor de overtreffende trap moet je eerst weten of je het combineert met een bijvoeglijk naamwoord of met een bijwoor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Met een bijvoeglijk naamwoord maak je de overtreffende trap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, la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oor de vergrotende trap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u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o est le plus vite rap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o is het snelst. Léo is mannelijk, daarom gebruik je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hristine est la plus gran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ristine is het grootst. Hier zeggen we </a:t>
            </a:r>
            <a:r>
              <a:rPr b="0" i="1" lang="en-US" sz="1200" spc="-1" strike="noStrike" u="sng">
                <a:solidFill>
                  <a:srgbClr val="1f497d"/>
                </a:solidFill>
                <a:uFillTx/>
                <a:latin typeface="Calibri"/>
              </a:rPr>
              <a:t>la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 plus grand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mdat het om een vrouw gaat. De overtreffende trap krijgt dus de vrouwelijke vorm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es photos sont les plus bel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ze foto’s zijn het mooist. Foto’s is hier meervoud, dus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Normaal gesproken komt het bijvoeglijk naamwoord achter het zelfstandig naamwoord. Ook de overtreffende trap komt er dan achter te staan. D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Une femme intelligente. La femme la plus intellig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Een intelligente vrouw. De intelligentste vrou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Maar als het bijvoeglijk naamwoord vóór het zelfstandig naamwoord staat, komt ook de overtreffende trap ervoor te staan. Kijk maar naar het volgende voorbe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Une jolie femme. La plus jolie fem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Een mooie vrouw. De mooiste vrou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In unité 1 heb je geleerd wanneer het bijvoeglijk naamwoord vóór het zelfstandig naamwoord komt. Kijk nog maar eens in paragraaf 3.5 van je Man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deuxièm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We hebben gezien dat je de overtreffende trap kunt maken van een bijvoeglijk naamwoord. Maar de overtreffende trap kan ook gemaakt worden met een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bijwoord. De overtreffende trap met een bijwoord maak je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de vergrotende trap te zetten. Dus: le + vergrotende tr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Patricia court plus vite que moi. Patricia  court le plus v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Patricia rent sneller dan ik. Patricia rent het snel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Zoals je ziet, maakt het bij bijwoorden niet uit of de persoon om wie het gaat mannelijk of vrouwelijk is. Je gebruikt hier altijd 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plus lentement que son fr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langzamer dan zijn bro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le plus len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het langzaam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DA1E-4139-4AE6-80EB-8BD91DB745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Andere vergelijkin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kunt ook nog andere vergelijkingen maken. We geven hier enkele voorbeel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even interessant als de film. Of: Dit boek is net zo interessant als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minder interessant dan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het minst interess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woord zijn deze vormen precies hetzelfde. Kijk ma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even vriendelijk als Abdel. Of: net zo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minder vriendelijk dan 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 het mins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aussi betekent in deze zinnen dus niet ‘ook’, maar ‘even’ of ‘net zo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Uitzonderingen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urlijk kent het Frans ook hier weer een aantal uitzonderingen. Ten eerste is er een speciale vorm voor ‘goed’. ‘Goed – beter – best’ is in het Fran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on – meilleur – le meilleu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n combinatie met een bijvoeglijk naamwoord. In combinatie met een bijwoord gebruik j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Kijk maar naar de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is de beste leerling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a meilleur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is de beste leerling van de klas. We hebben gezien dat de overtreffende trap in combinatie met een bijvoeglijk naamwoor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bij zich kan hebben. Omdat Léa vrouwelijk is, is het hie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 meilleure élèv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In het meervoud krijg je d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Théo  et Léa sont les meilleurs élèves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en Léa zijn de beste leerlingen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is afgeleid van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Omda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het zelfstandig naamwoord komt, kom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er ook v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an nog twee zinnen met een bij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eo werkt het b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werkt het best. Je ziet, met een bijwoord gebruiken we altij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ok als het om een vrouw ga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185-9DAD-4733-A092-BED460AD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8ED-2198-43F3-ABD0-DA461F99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5A2-F55A-4C6D-8F54-6CAD753D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66D-3D43-4E1B-B916-CF235776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83E-6676-4971-9F5A-1E4BD5B3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70D-02E3-40CA-B982-50CA2CFB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733-33A6-4868-B911-9062624C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A8E-37F2-4ABC-AE6D-976C5D5D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CFC-3C2E-4B6A-8823-04101F1C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8A7-35BF-4A5C-AEE9-9C1CCDD7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985F-5D2B-4C7F-A029-2D3FFF91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D6B-340D-4F41-9AD2-76D90B23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7AD1-F088-40A6-BC1A-90008D88A20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TRAPPEN VAN VERGELIJ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S DEGRÉS DE COMPARAI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ergrotende trap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comparatif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bijvoeglijk naamwoord of bijwoord (+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gra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grand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Domin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longtemp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ongtemps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sa m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5926320" cy="5716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1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1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voeglijk naam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o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rapi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ristine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a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gran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photos son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s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bell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femm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a femme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joli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femme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jolie</a:t>
            </a:r>
            <a:r>
              <a:rPr b="0" lang="nl-NL" sz="2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fem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hoek 6"/>
          <p:cNvSpPr/>
          <p:nvPr/>
        </p:nvSpPr>
        <p:spPr>
          <a:xfrm>
            <a:off x="360360" y="1500120"/>
            <a:ext cx="756936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al 9"/>
          <p:cNvSpPr/>
          <p:nvPr/>
        </p:nvSpPr>
        <p:spPr>
          <a:xfrm>
            <a:off x="630360" y="392904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2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2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47636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mo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son fr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7"/>
          <p:cNvSpPr/>
          <p:nvPr/>
        </p:nvSpPr>
        <p:spPr>
          <a:xfrm>
            <a:off x="360360" y="1500120"/>
            <a:ext cx="51418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ere vergelij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zonder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1476000"/>
            <a:ext cx="83296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ed – beter – bes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 meill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ien – mieux – le mie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eilleur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a meilleu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 et Léa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eilleur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s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óór het zelfstandig naamwoord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al 7"/>
          <p:cNvSpPr/>
          <p:nvPr/>
        </p:nvSpPr>
        <p:spPr>
          <a:xfrm>
            <a:off x="630360" y="4357800"/>
            <a:ext cx="42840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IJL-RECHTS 8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hthoek 9"/>
          <p:cNvSpPr/>
          <p:nvPr/>
        </p:nvSpPr>
        <p:spPr>
          <a:xfrm>
            <a:off x="360360" y="1500120"/>
            <a:ext cx="6711840" cy="12146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6:38Z</dcterms:modified>
  <cp:revision>171</cp:revision>
  <dc:subject/>
  <dc:title>L’ADJECTIF</dc:title>
</cp:coreProperties>
</file>