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DA1-F1E6-45B9-A1E0-C553A783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5A4-74A9-4664-B5EC-DD7BD5A5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5A9-C8EC-4A83-BB97-4460821E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839-3CC3-42EE-BBDA-BB1C76A4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8B93-82FC-4FC6-AF40-906A407B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3531-B03D-43EB-8BB8-2F3FB483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4012-EC8C-4325-A3A6-A4AF81DC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82F9-BDEB-4276-A2CD-8F9B848E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A87B-80AC-4A88-B762-CDAC3653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4DE5-EA23-4E8C-8EF9-ACE84718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88F3-C53C-4827-95AF-EE49E768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4E8-E71D-4640-A0DF-ED1959F3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04C2-4A19-471D-94C7-86758210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8AD9-485D-4578-A9B6-470E32E6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A341-BED5-4687-8D1C-4656551E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FF2E-E7DF-4A3A-AE73-E4087BA3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4CEA-0A9E-4E62-886C-88DD7A85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644-56DE-4638-8A58-F281C0E7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8B07-28D9-4859-8298-6F77A296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E11-43C9-4A3A-9EBA-FACD4A31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DD2-4D86-4206-AA40-AE02D26D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9CD-042A-4093-9B2E-4CC555FB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F31-33AE-480D-B90D-3A06E8DC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245-488E-4EBD-94DD-A500D15D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87F9-B716-4E84-A148-E7536F5478A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A578-C1D9-49B5-A422-06B71208AC2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Meewerkend voorwer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Lijdend voorwer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grammaire"/>
          <p:cNvPicPr/>
          <p:nvPr/>
        </p:nvPicPr>
        <p:blipFill>
          <a:blip r:embed="rId1"/>
          <a:stretch/>
        </p:blipFill>
        <p:spPr>
          <a:xfrm>
            <a:off x="2627280" y="476280"/>
            <a:ext cx="38163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geef een boek aan j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geeft mij een brie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e donne un livre à toi. / Je te donne un liv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donne une lettre à moi. / Il me donne une let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/ 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u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M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donne un livre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ui donne un liv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donner une invitation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ui donner une invit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téléphone toujours à ses am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llons donner un cadeau à vou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demandé son adresse à son meilleur ami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 of voorwerp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heb een vriend, ik zie hem vaak na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heeft een vriendin, hij ziet haar altijd op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’ai un copain, je le vois souvent après l’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a une copine, il la voit toujours dans l´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</a:t>
            </a:r>
            <a:r>
              <a:rPr b="0" lang="nl-NL" sz="2400" spc="-1" strike="noStrike">
                <a:solidFill>
                  <a:srgbClr val="ffffff"/>
                </a:solidFill>
                <a:latin typeface="Berlin Sans FB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 / He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L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’ai deux cousin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es vois souv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a un cadeau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e donner à Pierr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une sœu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Ik ken – connaître - haar goed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Vous allez écrire une lettr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Morgen ga ik het lezen – lire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vons envoyé l’invitati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Zij heeft het ontvangen – recevoir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6:31:32Z</dcterms:created>
  <dc:creator>Algemeen</dc:creator>
  <dc:description/>
  <dc:language>en-US</dc:language>
  <cp:lastModifiedBy>Rob Nijhuis</cp:lastModifiedBy>
  <dcterms:modified xsi:type="dcterms:W3CDTF">2012-09-10T09:12:29Z</dcterms:modified>
  <cp:revision>15</cp:revision>
  <dc:subject/>
  <dc:title>Dia 1</dc:title>
</cp:coreProperties>
</file>