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61B17-FF02-48FE-B1FC-AF54DEA0F84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Audio p.1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Het bezittelijk voornaamwo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FR: Le pronom possessi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ijdelijke aanduiding voor dianumm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7412F-7DCA-46D9-ADD0-C848F4FC318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[p.2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De vorm van het bezittelijk voornaamwo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Mon, ma, mes, ton, ta, tes enzovoort zijn bezittelijke voornaamwoorden. De vorm van bezittelijk voornaamwoord wordt bepaald door het zelfstandig naamwoord dat erachter staa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Let op: de vorm wordt dus niet bepaald door de bezitter. Kijk goed naar de voorbeelden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[invloeien zinnen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FR: </a:t>
            </a:r>
            <a:r>
              <a:rPr b="0" lang="en-US" sz="900" spc="-1" strike="noStrike">
                <a:solidFill>
                  <a:srgbClr val="1f497d"/>
                </a:solidFill>
                <a:latin typeface="Calibri"/>
              </a:rPr>
              <a:t>Emilie a un chien. C’est </a:t>
            </a:r>
            <a:r>
              <a:rPr b="0" i="1" lang="en-US" sz="900" spc="-1" strike="noStrike">
                <a:solidFill>
                  <a:srgbClr val="9bbb59"/>
                </a:solidFill>
                <a:latin typeface="Calibri"/>
              </a:rPr>
              <a:t>son</a:t>
            </a:r>
            <a:r>
              <a:rPr b="0" lang="en-US" sz="900" spc="-1" strike="noStrike">
                <a:solidFill>
                  <a:srgbClr val="1f497d"/>
                </a:solidFill>
                <a:latin typeface="Calibri"/>
              </a:rPr>
              <a:t> chien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f497d"/>
                </a:solidFill>
                <a:latin typeface="Calibri"/>
              </a:rPr>
              <a:t>Stem NL: Emilie heeft een hond. Het is </a:t>
            </a:r>
            <a:r>
              <a:rPr b="1" i="1" lang="en-US" sz="900" spc="-1" strike="noStrike">
                <a:solidFill>
                  <a:srgbClr val="1f497d"/>
                </a:solidFill>
                <a:latin typeface="Calibri"/>
              </a:rPr>
              <a:t>haar</a:t>
            </a:r>
            <a:r>
              <a:rPr b="1" lang="en-US" sz="9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900" spc="-1" strike="noStrike">
                <a:solidFill>
                  <a:srgbClr val="1f497d"/>
                </a:solidFill>
                <a:latin typeface="Calibri"/>
              </a:rPr>
              <a:t>hond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f497d"/>
                </a:solidFill>
                <a:latin typeface="Calibri"/>
              </a:rPr>
              <a:t>Stem FR: Marc a une voiture. C’est </a:t>
            </a:r>
            <a:r>
              <a:rPr b="0" i="1" lang="en-US" sz="900" spc="-1" strike="noStrike">
                <a:solidFill>
                  <a:srgbClr val="1f497d"/>
                </a:solidFill>
                <a:latin typeface="Calibri"/>
              </a:rPr>
              <a:t>sa </a:t>
            </a:r>
            <a:r>
              <a:rPr b="0" lang="en-US" sz="900" spc="-1" strike="noStrike">
                <a:solidFill>
                  <a:srgbClr val="1f497d"/>
                </a:solidFill>
                <a:latin typeface="Calibri"/>
              </a:rPr>
              <a:t>voiture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f497d"/>
                </a:solidFill>
                <a:latin typeface="Calibri"/>
              </a:rPr>
              <a:t>Stem NL: Marc heeft een auto. Het is </a:t>
            </a:r>
            <a:r>
              <a:rPr b="1" i="1" lang="en-US" sz="900" spc="-1" strike="noStrike">
                <a:solidFill>
                  <a:srgbClr val="1f497d"/>
                </a:solidFill>
                <a:latin typeface="Calibri"/>
              </a:rPr>
              <a:t>zijn</a:t>
            </a:r>
            <a:r>
              <a:rPr b="1" lang="en-US" sz="9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900" spc="-1" strike="noStrike">
                <a:solidFill>
                  <a:srgbClr val="1f497d"/>
                </a:solidFill>
                <a:latin typeface="Calibri"/>
              </a:rPr>
              <a:t>auto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f497d"/>
                </a:solidFill>
                <a:latin typeface="Calibri"/>
              </a:rPr>
              <a:t>Stem NL:</a:t>
            </a:r>
            <a:r>
              <a:rPr b="0" lang="nl-NL" sz="900" spc="-1" strike="noStrike">
                <a:solidFill>
                  <a:srgbClr val="1f497d"/>
                </a:solidFill>
                <a:latin typeface="Calibri"/>
              </a:rPr>
              <a:t> Als het zelfstandig naamwoord met een klinker of met een stomme h of begint, gebruik dan de mannelijke vorm van het bezittelijk voornaamwoord ook al is het zelfstandig naamwoord vrouwelijk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1f497d"/>
                </a:solidFill>
                <a:latin typeface="Calibri"/>
              </a:rPr>
              <a:t>Stem FR: Julie est </a:t>
            </a:r>
            <a:r>
              <a:rPr b="0" i="1" lang="nl-NL" sz="900" spc="-1" strike="noStrike">
                <a:solidFill>
                  <a:srgbClr val="1f497d"/>
                </a:solidFill>
                <a:latin typeface="Calibri"/>
              </a:rPr>
              <a:t>mon</a:t>
            </a:r>
            <a:r>
              <a:rPr b="0" lang="nl-NL" sz="900" spc="-1" strike="noStrike">
                <a:solidFill>
                  <a:srgbClr val="1f497d"/>
                </a:solidFill>
                <a:latin typeface="Calibri"/>
              </a:rPr>
              <a:t> amie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1f497d"/>
                </a:solidFill>
                <a:latin typeface="Calibri"/>
              </a:rPr>
              <a:t>Stem FR: Elle m’a raconté </a:t>
            </a:r>
            <a:r>
              <a:rPr b="0" i="1" lang="nl-NL" sz="900" spc="-1" strike="noStrike">
                <a:solidFill>
                  <a:srgbClr val="1f497d"/>
                </a:solidFill>
                <a:latin typeface="Calibri"/>
              </a:rPr>
              <a:t>son</a:t>
            </a:r>
            <a:r>
              <a:rPr b="0" lang="nl-NL" sz="900" spc="-1" strike="noStrike">
                <a:solidFill>
                  <a:srgbClr val="1f497d"/>
                </a:solidFill>
                <a:latin typeface="Calibri"/>
              </a:rPr>
              <a:t> histoire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1f497d"/>
                </a:solidFill>
                <a:latin typeface="Calibri"/>
              </a:rPr>
              <a:t>Stem NL: Raadpleeg het Manuel en bestudeer de volledige lijst van bezittelijke voornaamwoorden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[p.3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Het bezittelijk voornaamwoord zelfstandig gebruik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Het bezittelijk voornaamwoord neemt een andere vorm aan als het zelfstandig gebruikt wordt, er staat dan geen zelfstandig naamwoord direkt naast. Een paar voorbeelde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FR: A qui est ce livre? - C’est mon livre. - C’est le mi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Van wie is dit boek?? Het is mijn boek – het is de mijne. Let op het zelfstandig naamwoord. Het zelfstandig naamwoord bepaalt ook hier de vorm van het zelfstandig gebruikte bezittelijk voornaamwoord. Kijk nog maar ee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FR: Ces clés, ce sont les vôtres? – Oui, ce sont les mien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Deze sleutels, zijn het de uwe? – Ja, het zijn de mij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Raadpleeg het Manuel en bestudeer de volledige lijst van zelfstandig gebruikte bezittelijke voornaamwoord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757D-3067-4236-BFDD-87ABEB584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658A-A78D-452B-8596-B96A3F503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9239-0E47-4377-B16A-CF41F9903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7995-6860-45AF-922E-A4D3BDC21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4476-5E1D-4447-94DA-D0C2A9393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12EE-4B52-4165-87AF-C6FE265D5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2D2B-B4A5-4C8F-AA1C-E22B1073A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5FD1-F610-4598-A8E4-1588E8E6C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5C8E-4981-44D0-B370-311F67879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B682-499B-41A2-AE3E-4309B3F10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160D-0FBF-4098-9655-5BA547B2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1827-365A-429B-9110-96A138E30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A7457-A542-4094-B943-59B68767263D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14320"/>
            <a:ext cx="7772400" cy="192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T BEZITTELIJK VOORNAAMWOO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4280" y="3857760"/>
            <a:ext cx="6400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70c0"/>
                </a:solidFill>
                <a:latin typeface="Calibri"/>
              </a:rPr>
              <a:t>LE PRONOM POSSESSI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Ondertitel 2"/>
          <p:cNvSpPr/>
          <p:nvPr/>
        </p:nvSpPr>
        <p:spPr>
          <a:xfrm>
            <a:off x="1357200" y="1857240"/>
            <a:ext cx="64008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280" y="502920"/>
            <a:ext cx="8101080" cy="711000"/>
          </a:xfrm>
          <a:prstGeom prst="rect">
            <a:avLst/>
          </a:prstGeom>
          <a:noFill/>
          <a:ln w="0">
            <a:noFill/>
          </a:ln>
        </p:spPr>
        <p:txBody>
          <a:bodyPr t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 vorm van het bezittelijk voornaamwoo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9640" y="147636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tIns="90000" bIns="90000"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et bezittelijk voornaamwoord wordt bepaald door het zelfstandig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oornaamwoord dat erachter staat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Emilie a un chien. C’est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son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chien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Marc a une voiture. C’est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sa</a:t>
            </a:r>
            <a:r>
              <a:rPr b="0" lang="en-US" sz="2200" spc="-1" strike="noStrike">
                <a:solidFill>
                  <a:srgbClr val="4f6228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voitur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omme h / klinker?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de mannelijke vor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Julie est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mon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</a:rPr>
              <a:t>a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mi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Elle m’a raconté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son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</a:rPr>
              <a:t> h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istoir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aadpleeg het Manue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7500960" y="597132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IJL-RECHTS 5"/>
          <p:cNvSpPr/>
          <p:nvPr/>
        </p:nvSpPr>
        <p:spPr>
          <a:xfrm>
            <a:off x="7143840" y="6012000"/>
            <a:ext cx="376200" cy="28872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hthoek 11"/>
          <p:cNvSpPr/>
          <p:nvPr/>
        </p:nvSpPr>
        <p:spPr>
          <a:xfrm>
            <a:off x="360360" y="1500120"/>
            <a:ext cx="8212320" cy="857160"/>
          </a:xfrm>
          <a:prstGeom prst="rect">
            <a:avLst/>
          </a:prstGeom>
          <a:noFill/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hthoek 6"/>
          <p:cNvSpPr/>
          <p:nvPr/>
        </p:nvSpPr>
        <p:spPr>
          <a:xfrm>
            <a:off x="357120" y="3929040"/>
            <a:ext cx="8212320" cy="428760"/>
          </a:xfrm>
          <a:prstGeom prst="rect">
            <a:avLst/>
          </a:prstGeom>
          <a:noFill/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al 7"/>
          <p:cNvSpPr/>
          <p:nvPr/>
        </p:nvSpPr>
        <p:spPr>
          <a:xfrm>
            <a:off x="857160" y="5929200"/>
            <a:ext cx="428760" cy="42876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Wide Latin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Boog 8"/>
          <p:cNvSpPr/>
          <p:nvPr/>
        </p:nvSpPr>
        <p:spPr>
          <a:xfrm flipH="1" flipV="1" rot="18761400">
            <a:off x="3351960" y="2144160"/>
            <a:ext cx="928440" cy="782640"/>
          </a:xfrm>
          <a:custGeom>
            <a:avLst/>
            <a:gdLst/>
            <a:ahLst/>
            <a:rect l="l" t="t" r="r" b="b"/>
            <a:pathLst>
              <a:path stroke="0" w="928687" h="782638">
                <a:moveTo>
                  <a:pt x="464343" y="0"/>
                </a:moveTo>
                <a:cubicBezTo>
                  <a:pt x="720793" y="0"/>
                  <a:pt x="928687" y="175199"/>
                  <a:pt x="928687" y="391319"/>
                </a:cubicBezTo>
                <a:lnTo>
                  <a:pt x="464344" y="391319"/>
                </a:lnTo>
                <a:cubicBezTo>
                  <a:pt x="464344" y="260879"/>
                  <a:pt x="464343" y="130440"/>
                  <a:pt x="464343" y="0"/>
                </a:cubicBezTo>
                <a:close/>
              </a:path>
              <a:path fill="none" w="928687" h="782638">
                <a:moveTo>
                  <a:pt x="464343" y="0"/>
                </a:moveTo>
                <a:cubicBezTo>
                  <a:pt x="720793" y="0"/>
                  <a:pt x="928687" y="175199"/>
                  <a:pt x="928687" y="391319"/>
                </a:cubicBezTo>
              </a:path>
            </a:pathLst>
          </a:custGeom>
          <a:noFill/>
          <a:ln w="63360">
            <a:solidFill>
              <a:srgbClr val="1f497d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Boog 9"/>
          <p:cNvSpPr/>
          <p:nvPr/>
        </p:nvSpPr>
        <p:spPr>
          <a:xfrm flipH="1" flipV="1" rot="18761400">
            <a:off x="3494520" y="2716200"/>
            <a:ext cx="928440" cy="782640"/>
          </a:xfrm>
          <a:custGeom>
            <a:avLst/>
            <a:gdLst/>
            <a:ahLst/>
            <a:rect l="l" t="t" r="r" b="b"/>
            <a:pathLst>
              <a:path stroke="0" w="928687" h="782638">
                <a:moveTo>
                  <a:pt x="464343" y="0"/>
                </a:moveTo>
                <a:cubicBezTo>
                  <a:pt x="720793" y="0"/>
                  <a:pt x="928687" y="175199"/>
                  <a:pt x="928687" y="391319"/>
                </a:cubicBezTo>
                <a:lnTo>
                  <a:pt x="464344" y="391319"/>
                </a:lnTo>
                <a:cubicBezTo>
                  <a:pt x="464344" y="260879"/>
                  <a:pt x="464343" y="130440"/>
                  <a:pt x="464343" y="0"/>
                </a:cubicBezTo>
                <a:close/>
              </a:path>
              <a:path fill="none" w="928687" h="782638">
                <a:moveTo>
                  <a:pt x="464343" y="0"/>
                </a:moveTo>
                <a:cubicBezTo>
                  <a:pt x="720793" y="0"/>
                  <a:pt x="928687" y="175199"/>
                  <a:pt x="928687" y="391319"/>
                </a:cubicBezTo>
              </a:path>
            </a:pathLst>
          </a:custGeom>
          <a:noFill/>
          <a:ln w="63360">
            <a:solidFill>
              <a:srgbClr val="1f497d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Boog 10"/>
          <p:cNvSpPr/>
          <p:nvPr/>
        </p:nvSpPr>
        <p:spPr>
          <a:xfrm flipH="1" flipV="1" rot="18761400">
            <a:off x="1780560" y="4073040"/>
            <a:ext cx="928440" cy="782640"/>
          </a:xfrm>
          <a:custGeom>
            <a:avLst/>
            <a:gdLst/>
            <a:ahLst/>
            <a:rect l="l" t="t" r="r" b="b"/>
            <a:pathLst>
              <a:path stroke="0" w="928688" h="782638">
                <a:moveTo>
                  <a:pt x="464344" y="0"/>
                </a:moveTo>
                <a:cubicBezTo>
                  <a:pt x="720794" y="0"/>
                  <a:pt x="928688" y="175199"/>
                  <a:pt x="928688" y="391319"/>
                </a:cubicBezTo>
                <a:lnTo>
                  <a:pt x="464344" y="391319"/>
                </a:lnTo>
                <a:lnTo>
                  <a:pt x="464344" y="0"/>
                </a:lnTo>
                <a:close/>
              </a:path>
              <a:path fill="none" w="928688" h="782638">
                <a:moveTo>
                  <a:pt x="464344" y="0"/>
                </a:moveTo>
                <a:cubicBezTo>
                  <a:pt x="720794" y="0"/>
                  <a:pt x="928688" y="175199"/>
                  <a:pt x="928688" y="391319"/>
                </a:cubicBezTo>
              </a:path>
            </a:pathLst>
          </a:custGeom>
          <a:noFill/>
          <a:ln w="63360">
            <a:solidFill>
              <a:srgbClr val="1f497d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Boog 12"/>
          <p:cNvSpPr/>
          <p:nvPr/>
        </p:nvSpPr>
        <p:spPr>
          <a:xfrm flipH="1" flipV="1" rot="18761400">
            <a:off x="2565720" y="4645080"/>
            <a:ext cx="928440" cy="782640"/>
          </a:xfrm>
          <a:custGeom>
            <a:avLst/>
            <a:gdLst/>
            <a:ahLst/>
            <a:rect l="l" t="t" r="r" b="b"/>
            <a:pathLst>
              <a:path stroke="0" w="928688" h="782637">
                <a:moveTo>
                  <a:pt x="464344" y="0"/>
                </a:moveTo>
                <a:cubicBezTo>
                  <a:pt x="720794" y="0"/>
                  <a:pt x="928688" y="175199"/>
                  <a:pt x="928688" y="391319"/>
                </a:cubicBezTo>
                <a:lnTo>
                  <a:pt x="464344" y="391319"/>
                </a:lnTo>
                <a:lnTo>
                  <a:pt x="464344" y="0"/>
                </a:lnTo>
                <a:close/>
              </a:path>
              <a:path fill="none" w="928688" h="782637">
                <a:moveTo>
                  <a:pt x="464344" y="0"/>
                </a:moveTo>
                <a:cubicBezTo>
                  <a:pt x="720794" y="0"/>
                  <a:pt x="928688" y="175199"/>
                  <a:pt x="928688" y="391319"/>
                </a:cubicBezTo>
              </a:path>
            </a:pathLst>
          </a:custGeom>
          <a:noFill/>
          <a:ln w="63360">
            <a:solidFill>
              <a:srgbClr val="1f497d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5029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elfstandig gebruikt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539640" y="1476360"/>
            <a:ext cx="8229600" cy="46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Zelfstandig gebruikt?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een andere vo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A qui est ce 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</a:rPr>
              <a:t>livre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?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C’est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mon</a:t>
            </a:r>
            <a:r>
              <a:rPr b="0" lang="en-US" sz="2200" spc="-1" strike="noStrike">
                <a:solidFill>
                  <a:srgbClr val="92d05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livre</a:t>
            </a:r>
            <a:r>
              <a:rPr b="0" i="1" lang="en-US" sz="2200" spc="-1" strike="noStrike">
                <a:solidFill>
                  <a:srgbClr val="1f497d"/>
                </a:solidFill>
                <a:latin typeface="Calibri"/>
              </a:rPr>
              <a:t>.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C’est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le mien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Ces 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</a:rPr>
              <a:t>clés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, ce sont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les vôtres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?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Oui, ce sont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les miennes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aadpleeg het Manue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7500960" y="597132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IJL-RECHTS 7"/>
          <p:cNvSpPr/>
          <p:nvPr/>
        </p:nvSpPr>
        <p:spPr>
          <a:xfrm>
            <a:off x="7143840" y="6012000"/>
            <a:ext cx="376200" cy="28872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hthoek 6"/>
          <p:cNvSpPr/>
          <p:nvPr/>
        </p:nvSpPr>
        <p:spPr>
          <a:xfrm>
            <a:off x="360360" y="1500120"/>
            <a:ext cx="7926480" cy="500040"/>
          </a:xfrm>
          <a:prstGeom prst="rect">
            <a:avLst/>
          </a:prstGeom>
          <a:noFill/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al 8"/>
          <p:cNvSpPr/>
          <p:nvPr/>
        </p:nvSpPr>
        <p:spPr>
          <a:xfrm>
            <a:off x="785880" y="4572000"/>
            <a:ext cx="428400" cy="42876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Wide Latin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3T06:19:10Z</dcterms:created>
  <dc:creator>Patrick Schuitema</dc:creator>
  <dc:description/>
  <dc:language>en-US</dc:language>
  <cp:lastModifiedBy>Rob</cp:lastModifiedBy>
  <dcterms:modified xsi:type="dcterms:W3CDTF">2013-01-30T10:12:57Z</dcterms:modified>
  <cp:revision>185</cp:revision>
  <dc:subject/>
  <dc:title>L’ADJECTIF</dc:title>
</cp:coreProperties>
</file>