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FE7-2D6F-4924-9412-4E259FA5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F2A-AAF4-4819-9636-517D7C02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F1A-A3DB-4564-8AB0-E543BF14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B8A-5DC3-40DC-B3A1-ACEE385A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373B-B0CB-47B3-8606-D4E24C6E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5DB1-4971-4B7E-9401-0E00E720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C9DF-0510-4A3D-88AA-F71EC8CF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CF7D-A927-43E4-942D-39E5E4F9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BA54-43DD-440E-B0F4-80DCAB6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4D3-667C-43BC-A4B8-55C03BD2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8240-301C-4F05-93DF-28318BF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E71-59BF-4A7F-AC8A-0BD7FE37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C888-1DD3-4B9C-B787-2D1E97B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7FDE-178C-42B2-B5B5-6DFDA14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7E2D-04C1-4092-9E77-78B4AFBB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4636-1209-4CD4-9486-89666583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5F4A-AF06-46F2-9272-571DCBD8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0CF-9BB0-469D-BFD4-4A432035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D7C-5C9F-455C-B16D-BC03186E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C7C-DFC3-4D09-B372-58909485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A34-37FC-44F4-B8EA-2EB2C8B2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83B-2813-4104-94A4-0EFD538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309-4602-4E2E-A7E6-D857597F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93B-C7C1-4B48-8DDC-28438A22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3245-667A-491D-BEF7-1381837E65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E5F4-A8CE-404A-94D0-BF2E691EE4B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Meewerkend voorwer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Lijdend voorwe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grammaire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geef een boek aan j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geeft mij een bri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e donne un livre à toi. / Je te donne un liv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donne une lettre à moi. / Il me donne une let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/ 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u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M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donne un livre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ui donne un liv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donner une invitation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ui donner une invi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téléphone toujours à ses am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llons donner un cadeau à vou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demandé son adresse à son meilleur ami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 of voorwer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heb een vriend, ik zie hem vaak na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heeft een vriendin, hij ziet haar altijd op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’ai un copain, je le vois souvent après l’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a une copine, il la voit toujours dans l´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</a:t>
            </a:r>
            <a:r>
              <a:rPr b="0" lang="nl-NL" sz="2400" spc="-1" strike="noStrike">
                <a:solidFill>
                  <a:srgbClr val="ffffff"/>
                </a:solidFill>
                <a:latin typeface="Berlin Sans FB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 / He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L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’ai deux cousi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es vois souv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a un cade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e donner à Pier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une sœu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Ik ken – connaître - haar go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Vous allez écrire une lettr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Morgen ga ik het lezen – lir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vons envoyé l’invita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Zij heeft het ontvangen – recevoi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31:32Z</dcterms:created>
  <dc:creator>Algemeen</dc:creator>
  <dc:description/>
  <dc:language>en-US</dc:language>
  <cp:lastModifiedBy>Rob Nijhuis</cp:lastModifiedBy>
  <dcterms:modified xsi:type="dcterms:W3CDTF">2012-09-10T09:12:29Z</dcterms:modified>
  <cp:revision>15</cp:revision>
  <dc:subject/>
  <dc:title>Dia 1</dc:title>
</cp:coreProperties>
</file>