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8213-CACD-4A68-AC3E-9AA7CC6CDE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ij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’adver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89B1-D86D-44B7-911A-048E9020F4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Woorden als ‘comp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zovoort zijn bijwoorden. Terwijl een bijvoeglijk naamwoord altijd iets zegt over een zelfstandig naamwoord, kan een bijwoord iets zeggen over verschillende delen van een z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voorbeeldzinnen met audio zinnen: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werk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Mon vieil ordinateur fonctionne bien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nctionn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ijn oude computer werkt goed. Bien zegt hier dus iets over het werken van de computer, namelijk g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ook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voeglijk 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Il est complètement fou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complèt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u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Hij is helemaal g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f een bijwoord zegt iet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ander bijwo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Emilie répond vraiment poliment au contrôleur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pol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milie antwoordt de conducteur ech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enslotte kan een bijwoord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volledige z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Heureusement, leur projet a eu du succès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rest van de zi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Gelukkig heeft hun project succes geh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p. 3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Regelmatige vor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 meeste bijwoorden hebben een regelmatige vorm. De regelmatige vorm is afgeleid van het bijvoeglijk naamwoord. Er zijn drie mogelijkh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ls het bijvoeglijk naamwoord eindigt op een klinker, komt er -ment achter om het bijwoord te vor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infini – infin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Il me regarde infin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 het bijvoeglijk naamwoord op een medeklinker eindigt, maak je het eerst vrouwelijk en voeg je -ment to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exacte – exac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Elle dit exactement ç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Als het bijvoeglijk naamwoord op -ent/-ant eindigt, gebruik je -emment of -amment om het bijwoord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suffisant – suffisam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Tu as suffisamment travaill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invloeien uitroepteken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t op! Het bijvoeglijk naamwoord lent is een uitzondering op deze laatste rege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nt wordt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FR: Elle roule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nregelmatige vor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 zijn bijwoorden die niet op een regelmatige manier gevormd worden. Hier is een lijst met veelvoorkomende onregelmatige vormen. Bestudeer deze lijst goed en leer deze bijwoorden uit je hoof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bon – b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travaille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eilleur – m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est mieux prépar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auvais – 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Tes parents sont mal inform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ai - gai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bébé me sourit gai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entil – gent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m’a répondu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long – longte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Ça dure longte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pide - v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Donne-moi vite ton por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CCE9-52DB-4A95-9D0F-6DA84E3ACD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Vaste uitdrukk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Let op! Er zijn in het Frans een paar vaste uitdrukkingen waarin het bijwoord de vorm blijft houden van het bijvoeglijk naamwoord. Dit zijn die uitdrukki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Zinnen 1 voor 1 invloeien , vervolgens st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ravailler 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 travaillé dur pour mon examen de m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rler haut / parler 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ul parle bas pour ne pas réveiller son p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sentir bon / sentir mauv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me ce parfum. Ça sent b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faire pare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vas tomber si tu fais parei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coûter cher / payer cher / vendre cher / acheter 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l’as payé cher, ce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7B0-FCFF-4953-89C8-2CBA188E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16F-716A-4E24-BBCE-062307BF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446-986E-417F-AA62-2A630B24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0DA-02D2-40F3-9D97-E12C4F91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2D4-B8AC-4721-9213-9C9CEF07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01D-C325-47EF-8F33-954BB1B8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64E-1974-4BFD-9B87-D4325424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83E-6F6D-4C59-BFFF-D0EDD8D2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514-21FC-4163-94AC-7CD6D0BD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F8A-3744-4654-9321-AD4B67FE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DDE-E01D-4AB8-9955-0EB0C03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B7A-5C0A-466E-8B16-FAB5DEB4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BF60-3812-47A0-B6DB-7F2275D0CD0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IJ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’ADVER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 is een bijwo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woord zegt iets o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werk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on vieil ordinateur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nctionn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bien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voeglijk naamwoor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complètement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u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ander bij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répond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vraiment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poli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au contrôleur.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hele zi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Heureus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leur projet a eu du succès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oog 18"/>
          <p:cNvSpPr/>
          <p:nvPr/>
        </p:nvSpPr>
        <p:spPr>
          <a:xfrm flipH="1" flipV="1" rot="18761400">
            <a:off x="3280320" y="28908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oog 19"/>
          <p:cNvSpPr/>
          <p:nvPr/>
        </p:nvSpPr>
        <p:spPr>
          <a:xfrm flipV="1" rot="2838600">
            <a:off x="4709520" y="20732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20"/>
          <p:cNvSpPr/>
          <p:nvPr/>
        </p:nvSpPr>
        <p:spPr>
          <a:xfrm flipH="1" flipV="1" rot="18761400">
            <a:off x="3851640" y="371628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21"/>
          <p:cNvSpPr/>
          <p:nvPr/>
        </p:nvSpPr>
        <p:spPr>
          <a:xfrm flipH="1" flipV="1" rot="18761400">
            <a:off x="2994480" y="450216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e vo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rming van het bijwoord is afgeleid van het bijvoeglij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aamwo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: klinker (a, e, i, o, u)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ini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infini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e regarde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infini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medeklink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vrouwelijke vorm +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xac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lle a dit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exact</a:t>
            </a:r>
            <a:r>
              <a:rPr b="0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e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-ent of -a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emment of -am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suffisa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suffisam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as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suffis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m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ravaill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ente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lle roule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en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6"/>
          <p:cNvSpPr/>
          <p:nvPr/>
        </p:nvSpPr>
        <p:spPr>
          <a:xfrm>
            <a:off x="360360" y="1500120"/>
            <a:ext cx="7926480" cy="7858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al 8"/>
          <p:cNvSpPr/>
          <p:nvPr/>
        </p:nvSpPr>
        <p:spPr>
          <a:xfrm>
            <a:off x="714240" y="5500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regelmatige vor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travaill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répar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uvai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es parents son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ormé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a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 bébé me souri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nti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’a répondu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Ça dur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api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Donne-mo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on por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7"/>
          <p:cNvSpPr/>
          <p:nvPr/>
        </p:nvSpPr>
        <p:spPr>
          <a:xfrm>
            <a:off x="360360" y="1500120"/>
            <a:ext cx="8569440" cy="414360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ste uitdru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476360"/>
            <a:ext cx="82296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ravailler d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travaillé dur</a:t>
            </a:r>
            <a:r>
              <a:rPr b="1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mon examen de m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rler haut / ba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Paul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rle bas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ne pas réveiller son pè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entir bon / mauvai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me ce parfum. Ça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sent bo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aire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vas tomber si tu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fais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ûter / payer / vendr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u l’as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yé cher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, ce vé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/ acheter cher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8"/>
          <p:cNvSpPr/>
          <p:nvPr/>
        </p:nvSpPr>
        <p:spPr>
          <a:xfrm>
            <a:off x="714240" y="164304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0:33Z</dcterms:modified>
  <cp:revision>188</cp:revision>
  <dc:subject/>
  <dc:title>L’ADJECTIF</dc:title>
</cp:coreProperties>
</file>