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92E3-C6D8-41E2-AF7B-52B16E0860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pronom possess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4EDA-A82A-47BB-A468-63ACEB072B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orm van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on, ma, mes, ton, ta, tes enzovoort zijn bezittelijke voornaamwoorden. De vorm van bezittelijk voornaamwoord wordt bepaald door het zelfstandig naamwoord dat erachter sta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de vorm wordt dus niet bepaald door de bezitter. Kijk goed naar de voorbeelde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zinne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0" i="1" lang="en-US" sz="900" spc="-1" strike="noStrike">
                <a:solidFill>
                  <a:srgbClr val="9bbb59"/>
                </a:solidFill>
                <a:latin typeface="Calibri"/>
              </a:rPr>
              <a:t>son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 chi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Emilie heeft een hond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haar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hon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FR: Marc a une voiture. C’est </a:t>
            </a:r>
            <a:r>
              <a:rPr b="0" i="1" lang="en-US" sz="900" spc="-1" strike="noStrike">
                <a:solidFill>
                  <a:srgbClr val="1f497d"/>
                </a:solidFill>
                <a:latin typeface="Calibri"/>
              </a:rPr>
              <a:t>sa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voitur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Marc heeft een auto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zijn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au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ls het zelfstandig naamwoord met een klinker of met een stomme h of begint, gebruik dan de mannelijke vorm van het bezittelijk voornaamwoord ook al is het zelfstandig naamwoord vrouwelij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Julie est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m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mi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Elle m’a raconté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s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histoir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NL: Raadpleeg het Manuel en bestudeer de volledige lijst van bezittelijke voornaamwoord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et bezittelijk voornaamwoord zelfstandig gebrui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 neemt een andere vorm aan als het zelfstandig gebruikt wordt, er staat dan geen zelfstandig naamwoord direkt naast. Een paar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A qui est ce livre? - C’est mon livre. - C’est le m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Van wie is dit boek?? Het is mijn boek – het is de mijne. Let op het zelfstandig naamwoord. Het zelfstandig naamwoord bepaalt ook hier de vorm van het zelfstandig gebruikte bezittelijk voornaamwoord. Kijk nog maar e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Ces clés, ce sont les vôtres? – Oui, ce sont les mien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ze sleutels, zijn het de uwe? – Ja, het zijn de mij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adpleeg het Manuel en bestudeer de volledige lijst van zelfstandig gebruikte bezittelijke voornaamwo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869-C563-482A-B32E-054401A8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D07-84D9-4CCC-8351-FA9FE4C2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B87-501F-411A-ABC0-FAC87F90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151-6514-4A82-AE21-FDF2E88A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859-3AB8-4572-B24A-AF81EA2E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9FA-8ED8-4E1D-A25B-42217986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B61-AEF9-4369-A33A-24EB1727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86E-8930-459A-A8B4-7E924B44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B84-A22B-4871-9EB9-A26AFCB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B10-9699-443E-BA27-50092393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F8B-05B1-4F36-A7F3-1980719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D12-FB51-4CF5-84B8-95209134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68BE-ACD2-4D34-AB1C-E114367B5B0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EZITTELIJK VOORNAAM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 PRONOM POSSESS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orm van het bezittelijk voornaam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 bezittelijk voornaamwoord wordt bepaald door het zelfstandi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naamwoord dat erachter staa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chi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rc a une voiture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a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voitu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mme h / klinker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 mannelijke v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Julie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i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lle m’a raconté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h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stoi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8571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6"/>
          <p:cNvSpPr/>
          <p:nvPr/>
        </p:nvSpPr>
        <p:spPr>
          <a:xfrm>
            <a:off x="357120" y="392904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7"/>
          <p:cNvSpPr/>
          <p:nvPr/>
        </p:nvSpPr>
        <p:spPr>
          <a:xfrm>
            <a:off x="857160" y="592920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8"/>
          <p:cNvSpPr/>
          <p:nvPr/>
        </p:nvSpPr>
        <p:spPr>
          <a:xfrm flipH="1" flipV="1" rot="18761400">
            <a:off x="3351960" y="214416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9"/>
          <p:cNvSpPr/>
          <p:nvPr/>
        </p:nvSpPr>
        <p:spPr>
          <a:xfrm flipH="1" flipV="1" rot="18761400">
            <a:off x="3494520" y="27162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oog 10"/>
          <p:cNvSpPr/>
          <p:nvPr/>
        </p:nvSpPr>
        <p:spPr>
          <a:xfrm flipH="1" flipV="1" rot="18761400">
            <a:off x="1780560" y="40730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oog 12"/>
          <p:cNvSpPr/>
          <p:nvPr/>
        </p:nvSpPr>
        <p:spPr>
          <a:xfrm flipH="1" flipV="1" rot="18761400">
            <a:off x="2565720" y="464508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lfstandig gebruik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9640" y="1476360"/>
            <a:ext cx="82296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elfstandig gebruikt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en andere v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 qui est ce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clé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vôtr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Oui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ienn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6"/>
          <p:cNvSpPr/>
          <p:nvPr/>
        </p:nvSpPr>
        <p:spPr>
          <a:xfrm>
            <a:off x="360360" y="1500120"/>
            <a:ext cx="79264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al 8"/>
          <p:cNvSpPr/>
          <p:nvPr/>
        </p:nvSpPr>
        <p:spPr>
          <a:xfrm>
            <a:off x="785880" y="457200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2:57Z</dcterms:modified>
  <cp:revision>185</cp:revision>
  <dc:subject/>
  <dc:title>L’ADJECTIF</dc:title>
</cp:coreProperties>
</file>