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6663-F624-4B4C-AA14-4B21D5944F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Unité 3, Grammaire I, audio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p.1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De trappen van vergelij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Les degrés de compara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CED8-6406-459F-8F63-E75AF26B44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De zinnen moeten één voor één invloeien, op het juiste moment, synchroon aan de animatie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2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De vergrotende tr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Le comparat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De vergrotende trap maak je door het woord </a:t>
            </a:r>
            <a:r>
              <a:rPr b="0" i="1" lang="nl-NL" sz="1200" spc="-1" strike="noStrike">
                <a:solidFill>
                  <a:srgbClr val="000000"/>
                </a:solidFill>
                <a:latin typeface="Calibri"/>
              </a:rPr>
              <a:t>plus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voor een bijvoeglijk naamwoord of bijwoord te zet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FR: Charles est grand. 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Charles est plus grand que Domin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Charles is groot. Charles is groter dan Dominic. ‘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Plus grand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’  betekent dus ‘groter’. ‘Dan’ wordt vertaald met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qu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Le bébé dort longtemps. Le bébé dort plus longtemps que sa mè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De baby slaapt lang. De baby slaapt langer dan zijn moeder. ‘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Plus longtemps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’ betekent dus ‘langer’.  ‘Langer’ is hier een bijwoord, want het zegt iets over een werkwoord, namelijk slap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3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De overtreffende trap, deel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Le superlatif, première par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Voor de overtreffende trap moet je eerst weten of je het combineert met een bijvoeglijk naamwoord of met een bijwoor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Met een bijvoeglijk naamwoord maak je de overtreffende trap door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, la 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of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s 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voor de vergrotende trap te zet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Du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Léo est le plus vite rap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Léo is het snelst. Léo is mannelijk, daarom gebruik je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Christine est la plus gran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Christine is het grootst. Hier zeggen we </a:t>
            </a:r>
            <a:r>
              <a:rPr b="0" i="1" lang="en-US" sz="1200" spc="-1" strike="noStrike" u="sng">
                <a:solidFill>
                  <a:srgbClr val="1f497d"/>
                </a:solidFill>
                <a:uFillTx/>
                <a:latin typeface="Calibri"/>
              </a:rPr>
              <a:t>la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 plus grand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, omdat het om een vrouw gaat. De overtreffende trap krijgt dus de vrouwelijke vorm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a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Ces photos sont les plus bel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Deze foto’s zijn het mooist. Foto’s is hier meervoud, dus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s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Let op: Normaal gesproken komt het bijvoeglijk naamwoord achter het zelfstandig naamwoord. Ook de overtreffende trap komt er dan achter te staan. Du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Une femme intelligente. La femme la plus intelligen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Een intelligente vrouw. De intelligentste vrou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Maar als het bijvoeglijk naamwoord vóór het zelfstandig naamwoord staat, komt ook de overtreffende trap ervoor te staan. Kijk maar naar het volgende voorbeel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Une jolie femme. La plus jolie fem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Een mooie vrouw. De mooiste vrouw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In unité 1 heb je geleerd wanneer het bijvoeglijk naamwoord vóór het zelfstandig naamwoord komt. Kijk nog maar eens in paragraaf 3.5 van je Manu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4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De overtreffende trap, deel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Le superlatif, deuxième par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We hebben gezien dat je de overtreffende trap kunt maken van een bijvoeglijk naamwoord. Maar de overtreffende trap kan ook gemaakt worden met een 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bijwoord. De overtreffende trap met een bijwoord maak je door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voor de vergrotende trap te zetten. Dus: le + vergrotende tra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Patricia court plus vite que moi. Patricia  court le plus v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Patricia rent sneller dan ik. Patricia rent het snel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Zoals je ziet, maakt het bij bijwoorden niet uit of de persoon om wie het gaat mannelijk of vrouwelijk is. Je gebruikt hier altijd 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Richard mange plus lentement que son frè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Richard eet langzamer dan zijn bro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Richard mange le plus lent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Richard eet het langzaam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32CC-8A35-4AF9-9BAF-1DDECF9995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5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Andere vergelijking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e kunt ook nog andere vergelijkingen maken. We geven hier enkele voorbeel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et een bijvoeglijk naamwoor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Ce livre est </a:t>
            </a:r>
            <a:r>
              <a:rPr b="0" lang="nl-NL" sz="1200" spc="-1" strike="noStrike">
                <a:solidFill>
                  <a:srgbClr val="7030a0"/>
                </a:solidFill>
                <a:latin typeface="Calibri"/>
              </a:rPr>
              <a:t>aussi intéressant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 que le fil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Dit boek is even interessant als de film. Of: Dit boek is net zo interessant als de fil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Ce livre est </a:t>
            </a:r>
            <a:r>
              <a:rPr b="0" lang="nl-NL" sz="1200" spc="-1" strike="noStrike">
                <a:solidFill>
                  <a:srgbClr val="7030a0"/>
                </a:solidFill>
                <a:latin typeface="Calibri"/>
              </a:rPr>
              <a:t>moins intéressant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 que le fil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Dit boek is minder interessant dan de fil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Ce livre est </a:t>
            </a:r>
            <a:r>
              <a:rPr b="0" lang="nl-NL" sz="1200" spc="-1" strike="noStrike">
                <a:solidFill>
                  <a:srgbClr val="7030a0"/>
                </a:solidFill>
                <a:latin typeface="Calibri"/>
              </a:rPr>
              <a:t>le moins intéressant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Dit boek is het minst interess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et een bijwoord zijn deze vormen precies hetzelfde. Kijk maa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Yves répond </a:t>
            </a:r>
            <a:r>
              <a:rPr b="0" lang="nl-NL" sz="1200" spc="-1" strike="noStrike">
                <a:solidFill>
                  <a:srgbClr val="7030a0"/>
                </a:solidFill>
                <a:latin typeface="Calibri"/>
              </a:rPr>
              <a:t>aussi gentiment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 qu’Abd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Yves antwoordt even vriendelijk als Abdel. Of: net zo vriendelij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Yves répond </a:t>
            </a:r>
            <a:r>
              <a:rPr b="0" lang="nl-NL" sz="1200" spc="-1" strike="noStrike">
                <a:solidFill>
                  <a:srgbClr val="7030a0"/>
                </a:solidFill>
                <a:latin typeface="Calibri"/>
              </a:rPr>
              <a:t>moins gentiment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 qu’Abd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Yves antwoordt minder vriendelijk dan Abd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Yves répond </a:t>
            </a:r>
            <a:r>
              <a:rPr b="0" lang="nl-NL" sz="1200" spc="-1" strike="noStrike">
                <a:solidFill>
                  <a:srgbClr val="7030a0"/>
                </a:solidFill>
                <a:latin typeface="Calibri"/>
              </a:rPr>
              <a:t>le moins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 genti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Yves antwoord het minst vriendelij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t op: aussi betekent in deze zinnen dus niet ‘ook’, maar ‘even’ of ‘net zo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6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Uitzonderingen, deel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urlijk kent het Frans ook hier weer een aantal uitzonderingen. Ten eerste is er een speciale vorm voor ‘goed’. ‘Goed – beter – best’ is in het Frans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on – meilleur – le meilleu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in combinatie met een bijvoeglijk naamwoord. In combinatie met een bijwoord gebruik je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ie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mieux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le mieux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Kijk maar naar de voorbeeld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Théo est </a:t>
            </a:r>
            <a:r>
              <a:rPr b="0" lang="en-US" sz="1200" spc="-1" strike="noStrike">
                <a:solidFill>
                  <a:srgbClr val="7030a0"/>
                </a:solidFill>
                <a:latin typeface="Calibri"/>
              </a:rPr>
              <a:t>le meilleur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élève de la clas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Théo is de beste leerling van de kl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Léa est </a:t>
            </a:r>
            <a:r>
              <a:rPr b="0" lang="en-US" sz="1200" spc="-1" strike="noStrike">
                <a:solidFill>
                  <a:srgbClr val="7030a0"/>
                </a:solidFill>
                <a:latin typeface="Calibri"/>
              </a:rPr>
              <a:t>la meilleur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élève de la clas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Léa is de beste leerling van de klas. We hebben gezien dat de overtreffende trap in combinatie met een bijvoeglijk naamwoord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a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of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s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bij zich kan hebben. Omdat Léa vrouwelijk is, is het hier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a meilleure élèv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In het meervoud krijg je da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Théo  et Léa sont les meilleurs élèves de la clas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Théo en Léa zijn de beste leerlingen van de kl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Let op: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meilleur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is afgeleid van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bon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 Omdat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bon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voor het zelfstandig naamwoord komt, komt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meilleur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er ook vo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Dan nog twee zinnen met een bijwoor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Théo travaille </a:t>
            </a:r>
            <a:r>
              <a:rPr b="0" lang="en-US" sz="1200" spc="-1" strike="noStrike">
                <a:solidFill>
                  <a:srgbClr val="7030a0"/>
                </a:solidFill>
                <a:latin typeface="Calibri"/>
              </a:rPr>
              <a:t>le mieux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Theo werkt het b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Léa travaille </a:t>
            </a:r>
            <a:r>
              <a:rPr b="0" lang="en-US" sz="1200" spc="-1" strike="noStrike">
                <a:solidFill>
                  <a:srgbClr val="7030a0"/>
                </a:solidFill>
                <a:latin typeface="Calibri"/>
              </a:rPr>
              <a:t>le mieux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Léa werkt het best. Je ziet, met een bijwoord gebruiken we altijd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, ook als het om een vrouw gaa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F963-4934-48C1-A410-012C9D929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120E-8961-4443-AE67-3EC50834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4F20-2708-40D1-A774-8D4EF0E8E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888C-0691-44D7-95BE-70C0036EB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D664-873A-4DC8-B0D5-0F49506D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A594-490E-467F-8760-B5F027B4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7307-1841-4C49-AD05-7B350B96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B915-E37C-481B-A1D8-9ED1BA4E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4990-9852-461A-B1B9-E5177DA8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AF74-12F1-45B0-93BC-3DCE23D2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1F58-36B7-405D-A05B-A1B88210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C0A1-B7AE-4CCE-A464-26DAA6A5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5EDD-5C3A-491B-B09C-3C80A0FB6C8B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14320"/>
            <a:ext cx="7772400" cy="19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 TRAPPEN VAN VERGELIJ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4280" y="385776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LES DEGRÉS DE COMPARAIS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ndertitel 2"/>
          <p:cNvSpPr/>
          <p:nvPr/>
        </p:nvSpPr>
        <p:spPr>
          <a:xfrm>
            <a:off x="1357200" y="1857240"/>
            <a:ext cx="64008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502920"/>
            <a:ext cx="8101080" cy="711000"/>
          </a:xfrm>
          <a:prstGeom prst="rect">
            <a:avLst/>
          </a:prstGeom>
          <a:noFill/>
          <a:ln w="0">
            <a:noFill/>
          </a:ln>
        </p:spPr>
        <p:txBody>
          <a:bodyPr t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 vergrotende trap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le comparatif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9640" y="147600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tIns="90000" bIns="90000" anchor="t">
            <a:normAutofit/>
          </a:bodyPr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lu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+ bijvoeglijk naamwoord of bijwoord (+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q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harles est gran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harles 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plus grand</a:t>
            </a:r>
            <a:r>
              <a:rPr b="0" lang="en-US" sz="2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1f497d"/>
                </a:solidFill>
                <a:latin typeface="Calibri"/>
              </a:rPr>
              <a:t>qu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Domini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Le bébé dort longtemp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Le bébé dor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plus longtemps</a:t>
            </a:r>
            <a:r>
              <a:rPr b="0" lang="en-US" sz="2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1f497d"/>
                </a:solidFill>
                <a:latin typeface="Calibri"/>
              </a:rPr>
              <a:t>qu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sa mè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IJL-RECHTS 5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hoek 11"/>
          <p:cNvSpPr/>
          <p:nvPr/>
        </p:nvSpPr>
        <p:spPr>
          <a:xfrm>
            <a:off x="360360" y="1500120"/>
            <a:ext cx="5926320" cy="57168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 overtreffende trap 1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le superlatif 1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539640" y="1476360"/>
            <a:ext cx="822960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 een bijvoeglijk naamwoord: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+ vergrotende tra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Léo est </a:t>
            </a:r>
            <a:r>
              <a:rPr b="1" i="1" lang="en-US" sz="2200" spc="-1" strike="noStrike">
                <a:solidFill>
                  <a:srgbClr val="4f6228"/>
                </a:solidFill>
                <a:latin typeface="Calibri"/>
              </a:rPr>
              <a:t>le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 plus rapid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hristine est </a:t>
            </a:r>
            <a:r>
              <a:rPr b="1" i="1" lang="en-US" sz="2200" spc="-1" strike="noStrike">
                <a:solidFill>
                  <a:srgbClr val="4f6228"/>
                </a:solidFill>
                <a:latin typeface="Calibri"/>
              </a:rPr>
              <a:t>la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 plus grand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es photos sont </a:t>
            </a:r>
            <a:r>
              <a:rPr b="1" i="1" lang="en-US" sz="2200" spc="-1" strike="noStrike">
                <a:solidFill>
                  <a:srgbClr val="4f6228"/>
                </a:solidFill>
                <a:latin typeface="Calibri"/>
              </a:rPr>
              <a:t>les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 plus belles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Une femme </a:t>
            </a:r>
            <a:r>
              <a:rPr b="0" i="1" lang="nl-NL" sz="2200" spc="-1" strike="noStrike">
                <a:solidFill>
                  <a:srgbClr val="1f497d"/>
                </a:solidFill>
                <a:latin typeface="Calibri"/>
              </a:rPr>
              <a:t>intelligente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La femme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la plus intelligente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Une </a:t>
            </a:r>
            <a:r>
              <a:rPr b="0" i="1" lang="nl-NL" sz="2200" spc="-1" strike="noStrike">
                <a:solidFill>
                  <a:srgbClr val="1f497d"/>
                </a:solidFill>
                <a:latin typeface="Calibri"/>
              </a:rPr>
              <a:t>jolie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femme.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La plus jolie</a:t>
            </a:r>
            <a:r>
              <a:rPr b="0" lang="nl-NL" sz="2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fem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IJL-RECHTS 7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hthoek 6"/>
          <p:cNvSpPr/>
          <p:nvPr/>
        </p:nvSpPr>
        <p:spPr>
          <a:xfrm>
            <a:off x="360360" y="1500120"/>
            <a:ext cx="7569360" cy="50004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al 9"/>
          <p:cNvSpPr/>
          <p:nvPr/>
        </p:nvSpPr>
        <p:spPr>
          <a:xfrm>
            <a:off x="630360" y="3929040"/>
            <a:ext cx="428400" cy="4287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Wide Lati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 overtreffende trap 2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le superlatif 2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9640" y="1476360"/>
            <a:ext cx="82296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 een bijwoord: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+ vergrotende tra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Patricia cour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plus vit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que mo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Patricia court </a:t>
            </a:r>
            <a:r>
              <a:rPr b="1" i="1" lang="en-US" sz="2200" spc="-1" strike="noStrike">
                <a:solidFill>
                  <a:srgbClr val="4f6228"/>
                </a:solidFill>
                <a:latin typeface="Calibri"/>
              </a:rPr>
              <a:t>le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 plus vit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Richard mange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plus lentement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que son frè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Richard mange </a:t>
            </a:r>
            <a:r>
              <a:rPr b="1" i="1" lang="en-US" sz="2200" spc="-1" strike="noStrike">
                <a:solidFill>
                  <a:srgbClr val="4f6228"/>
                </a:solidFill>
                <a:latin typeface="Calibri"/>
              </a:rPr>
              <a:t>le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 plus lentement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IJL-RECHTS 6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hthoek 7"/>
          <p:cNvSpPr/>
          <p:nvPr/>
        </p:nvSpPr>
        <p:spPr>
          <a:xfrm>
            <a:off x="360360" y="1500120"/>
            <a:ext cx="5141880" cy="50004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ere vergelijk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539640" y="1476360"/>
            <a:ext cx="822960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et een bijvoeglijk naamwoor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Ce livre est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aussi intéressa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que le fil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Ce livre est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moins intéressa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que le fil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Ce livre est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le moins intéressa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et een bijwoor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Yves répond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aussi genti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qu’Abd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Yves répond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moins genti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qu’Abd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Yves répond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le moins genti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IJL-RECHTS 6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Uitzonder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9640" y="1476000"/>
            <a:ext cx="832968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oed – beter – bes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ijvoeglijk naamwoord =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b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meilleur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e meill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ijwoord =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bien – mieux – le mieu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héo 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 meilleur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élève de la clas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Léa 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a meilleur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élève de la clas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héo  et Léa son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s meilleurs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élèves de la clas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óór het zelfstandig naamwoord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héo travaille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 mieux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Léa travaille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 mieux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Ovaal 7"/>
          <p:cNvSpPr/>
          <p:nvPr/>
        </p:nvSpPr>
        <p:spPr>
          <a:xfrm>
            <a:off x="630360" y="4357800"/>
            <a:ext cx="428400" cy="42840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Wide Lati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IJL-RECHTS 8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hthoek 9"/>
          <p:cNvSpPr/>
          <p:nvPr/>
        </p:nvSpPr>
        <p:spPr>
          <a:xfrm>
            <a:off x="360360" y="1500120"/>
            <a:ext cx="6711840" cy="121464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3T06:19:10Z</dcterms:created>
  <dc:creator>Patrick Schuitema</dc:creator>
  <dc:description/>
  <dc:language>en-US</dc:language>
  <cp:lastModifiedBy>Rob</cp:lastModifiedBy>
  <dcterms:modified xsi:type="dcterms:W3CDTF">2013-01-30T10:16:38Z</dcterms:modified>
  <cp:revision>171</cp:revision>
  <dc:subject/>
  <dc:title>L’ADJECTIF</dc:title>
</cp:coreProperties>
</file>