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89DF-3372-43C9-8312-89A5373F06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ij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’adver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6B6A-A75C-45C7-B763-94D70B2C41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Woorden als ‘compl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zovoort zijn bijwoorden. Terwijl een bijvoeglijk naamwoord altijd iets zegt over een zelfstandig naamwoord, kan een bijwoord iets zeggen over verschillende delen van een z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voorbeeldzinnen met audio zinnen: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werk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Mon vieil ordinateur fonctionne bien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nctionne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ijn oude computer werkt goed. Bien zegt hier dus iets over het werken van de computer, namelijk go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ook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voeglijk 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Il est complètement fou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complèt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u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Hij is helemaal g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f een bijwoord zegt iet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ander bijwo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Emilie répond vraiment poliment au contrôleur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pol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milie antwoordt de conducteur ech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enslotte kan een bijwoord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volledige z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Heureusement, leur projet a eu du succès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rest van de zi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Gelukkig heeft hun project succes geh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p. 3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Regelmatige vor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 meeste bijwoorden hebben een regelmatige vorm. De regelmatige vorm is afgeleid van het bijvoeglijk naamwoord. Er zijn drie mogelijkh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ls het bijvoeglijk naamwoord eindigt op een klinker, komt er -ment achter om het bijwoord te vor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infini – infin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Il me regarde infin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 het bijvoeglijk naamwoord op een medeklinker eindigt, maak je het eerst vrouwelijk en voeg je -ment to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exacte – exac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Elle dit exactement ç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Als het bijvoeglijk naamwoord op -ent/-ant eindigt, gebruik je -emment of -amment om het bijwoord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suffisant – suffisam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Tu as suffisamment travaill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invloeien uitroepteken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t op! Het bijvoeglijk naamwoord lent is een uitzondering op deze laatste rege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nt wordt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FR: Elle roule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nregelmatige vor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 zijn bijwoorden die niet op een regelmatige manier gevormd worden. Hier is een lijst met veelvoorkomende onregelmatige vormen. Bestudeer deze lijst goed en leer deze bijwoorden uit je hoof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bon – bi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travaille b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eilleur – mie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est mieux prépar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auvais – 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Tes parents sont mal informé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ai - gai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bébé me sourit gai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entil – gent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m’a répondu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long – longte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Ça dure longte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pide - v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Donne-moi vite ton por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D667-38D1-46A8-90A4-A8235A3BC2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Vaste uitdrukk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Let op! Er zijn in het Frans een paar vaste uitdrukkingen waarin het bijwoord de vorm blijft houden van het bijvoeglijk naamwoord. Dit zijn die uitdrukking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Zinnen 1 voor 1 invloeien , vervolgens st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ravailler d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 travaillé dur pour mon examen de m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rler haut / parler 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ul parle bas pour ne pas réveiller son p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sentir bon / sentir mauv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me ce parfum. Ça sent b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faire pare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vas tomber si tu fais parei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coûter cher / payer cher / vendre cher / acheter 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l’as payé cher, ce vél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8A9-154A-45E1-9E2F-8492B129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947-DC6C-4C06-817C-B3E2EEBE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408-9746-4847-9BCE-1CCA4DD0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699-9C50-4B1C-A0FA-8252208B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ACD-41FE-4E8C-A398-C8072588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32C-04CB-42A6-A89B-961A7632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18A-D0F9-4489-A7B4-C3C36DDF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5A8-E2CA-4296-A069-EEB4DD82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0BE-6BC0-4B15-A316-A20F6452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D50-22A3-4320-BCE5-828F72EF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90E-E348-4AE9-AABD-6FE35CEF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860-3FA2-4A0A-AF54-B42E127A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9E9F-4613-4038-A253-628D86D98B5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IJ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’ADVER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 is een bijwoo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woord zegt iets ov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werk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on vieil ordinateur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nctionn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bien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voeglijk naamwoord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complètement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u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ander bij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répond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vraiment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poli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au contrôleur.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hele zin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Heureus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leur projet a eu du succès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oog 18"/>
          <p:cNvSpPr/>
          <p:nvPr/>
        </p:nvSpPr>
        <p:spPr>
          <a:xfrm flipH="1" flipV="1" rot="18761400">
            <a:off x="3280320" y="28908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Boog 19"/>
          <p:cNvSpPr/>
          <p:nvPr/>
        </p:nvSpPr>
        <p:spPr>
          <a:xfrm flipV="1" rot="2838600">
            <a:off x="4709520" y="20732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20"/>
          <p:cNvSpPr/>
          <p:nvPr/>
        </p:nvSpPr>
        <p:spPr>
          <a:xfrm flipH="1" flipV="1" rot="18761400">
            <a:off x="3851640" y="371628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21"/>
          <p:cNvSpPr/>
          <p:nvPr/>
        </p:nvSpPr>
        <p:spPr>
          <a:xfrm flipH="1" flipV="1" rot="18761400">
            <a:off x="2994480" y="450216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gelmatige vor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rming van het bijwoord is afgeleid van het bijvoeglij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aamwo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: klinker (a, e, i, o, u)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ini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infini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e regarde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infini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medeklinker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vrouwelijke vorm +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xac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lle a dit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exact</a:t>
            </a:r>
            <a:r>
              <a:rPr b="0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e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-ent of -a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emment of -am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suffisa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suffisam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as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suffis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m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ravaill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ente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lle roule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en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hthoek 6"/>
          <p:cNvSpPr/>
          <p:nvPr/>
        </p:nvSpPr>
        <p:spPr>
          <a:xfrm>
            <a:off x="360360" y="1500120"/>
            <a:ext cx="7926480" cy="7858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al 8"/>
          <p:cNvSpPr/>
          <p:nvPr/>
        </p:nvSpPr>
        <p:spPr>
          <a:xfrm>
            <a:off x="714240" y="5500800"/>
            <a:ext cx="42876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nregelmatige vorm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960" y="14284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orbeeld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travaill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répar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uvai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es parents son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ormé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a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 bébé me souri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nti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’a répondu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ong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Ça dur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api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Donne-mo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on porta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7"/>
          <p:cNvSpPr/>
          <p:nvPr/>
        </p:nvSpPr>
        <p:spPr>
          <a:xfrm>
            <a:off x="360360" y="1500120"/>
            <a:ext cx="8569440" cy="414360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ste uitdru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9640" y="1476360"/>
            <a:ext cx="822960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ravailler d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travaillé dur</a:t>
            </a:r>
            <a:r>
              <a:rPr b="1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mon examen de mat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arler haut / ba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Paul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rle bas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ne pas réveiller son pè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entir bon / mauvai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me ce parfum. Ça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sent bo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faire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vas tomber si tu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fais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ûter / payer / vendr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u l’as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yé cher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, ce vél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/ acheter cher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al 8"/>
          <p:cNvSpPr/>
          <p:nvPr/>
        </p:nvSpPr>
        <p:spPr>
          <a:xfrm>
            <a:off x="714240" y="164304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0:33Z</dcterms:modified>
  <cp:revision>188</cp:revision>
  <dc:subject/>
  <dc:title>L’ADJECTIF</dc:title>
</cp:coreProperties>
</file>