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F27-A011-4D14-9BD4-94E1E777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4B5-8295-43A6-B241-E4B267F8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359-D4D1-432C-8B17-81F5FFF4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493-82D5-48AF-9997-9354994C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07F6-B9E1-471E-ABCA-0A8E3E39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A0C3-5CFD-4DE6-A137-A4A9432A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E888-A8E2-4053-A269-9FC890DC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6E29-E9B8-4A24-BBCC-ED130202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06A3-304E-4D58-9B63-1D5B0C08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A059-0CE0-41D1-BC00-EBF33FB9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3B91-22B8-4FFF-BD67-0CBE7AC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EDE-8AC7-46D1-BAEA-3886884D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82B-66A6-4C42-B751-6383420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FEEE-E847-4919-8EAE-FB62DC5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B921-278A-4AC6-9F1F-33425F1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E8BF-9F2B-4FEF-B485-6205475B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A75A-B4D6-4D38-8C38-9D0274BE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866-4AFB-4C22-B79E-E8187AF3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A3B-0308-4EB6-936D-45CABDA2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DA2-8053-473C-976F-E75E3FF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4CA-971A-44A9-A9EE-E8B8B1FE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590-12D7-44D2-AE08-0187AC5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F79-BEA3-4BDC-8E2C-5CCD5ACE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C57-C3FB-4026-B7D3-312ADA0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0958-42CA-425E-AB9C-36675213D4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3CA6-E3D9-47B1-8E67-6703E85CCB7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Meewerkend voorwer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Lijdend voorwe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grammaire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geef een boek aan j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geeft mij een bri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e donne un livre à toi. / Je te donne un liv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donne une lettre à moi. / Il me donne une let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/ 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u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M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donne un livre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ui donne un liv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donner une invitation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ui donner une invi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téléphone toujours à ses am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llons donner un cadeau à vou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demandé son adresse à son meilleur ami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 of voorwer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heb een vriend, ik zie hem vaak na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heeft een vriendin, hij ziet haar altijd op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’ai un copain, je le vois souvent après l’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a une copine, il la voit toujours dans l´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</a:t>
            </a:r>
            <a:r>
              <a:rPr b="0" lang="nl-NL" sz="2400" spc="-1" strike="noStrike">
                <a:solidFill>
                  <a:srgbClr val="ffffff"/>
                </a:solidFill>
                <a:latin typeface="Berlin Sans FB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 / He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L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’ai deux cousi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es vois souv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a un cade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e donner à Pier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une sœu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Ik ken – connaître - haar go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Vous allez écrire une lettr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Morgen ga ik het lezen – lir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vons envoyé l’invita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Zij heeft het ontvangen – recevoi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31:32Z</dcterms:created>
  <dc:creator>Algemeen</dc:creator>
  <dc:description/>
  <dc:language>en-US</dc:language>
  <cp:lastModifiedBy>Rob Nijhuis</cp:lastModifiedBy>
  <dcterms:modified xsi:type="dcterms:W3CDTF">2012-09-10T09:12:29Z</dcterms:modified>
  <cp:revision>15</cp:revision>
  <dc:subject/>
  <dc:title>Dia 1</dc:title>
</cp:coreProperties>
</file>