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9EEE-5FF4-4D00-9D4A-90E2D4C97C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udio 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ezittelijk voor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 pronom possess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0139-A1FE-468A-B995-0386760846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vorm van het bezittelijk voor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Mon, ma, mes, ton, ta, tes enzovoort zijn bezittelijke voornaamwoorden. De vorm van bezittelijk voornaamwoord wordt bepaald door het zelfstandig naamwoord dat erachter sta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: de vorm wordt dus niet bepaald door de bezitter. Kijk goed naar de voorbeelde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invloeien zinnen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Emilie a un chien. C’est </a:t>
            </a:r>
            <a:r>
              <a:rPr b="0" i="1" lang="en-US" sz="900" spc="-1" strike="noStrike">
                <a:solidFill>
                  <a:srgbClr val="9bbb59"/>
                </a:solidFill>
                <a:latin typeface="Calibri"/>
              </a:rPr>
              <a:t>son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 chie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 Emilie heeft een hond. Het is </a:t>
            </a:r>
            <a:r>
              <a:rPr b="1" i="1" lang="en-US" sz="900" spc="-1" strike="noStrike">
                <a:solidFill>
                  <a:srgbClr val="1f497d"/>
                </a:solidFill>
                <a:latin typeface="Calibri"/>
              </a:rPr>
              <a:t>haar</a:t>
            </a:r>
            <a:r>
              <a:rPr b="1" lang="en-US" sz="9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hon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FR: Marc a une voiture. C’est </a:t>
            </a:r>
            <a:r>
              <a:rPr b="0" i="1" lang="en-US" sz="900" spc="-1" strike="noStrike">
                <a:solidFill>
                  <a:srgbClr val="1f497d"/>
                </a:solidFill>
                <a:latin typeface="Calibri"/>
              </a:rPr>
              <a:t>sa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voitur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 Marc heeft een auto. Het is </a:t>
            </a:r>
            <a:r>
              <a:rPr b="1" i="1" lang="en-US" sz="900" spc="-1" strike="noStrike">
                <a:solidFill>
                  <a:srgbClr val="1f497d"/>
                </a:solidFill>
                <a:latin typeface="Calibri"/>
              </a:rPr>
              <a:t>zijn</a:t>
            </a:r>
            <a:r>
              <a:rPr b="1" lang="en-US" sz="9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aut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Als het zelfstandig naamwoord met een klinker of met een stomme h of begint, gebruik dan de mannelijke vorm van het bezittelijk voornaamwoord ook al is het zelfstandig naamwoord vrouwelijk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FR: Julie est </a:t>
            </a:r>
            <a:r>
              <a:rPr b="0" i="1" lang="nl-NL" sz="900" spc="-1" strike="noStrike">
                <a:solidFill>
                  <a:srgbClr val="1f497d"/>
                </a:solidFill>
                <a:latin typeface="Calibri"/>
              </a:rPr>
              <a:t>mon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ami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FR: Elle m’a raconté </a:t>
            </a:r>
            <a:r>
              <a:rPr b="0" i="1" lang="nl-NL" sz="900" spc="-1" strike="noStrike">
                <a:solidFill>
                  <a:srgbClr val="1f497d"/>
                </a:solidFill>
                <a:latin typeface="Calibri"/>
              </a:rPr>
              <a:t>son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histoir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NL: Raadpleeg het Manuel en bestudeer de volledige lijst van bezittelijke voornaamwoorde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et bezittelijk voornaamwoord zelfstandig gebruik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ezittelijk voornaamwoord neemt een andere vorm aan als het zelfstandig gebruikt wordt, er staat dan geen zelfstandig naamwoord direkt naast. Een paar voorbeel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A qui est ce livre? - C’est mon livre. - C’est le m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Van wie is dit boek?? Het is mijn boek – het is de mijne. Let op het zelfstandig naamwoord. Het zelfstandig naamwoord bepaalt ook hier de vorm van het zelfstandig gebruikte bezittelijk voornaamwoord. Kijk nog maar e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Ces clés, ce sont les vôtres? – Oui, ce sont les mien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Deze sleutels, zijn het de uwe? – Ja, het zijn de mij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Raadpleeg het Manuel en bestudeer de volledige lijst van zelfstandig gebruikte bezittelijke voornaamwoo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A159-D27A-4E71-99C5-9C5160F4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3C50-6A43-48AC-AB49-764C1EC5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B7A7-6F52-467B-9119-ECC4F93A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BA4-DA93-485A-A27B-DE46EEFB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A219-E37D-4060-A90C-2430A4F4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1582-03DC-4520-A1BA-8B2A3232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1C10-F6F7-4FD6-AE38-6E664C5F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CD8D-29F2-4A0F-87F2-5C103938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C73-90C7-4175-980F-65CCB058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E2B-9D40-4E48-B37F-E0AEA2FD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686D-5224-4095-8018-F97097DD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676-1B97-4876-9A12-1F1B5FB1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F71C-236A-4A44-8820-4B51E30AE54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T BEZITTELIJK VOORNAAMWO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E PRONOM POSSESS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vorm van het bezittelijk voornaamwo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3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t bezittelijk voornaamwoord wordt bepaald door het zelfstandi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oornaamwoord dat erachter staa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milie a un chien. 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on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chie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arc a une voiture. 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a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voitur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omme h / klinker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e mannelijke v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Julie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mon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i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lle m’a raconté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on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 h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istoir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adpleeg het Manu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8212320" cy="8571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6"/>
          <p:cNvSpPr/>
          <p:nvPr/>
        </p:nvSpPr>
        <p:spPr>
          <a:xfrm>
            <a:off x="357120" y="3929040"/>
            <a:ext cx="8212320" cy="4287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7"/>
          <p:cNvSpPr/>
          <p:nvPr/>
        </p:nvSpPr>
        <p:spPr>
          <a:xfrm>
            <a:off x="857160" y="5929200"/>
            <a:ext cx="42876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Boog 8"/>
          <p:cNvSpPr/>
          <p:nvPr/>
        </p:nvSpPr>
        <p:spPr>
          <a:xfrm flipH="1" flipV="1" rot="18761400">
            <a:off x="3351960" y="214416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Boog 9"/>
          <p:cNvSpPr/>
          <p:nvPr/>
        </p:nvSpPr>
        <p:spPr>
          <a:xfrm flipH="1" flipV="1" rot="18761400">
            <a:off x="3494520" y="271620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Boog 10"/>
          <p:cNvSpPr/>
          <p:nvPr/>
        </p:nvSpPr>
        <p:spPr>
          <a:xfrm flipH="1" flipV="1" rot="18761400">
            <a:off x="1780560" y="407304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8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8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Boog 12"/>
          <p:cNvSpPr/>
          <p:nvPr/>
        </p:nvSpPr>
        <p:spPr>
          <a:xfrm flipH="1" flipV="1" rot="18761400">
            <a:off x="2565720" y="464508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lfstandig gebruik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39640" y="1476360"/>
            <a:ext cx="822960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Zelfstandig gebruikt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en andere v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A qui est ce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livr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mon</a:t>
            </a:r>
            <a:r>
              <a:rPr b="0" lang="en-US" sz="22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ivre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’es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n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es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clé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, ce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vôtr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Oui, ce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mienn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adpleeg het Manu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6"/>
          <p:cNvSpPr/>
          <p:nvPr/>
        </p:nvSpPr>
        <p:spPr>
          <a:xfrm>
            <a:off x="360360" y="1500120"/>
            <a:ext cx="792648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al 8"/>
          <p:cNvSpPr/>
          <p:nvPr/>
        </p:nvSpPr>
        <p:spPr>
          <a:xfrm>
            <a:off x="785880" y="457200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2:57Z</dcterms:modified>
  <cp:revision>185</cp:revision>
  <dc:subject/>
  <dc:title>L’ADJECTIF</dc:title>
</cp:coreProperties>
</file>