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2F48-027D-40A8-A369-618851793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8D3-0B47-459A-A83F-96EF2B31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B07-62FA-45DE-8B22-8E21C7555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E23-E0BC-4CBA-BD46-ABB0D3F88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23B8-A01C-4CC6-821E-68E75C9C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D168-9AAC-41D8-9E32-4B1F4DB3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E06E-2CAE-42EF-BF76-E030DA60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1271-9614-40BE-9B07-05F55261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6FC7-F495-464B-B27A-FF21A924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2635-E648-4A92-8F4C-B8A37E4D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E250-38B3-4447-8D8E-EDC3FD6D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B13-8073-4A41-9CD9-25A0B126F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EB42-5809-4A27-B5EA-357CD078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66F0-335A-4A24-8B7A-0695FFBD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8950-DAA0-4FC7-A3E6-48D48A64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0EB8-8525-40C0-9275-5E365D69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CA05-3426-4BD0-83B3-E9D3D315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0C9-C72D-49F9-9BCC-9209FD56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752-1034-464A-89E1-470E6556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560-6636-4AE6-8A6A-D9DD5462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0F14-91A9-4345-9448-B699D38C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46D-E90F-4266-8476-F4A92AE4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707B-B5A0-4A4B-810D-8594664B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E9C5-6C0B-48BB-B553-6A158731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F688-215B-47BA-ABA4-66785081E35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FD59-08D5-4FAC-8137-B682694B76C9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03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Meewerkend voorwerp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Berlin Sans FB"/>
              </a:rPr>
              <a:t>Lijdend voorwer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8" descr="grammaire"/>
          <p:cNvPicPr/>
          <p:nvPr/>
        </p:nvPicPr>
        <p:blipFill>
          <a:blip r:embed="rId1"/>
          <a:stretch/>
        </p:blipFill>
        <p:spPr>
          <a:xfrm>
            <a:off x="2627280" y="476280"/>
            <a:ext cx="381636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geef een boek aan jo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geeft mij een brie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e donne un livre à toi. / Je te donne un liv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donne une lettre à moi. / Il me donne une lett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/ 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u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7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M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Meewerk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Indirect / COI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donne un livre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ui donne un livr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donner une invitation au garç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ui donner une invit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téléphone toujours à ses am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llons donner un cadeau à vou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demandé son adresse à son meilleur ami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1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erwijst naar één / meerdere personen of voorwerp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Nederlands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k heb een vriend, ik zie hem vaak na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Hij heeft een vriendin, hij ziet haar altijd op schoo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ffffff"/>
                </a:solidFill>
                <a:uFillTx/>
                <a:latin typeface="Berlin Sans FB"/>
              </a:rPr>
              <a:t>Frans 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J’ai un copain, je le vois souvent après l’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- Il a une copine, il la voit toujours dans l´écol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2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Vorme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Me / Mij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e / Jo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em </a:t>
            </a:r>
            <a:r>
              <a:rPr b="0" lang="nl-NL" sz="2400" spc="-1" strike="noStrike">
                <a:solidFill>
                  <a:srgbClr val="ffffff"/>
                </a:solidFill>
                <a:latin typeface="Berlin Sans FB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Haar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Ons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Jullie / U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 / Hen =</a:t>
            </a: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ShockwaveFlash1"/>
          <p:cNvGraphicFramePr/>
          <p:nvPr/>
        </p:nvGraphicFramePr>
        <p:xfrm>
          <a:off x="4067280" y="1773360"/>
          <a:ext cx="4752720" cy="43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773360"/>
                    <a:ext cx="4752720" cy="43923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3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Plaats in de z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1) Hoofdregel = voor de persoonsvor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erlin Sans FB"/>
              </a:rPr>
              <a:t>2) Infinitief? Dan moet het LV vóór het hele werkwoor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ecff"/>
                </a:solidFill>
                <a:latin typeface="Berlin Sans FB"/>
              </a:rPr>
              <a:t>Lijdend voorwerp 4</a:t>
            </a:r>
            <a:br>
              <a:rPr sz="4800"/>
            </a:br>
            <a:r>
              <a:rPr b="0" lang="nl-NL" sz="2400" spc="-1" strike="noStrike">
                <a:solidFill>
                  <a:srgbClr val="ccecff"/>
                </a:solidFill>
                <a:latin typeface="Berlin Sans FB"/>
              </a:rPr>
              <a:t>(Complément d’Objet Direct / CO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Voorbeeld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’ai deux cousine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Je les vois souve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a un cadeau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Elle va le donner à Pierre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erlin Sans FB"/>
              </a:rPr>
              <a:t>Zelf probere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1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Tu as une sœu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Ik ken – connaître - haar goed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2)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Vous allez écrire une lettre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Morgen ga ik het lezen – lire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3)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Nous avons envoyé l’invitatio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	</a:t>
            </a:r>
            <a:r>
              <a:rPr b="0" lang="fr-FR" sz="2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fr-FR" sz="2200" spc="-1" strike="noStrike">
                <a:solidFill>
                  <a:srgbClr val="ffffff"/>
                </a:solidFill>
                <a:latin typeface="Berlin Sans FB"/>
              </a:rPr>
              <a:t>(Zij heeft het ontvangen – recevoir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6:31:32Z</dcterms:created>
  <dc:creator>Algemeen</dc:creator>
  <dc:description/>
  <dc:language>en-US</dc:language>
  <cp:lastModifiedBy>Rob Nijhuis</cp:lastModifiedBy>
  <dcterms:modified xsi:type="dcterms:W3CDTF">2012-09-10T09:12:29Z</dcterms:modified>
  <cp:revision>15</cp:revision>
  <dc:subject/>
  <dc:title>Dia 1</dc:title>
</cp:coreProperties>
</file>