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7658-3C9C-483C-A126-6CE4AB0010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Unité 3, Grammaire I, audio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 trappen van vergelijk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s degrés de compara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9333-551E-4A54-994E-55B9BC7F422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De zinnen moeten één voor één invloeien, op het juiste moment, synchroon aan de animatie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ergrotende tr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comparat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De vergrotende trap maak je door het woord </a:t>
            </a:r>
            <a:r>
              <a:rPr b="0" i="1" lang="nl-NL" sz="1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voor een bijvoeglijk naamwoord of bijwoord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R: Charles est grand.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Charles est plus grand que Domin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arles is groot. Charles is groter dan Dominic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grand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 betekent dus ‘groter’. ‘Dan’ wordt vertaald me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e bébé dort longtemps. Le bébé dort plus longtemps que sa m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 baby slaapt lang. De baby slaapt langer dan zijn moeder. ‘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Plus longtemp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’ betekent dus ‘langer’.  ‘Langer’ is hier een bijwoord, want het zegt iets over een werkwoord, namelijk slap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premièr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Voor de overtreffende trap moet je eerst weten of je het combineert met een bijvoeglijk naamwoord of met een bijwoor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Met een bijvoeglijk naamwoord maak je de overtreffende trap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, la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oor de vergrotende trap te zet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u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o est le plus vite rap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o is het snelst. Léo is mannelijk, daarom gebruik je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hristine est la plus gran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Christine is het grootst. Hier zeggen we </a:t>
            </a:r>
            <a:r>
              <a:rPr b="0" i="1" lang="en-US" sz="1200" spc="-1" strike="noStrike" u="sng">
                <a:solidFill>
                  <a:srgbClr val="1f497d"/>
                </a:solidFill>
                <a:uFillTx/>
                <a:latin typeface="Calibri"/>
              </a:rPr>
              <a:t>la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 plus grand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mdat het om een vrouw gaat. De overtreffende trap krijgt dus de vrouwelijke vorm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Ces photos sont les plus bel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Deze foto’s zijn het mooist. Foto’s is hier meervoud, dus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Normaal gesproken komt het bijvoeglijk naamwoord achter het zelfstandig naamwoord. Ook de overtreffende trap komt er dan achter te staan. D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Une femme intelligente. La femme la plus intelligen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Een intelligente vrouw. De intelligentste vrou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Maar als het bijvoeglijk naamwoord vóór het zelfstandig naamwoord staat, komt ook de overtreffende trap ervoor te staan. Kijk maar naar het volgende voorbeel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Une jolie femme. La plus jolie fem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Een mooie vrouw. De mooiste vrou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In unité 1 heb je geleerd wanneer het bijvoeglijk naamwoord vóór het zelfstandig naamwoord komt. Kijk nog maar eens in paragraaf 3.5 van je Manu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overtreffende trap, dee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Le superlatif, deuxième part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We hebben gezien dat je de overtreffende trap kunt maken van een bijvoeglijk naamwoord. Maar de overtreffende trap kan ook gemaakt worden met een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bijwoord. De overtreffende trap met een bijwoord maak je doo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de vergrotende trap te zetten. Dus: le + vergrotende tr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Patricia court plus vite que moi. Patricia  court le plus v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Patricia rent sneller dan ik. Patricia rent het snel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Zoals je ziet, maakt het bij bijwoorden niet uit of de persoon om wie het gaat mannelijk of vrouwelijk is. Je gebruikt hier altijd 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plus lentement que son fr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langzamer dan zijn bro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Richard mange le plus lent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Richard eet het langzaam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6045-C2CD-46DA-B5C7-481093FF14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: Andere vergelijking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kunt ook nog andere vergelijkingen maken. We geven hier enkele voorbeel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even interessant als de film. Of: Dit boek is net zo interessant als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minder interessant dan de fil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Ce livre est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 intéressa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Dit boek is het minst interess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 een bijwoord zijn deze vormen precies hetzelfde. Kijk ma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aussi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even vriendelijk als Abdel. Of: net zo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moins gentiment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t minder vriendelijk dan Abd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FR: Yves répond </a:t>
            </a:r>
            <a:r>
              <a:rPr b="0" lang="nl-NL" sz="1200" spc="-1" strike="noStrike">
                <a:solidFill>
                  <a:srgbClr val="7030a0"/>
                </a:solidFill>
                <a:latin typeface="Calibri"/>
              </a:rPr>
              <a:t>le moins</a:t>
            </a: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1f497d"/>
                </a:solidFill>
                <a:latin typeface="Calibri"/>
              </a:rPr>
              <a:t>NL: Yves antwoord het mins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aussi betekent in deze zinnen dus niet ‘ook’, maar ‘even’ of ‘net zo’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6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Uitzonderingen, deel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urlijk kent het Frans ook hier weer een aantal uitzonderingen. Ten eerste is er een speciale vorm voor ‘goed’. ‘Goed – beter – best’ is in het Frans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on – meilleur – le meilleu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n combinatie met een bijvoeglijk naamwoord. In combinatie met een bijwoord gebruik je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Kijk maar naar de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is de beste leerling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est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a meilleur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is de beste leerling van de klas. We hebben gezien dat de overtreffende trap in combinatie met een bijvoeglijk naamwoor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of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s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bij zich kan hebben. Omdat Léa vrouwelijk is, is het hier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a meilleure élèv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In het meervoud krijg je da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Théo  et Léa sont les meilleurs élèves de la clas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éo en Léa zijn de beste leerlingen van de kl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Let op: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is afgeleid van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 Omda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bo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voor het zelfstandig naamwoord komt, komt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meilleur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er ook v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Dan nog twee zinnen met een bijwoor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Théo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Theo werkt het b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FR: Léa travaille 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le mieux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NL: Léa werkt het best. Je ziet, met een bijwoord gebruiken we altijd </a:t>
            </a:r>
            <a:r>
              <a:rPr b="0" i="1" lang="en-US" sz="1200" spc="-1" strike="noStrike">
                <a:solidFill>
                  <a:srgbClr val="1f497d"/>
                </a:solidFill>
                <a:latin typeface="Calibri"/>
              </a:rPr>
              <a:t>le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, ook als het om een vrouw ga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54FC-472C-4294-8926-8983537C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F006-CE21-4FAB-8375-BFABA0C2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0FCE-007B-41F8-A483-35074BA9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7B5D-5724-4E2A-ACAA-3A44A298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C8B6-80C8-4E8D-B786-0BC4898AF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74E-85BA-473B-AF12-0D789A11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13AC-A52E-439C-A7FE-9B68BDA6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613-7D65-4ED8-826A-9C6B2279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3EF1-C63E-42F3-AD09-DF1EFE02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C9E3-E512-4E5E-AFF2-C3F7C364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A2A-1B7F-4F5B-BB30-F2A4AAE1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F7E7-555E-48C0-AA96-1B0B52AD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A511-C455-4906-B417-3BD4DC0B656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 TRAPPEN VAN VERGELIJ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S DEGRÉS DE COMPARAI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ergrotende trap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comparatif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lu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bijvoeglijk naamwoord of bijwoord (+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gran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arles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grand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Domin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longtemp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e bébé do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ongtemps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qu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sa m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5926320" cy="5716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1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1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voeglijk naam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o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rapi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hristine es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a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grand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photos son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s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bell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femm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a femme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intelligent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Une </a:t>
            </a:r>
            <a:r>
              <a:rPr b="0" i="1" lang="nl-NL" sz="2200" spc="-1" strike="noStrike">
                <a:solidFill>
                  <a:srgbClr val="1f497d"/>
                </a:solidFill>
                <a:latin typeface="Calibri"/>
              </a:rPr>
              <a:t>joli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femme.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a plus jolie</a:t>
            </a:r>
            <a:r>
              <a:rPr b="0" lang="nl-NL" sz="2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femm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hoek 6"/>
          <p:cNvSpPr/>
          <p:nvPr/>
        </p:nvSpPr>
        <p:spPr>
          <a:xfrm>
            <a:off x="360360" y="1500120"/>
            <a:ext cx="756936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al 9"/>
          <p:cNvSpPr/>
          <p:nvPr/>
        </p:nvSpPr>
        <p:spPr>
          <a:xfrm>
            <a:off x="630360" y="392904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overtreffende trap 2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70c0"/>
                </a:solidFill>
                <a:latin typeface="Calibri"/>
              </a:rPr>
              <a:t>le superlatif 2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9640" y="147636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 een bijwoord: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+ vergrotende tr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mo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Patricia court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vit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que son frè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Richard mange </a:t>
            </a:r>
            <a:r>
              <a:rPr b="1" i="1" lang="en-US" sz="2200" spc="-1" strike="noStrike">
                <a:solidFill>
                  <a:srgbClr val="4f6228"/>
                </a:solidFill>
                <a:latin typeface="Calibri"/>
              </a:rPr>
              <a:t>le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 plus lent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7"/>
          <p:cNvSpPr/>
          <p:nvPr/>
        </p:nvSpPr>
        <p:spPr>
          <a:xfrm>
            <a:off x="360360" y="1500120"/>
            <a:ext cx="51418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ere vergelij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539640" y="1476360"/>
            <a:ext cx="822960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voeglijk naam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e le fil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Ce livre est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intéressa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t een bijwoor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ussi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qu’Ab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Yves répond 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le moins 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itzonder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640" y="1476000"/>
            <a:ext cx="83296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oed – beter – bes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le meill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woord =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bien – mieux – le mieu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eilleur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a meilleu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 et Léa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eilleur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élèves de la class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óór het zelfstandig naamwoord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Théo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éa travaille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ux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al 7"/>
          <p:cNvSpPr/>
          <p:nvPr/>
        </p:nvSpPr>
        <p:spPr>
          <a:xfrm>
            <a:off x="630360" y="4357800"/>
            <a:ext cx="42840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IJL-RECHTS 8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hthoek 9"/>
          <p:cNvSpPr/>
          <p:nvPr/>
        </p:nvSpPr>
        <p:spPr>
          <a:xfrm>
            <a:off x="360360" y="1500120"/>
            <a:ext cx="6711840" cy="12146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6:38Z</dcterms:modified>
  <cp:revision>171</cp:revision>
  <dc:subject/>
  <dc:title>L’ADJECTIF</dc:title>
</cp:coreProperties>
</file>