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7EC5-FC1B-4FE3-9E1B-43D245D5FF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[Audio p.1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Het bij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’adver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70C2-3363-4038-A108-A5FCA43572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Woorden als ‘comp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, 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‘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zovoort zijn bijwoorden. Terwijl een bijvoeglijk naamwoord altijd iets zegt over een zelfstandig naamwoord, kan een bijwoord iets zeggen over verschillende delen van een z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Invloeien voorbeeldzinnen met audio zinnen: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werk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Mon vieil ordinateur fonctionne bien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bien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nctionn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Mijn oude computer werkt goed. Bien zegt hier dus iets over het werken van de computer, namelijk g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woord kan ook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bijvoeglijk naamwo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Il est complètement fou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complèt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fou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Hij is helemaal ge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f een bijwoord zegt iets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ander bijwo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Emilie répond vraiment poliment au contrôleur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vra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poli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milie antwoordt de conducteur echt vriendelij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enslotte kan een bijwoord iets zegge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een volledige z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Heureusement, leur projet a eu du succès. [invloeien gebogen pijl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heureusement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naar rest van de zin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Gelukkig heeft hun project succes geh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p. 3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Regelmatige vorm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De meeste bijwoorden hebben een regelmatige vorm. De regelmatige vorm is afgeleid van het bijvoeglijk naamwoord. Er zijn drie mogelijkhe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Als het bijvoeglijk naamwoord eindigt op een klinker, komt er -ment achter om het bijwoord te vor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infini – infin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Il me regarde infin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 het bijvoeglijk naamwoord op een medeklinker eindigt, maak je het eerst vrouwelijk en voeg je -ment to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exacte – exact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Elle dit exactement ç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Als het bijvoeglijk naamwoord op -ent/-ant eindigt, gebruik je -emment of -amment om het bijwoord te ma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NL: suffisant – suffisam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Stem FR: Tu as suffisamment travaill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[invloeien uitroepteken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t op! Het bijvoeglijk naamwoord lent is een uitzondering op deze laatste regel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NL: lent wordt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Stem FR: Elle roule lentemen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4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Onregelmatige vor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 zijn bijwoorden die niet op een regelmatige manier gevormd worden. Hier is een lijst met veelvoorkomende onregelmatige vormen. Bestudeer deze lijst goed en leer deze bijwoorden uit je hoof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bon – bi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travaille bi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eilleur – mie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est mieux préparé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mauvais – 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Tes parents sont mal informé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ai - gai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Le bébé me sourit gai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gentil – gent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Il m’a répondu genti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long – longte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Ça dure longte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NL: rapide - v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m FR: Donne-moi vite ton por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jdelijke aanduiding voor dianumm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D1DA-5A3E-4219-958C-C77E294540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p.5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Vaste uitdrukki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Let op! Er zijn in het Frans een paar vaste uitdrukkingen waarin het bijwoord de vorm blijft houden van het bijvoeglijk naamwoord. Dit zijn die uitdrukking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[Zinnen 1 voor 1 invloeien , vervolgens stem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travailler d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 travaillé dur pour mon examen de ma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rler haut / parler b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Paul parle bas pour ne pas réveiller son pè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sentir bon / sentir mauva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J’aime ce parfum. Ça sent b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faire parei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vas tomber si tu fais pareil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NL: coûter cher / payer cher / vendre cher / acheter c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em FR: Tu l’as payé cher, ce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348-3E4B-4973-8B41-CB705E757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1036-AC6C-4AC9-95EE-643C02EF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47A-397B-4753-A862-307B977B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C58-E43A-4900-9904-17FC7699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275-C032-46D0-A804-31412CEB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B23-DB13-42C2-B9EA-0108834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764-6CE2-4829-BC32-7C82BCD7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B08-62D4-4CCC-9432-38F8DC3A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6934-800D-4E96-87D7-9E66645E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D0E3-081E-44C1-B6E4-AAEE9FF3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80BC-EF76-466A-B6B3-C9398CF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1161-340A-49CA-96D5-5446B1D9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de5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5D02-A931-4092-977F-8B33CBA9962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 BIJWOO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4280" y="3857760"/>
            <a:ext cx="6400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70c0"/>
                </a:solidFill>
                <a:latin typeface="Calibri"/>
              </a:rPr>
              <a:t>L’ADVER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ndertitel 2"/>
          <p:cNvSpPr/>
          <p:nvPr/>
        </p:nvSpPr>
        <p:spPr>
          <a:xfrm>
            <a:off x="1357200" y="18572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502920"/>
            <a:ext cx="8101080" cy="711000"/>
          </a:xfrm>
          <a:prstGeom prst="rect">
            <a:avLst/>
          </a:prstGeom>
          <a:noFill/>
          <a:ln w="0">
            <a:noFill/>
          </a:ln>
        </p:spPr>
        <p:txBody>
          <a:bodyPr t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 is een bijwoor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640" y="1476000"/>
            <a:ext cx="8229600" cy="4095720"/>
          </a:xfrm>
          <a:prstGeom prst="rect">
            <a:avLst/>
          </a:prstGeom>
          <a:noFill/>
          <a:ln w="0">
            <a:noFill/>
          </a:ln>
        </p:spPr>
        <p:txBody>
          <a:bodyPr tIns="90000" bIns="9000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woord zegt iets ov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werk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Mon vieil ordinateur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nctionne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bien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bijvoeglijk naamwoord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complètement</a:t>
            </a:r>
            <a:r>
              <a:rPr b="0" lang="en-US" sz="22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fou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ander bijwoord: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Emilie répond 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vraiment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poli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au contrôleur.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en hele zin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4f6228"/>
                </a:solidFill>
                <a:latin typeface="Calibri"/>
              </a:rPr>
              <a:t>Heureusement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lang="en-US" sz="2200" spc="-1" strike="noStrike" u="sng">
                <a:solidFill>
                  <a:srgbClr val="1f497d"/>
                </a:solidFill>
                <a:uFillTx/>
                <a:latin typeface="Calibri"/>
              </a:rPr>
              <a:t>leur projet a eu du succès</a:t>
            </a:r>
            <a:r>
              <a:rPr b="0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376092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IJL-RECHTS 5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hoek 11"/>
          <p:cNvSpPr/>
          <p:nvPr/>
        </p:nvSpPr>
        <p:spPr>
          <a:xfrm>
            <a:off x="360360" y="1500120"/>
            <a:ext cx="8212320" cy="42876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Boog 18"/>
          <p:cNvSpPr/>
          <p:nvPr/>
        </p:nvSpPr>
        <p:spPr>
          <a:xfrm flipH="1" flipV="1" rot="18761400">
            <a:off x="3280320" y="289080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Boog 19"/>
          <p:cNvSpPr/>
          <p:nvPr/>
        </p:nvSpPr>
        <p:spPr>
          <a:xfrm flipV="1" rot="2838600">
            <a:off x="4709520" y="207324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Boog 20"/>
          <p:cNvSpPr/>
          <p:nvPr/>
        </p:nvSpPr>
        <p:spPr>
          <a:xfrm flipH="1" flipV="1" rot="18761400">
            <a:off x="3851640" y="3716280"/>
            <a:ext cx="928440" cy="782640"/>
          </a:xfrm>
          <a:custGeom>
            <a:avLst/>
            <a:gdLst/>
            <a:ahLst/>
            <a:rect l="l" t="t" r="r" b="b"/>
            <a:pathLst>
              <a:path stroke="0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  <a:lnTo>
                  <a:pt x="464344" y="391319"/>
                </a:lnTo>
                <a:cubicBezTo>
                  <a:pt x="464344" y="260879"/>
                  <a:pt x="464343" y="130440"/>
                  <a:pt x="464343" y="0"/>
                </a:cubicBezTo>
                <a:close/>
              </a:path>
              <a:path fill="none" w="928687" h="782637">
                <a:moveTo>
                  <a:pt x="464343" y="0"/>
                </a:moveTo>
                <a:cubicBezTo>
                  <a:pt x="720793" y="0"/>
                  <a:pt x="928687" y="175199"/>
                  <a:pt x="928687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Boog 21"/>
          <p:cNvSpPr/>
          <p:nvPr/>
        </p:nvSpPr>
        <p:spPr>
          <a:xfrm flipH="1" flipV="1" rot="18761400">
            <a:off x="2994480" y="4502160"/>
            <a:ext cx="928440" cy="782640"/>
          </a:xfrm>
          <a:custGeom>
            <a:avLst/>
            <a:gdLst/>
            <a:ahLst/>
            <a:rect l="l" t="t" r="r" b="b"/>
            <a:pathLst>
              <a:path stroke="0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  <a:lnTo>
                  <a:pt x="464344" y="391319"/>
                </a:lnTo>
                <a:lnTo>
                  <a:pt x="464344" y="0"/>
                </a:lnTo>
                <a:close/>
              </a:path>
              <a:path fill="none" w="928688" h="782637">
                <a:moveTo>
                  <a:pt x="464344" y="0"/>
                </a:moveTo>
                <a:cubicBezTo>
                  <a:pt x="720794" y="0"/>
                  <a:pt x="928688" y="175199"/>
                  <a:pt x="928688" y="391319"/>
                </a:cubicBezTo>
              </a:path>
            </a:pathLst>
          </a:custGeom>
          <a:noFill/>
          <a:ln w="63360">
            <a:solidFill>
              <a:srgbClr val="1f497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egelmatige vor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539640" y="147636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rming van het bijwoord is afgeleid van het bijvoeglij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naamwo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: klinker (a, e, i, o, u)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ini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infini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e regarde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infini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medeklink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vrouwelijke vorm + -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xac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xact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Elle a dit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exact</a:t>
            </a:r>
            <a:r>
              <a:rPr b="0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e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: -ent of -an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-emment of -amm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suffisa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suffisam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as </a:t>
            </a:r>
            <a:r>
              <a:rPr b="0" lang="nl-NL" sz="2200" spc="-1" strike="noStrike">
                <a:solidFill>
                  <a:srgbClr val="4f6228"/>
                </a:solidFill>
                <a:latin typeface="Calibri"/>
              </a:rPr>
              <a:t>suffis</a:t>
            </a:r>
            <a:r>
              <a:rPr b="1" lang="nl-NL" sz="2200" spc="-1" strike="noStrike">
                <a:solidFill>
                  <a:srgbClr val="4f6228"/>
                </a:solidFill>
                <a:latin typeface="Calibri"/>
              </a:rPr>
              <a:t>am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ravaill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nt </a:t>
            </a:r>
            <a:r>
              <a:rPr b="0" lang="nl-NL" sz="22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lentement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Elle roule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en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IJL-RECHTS 7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hthoek 6"/>
          <p:cNvSpPr/>
          <p:nvPr/>
        </p:nvSpPr>
        <p:spPr>
          <a:xfrm>
            <a:off x="360360" y="1500120"/>
            <a:ext cx="7926480" cy="78588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al 8"/>
          <p:cNvSpPr/>
          <p:nvPr/>
        </p:nvSpPr>
        <p:spPr>
          <a:xfrm>
            <a:off x="714240" y="5500800"/>
            <a:ext cx="428760" cy="42840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nregelmatige vorm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1428480"/>
            <a:ext cx="82296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voeglijk naam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ijwoord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oorbeeld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bo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travaill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bie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eille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es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ieux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réparé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mauvai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es parents son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ma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nformé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a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Le bébé me sourit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aie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ntil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Il m’a répondu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gentiment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ong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Ça dure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longtemp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rapid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Donne-moi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c00000"/>
                </a:solidFill>
                <a:latin typeface="Calibri"/>
              </a:rPr>
              <a:t>vite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on portab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hthoek 7"/>
          <p:cNvSpPr/>
          <p:nvPr/>
        </p:nvSpPr>
        <p:spPr>
          <a:xfrm>
            <a:off x="360360" y="1500120"/>
            <a:ext cx="8569440" cy="4143600"/>
          </a:xfrm>
          <a:prstGeom prst="rect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502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ste uitdrukk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539640" y="1476360"/>
            <a:ext cx="8229600" cy="48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ravailler dur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travaillé dur</a:t>
            </a:r>
            <a:r>
              <a:rPr b="1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mon examen de math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parler haut / ba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Paul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rle bas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pour ne pas réveiller son pè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sentir bon / mauvais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J’aime ce parfum. Ça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sent bon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faire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Tu vas tomber si tu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fais pareil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coûter / payer / vendre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Tu l’as </a:t>
            </a:r>
            <a:r>
              <a:rPr b="1" lang="nl-NL" sz="2200" spc="-1" strike="noStrike">
                <a:solidFill>
                  <a:srgbClr val="c00000"/>
                </a:solidFill>
                <a:latin typeface="Calibri"/>
              </a:rPr>
              <a:t>payé cher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, ce vél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/ acheter cher </a:t>
            </a:r>
            <a:r>
              <a:rPr b="0" lang="nl-NL" sz="22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500960" y="597132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IJL-RECHTS 6"/>
          <p:cNvSpPr/>
          <p:nvPr/>
        </p:nvSpPr>
        <p:spPr>
          <a:xfrm>
            <a:off x="7143840" y="6012000"/>
            <a:ext cx="376200" cy="288720"/>
          </a:xfrm>
          <a:prstGeom prst="rightArrow">
            <a:avLst>
              <a:gd name="adj1" fmla="val 50000"/>
              <a:gd name="adj2" fmla="val 5003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al 8"/>
          <p:cNvSpPr/>
          <p:nvPr/>
        </p:nvSpPr>
        <p:spPr>
          <a:xfrm>
            <a:off x="714240" y="1643040"/>
            <a:ext cx="428760" cy="4287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Wide Lati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6:19:10Z</dcterms:created>
  <dc:creator>Patrick Schuitema</dc:creator>
  <dc:description/>
  <dc:language>en-US</dc:language>
  <cp:lastModifiedBy>Rob</cp:lastModifiedBy>
  <dcterms:modified xsi:type="dcterms:W3CDTF">2013-01-30T10:10:33Z</dcterms:modified>
  <cp:revision>188</cp:revision>
  <dc:subject/>
  <dc:title>L’ADJECTIF</dc:title>
</cp:coreProperties>
</file>