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F98-DDE0-4F63-B6CD-D93D8853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420-521B-4A6F-8695-168B31A5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4D5-47A7-4138-B73A-43F4450D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FB7-CF05-45EB-8D00-3256B183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B95B-1F50-4C0B-A8E8-95763E2A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8632-1C53-4CD9-B8DA-3FB0159D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D741-A098-46D6-AE0C-1EF98DF2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A526-6187-4B36-B89C-65B5D584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9360-EF3A-43B9-B3DB-63A2B2F0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1CB5-8A7F-49D0-A600-6351A24D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1517-86CB-4E80-A8D5-01CEFFCA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CE5-DF76-4A11-BCED-DC6561A1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0006-E89D-4D62-ABA1-AE0F5445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80CB-752C-45B5-9204-D0D9B0B0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847B-48B5-4BD2-B949-D9DD0CC1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B176-256E-43D2-B575-B00FFA8D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BC4A-522D-4795-80A3-6B050958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6AB-CEA4-401D-AADE-B347AE55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274-C992-4726-A005-69C2A84E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0E7-B9B7-4741-981C-85F74433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47C-6B83-421D-9E18-AE4A4DE1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AC4-3EAE-4FFD-81BB-25006BE4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32C-8D88-474B-8ABE-87CAE56C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D6F-F63E-4ABD-9366-E50E6504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03E2-5C2B-4FB7-B2AE-80A81DE583C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A17A-6710-46DE-AAE5-2566D378E4C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Meewerkend voorwer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Lijdend voorwer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grammaire"/>
          <p:cNvPicPr/>
          <p:nvPr/>
        </p:nvPicPr>
        <p:blipFill>
          <a:blip r:embed="rId1"/>
          <a:stretch/>
        </p:blipFill>
        <p:spPr>
          <a:xfrm>
            <a:off x="2627280" y="476280"/>
            <a:ext cx="38163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geef een boek aan j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geeft mij een brie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e donne un livre à toi. / Je te donne un liv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donne une lettre à moi. / Il me donne une let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/ 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u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M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donne un livre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ui donne un liv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donner une invitation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ui donner une invit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téléphone toujours à ses am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llons donner un cadeau à vou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demandé son adresse à son meilleur ami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 of voorwerp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heb een vriend, ik zie hem vaak na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heeft een vriendin, hij ziet haar altijd op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’ai un copain, je le vois souvent après l’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a une copine, il la voit toujours dans l´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</a:t>
            </a:r>
            <a:r>
              <a:rPr b="0" lang="nl-NL" sz="2400" spc="-1" strike="noStrike">
                <a:solidFill>
                  <a:srgbClr val="ffffff"/>
                </a:solidFill>
                <a:latin typeface="Berlin Sans FB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 / He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L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’ai deux cousin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es vois souv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a un cadeau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e donner à Pierr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une sœu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Ik ken – connaître - haar goed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Vous allez écrire une lettr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Morgen ga ik het lezen – lire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vons envoyé l’invitati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Zij heeft het ontvangen – recevoir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6:31:32Z</dcterms:created>
  <dc:creator>Algemeen</dc:creator>
  <dc:description/>
  <dc:language>en-US</dc:language>
  <cp:lastModifiedBy>Rob Nijhuis</cp:lastModifiedBy>
  <dcterms:modified xsi:type="dcterms:W3CDTF">2012-09-10T09:12:29Z</dcterms:modified>
  <cp:revision>15</cp:revision>
  <dc:subject/>
  <dc:title>Dia 1</dc:title>
</cp:coreProperties>
</file>