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19.jpeg" ContentType="image/jpeg"/>
  <Override PartName="/ppt/media/image21.jpeg" ContentType="image/jpeg"/>
  <Override PartName="/ppt/media/image29.png" ContentType="image/png"/>
  <Override PartName="/ppt/media/image18.gif" ContentType="image/gif"/>
  <Override PartName="/ppt/media/image53.png" ContentType="image/png"/>
  <Override PartName="/ppt/media/image17.png" ContentType="image/png"/>
  <Override PartName="/ppt/media/image24.gif" ContentType="image/gif"/>
  <Override PartName="/ppt/media/image16.png" ContentType="image/png"/>
  <Override PartName="/ppt/media/image23.gif" ContentType="image/gif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54.gif" ContentType="image/gif"/>
  <Override PartName="/ppt/media/image5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41.png" ContentType="image/png"/>
  <Override PartName="/ppt/media/image42.png" ContentType="image/png"/>
  <Override PartName="/ppt/media/image46.png" ContentType="image/png"/>
  <Override PartName="/ppt/media/image47.gif" ContentType="image/gif"/>
  <Override PartName="/ppt/media/image52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5.png" ContentType="image/png"/>
  <Override PartName="/ppt/media/image57.png" ContentType="image/png"/>
  <Override PartName="/ppt/media/image40.png" ContentType="image/png"/>
  <Override PartName="/ppt/media/image35.gif" ContentType="image/gif"/>
  <Override PartName="/ppt/media/image32.png" ContentType="image/png"/>
  <Override PartName="/ppt/media/image31.png" ContentType="image/png"/>
  <Override PartName="/ppt/media/image30.png" ContentType="image/png"/>
  <Override PartName="/ppt/media/image38.png" ContentType="image/png"/>
  <Override PartName="/ppt/media/image8.png" ContentType="image/png"/>
  <Override PartName="/ppt/media/image28.gif" ContentType="image/gif"/>
  <Override PartName="/ppt/media/image4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37.png" ContentType="image/png"/>
  <Override PartName="/ppt/media/image22.jpeg" ContentType="image/jpeg"/>
  <Override PartName="/ppt/media/image39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EC37-FC63-4086-9617-E1B81987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41E9-3527-43C5-957D-18E6ED5F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4A77-ADD0-457C-9F7C-AFE756904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D21C-EB04-449F-A5A5-FE659325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E8BD-7F5E-4463-A232-1C27EA3D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FC3E-AE37-4A26-8FCE-B78EDE38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3ACC-CABB-4B87-8300-3E0EB84C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2A3B-83DE-4CB2-BB12-891F8D9F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E99B-5DA5-4D50-984C-98F19496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3B68-DCC1-4FE6-93CF-E25B9FAE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1229-B58F-473A-AD40-981AA7E5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6CE3-31FD-49B3-8F0D-8935F2F0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DF91-7B01-40BD-B28E-F43BF11653D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taylorssolicitors.com/home.htm" TargetMode="External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taylorssolicitors.com/home.htm" TargetMode="External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875E-5B76-42E0-BC4D-A5CDABA3AB9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750960" y="285840"/>
            <a:ext cx="735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Criminaliteit en rechtsstaat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7" descr="GIF_boef"/>
          <p:cNvPicPr/>
          <p:nvPr/>
        </p:nvPicPr>
        <p:blipFill>
          <a:blip r:embed="rId1"/>
          <a:stretch/>
        </p:blipFill>
        <p:spPr>
          <a:xfrm>
            <a:off x="2571840" y="3357720"/>
            <a:ext cx="2636640" cy="2452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5712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xamenkate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schappijleer 2 VMBO K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98100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boek van strafre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(materieel strafrech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langrijkste wetten in Nederland staan hier in (buiten de grondwet d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 de strafbare feiten zijn en welke straffen ervoor kunnen uitgesproken w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fbare feiten omschre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als: moord, diefstal, oplichting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boek van strafvordering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formeel strafrech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aalt hoe strafbare feiten vervolgd w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handelt de hele procedure van aanhouding t/m de strafoplegging door de rechter.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ze twee wetboeken vormen de basis van het Nederlandse strafre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88B7-D873-4763-B2C8-BDF8CBA2BF5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uropees verdrag tot bescherming van de rechten van de mens (EV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rechtsregels binnen de E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B4CA-F38E-494E-8B55-15D372055D2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://www.sdu.nl/Lists/Productlist/Attachments/5971/full_EVRMHW.jpg"/>
          <p:cNvPicPr/>
          <p:nvPr/>
        </p:nvPicPr>
        <p:blipFill>
          <a:blip r:embed="rId1"/>
          <a:stretch/>
        </p:blipFill>
        <p:spPr>
          <a:xfrm>
            <a:off x="2987640" y="3429000"/>
            <a:ext cx="216072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560" y="1341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riminaliteit 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ijdgebonden: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roeger was vreemdgaan strafbaar: sinds 1970 niet me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odslastering strafbaar: nu niet m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Hacken is nu WEL strafbaar, bestond vroeger ni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laatsgebonden: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Regels verschillen per land en cultu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Nl: Euthanasie en abortus mag </a:t>
            </a:r>
            <a:r>
              <a:rPr b="0" lang="nl-N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in veel landen verbo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VS bijna iedereen een wapen </a:t>
            </a:r>
            <a:r>
              <a:rPr b="0" lang="nl-N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hier verbo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D8C7-E97E-4523-814C-C1846D06D4C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enmerken van een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rechtsstaat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Burgerrechten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 overheid moet zich aan de wet houden; burgers hebben rech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Grondrechten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 staan in de grondwet. De overheid mag geen wetten maken tégen de grondwet i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Overheid zorgt voor rechtsha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having én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rechtsbescherm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Parlementaire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democratie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 heeft altijd democratisch gekozen par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Scheiding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van machten: triaspoli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Onafhankelijke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rechtspraak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 rechter opereert onafhankelijk van de overhei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B226-7382-4A84-8B3B-22C11A3E562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48572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chtsstaat: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en land waarin bewoners en overheid rechten hebben en waar deze rechten zijn vastgelegd in wetten. Burgers worden beschermd tegen machtsmisbruik en willkeur van de overhe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Triaspolitica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machtenschei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oor deze taakverdeling voorkomen we machtsmisbruik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Hierdoor heeft dus nooit één groep alle mach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gevend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itvoerende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chterlijkema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116000" y="54936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24000" y="5254560"/>
            <a:ext cx="194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e en 2e kamer beslissen over de wetsvoorstell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059280" y="5183280"/>
            <a:ext cx="2233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isters (en ambtenaren zoals de politie) voeren de wet ui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6227640" y="5195880"/>
            <a:ext cx="2232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rechters oordelen in specifieke situaties of er volgens de wet is gehandeld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4356000" y="3573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611280" y="364500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urgerrech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chermt worden tegen de overhe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chtszeker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weten wat je te wachten staat na het plegen van een de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chtsgelijk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niet anders behandelt worden dan an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1A78-A53D-4C2B-8532-F87CF1CDD99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http://www.army-chaplaincy.be/images/assets/extracts/def1142004061/Aantasting%20burgerrechten.jpg"/>
          <p:cNvPicPr/>
          <p:nvPr/>
        </p:nvPicPr>
        <p:blipFill>
          <a:blip r:embed="rId1"/>
          <a:stretch/>
        </p:blipFill>
        <p:spPr>
          <a:xfrm>
            <a:off x="3564000" y="4221000"/>
            <a:ext cx="29178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shandha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ndhaven van de rechtso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vb: staand houden als je zonder licht rijd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spreken bij wildpl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brekers arrest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s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ke verdachte heeft re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delijk vermoeden van schu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antwoorden op v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81AC-29E7-4BA7-A2DA-D12860550DD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2: Criminaliteit, een proble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Strafbaar gedrag: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t je wetregels overtreed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Criminaliteit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: alle misdrijven die in de wet sta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misdrijf: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overtre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nieling, diefstal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rijden zonder lich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braak, verkrachting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or rood rij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rafblad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geen strafbl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ngenis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hechten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deplichtig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niet medeplicht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waardere straf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minder zware stra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rimineel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overtreder/ of ni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9399-67CE-46CA-8B6E-D5DA10B6217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3" descr="stopPolitie"/>
          <p:cNvPicPr/>
          <p:nvPr/>
        </p:nvPicPr>
        <p:blipFill>
          <a:blip r:embed="rId1"/>
          <a:stretch/>
        </p:blipFill>
        <p:spPr>
          <a:xfrm>
            <a:off x="7559640" y="1214280"/>
            <a:ext cx="158436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DD65-BB07-4AAE-ABAD-B5DF4E0885C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2: Criminaliteit, een proble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57120" y="1571760"/>
            <a:ext cx="80647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Materiele schade: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riminaliteit kost miljarden euro’s per jaa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tv die uit je huis gehaald 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fiets die gejat 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strijding fraude ed kost veel gel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drijven rekenen schade die ze lijden vaak door in de prijzen van hun produc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verheid en bedrijven lijden financiele schad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politie"/>
          <p:cNvPicPr/>
          <p:nvPr/>
        </p:nvPicPr>
        <p:blipFill>
          <a:blip r:embed="rId1"/>
          <a:stretch/>
        </p:blipFill>
        <p:spPr>
          <a:xfrm>
            <a:off x="6429240" y="2357280"/>
            <a:ext cx="215928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6FE8-3273-47D4-821D-BD56D918418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2: Criminaliteit, een proble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57120" y="1571760"/>
            <a:ext cx="80647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mmateriele schad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apeloze nachten omdat er ooit is ingebrok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ang zijn op straat, wegens een overv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chtsgevoel van mensen wordt aangetas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rele verontwaardig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en vinden het oneerlijk/onrechtvaardig als men zich niet aan de wet houd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van vertrouwen (in bvb de overheid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rmvervaging, normen en waarden verande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politie"/>
          <p:cNvPicPr/>
          <p:nvPr/>
        </p:nvPicPr>
        <p:blipFill>
          <a:blip r:embed="rId1"/>
          <a:stretch/>
        </p:blipFill>
        <p:spPr>
          <a:xfrm>
            <a:off x="7164360" y="2276640"/>
            <a:ext cx="21589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C864-DAAD-479C-97F2-827856B2EFA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0" y="1989000"/>
            <a:ext cx="4032360" cy="223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2"/>
          <a:stretch/>
        </p:blipFill>
        <p:spPr>
          <a:xfrm>
            <a:off x="4356000" y="1989000"/>
            <a:ext cx="4156200" cy="223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3"/>
          <a:stretch/>
        </p:blipFill>
        <p:spPr>
          <a:xfrm>
            <a:off x="0" y="4637160"/>
            <a:ext cx="4140360" cy="73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4"/>
          <a:srcRect l="1705" t="0" r="5168" b="0"/>
          <a:stretch/>
        </p:blipFill>
        <p:spPr>
          <a:xfrm>
            <a:off x="4427640" y="4653000"/>
            <a:ext cx="3960720" cy="565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us van Pieter                              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ron: rechtvoorjou.n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3: Ons beeld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9822-ADDD-4D4A-AB30-62251D7A080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214200" y="1571760"/>
            <a:ext cx="879336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3: Ons beeld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43C6-7EE5-457B-B22C-C91453A6353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642960" y="1143000"/>
            <a:ext cx="72867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9A87-B993-4E5D-ADCD-827E5992229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500120" y="1785960"/>
            <a:ext cx="72392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kenmerken van een crimineel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: uiterlijk,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: Lagere maatschappelijke positi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: - vaker door mannen dan door vrouw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slechte opvoeding leidt vaker tot crimineel gedra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roepsgedrag: als je vrienden het doen..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Spijbelaars/zonder diplom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politie"/>
          <p:cNvPicPr/>
          <p:nvPr/>
        </p:nvPicPr>
        <p:blipFill>
          <a:blip r:embed="rId1"/>
          <a:stretch/>
        </p:blipFill>
        <p:spPr>
          <a:xfrm>
            <a:off x="395280" y="3933720"/>
            <a:ext cx="151920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9F01-2849-4F5B-9B37-0E87CE53A7B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7" descr="politie"/>
          <p:cNvPicPr/>
          <p:nvPr/>
        </p:nvPicPr>
        <p:blipFill>
          <a:blip r:embed="rId1"/>
          <a:stretch/>
        </p:blipFill>
        <p:spPr>
          <a:xfrm>
            <a:off x="7905600" y="571680"/>
            <a:ext cx="1238400" cy="1190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>
            <a:off x="182520" y="1928880"/>
            <a:ext cx="896148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21EB-1236-4491-B15A-6750140E368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7" descr="politie"/>
          <p:cNvPicPr/>
          <p:nvPr/>
        </p:nvPicPr>
        <p:blipFill>
          <a:blip r:embed="rId1"/>
          <a:stretch/>
        </p:blipFill>
        <p:spPr>
          <a:xfrm>
            <a:off x="7905600" y="642960"/>
            <a:ext cx="1238400" cy="1190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117360" y="1785960"/>
            <a:ext cx="90266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148D-5982-4300-90F8-BA815BC8EA5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7" descr="politie"/>
          <p:cNvPicPr/>
          <p:nvPr/>
        </p:nvPicPr>
        <p:blipFill>
          <a:blip r:embed="rId1"/>
          <a:stretch/>
        </p:blipFill>
        <p:spPr>
          <a:xfrm>
            <a:off x="7905600" y="642960"/>
            <a:ext cx="1238400" cy="1190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714240" y="1357200"/>
            <a:ext cx="784872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406E-F5D8-4940-810C-590202D3D49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50920" y="1916280"/>
            <a:ext cx="65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Maatschappelijke oorzak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826920" y="3645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In een grote stad gebeurd het vak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900000" y="2637000"/>
            <a:ext cx="633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ociale controle is minder gewor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(pakkans is daardoor kleiner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826920" y="227664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ormen en waarden zijn minder stre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395280" y="4724280"/>
            <a:ext cx="8280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Bindingstheorie van Hirschi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riminaliteit een combinatie van individuele en maatschappelijke oorzaken. Niemand is alleen meer goed, iedereen kan misdadiger zijn. Ligt aan de bindingen die je hebt: vrienden, band met familie, werk e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826920" y="407664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Alcohol en drugs gebruik toegenomen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7" descr="politie"/>
          <p:cNvPicPr/>
          <p:nvPr/>
        </p:nvPicPr>
        <p:blipFill>
          <a:blip r:embed="rId1"/>
          <a:stretch/>
        </p:blipFill>
        <p:spPr>
          <a:xfrm>
            <a:off x="6732720" y="1557360"/>
            <a:ext cx="123804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5: Het strafre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BBD6-DD1C-4CA0-9366-5A05C364EF4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1071720" y="1500120"/>
            <a:ext cx="750096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5: Het strafre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94920" y="981000"/>
            <a:ext cx="84978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verjaringstermijn is de periode waarna de verdachte in een strafzaak niet meer kunt worden vervolg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termijn van verjaring hangt af van het soort strafbaar feit dat u heeft gepleeg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tredingen: na 3 jaar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sdrijven waarvoor een geldboete, hechtenis, of gevangenisstraf van 3 jaar of minder kan worden opgelegd: na 6 jaar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sdrijven waarvoor een tijdelijke gevangenisstraf van meer dan 3 jaar kan worden opgelegd: na 12 jaar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sdrijven waarvoor een gevangenisstraf van meer dan 10 jaar kan worden opgelegd: na 20 jaa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verjaring bij levenslange gevangenisstra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1FA0-7A9B-4532-9D4F-955B94DD856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5: Het strafre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A53A-DCE0-4BB3-91DD-24A068C8371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142920" y="1500120"/>
            <a:ext cx="90010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A4C4-5885-4DB1-994B-EC5D30646EF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4032360" cy="237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4103640" cy="2376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2F78-A225-4989-B69E-BE94094405E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24000" y="2349360"/>
            <a:ext cx="8496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ieter is nu d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dachte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politie denkt dat je iets strafbaars hebt gedaan. Een redelijk vermoeden van schul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politie kan een aantal dingen doen om een zaak op te loss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900000" y="4365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Fouiller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kleding en lichaam wordt onderzoch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826920" y="4797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Arrester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moet mee naar het politiebureau voor verhoor. (je kan een paar dagen worden vastgehouden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900000" y="558972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Huis doorzoek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oeken naar bewijsmateriaal. Huiszoekingsbevel nodig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4" descr="politie"/>
          <p:cNvPicPr/>
          <p:nvPr/>
        </p:nvPicPr>
        <p:blipFill>
          <a:blip r:embed="rId1"/>
          <a:stretch/>
        </p:blipFill>
        <p:spPr>
          <a:xfrm>
            <a:off x="7286760" y="642960"/>
            <a:ext cx="1493640" cy="187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A831-26CE-4314-A283-62C17FDCB0B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324000" y="1916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3 keuzes:</a:t>
            </a:r>
            <a:r>
              <a:rPr b="0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539640" y="4581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volg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moet WEL  naar de rechter. De rechter zal beslissen of je schuldig of onschuldig bent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539640" y="3860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Schikking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hoeft niet naar de rechter. Je kan een boete betalen of iets dergelijks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1042920" y="5373720"/>
            <a:ext cx="7488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Vrijspraak: 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als de rechter bij vervolging beslist dat je onschuldig bent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Schuldig: 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als de rechter bij vervolging beslist dat er genoeg bewijs tegen je is, ben je schuldig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9"/>
          <p:cNvGraphicFramePr/>
          <p:nvPr/>
        </p:nvGraphicFramePr>
        <p:xfrm>
          <a:off x="6286680" y="1285920"/>
          <a:ext cx="2577960" cy="142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6680" y="1285920"/>
                    <a:ext cx="257796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 Box 11"/>
          <p:cNvSpPr/>
          <p:nvPr/>
        </p:nvSpPr>
        <p:spPr>
          <a:xfrm>
            <a:off x="611280" y="27082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Seponer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vJ onderneemt geen stappen.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hoeft niet naar de rechter. Vaak door onvoldoende bewijs, of als je al ‘genoeg gestraft’ ben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61C3-F861-4DF4-AD13-867B1BF098C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12"/>
          <p:cNvGraphicFramePr/>
          <p:nvPr/>
        </p:nvGraphicFramePr>
        <p:xfrm>
          <a:off x="1332000" y="3141720"/>
          <a:ext cx="6048360" cy="267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141720"/>
                    <a:ext cx="604836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CE75-F816-45BB-B107-82201CA2B1E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295200" y="500040"/>
            <a:ext cx="884880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E1E9-E44A-4345-AECD-A681FDECE56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1"/>
          <a:stretch/>
        </p:blipFill>
        <p:spPr>
          <a:xfrm>
            <a:off x="785880" y="1143000"/>
            <a:ext cx="778824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415A-FF1E-44EB-B4A1-F8AFB9B9D90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85840" y="1643040"/>
            <a:ext cx="8629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DC62-1022-4A20-BD56-2F83F9688B8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1549440" y="-243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280" y="40428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2" descr="rechtbank"/>
          <p:cNvPicPr/>
          <p:nvPr/>
        </p:nvPicPr>
        <p:blipFill>
          <a:blip r:embed="rId1"/>
          <a:srcRect l="0" t="0" r="0" b="32627"/>
          <a:stretch/>
        </p:blipFill>
        <p:spPr>
          <a:xfrm>
            <a:off x="1979640" y="1916280"/>
            <a:ext cx="4802040" cy="4941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3"/>
          <p:cNvSpPr/>
          <p:nvPr/>
        </p:nvSpPr>
        <p:spPr>
          <a:xfrm>
            <a:off x="250920" y="2205000"/>
            <a:ext cx="172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Officier van justitie: </a:t>
            </a:r>
            <a:br>
              <a:rPr sz="1600"/>
            </a:b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wil bewijzen dat de verdachte schuldig i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6877080" y="4653000"/>
            <a:ext cx="1728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Advocaat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verdedigt de verdachte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5"/>
          <p:cNvSpPr/>
          <p:nvPr/>
        </p:nvSpPr>
        <p:spPr>
          <a:xfrm>
            <a:off x="6877080" y="3284640"/>
            <a:ext cx="22669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Verdachte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de persoon die verdacht wordt van een misdrijf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6877080" y="1916280"/>
            <a:ext cx="17287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Griffier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Noteert alles wat er gezegd wordt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2771640" y="981000"/>
            <a:ext cx="3961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hter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Beslist of de verdachte schuldig is en bepaalt de straf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8"/>
          <p:cNvSpPr/>
          <p:nvPr/>
        </p:nvSpPr>
        <p:spPr>
          <a:xfrm>
            <a:off x="2627280" y="141300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9"/>
          <p:cNvSpPr/>
          <p:nvPr/>
        </p:nvSpPr>
        <p:spPr>
          <a:xfrm flipH="1">
            <a:off x="6659280" y="184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0"/>
          <p:cNvSpPr/>
          <p:nvPr/>
        </p:nvSpPr>
        <p:spPr>
          <a:xfrm flipH="1">
            <a:off x="5292360" y="3284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1"/>
          <p:cNvSpPr/>
          <p:nvPr/>
        </p:nvSpPr>
        <p:spPr>
          <a:xfrm flipH="1" flipV="1">
            <a:off x="6443640" y="422100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2"/>
          <p:cNvSpPr/>
          <p:nvPr/>
        </p:nvSpPr>
        <p:spPr>
          <a:xfrm>
            <a:off x="1403280" y="256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685B-FC89-468F-9E89-A6EF24F13A8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3" descr="RECHTSPRAAK"/>
          <p:cNvPicPr/>
          <p:nvPr/>
        </p:nvPicPr>
        <p:blipFill>
          <a:blip r:embed="rId1"/>
          <a:stretch/>
        </p:blipFill>
        <p:spPr>
          <a:xfrm>
            <a:off x="1908000" y="2276640"/>
            <a:ext cx="5010480" cy="38098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62C1-1638-449E-8F8A-EA96A66D387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857680" y="1143000"/>
            <a:ext cx="435744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8DA7-988E-4974-B6B5-E8F2AD6E511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24000" y="2205000"/>
            <a:ext cx="828036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ieter weet precies wat er gaat gebeur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rechter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controleert all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persoonlijke gegevens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(naam, geboortedatum, adres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vJ leest d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aanklacht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voor. Daarin staat waarvan Pieter verdacht wordt en wanneer het is gebeur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rechter, de OvJ en de advocaat gaan Pieter nu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ragen stellen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. Bvb of hij wel eens eerder met de politie te maken heeft geh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Een vriend is opgeroepen als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tuige.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Hij moet eerlijk vertellen wat er is gebeurd. Getuiges mogen niet liegen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judge"/>
          <p:cNvPicPr/>
          <p:nvPr/>
        </p:nvPicPr>
        <p:blipFill>
          <a:blip r:embed="rId1"/>
          <a:stretch/>
        </p:blipFill>
        <p:spPr>
          <a:xfrm>
            <a:off x="6804000" y="907920"/>
            <a:ext cx="1857240" cy="1609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E99A-C6FC-4048-A610-A48FE02637F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103640" cy="223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4716360" y="1989000"/>
            <a:ext cx="4102200" cy="2305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3"/>
          <a:stretch/>
        </p:blipFill>
        <p:spPr>
          <a:xfrm>
            <a:off x="324000" y="4653000"/>
            <a:ext cx="3816360" cy="1171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4"/>
          <a:stretch/>
        </p:blipFill>
        <p:spPr>
          <a:xfrm>
            <a:off x="4716360" y="4653000"/>
            <a:ext cx="4249800" cy="10126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ABDB-DE5C-4EC2-8941-7A904321A74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0" y="2060640"/>
            <a:ext cx="82803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5. De OvJ legt uit waarom hij vindt dat Pieter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chuldig is e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eist een straf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6. De advocaat neemt het dan op voor Pieter en vraagt om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strafverminde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7. Pieter mag als verdachte zelf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het laatste woord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hebben en spijt betui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8. De rechter spreekt he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onnis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uit: Hij veroordeelt Pieter tot 2 maanden voorwaardelijke gevangenisstraf en 120 uur taakstraf.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oorwaardelijk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betekent dat Pieter voorlopig niet de gevangenis in hoeft, tenzij hij weer zoiets stoms doe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Enter Taylors Solicitors web p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34440" y="620640"/>
            <a:ext cx="1609560" cy="1609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jail"/>
          <p:cNvPicPr/>
          <p:nvPr/>
        </p:nvPicPr>
        <p:blipFill>
          <a:blip r:embed="rId3"/>
          <a:stretch/>
        </p:blipFill>
        <p:spPr>
          <a:xfrm>
            <a:off x="324000" y="765000"/>
            <a:ext cx="1485720" cy="12384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F808-2C74-4FDF-BCD0-F3B5572655F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61D1-ACA7-4E03-B66D-B25257D7900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684360" y="2060640"/>
            <a:ext cx="828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Taken van de officier van justiti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n uitvoeren van opgelegde vonniss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dat veroordeelden hun straf uitzit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 geven aan opsporingsonderzoek/ opsporingstaa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olgen van strafbare fei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rechter brengen van verdach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klagen van verdacht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Enter Taylors Solicitors web p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34440" y="620640"/>
            <a:ext cx="1609560" cy="16099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jail"/>
          <p:cNvPicPr/>
          <p:nvPr/>
        </p:nvPicPr>
        <p:blipFill>
          <a:blip r:embed="rId3"/>
          <a:stretch/>
        </p:blipFill>
        <p:spPr>
          <a:xfrm>
            <a:off x="324000" y="765000"/>
            <a:ext cx="14857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02C4-5D62-4BCE-AACC-AA94F09D2C6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judge"/>
          <p:cNvPicPr/>
          <p:nvPr/>
        </p:nvPicPr>
        <p:blipFill>
          <a:blip r:embed="rId1"/>
          <a:stretch/>
        </p:blipFill>
        <p:spPr>
          <a:xfrm>
            <a:off x="3429000" y="1428840"/>
            <a:ext cx="2730600" cy="2367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>
            <a:off x="285840" y="3857760"/>
            <a:ext cx="4352760" cy="2581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3"/>
          <a:stretch/>
        </p:blipFill>
        <p:spPr>
          <a:xfrm>
            <a:off x="5500800" y="3857760"/>
            <a:ext cx="34002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DF7A-0B32-42C5-9AB9-C06EFDEBC65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0" y="1946160"/>
            <a:ext cx="8064360" cy="16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oorten straffen: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468360" y="3357720"/>
            <a:ext cx="7991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Hoofdstraffen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: zoals gevangenisstraf, geldboete, taakstraf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468360" y="3860640"/>
            <a:ext cx="784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Bijkomendestraf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: zoals rijbewijs inleveren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395280" y="4365720"/>
            <a:ext cx="7993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- Maatregelen: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TBS (ter Beschikking stelling aan de staat), agressietraining, etc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4" descr="police"/>
          <p:cNvPicPr/>
          <p:nvPr/>
        </p:nvPicPr>
        <p:blipFill>
          <a:blip r:embed="rId1"/>
          <a:stretch/>
        </p:blipFill>
        <p:spPr>
          <a:xfrm>
            <a:off x="6659640" y="765000"/>
            <a:ext cx="1333440" cy="13338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22"/>
          <p:cNvSpPr/>
          <p:nvPr/>
        </p:nvSpPr>
        <p:spPr>
          <a:xfrm>
            <a:off x="611280" y="5516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Pieter krijgt van de rechter 2 maanden voorwaardelijk en een taakstraf als hoofdstraf en de maatregel dat hij agressietraining moet vol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73FB-0A6F-4E21-94C4-17EA1823904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0" y="2349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Waarom straffen we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9" descr="British_police"/>
          <p:cNvPicPr/>
          <p:nvPr/>
        </p:nvPicPr>
        <p:blipFill>
          <a:blip r:embed="rId1"/>
          <a:stretch/>
        </p:blipFill>
        <p:spPr>
          <a:xfrm>
            <a:off x="7500960" y="428760"/>
            <a:ext cx="1371600" cy="13237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2"/>
          <p:cNvSpPr/>
          <p:nvPr/>
        </p:nvSpPr>
        <p:spPr>
          <a:xfrm>
            <a:off x="1311120" y="2800440"/>
            <a:ext cx="448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468360" y="2852640"/>
            <a:ext cx="7920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afschikking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ensen moeten niet crimineel willen wor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Resocialisatie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gedrag verbeteren, zodat criminelen terug kunnen in de samenlev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iliger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riminelen zitten in de gevangenis, dus is het daarbuiten veiliger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Wraak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lachtoffers en familiedaarvoor wilden vergelding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itel 1"/>
          <p:cNvSpPr/>
          <p:nvPr/>
        </p:nvSpPr>
        <p:spPr>
          <a:xfrm>
            <a:off x="0" y="500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8: Waarom straffen we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9E17-0BCE-4B30-A307-87F92698340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250920" y="40766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aak- en leerstraffen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ternatieve straffen: helpen in de winkel waar je hebt gestolen, dronken iemand aangereden: gehandicapte slachtoffers help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324000" y="2708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renger straffen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affen hoger maken, hogere boetes, langere gevangenisstraf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250920" y="3573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Lik-op-stukbeleid: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ader sneller pakken én berecht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250920" y="5300640"/>
            <a:ext cx="80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Preventie: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voorkomen dat er criminaliteit plaats heeft. Meer politie op straat, meer camera’s bij winkels, e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affen helpt niet voldoende: 4 oploss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itel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8: Waarom straffen we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8E70-6336-4E8B-8E8C-69D560D5B69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itel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8: Waarom straffen we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0" y="1571760"/>
            <a:ext cx="91598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8FC8-2EF6-4691-9192-4907CFB87E3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itel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8: Waarom straffen we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852156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Repressie/ repressieve maatregelen:</a:t>
            </a:r>
            <a:br>
              <a:rPr sz="2200"/>
            </a:b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nadat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misdrijven zijn gepleegd, actie onder nemen (straffen, opsporen). 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Achteraf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Preventie/ preventieve maatregelen: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 te 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oorkom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dat criminaliteit gebeurd.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moord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roofover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6699-B125-4ED5-A6B9-E9788594506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9" descr="politie"/>
          <p:cNvPicPr/>
          <p:nvPr/>
        </p:nvPicPr>
        <p:blipFill>
          <a:blip r:embed="rId1"/>
          <a:stretch/>
        </p:blipFill>
        <p:spPr>
          <a:xfrm>
            <a:off x="7086600" y="3789360"/>
            <a:ext cx="18111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0519-0E61-47C9-A687-3FD3B1DF3C9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101840" cy="2374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4572000" y="2060640"/>
            <a:ext cx="4029120" cy="2305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3"/>
          <a:stretch/>
        </p:blipFill>
        <p:spPr>
          <a:xfrm>
            <a:off x="324000" y="4653000"/>
            <a:ext cx="4032000" cy="855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4"/>
          <a:stretch/>
        </p:blipFill>
        <p:spPr>
          <a:xfrm>
            <a:off x="4716360" y="4653000"/>
            <a:ext cx="3456000" cy="6714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et beleid van de overheid bestaat uit 6 onderdel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poring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volging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ngeni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uwe wetge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eventie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jeugd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0182-998A-4C8D-8A05-ACC9C45C0B0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9" descr="politie"/>
          <p:cNvPicPr/>
          <p:nvPr/>
        </p:nvPicPr>
        <p:blipFill>
          <a:blip r:embed="rId1"/>
          <a:stretch/>
        </p:blipFill>
        <p:spPr>
          <a:xfrm>
            <a:off x="5435640" y="2781360"/>
            <a:ext cx="22384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672120" indent="-2880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et beleid van de overheid bestaat uit 6 onderdel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Opsporingsbeleid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opsporen van criminalite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e vormen verdienen aanda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leid om pakkans te verho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ervolging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manier waarop overheid misdrijven wil bestraff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Bvb snelrecht/ lik-op-stuk beleid (zelfde dag opgepakt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voor de rech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EF61-CCD8-4F9A-88CB-E598842D57C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9" descr="politie"/>
          <p:cNvPicPr/>
          <p:nvPr/>
        </p:nvPicPr>
        <p:blipFill>
          <a:blip r:embed="rId1"/>
          <a:stretch/>
        </p:blipFill>
        <p:spPr>
          <a:xfrm>
            <a:off x="7093080" y="1916280"/>
            <a:ext cx="22381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lvl="1" marL="640080" indent="-27432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2. Vervolgingsbeleid. De vervolging va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Veelvoorkomendecriminaliteit: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misdrijven die relatief vaak voorkomen: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winkeldiefstal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zakkenrollen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voetbal vandalisme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vernieling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Worden bestraft met taakstraf en geldboe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Meer met preventieve maatregelen aanpakk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Zware criminaliteit: 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verkrachting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moord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roofoverv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8307-4F29-4D3D-AD05-73985A467CE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9" descr="politie"/>
          <p:cNvPicPr/>
          <p:nvPr/>
        </p:nvPicPr>
        <p:blipFill>
          <a:blip r:embed="rId1"/>
          <a:stretch/>
        </p:blipFill>
        <p:spPr>
          <a:xfrm>
            <a:off x="7236000" y="3357720"/>
            <a:ext cx="22381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lvl="1" marL="664200" indent="-28440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2. Vervolgingsbeleid. De vervolging va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0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Verborgen criminaliteit:</a:t>
            </a:r>
            <a:br>
              <a:rPr sz="2100"/>
            </a:b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- belastingfraude       - onterechte uitkering</a:t>
            </a:r>
            <a:br>
              <a:rPr sz="1700"/>
            </a:b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- internetcriminalite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0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Wordt extra onder de loep genom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Georganiseerde misdaa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Vrouwenhandel   - Ontvoering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Pornografie          - Hel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Fraude                  - gokk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Vaak internationale bend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Bestreden door streng optred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Meer politieagenten, gevangeniscelle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Politie en justitie mogen telefoons en computers afluister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Rechters geven hogere straffe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8959-75B1-45C4-8B4A-521F8BA8821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9" descr="politie"/>
          <p:cNvPicPr/>
          <p:nvPr/>
        </p:nvPicPr>
        <p:blipFill>
          <a:blip r:embed="rId1"/>
          <a:stretch/>
        </p:blipFill>
        <p:spPr>
          <a:xfrm>
            <a:off x="7236000" y="3357720"/>
            <a:ext cx="22381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752040" indent="-32220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2. Vervolgingsbeleid. De vervolging va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52040" indent="-32220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terreurbestrijding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aanslagen (denk aan New-York, London, Madrid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Strengere controles op vliegveld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Niet alleen daders strafbaar </a:t>
            </a:r>
            <a:r>
              <a:rPr b="0" lang="nl-NL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Ook als jee van plan bent of lid terroristische groe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Zelfs als je het toejuicht kan je voor de rechter kom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Politie arresteert al, als je, je verdacht gedraag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Dit is: verruiming van de bevoegdhed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8F8F-0550-44FF-B6ED-20A04A8440F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9" descr="politie"/>
          <p:cNvPicPr/>
          <p:nvPr/>
        </p:nvPicPr>
        <p:blipFill>
          <a:blip r:embed="rId1"/>
          <a:stretch/>
        </p:blipFill>
        <p:spPr>
          <a:xfrm>
            <a:off x="7451640" y="1125360"/>
            <a:ext cx="133344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lvl="1" marL="592200" indent="-2538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et beleid van de overheid bestaat uit 6 onderdel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3. Gevangeni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tra cellen bouwen bij cellen tek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dan 1 gevange per c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overschot: gevangenis ‘verhuren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4. Nieuwe wetge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tboeken aanpa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t moet effectief zijn (moet werken, effect oplever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t moet wenselijk zijn (samenleving moet accepter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t het bij de normen en waarden van de samenle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eventie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jeugd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9C94-4AAA-4CB6-8EE2-A1944A1FEB6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9" descr="politie"/>
          <p:cNvPicPr/>
          <p:nvPr/>
        </p:nvPicPr>
        <p:blipFill>
          <a:blip r:embed="rId1"/>
          <a:stretch/>
        </p:blipFill>
        <p:spPr>
          <a:xfrm>
            <a:off x="7236000" y="1916280"/>
            <a:ext cx="14922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et beleid van de overheid bestaat uit 6 onderdel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5. Preventie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Criminaliteit voorkomen (h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6. Jeugd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Jeugdcriminaliteit terugdri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toezicht, meer contr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eller straff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werkprojecten/ taakstraff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aandacht voor onderwijs: niet spijbelen, schooluit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6C9A-1A7B-4C48-A762-3FBCC1A56F2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9" descr="politie"/>
          <p:cNvPicPr/>
          <p:nvPr/>
        </p:nvPicPr>
        <p:blipFill>
          <a:blip r:embed="rId1"/>
          <a:stretch/>
        </p:blipFill>
        <p:spPr>
          <a:xfrm>
            <a:off x="7236000" y="1916280"/>
            <a:ext cx="14922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lvl="1" marL="664200" indent="-2844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Links/socialist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druk op maatschappelijke aspec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ventieve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b banenplannen voor jongeren/ wijkagenten inze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hristen democrat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druk op belang gezin, school &amp; maatschapp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uders en leraren moeten kinderen respect/eerbied bijbre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Rechts/Liberal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druk op repressieve aanpak: zwaarder stra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r bevoegdheden voor politie en justitie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ms in strijd met burgerre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4058-81FF-411B-BE5B-2F69D0C74E2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9" descr="politie"/>
          <p:cNvPicPr/>
          <p:nvPr/>
        </p:nvPicPr>
        <p:blipFill>
          <a:blip r:embed="rId1"/>
          <a:stretch/>
        </p:blipFill>
        <p:spPr>
          <a:xfrm>
            <a:off x="7667640" y="1197000"/>
            <a:ext cx="9176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E365-1CB2-430D-A024-120DA100DAE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"/>
          <p:cNvPicPr/>
          <p:nvPr/>
        </p:nvPicPr>
        <p:blipFill>
          <a:blip r:embed="rId1"/>
          <a:stretch/>
        </p:blipFill>
        <p:spPr>
          <a:xfrm>
            <a:off x="1214280" y="1285920"/>
            <a:ext cx="6828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1B46-02C0-4D7B-97A8-AFA010CF055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al 5"/>
          <p:cNvSpPr/>
          <p:nvPr/>
        </p:nvSpPr>
        <p:spPr>
          <a:xfrm>
            <a:off x="395280" y="2349360"/>
            <a:ext cx="266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al 6"/>
          <p:cNvSpPr/>
          <p:nvPr/>
        </p:nvSpPr>
        <p:spPr>
          <a:xfrm>
            <a:off x="826920" y="4508640"/>
            <a:ext cx="266544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al 7"/>
          <p:cNvSpPr/>
          <p:nvPr/>
        </p:nvSpPr>
        <p:spPr>
          <a:xfrm>
            <a:off x="5867280" y="2421000"/>
            <a:ext cx="266544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al 8"/>
          <p:cNvSpPr/>
          <p:nvPr/>
        </p:nvSpPr>
        <p:spPr>
          <a:xfrm>
            <a:off x="5651640" y="4221000"/>
            <a:ext cx="266544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kstvak 9"/>
          <p:cNvSpPr/>
          <p:nvPr/>
        </p:nvSpPr>
        <p:spPr>
          <a:xfrm>
            <a:off x="755640" y="256536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andelijke over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kstvak 11"/>
          <p:cNvSpPr/>
          <p:nvPr/>
        </p:nvSpPr>
        <p:spPr>
          <a:xfrm>
            <a:off x="6156360" y="4581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urg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kstvak 12"/>
          <p:cNvSpPr/>
          <p:nvPr/>
        </p:nvSpPr>
        <p:spPr>
          <a:xfrm>
            <a:off x="1332000" y="472428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okale over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kstvak 13"/>
          <p:cNvSpPr/>
          <p:nvPr/>
        </p:nvSpPr>
        <p:spPr>
          <a:xfrm>
            <a:off x="6372360" y="2781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drijv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Gelijkbenige driehoek 14"/>
          <p:cNvSpPr/>
          <p:nvPr/>
        </p:nvSpPr>
        <p:spPr>
          <a:xfrm>
            <a:off x="3564000" y="2349360"/>
            <a:ext cx="2232000" cy="1943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kstvak 15"/>
          <p:cNvSpPr/>
          <p:nvPr/>
        </p:nvSpPr>
        <p:spPr>
          <a:xfrm>
            <a:off x="3851280" y="342900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reventie door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U-vormige pijl 16"/>
          <p:cNvSpPr/>
          <p:nvPr/>
        </p:nvSpPr>
        <p:spPr>
          <a:xfrm>
            <a:off x="5076720" y="2060640"/>
            <a:ext cx="885960" cy="877680"/>
          </a:xfrm>
          <a:custGeom>
            <a:avLst/>
            <a:gdLst/>
            <a:ahLst/>
            <a:rect l="l" t="t" r="r" b="b"/>
            <a:pathLst>
              <a:path w="885825" h="877888">
                <a:moveTo>
                  <a:pt x="0" y="877888"/>
                </a:moveTo>
                <a:lnTo>
                  <a:pt x="0" y="384076"/>
                </a:lnTo>
                <a:lnTo>
                  <a:pt x="0" y="384076"/>
                </a:lnTo>
                <a:arcTo wR="384076" hR="384076" stAng="10800000" swAng="5400009"/>
                <a:lnTo>
                  <a:pt x="392013" y="0"/>
                </a:lnTo>
                <a:lnTo>
                  <a:pt x="392013" y="0"/>
                </a:lnTo>
                <a:arcTo wR="384076" hR="384076" stAng="-5400000" swAng="5400009"/>
                <a:lnTo>
                  <a:pt x="776089" y="438944"/>
                </a:lnTo>
                <a:lnTo>
                  <a:pt x="885825" y="438944"/>
                </a:lnTo>
                <a:lnTo>
                  <a:pt x="666353" y="658416"/>
                </a:lnTo>
                <a:lnTo>
                  <a:pt x="446881" y="438944"/>
                </a:lnTo>
                <a:lnTo>
                  <a:pt x="556617" y="438944"/>
                </a:lnTo>
                <a:lnTo>
                  <a:pt x="556617" y="384076"/>
                </a:lnTo>
                <a:lnTo>
                  <a:pt x="556617" y="384076"/>
                </a:lnTo>
                <a:arcTo wR="164604" hR="164604" stAng="0" swAng="-5400000"/>
                <a:lnTo>
                  <a:pt x="384076" y="219472"/>
                </a:lnTo>
                <a:lnTo>
                  <a:pt x="384076" y="219472"/>
                </a:lnTo>
                <a:arcTo wR="164604" hR="164604" stAng="-5400000" swAng="-5400000"/>
                <a:lnTo>
                  <a:pt x="219472" y="87788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U-vormige pijl 17"/>
          <p:cNvSpPr/>
          <p:nvPr/>
        </p:nvSpPr>
        <p:spPr>
          <a:xfrm rot="7020600">
            <a:off x="3528720" y="4474800"/>
            <a:ext cx="887400" cy="878040"/>
          </a:xfrm>
          <a:custGeom>
            <a:avLst/>
            <a:gdLst/>
            <a:ahLst/>
            <a:rect l="l" t="t" r="r" b="b"/>
            <a:pathLst>
              <a:path w="887413" h="877888">
                <a:moveTo>
                  <a:pt x="0" y="877888"/>
                </a:moveTo>
                <a:lnTo>
                  <a:pt x="0" y="384076"/>
                </a:lnTo>
                <a:lnTo>
                  <a:pt x="0" y="384076"/>
                </a:lnTo>
                <a:arcTo wR="384076" hR="384076" stAng="10800000" swAng="5400009"/>
                <a:lnTo>
                  <a:pt x="393601" y="0"/>
                </a:lnTo>
                <a:lnTo>
                  <a:pt x="393601" y="0"/>
                </a:lnTo>
                <a:arcTo wR="384076" hR="384076" stAng="-5400000" swAng="5400009"/>
                <a:lnTo>
                  <a:pt x="777677" y="438944"/>
                </a:lnTo>
                <a:lnTo>
                  <a:pt x="887413" y="438944"/>
                </a:lnTo>
                <a:lnTo>
                  <a:pt x="667941" y="658416"/>
                </a:lnTo>
                <a:lnTo>
                  <a:pt x="448469" y="438944"/>
                </a:lnTo>
                <a:lnTo>
                  <a:pt x="558205" y="438944"/>
                </a:lnTo>
                <a:lnTo>
                  <a:pt x="558205" y="384076"/>
                </a:lnTo>
                <a:lnTo>
                  <a:pt x="558205" y="384076"/>
                </a:lnTo>
                <a:arcTo wR="164604" hR="164604" stAng="0" swAng="-5400000"/>
                <a:lnTo>
                  <a:pt x="384076" y="219472"/>
                </a:lnTo>
                <a:lnTo>
                  <a:pt x="384076" y="219472"/>
                </a:lnTo>
                <a:arcTo wR="164604" hR="164604" stAng="-5400000" swAng="-5400000"/>
                <a:lnTo>
                  <a:pt x="219472" y="87788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U-vormige pijl 18"/>
          <p:cNvSpPr/>
          <p:nvPr/>
        </p:nvSpPr>
        <p:spPr>
          <a:xfrm rot="16389000">
            <a:off x="4807440" y="4248720"/>
            <a:ext cx="885600" cy="877680"/>
          </a:xfrm>
          <a:custGeom>
            <a:avLst/>
            <a:gdLst/>
            <a:ahLst/>
            <a:rect l="l" t="t" r="r" b="b"/>
            <a:pathLst>
              <a:path w="885825" h="877887">
                <a:moveTo>
                  <a:pt x="0" y="877887"/>
                </a:moveTo>
                <a:lnTo>
                  <a:pt x="0" y="384076"/>
                </a:lnTo>
                <a:lnTo>
                  <a:pt x="0" y="384076"/>
                </a:lnTo>
                <a:arcTo wR="384076" hR="384076" stAng="10800000" swAng="5400009"/>
                <a:lnTo>
                  <a:pt x="392014" y="0"/>
                </a:lnTo>
                <a:lnTo>
                  <a:pt x="392014" y="0"/>
                </a:lnTo>
                <a:arcTo wR="384076" hR="384076" stAng="-5400000" swAng="5400009"/>
                <a:lnTo>
                  <a:pt x="776089" y="438944"/>
                </a:lnTo>
                <a:lnTo>
                  <a:pt x="885825" y="438944"/>
                </a:lnTo>
                <a:lnTo>
                  <a:pt x="666353" y="658415"/>
                </a:lnTo>
                <a:lnTo>
                  <a:pt x="446882" y="438944"/>
                </a:lnTo>
                <a:lnTo>
                  <a:pt x="556617" y="438944"/>
                </a:lnTo>
                <a:lnTo>
                  <a:pt x="556617" y="384076"/>
                </a:lnTo>
                <a:lnTo>
                  <a:pt x="556617" y="384076"/>
                </a:lnTo>
                <a:arcTo wR="164604" hR="164604" stAng="0" swAng="-5400000"/>
                <a:lnTo>
                  <a:pt x="384076" y="219472"/>
                </a:lnTo>
                <a:lnTo>
                  <a:pt x="384076" y="219472"/>
                </a:lnTo>
                <a:arcTo wR="164604" hR="164604" stAng="-5400000" swAng="-5400000"/>
                <a:lnTo>
                  <a:pt x="219472" y="87788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U-vormige pijl 19"/>
          <p:cNvSpPr/>
          <p:nvPr/>
        </p:nvSpPr>
        <p:spPr>
          <a:xfrm rot="13525200">
            <a:off x="3058560" y="2420640"/>
            <a:ext cx="887400" cy="877680"/>
          </a:xfrm>
          <a:custGeom>
            <a:avLst/>
            <a:gdLst/>
            <a:ahLst/>
            <a:rect l="l" t="t" r="r" b="b"/>
            <a:pathLst>
              <a:path w="887413" h="877888">
                <a:moveTo>
                  <a:pt x="0" y="877888"/>
                </a:moveTo>
                <a:lnTo>
                  <a:pt x="0" y="388650"/>
                </a:lnTo>
                <a:lnTo>
                  <a:pt x="0" y="388650"/>
                </a:lnTo>
                <a:arcTo wR="388650" hR="388650" stAng="10800000" swAng="5400009"/>
                <a:lnTo>
                  <a:pt x="389027" y="0"/>
                </a:lnTo>
                <a:lnTo>
                  <a:pt x="389027" y="0"/>
                </a:lnTo>
                <a:arcTo wR="388650" hR="388650" stAng="-5400000" swAng="5400009"/>
                <a:lnTo>
                  <a:pt x="777677" y="438944"/>
                </a:lnTo>
                <a:lnTo>
                  <a:pt x="887413" y="438944"/>
                </a:lnTo>
                <a:lnTo>
                  <a:pt x="667941" y="658416"/>
                </a:lnTo>
                <a:lnTo>
                  <a:pt x="448469" y="438944"/>
                </a:lnTo>
                <a:lnTo>
                  <a:pt x="558205" y="438944"/>
                </a:lnTo>
                <a:lnTo>
                  <a:pt x="558205" y="388650"/>
                </a:lnTo>
                <a:lnTo>
                  <a:pt x="558205" y="388650"/>
                </a:lnTo>
                <a:arcTo wR="169178" hR="169178" stAng="0" swAng="-5400000"/>
                <a:lnTo>
                  <a:pt x="388650" y="219472"/>
                </a:lnTo>
                <a:lnTo>
                  <a:pt x="388650" y="219472"/>
                </a:lnTo>
                <a:arcTo wR="169178" hR="169178" stAng="-5400000" swAng="-5400000"/>
                <a:lnTo>
                  <a:pt x="219472" y="87788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D19B-EB9C-4FBA-A0B6-F899D721782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4032360" cy="2303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police.gif police image by scottametz"/>
          <p:cNvPicPr/>
          <p:nvPr/>
        </p:nvPicPr>
        <p:blipFill>
          <a:blip r:embed="rId2"/>
          <a:stretch/>
        </p:blipFill>
        <p:spPr>
          <a:xfrm>
            <a:off x="4572000" y="2060640"/>
            <a:ext cx="3097080" cy="23223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179280" y="4437000"/>
            <a:ext cx="806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Pieter wordt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opgepakt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door de politie. Hij moet mee naar het bureau. Daar wordt besloten dat hij voor de rechter moet komen. Enkele weken voor de rechtszitting krijgt Pieter een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dagvaarding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. Dat is de oproep om voor de rechter te verschijnen.Pieter moet niet voor de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politierechter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komen (die is alleen bij lichte misdrijven) maar bij de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meervoudige kamer.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Deze bestaat uit 3 rechters en is bedoeld voor zware misdrijven zoals moord en mishandeling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68360" y="2349000"/>
            <a:ext cx="8229600" cy="35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en voor goede huisv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b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lichting g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wijs verbeteren: antispijbelbel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uders erbij betre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DA54-9443-42EF-9BD9-FF2D9139BD2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al 5"/>
          <p:cNvSpPr/>
          <p:nvPr/>
        </p:nvSpPr>
        <p:spPr>
          <a:xfrm>
            <a:off x="0" y="1125360"/>
            <a:ext cx="266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kstvak 9"/>
          <p:cNvSpPr/>
          <p:nvPr/>
        </p:nvSpPr>
        <p:spPr>
          <a:xfrm>
            <a:off x="468360" y="134136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andelijke over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68360" y="263700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 burgemeester toestemming vragen om preventief te fouill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rgemeester kan voetbalwedstrijd verbi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te raad kan iets strafbar stellen (blowverb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598A-EB2E-41FE-9353-F8B8213814E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al 5"/>
          <p:cNvSpPr/>
          <p:nvPr/>
        </p:nvSpPr>
        <p:spPr>
          <a:xfrm>
            <a:off x="0" y="1125360"/>
            <a:ext cx="266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kstvak 9"/>
          <p:cNvSpPr/>
          <p:nvPr/>
        </p:nvSpPr>
        <p:spPr>
          <a:xfrm>
            <a:off x="468360" y="134136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okal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ver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39640" y="2276640"/>
            <a:ext cx="8229600" cy="35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laten industriebedrijf: riskant terrei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alarminstallat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nsen boven bedrijf wo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akingsdienst inhu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winkeldiefs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chnische maatregelen (camera’s, spiegels, diefstal poortj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personeel in de wink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leine bedrijven: geen geld voor diefstal prevent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o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tispijbelbeleid (samenwerken met politie/gemeen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2744-7E69-4896-9F2E-11E97195C58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al 5"/>
          <p:cNvSpPr/>
          <p:nvPr/>
        </p:nvSpPr>
        <p:spPr>
          <a:xfrm>
            <a:off x="0" y="907920"/>
            <a:ext cx="2664000" cy="122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kstvak 9"/>
          <p:cNvSpPr/>
          <p:nvPr/>
        </p:nvSpPr>
        <p:spPr>
          <a:xfrm>
            <a:off x="468360" y="1052640"/>
            <a:ext cx="17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drijv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8360" y="263700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wijken op elkaar letten: sociale cont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spectieronden burgerw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igen verantwoordelijkhe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stelen van je eigen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Als baas:) zorgen voor goede sfeer om stelen te voork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53E2-617A-4B3A-B9FB-667C535B95E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al 5"/>
          <p:cNvSpPr/>
          <p:nvPr/>
        </p:nvSpPr>
        <p:spPr>
          <a:xfrm>
            <a:off x="0" y="1125360"/>
            <a:ext cx="266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kstvak 9"/>
          <p:cNvSpPr/>
          <p:nvPr/>
        </p:nvSpPr>
        <p:spPr>
          <a:xfrm>
            <a:off x="468360" y="134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urg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39640" y="2276640"/>
            <a:ext cx="8229600" cy="35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sociale contro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conduc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dsw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wakingsdiensten winkel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amera’s op str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politie op str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D8B0-0D55-40EF-9ACB-B8B341791BD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kstvak 9"/>
          <p:cNvSpPr/>
          <p:nvPr/>
        </p:nvSpPr>
        <p:spPr>
          <a:xfrm>
            <a:off x="468360" y="1341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elke preventieve maatregelen zijn er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9640" y="21337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beteren woonomgev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huizen leeg laten staan. Ziet het er netjes uit wordt er minder vern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chnische maatregelen: afsluiten trappenhuis en galerij, verbeteren van slo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voorzieningen voor jong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F4B8-DDCB-4B31-8ADE-027204E5765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kstvak 9"/>
          <p:cNvSpPr/>
          <p:nvPr/>
        </p:nvSpPr>
        <p:spPr>
          <a:xfrm>
            <a:off x="468360" y="1341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elke preventieve maatregelen zijn er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539640" y="184464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lt-bu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LT: Het ALTernat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ze: direct herstellen OF rechtzaak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her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ongeren tot 18 jaar (bijna de helft van de delictpleg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straf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daders af te schrik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één OvJ of rechte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us geen strafb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él rechte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strafblad/ uitreksel justitiële document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67A5-3691-44A6-901A-F7A561C6FCE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kstvak 9"/>
          <p:cNvSpPr/>
          <p:nvPr/>
        </p:nvSpPr>
        <p:spPr>
          <a:xfrm>
            <a:off x="468360" y="1341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elke preventieve maatregelen zijn er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7E5F-40AF-4F2D-8649-54B83A6AF81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cces met l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15" descr="After_the_Criminal"/>
          <p:cNvPicPr/>
          <p:nvPr/>
        </p:nvPicPr>
        <p:blipFill>
          <a:blip r:embed="rId1"/>
          <a:stretch/>
        </p:blipFill>
        <p:spPr>
          <a:xfrm>
            <a:off x="2124000" y="3933720"/>
            <a:ext cx="46576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at voor wetboeken zijn 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rond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etboek van strafrech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etboek van strafvor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egenverkeers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et economische deli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Opium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D127-4467-4F4D-B4EC-2026B769D83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672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Grondwet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Wet waarin de belangrijkst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recht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plicht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van alle inwoners in een land zijn vastgeleg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 andere wetten zijn hierop gebaseer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Wat staat er o.a. in de grondwe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matige verkiezi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heid van meningsuit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heid van vereniging en vergad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tenscheiding (triaspolitic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vrijh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politieke partij op te rich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niet zomaar door de politie te worden opgepak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258920" y="33336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http://www.frankwatching.com/wordpress/wp-content/uploads/2009/04/grondwet-194x300.jpg"/>
          <p:cNvPicPr/>
          <p:nvPr/>
        </p:nvPicPr>
        <p:blipFill>
          <a:blip r:embed="rId1"/>
          <a:stretch/>
        </p:blipFill>
        <p:spPr>
          <a:xfrm>
            <a:off x="6732720" y="2349360"/>
            <a:ext cx="1847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96720" y="1484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Recht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politieke partij op te rich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niet zomaar door de politie te worden opgepak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Plicht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belasting te beta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naar school te gaan. Leerpli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je id bij te hebben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249200" y="773280"/>
            <a:ext cx="634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://www.frankwatching.com/wordpress/wp-content/uploads/2009/04/grondwet-194x300.jpg"/>
          <p:cNvPicPr/>
          <p:nvPr/>
        </p:nvPicPr>
        <p:blipFill>
          <a:blip r:embed="rId1"/>
          <a:stretch/>
        </p:blipFill>
        <p:spPr>
          <a:xfrm>
            <a:off x="7162920" y="620640"/>
            <a:ext cx="14889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SD1</cp:lastModifiedBy>
  <dcterms:modified xsi:type="dcterms:W3CDTF">2013-07-08T13:46:09Z</dcterms:modified>
  <cp:revision>152</cp:revision>
  <dc:subject/>
  <dc:title>Dia 1</dc:title>
</cp:coreProperties>
</file>