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37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29.jpeg" ContentType="image/jpeg"/>
  <Override PartName="/ppt/media/image5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E56-4177-4FBE-B8E5-24C33F9C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F0A-9013-41A9-A598-B16D41C5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3BC-A939-42E7-87D3-8A469327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2E7-5819-4905-AD8A-2375C4531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77F-35ED-408D-88BC-EF1E0615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9870-BB51-4AEA-890E-BE23DCB0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F43-4357-430D-92B8-A488254E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7CC1-058E-404B-8136-E0033043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5352-7CA6-40EE-A34A-BE67A7E4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0B0-A711-4753-9321-6269F137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195-AB0E-4D8F-99D2-0452BE62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E0A-833D-4D50-A95F-E7C4CE1C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03D0-F95E-4CE4-89ED-2C255D7A776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45.jpeg"/><Relationship Id="rId7" Type="http://schemas.openxmlformats.org/officeDocument/2006/relationships/image" Target="../media/image21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3BB3-1EB4-4875-BB97-5E5B35BEC6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Politiek m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0750-D378-4538-97AD-91260E7429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54EC-3DED-472C-AF33-BC4BE61118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4200" y="27468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F3D7-C794-4268-AB84-F22DE4FF8A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4AB8-D9D0-4589-99C2-3D49DFAE78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4008-DF62-42FF-A033-AE088FECFA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D6B3-1263-4F51-BCA3-C89757CA71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121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135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D3F6-03AC-4517-AF6F-061C193661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4832-527D-44EE-A7A2-2961F4151F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A137-C62D-4D1D-B127-9EF1019FDB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971640" y="476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www.elsevier.nl/upload/045be808-d989-459c-86a2-b85ff68a04f1_bordesrutte.jpg"/>
          <p:cNvPicPr/>
          <p:nvPr/>
        </p:nvPicPr>
        <p:blipFill>
          <a:blip r:embed="rId1"/>
          <a:stretch/>
        </p:blipFill>
        <p:spPr>
          <a:xfrm>
            <a:off x="179280" y="1413000"/>
            <a:ext cx="868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DBAB-7CC4-47F3-BDCD-E7EA556483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9640" y="6237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november 2009                  Hele boek!!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rcRect l="17344" t="21284" r="6249" b="17687"/>
          <a:stretch/>
        </p:blipFill>
        <p:spPr>
          <a:xfrm>
            <a:off x="468360" y="1052640"/>
            <a:ext cx="81262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rcRect l="16606" t="18332" r="3661" b="22613"/>
          <a:stretch/>
        </p:blipFill>
        <p:spPr>
          <a:xfrm>
            <a:off x="324000" y="981000"/>
            <a:ext cx="8553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97164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www.elsevier.nl/upload/c6bcec6d-de90-4dce-8bec-190ae10054d0_verhagenruttewilders.jpg"/>
          <p:cNvPicPr/>
          <p:nvPr/>
        </p:nvPicPr>
        <p:blipFill>
          <a:blip r:embed="rId1"/>
          <a:stretch/>
        </p:blipFill>
        <p:spPr>
          <a:xfrm>
            <a:off x="2124000" y="2997360"/>
            <a:ext cx="464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logo vvd"/>
          <p:cNvPicPr/>
          <p:nvPr/>
        </p:nvPicPr>
        <p:blipFill>
          <a:blip r:embed="rId1"/>
          <a:stretch/>
        </p:blipFill>
        <p:spPr>
          <a:xfrm>
            <a:off x="4572000" y="1628640"/>
            <a:ext cx="700200" cy="86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logo cda"/>
          <p:cNvPicPr/>
          <p:nvPr/>
        </p:nvPicPr>
        <p:blipFill>
          <a:blip r:embed="rId2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logo CU"/>
          <p:cNvPicPr/>
          <p:nvPr/>
        </p:nvPicPr>
        <p:blipFill>
          <a:blip r:embed="rId3"/>
          <a:stretch/>
        </p:blipFill>
        <p:spPr>
          <a:xfrm>
            <a:off x="5796000" y="3716280"/>
            <a:ext cx="2303280" cy="638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ogo d66"/>
          <p:cNvPicPr/>
          <p:nvPr/>
        </p:nvPicPr>
        <p:blipFill>
          <a:blip r:embed="rId4"/>
          <a:stretch/>
        </p:blipFill>
        <p:spPr>
          <a:xfrm>
            <a:off x="5508720" y="465300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LOGO groen links"/>
          <p:cNvPicPr/>
          <p:nvPr/>
        </p:nvPicPr>
        <p:blipFill>
          <a:blip r:embed="rId5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LOGO pvda"/>
          <p:cNvPicPr/>
          <p:nvPr/>
        </p:nvPicPr>
        <p:blipFill>
          <a:blip r:embed="rId6"/>
          <a:stretch/>
        </p:blipFill>
        <p:spPr>
          <a:xfrm>
            <a:off x="1332000" y="4005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logo pvv"/>
          <p:cNvPicPr/>
          <p:nvPr/>
        </p:nvPicPr>
        <p:blipFill>
          <a:blip r:embed="rId7"/>
          <a:srcRect l="0" t="17829" r="0" b="19982"/>
          <a:stretch/>
        </p:blipFill>
        <p:spPr>
          <a:xfrm>
            <a:off x="2268360" y="450864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logo sgp"/>
          <p:cNvPicPr/>
          <p:nvPr/>
        </p:nvPicPr>
        <p:blipFill>
          <a:blip r:embed="rId8"/>
          <a:srcRect l="16553" t="0" r="16723" b="11262"/>
          <a:stretch/>
        </p:blipFill>
        <p:spPr>
          <a:xfrm>
            <a:off x="8244000" y="4581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LOGO sp"/>
          <p:cNvPicPr/>
          <p:nvPr/>
        </p:nvPicPr>
        <p:blipFill>
          <a:blip r:embed="rId9"/>
          <a:stretch/>
        </p:blipFill>
        <p:spPr>
          <a:xfrm>
            <a:off x="6875640" y="465300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logo pvvd"/>
          <p:cNvPicPr/>
          <p:nvPr/>
        </p:nvPicPr>
        <p:blipFill>
          <a:blip r:embed="rId10"/>
          <a:stretch/>
        </p:blipFill>
        <p:spPr>
          <a:xfrm>
            <a:off x="4356000" y="371628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2D8D-FAAE-4808-A293-FF22068BA2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7538-B23E-4D31-B8B8-ECE39F019B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7F55-6C23-4A8F-8831-CBF65189C9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263E-3A65-41E6-8A61-67B8B07562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2770-8FAA-45FE-B2CB-E9102738AB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F115-9C41-4D4E-A604-EB9FBC2D3A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ar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FF7A-31C9-4449-918F-0F8A112F17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7BE7-E04B-467E-8468-42AECDD13A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2C92-9DCA-49B1-BE47-59DF142E51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B49E-1959-4AAE-BEF3-96052C7684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7916-69C6-4E3F-ADEE-0BD3BBB439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BA28-7BED-44AA-92E2-7252CFC317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187F-3D9E-4A1E-B060-49FDD2A00B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8E3F-D523-4D74-AECD-3E9395E2A5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238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5C57-40B7-4E0C-8452-9E3C1A1E2F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256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0A43-E0CF-418C-811D-8D6065FD17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7286-7659-4C11-AC7E-54320FB1244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899F-7587-42E5-A110-E451E0DAA7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59DE-B233-4378-BFFF-A5B2E6B4DD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FF20-C1F5-4BA3-933C-FA00DDA4D9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7F11-1050-4494-B0B6-BC94C9BA95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843E-702A-41C5-988F-3CD4705F40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3AC7-28E2-4E52-8623-381B96EF52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3F80-4ABD-4A76-88BA-EC87FDA0FD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AB66-37B8-45B9-B8AF-5867EE4283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A3AF-3B94-4C9C-A3C8-59332FFA74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018B-4C1C-41B2-A014-05FFE1E440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veel knelpunten i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inden veel mensen niet interessant: de afstand is groot tussen kiezers en poli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hebben wij gekozen: zij zouden meer macht moeten hebben dan de reg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partijen maken regeerakkoord, parlement heeft weinig te vertellen: meerderheid is toch wel vo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436B-C9AD-49ED-A365-97A2C82AB8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7785-8453-4812-8BD4-E72709814F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neemt soms een besluit tegen de wil van de NL-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mige problemen zijn nou eenmaal moeilijk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zijn té ingewikkeld daarom weinig vertrouwen in de politiek (bureauctat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s houden aan de regels op Europees niveau, ookal niet mee 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6872-97EB-4BC1-B6F9-BC012B8D02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ferendum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zers stemmen direct over een bepaald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ionale kandidaatstell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didaten voor politieke partijen moeten uit de verschillende regio’s ko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reguler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aken worden steeds meer uitgevoerd door gemeente en provincie in plaats van landel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03A9-D608-4A16-AFB3-C738E6B866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het nemen van een besluit/het maken van een wet moet altijd eerst een reden zijn. Er zijn 5 fasen waarin de besluiten genomen worden binne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A34D-C7D3-4590-8A6E-F204BDC0F9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760" y="15717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48F4-23B5-484F-8399-757985AB86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kstvak 5"/>
          <p:cNvSpPr/>
          <p:nvPr/>
        </p:nvSpPr>
        <p:spPr>
          <a:xfrm>
            <a:off x="42876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1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kstvak 6"/>
          <p:cNvSpPr/>
          <p:nvPr/>
        </p:nvSpPr>
        <p:spPr>
          <a:xfrm>
            <a:off x="1071720" y="4071960"/>
            <a:ext cx="6991200" cy="4597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5: Terugkoppeling: </a:t>
            </a: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werkt de maatregel/wet? Evalueren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kstvak 7"/>
          <p:cNvSpPr/>
          <p:nvPr/>
        </p:nvSpPr>
        <p:spPr>
          <a:xfrm>
            <a:off x="721512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4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kstvak 8"/>
          <p:cNvSpPr/>
          <p:nvPr/>
        </p:nvSpPr>
        <p:spPr>
          <a:xfrm>
            <a:off x="4643280" y="2857680"/>
            <a:ext cx="225756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3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2428920" y="2857680"/>
            <a:ext cx="18907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2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zet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Rechte verbindingslijn met pijl 11"/>
          <p:cNvCxnSpPr>
            <a:stCxn id="349" idx="3"/>
            <a:endCxn id="353" idx="1"/>
          </p:cNvCxnSpPr>
          <p:nvPr/>
        </p:nvCxnSpPr>
        <p:spPr>
          <a:xfrm>
            <a:off x="1928520" y="32734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Rechte verbindingslijn met pijl 15"/>
          <p:cNvCxnSpPr>
            <a:stCxn id="352" idx="3"/>
            <a:endCxn id="351" idx="1"/>
          </p:cNvCxnSpPr>
          <p:nvPr/>
        </p:nvCxnSpPr>
        <p:spPr>
          <a:xfrm>
            <a:off x="6900480" y="3273480"/>
            <a:ext cx="3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Rechte verbindingslijn met pijl 20"/>
          <p:cNvCxnSpPr>
            <a:stCxn id="353" idx="3"/>
            <a:endCxn id="352" idx="1"/>
          </p:cNvCxnSpPr>
          <p:nvPr/>
        </p:nvCxnSpPr>
        <p:spPr>
          <a:xfrm>
            <a:off x="4319280" y="3273480"/>
            <a:ext cx="32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Gebogen verbindingslijn 22"/>
          <p:cNvCxnSpPr>
            <a:stCxn id="351" idx="2"/>
            <a:endCxn id="350" idx="3"/>
          </p:cNvCxnSpPr>
          <p:nvPr/>
        </p:nvCxnSpPr>
        <p:spPr>
          <a:xfrm flipH="1" rot="16200000">
            <a:off x="7706520" y="3946320"/>
            <a:ext cx="614880" cy="97560"/>
          </a:xfrm>
          <a:prstGeom prst="bentConnector4">
            <a:avLst>
              <a:gd name="adj1" fmla="val 31165"/>
              <a:gd name="adj2" fmla="val 100222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58" name="Vorm 25"/>
          <p:cNvCxnSpPr>
            <a:endCxn id="350" idx="1"/>
          </p:cNvCxnSpPr>
          <p:nvPr/>
        </p:nvCxnSpPr>
        <p:spPr>
          <a:xfrm rot="5400000">
            <a:off x="813240" y="3972600"/>
            <a:ext cx="587880" cy="72000"/>
          </a:xfrm>
          <a:prstGeom prst="bentConnector4">
            <a:avLst>
              <a:gd name="adj1" fmla="val 30330"/>
              <a:gd name="adj2" fmla="val 41959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9" name="Rechte verbindingslijn 28"/>
          <p:cNvSpPr/>
          <p:nvPr/>
        </p:nvSpPr>
        <p:spPr>
          <a:xfrm>
            <a:off x="2143080" y="25002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kstvak 29"/>
          <p:cNvSpPr/>
          <p:nvPr/>
        </p:nvSpPr>
        <p:spPr>
          <a:xfrm>
            <a:off x="857160" y="2143080"/>
            <a:ext cx="80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ortwachters: kijken of het probleem belangrijk genoeg is om op de politieke agenda te kome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kstvak 30"/>
          <p:cNvSpPr/>
          <p:nvPr/>
        </p:nvSpPr>
        <p:spPr>
          <a:xfrm>
            <a:off x="500040" y="4643280"/>
            <a:ext cx="157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en van wensen, verlangens en behoeft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31"/>
          <p:cNvSpPr/>
          <p:nvPr/>
        </p:nvSpPr>
        <p:spPr>
          <a:xfrm>
            <a:off x="7215120" y="47149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wordt uitgevoerd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kstvak 32"/>
          <p:cNvSpPr/>
          <p:nvPr/>
        </p:nvSpPr>
        <p:spPr>
          <a:xfrm>
            <a:off x="5000760" y="4714920"/>
            <a:ext cx="157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lopig) besluit wordt genomen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kstvak 33"/>
          <p:cNvSpPr/>
          <p:nvPr/>
        </p:nvSpPr>
        <p:spPr>
          <a:xfrm>
            <a:off x="2500200" y="4714920"/>
            <a:ext cx="20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ioriteit bekijken,  onderzoeken wat mogelijke oplossingen zij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kstvak 34"/>
          <p:cNvSpPr/>
          <p:nvPr/>
        </p:nvSpPr>
        <p:spPr>
          <a:xfrm>
            <a:off x="428760" y="5780160"/>
            <a:ext cx="178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r wordt actie gevoerd omdat er te veel tussen uren zij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35"/>
          <p:cNvSpPr/>
          <p:nvPr/>
        </p:nvSpPr>
        <p:spPr>
          <a:xfrm>
            <a:off x="2428920" y="585792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Vroeger/later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Zaterdag ook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kstvak 36"/>
          <p:cNvSpPr/>
          <p:nvPr/>
        </p:nvSpPr>
        <p:spPr>
          <a:xfrm>
            <a:off x="5072040" y="578016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 beste oplossin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Wat vindt het parlement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kstvak 37"/>
          <p:cNvSpPr/>
          <p:nvPr/>
        </p:nvSpPr>
        <p:spPr>
          <a:xfrm>
            <a:off x="7072200" y="578628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cholen moeten huiswerkbegeleid uren instell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kstvak 38"/>
          <p:cNvSpPr/>
          <p:nvPr/>
        </p:nvSpPr>
        <p:spPr>
          <a:xfrm>
            <a:off x="0" y="57862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e hebben er invloed op de politi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sieg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en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85AB-2D3F-4CC8-BE1B-55B23BB523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dia vervult 5 func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formatie geven over bepaalde gebeurtenissen en besluiten die genom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genda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urnalisten zien problemen die onder de bevolking speelt en brengt dit onder d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entaar- en meningsvorm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levert kritiek op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roler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houdt de politiek in de g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preekbuis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lking kan zelf via media hun mening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399A-D3EA-4B4A-89D4-8F17ECDCC9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760" y="8571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kunnen burgers 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: door hun stem hun mening laten ho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ekrecht: tijdens hoorzittingen in de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, Gemeenteraad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een politieke part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een politieke partij oprich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artij voor naatenliefde, vrijheid en diversiteit/pedopartij: Gesprek  met Pnvd voorzitter    Artikel over 'pedopartij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zoek/klacht/bezwaarschrift indi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ia inschakelen (spreekbuisfunct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pressiegro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monstr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tionale Ombudsman inschakelen: www.nationaleombudsman.n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3CCF-E924-43C2-A816-5B43CD5E05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groep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 hebben bepaalde belangen en proberen darom invloed uit te oefenen op de besluiten van de politic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stuk z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angen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een bepaalde groep uit de samenleving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tiëntenverenigingen, consumentenbond, winkeliersvereniging, vakbonden, L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ten zich (soms voor korte tijd) in voor een duidelijk probleem. Verschillende mensen kunnen hierin deelne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organisaties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eenpeace, amnesty international,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A26E-BF6D-4E32-91D1-96A62E139D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oe krijgt een Pressiegroep 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de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arisma van de l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ing hebben in het bes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86CE-3BBD-447E-80D3-0343D52BC3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694640" cy="10951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908000" y="274680"/>
            <a:ext cx="5977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396720" y="1125360"/>
            <a:ext cx="3673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5435640" y="2997360"/>
            <a:ext cx="370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771640" y="1989000"/>
            <a:ext cx="3168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stenliefde (elkaar help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lijke normen en waar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kstvak 11"/>
          <p:cNvSpPr/>
          <p:nvPr/>
        </p:nvSpPr>
        <p:spPr>
          <a:xfrm>
            <a:off x="3203640" y="5732640"/>
            <a:ext cx="22320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8000" y="333360"/>
            <a:ext cx="921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565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337E-2E19-43B6-B3C5-C380022C9D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4AD2-3F1E-4514-B2C6-4669FF1B0F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8682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7687-3F8E-43C9-8F31-B096323561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7D38-CFF4-4917-91AF-FFD534F391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9A3F-6257-481B-B7FD-1A2181C73D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hthoek 3"/>
          <p:cNvSpPr/>
          <p:nvPr/>
        </p:nvSpPr>
        <p:spPr>
          <a:xfrm>
            <a:off x="611280" y="1197000"/>
            <a:ext cx="7129440" cy="566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Bestand:Pol-landschap-2010.gif"/>
          <p:cNvPicPr/>
          <p:nvPr/>
        </p:nvPicPr>
        <p:blipFill>
          <a:blip r:embed="rId1"/>
          <a:stretch/>
        </p:blipFill>
        <p:spPr>
          <a:xfrm>
            <a:off x="125892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E6EE-D13D-42EA-BE6C-F1A88C12CA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426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1B48-B4B3-4D81-938D-62E1396D61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432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450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1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4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 op volgorde van aantal zetel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rcRect l="34848" t="41424" r="28535" b="39383"/>
          <a:stretch/>
        </p:blipFill>
        <p:spPr>
          <a:xfrm>
            <a:off x="611280" y="2781360"/>
            <a:ext cx="8070840" cy="3384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rcRect l="20081" t="8858" r="64564" b="88193"/>
          <a:stretch/>
        </p:blipFill>
        <p:spPr>
          <a:xfrm>
            <a:off x="7451640" y="3573360"/>
            <a:ext cx="1260720" cy="193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53678" t="50936" r="40420" b="39383"/>
          <a:stretch/>
        </p:blipFill>
        <p:spPr>
          <a:xfrm>
            <a:off x="611280" y="4076640"/>
            <a:ext cx="988920" cy="1297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"/>
          <p:cNvPicPr/>
          <p:nvPr/>
        </p:nvPicPr>
        <p:blipFill>
          <a:blip r:embed="rId2"/>
          <a:srcRect l="65424" t="41251" r="28535" b="49895"/>
          <a:stretch/>
        </p:blipFill>
        <p:spPr>
          <a:xfrm>
            <a:off x="611280" y="2852640"/>
            <a:ext cx="1008000" cy="1182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"/>
          <p:cNvPicPr/>
          <p:nvPr/>
        </p:nvPicPr>
        <p:blipFill>
          <a:blip r:embed="rId3"/>
          <a:srcRect l="41137" t="41424" r="52370" b="49242"/>
          <a:stretch/>
        </p:blipFill>
        <p:spPr>
          <a:xfrm>
            <a:off x="611280" y="5445000"/>
            <a:ext cx="1008000" cy="1158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rcRect l="47633" t="41424" r="45871" b="49242"/>
          <a:stretch/>
        </p:blipFill>
        <p:spPr>
          <a:xfrm>
            <a:off x="611280" y="1700280"/>
            <a:ext cx="1008000" cy="1160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5"/>
          <a:srcRect l="20081" t="8858" r="64564" b="88193"/>
          <a:stretch/>
        </p:blipFill>
        <p:spPr>
          <a:xfrm>
            <a:off x="684360" y="3500280"/>
            <a:ext cx="900000" cy="139680"/>
          </a:xfrm>
          <a:prstGeom prst="rect">
            <a:avLst/>
          </a:prstGeom>
          <a:ln w="0">
            <a:noFill/>
          </a:ln>
        </p:spPr>
      </p:pic>
      <p:sp>
        <p:nvSpPr>
          <p:cNvPr id="473" name="Tekstvak 10"/>
          <p:cNvSpPr/>
          <p:nvPr/>
        </p:nvSpPr>
        <p:spPr>
          <a:xfrm>
            <a:off x="1619280" y="17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est links. Komt op voor belangen arme mensen. Goede uitkeringen! Rijken meer belasting betalen. Goedkope gezondheidszorg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kstvak 11"/>
          <p:cNvSpPr/>
          <p:nvPr/>
        </p:nvSpPr>
        <p:spPr>
          <a:xfrm>
            <a:off x="1692360" y="2997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milieu. Ongelijkheid tussen mensen tegengaan. Gratis kinderopvang/ meer vrouwen werken. Schone energie gebruiken. Kraamverlof voor vaders. Geen koningshuis meer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kstvak 12"/>
          <p:cNvSpPr/>
          <p:nvPr/>
        </p:nvSpPr>
        <p:spPr>
          <a:xfrm>
            <a:off x="1692360" y="422100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belangen van dieren. Rechten van het dier opnemen in grondwet. Dierenmishandeling streng straffen. Einde aan dierproeven. Verbod gebruik dieren in reclame/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kstvak 13"/>
          <p:cNvSpPr/>
          <p:nvPr/>
        </p:nvSpPr>
        <p:spPr>
          <a:xfrm>
            <a:off x="1692360" y="5516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verheid zorgt  vooral voorvoldoende werkgelegenheid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oor ziekte, handicap of ouderdom niet werken: overheid geeft uitkering! Tot 27 jaar werk/leerplicht. Geld aan bedrijven voor langdurig werklozen. Discriminatie bij bedrijf = boete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093080" y="342900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M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rcRect l="41276" t="50936" r="52821" b="39471"/>
          <a:stretch/>
        </p:blipFill>
        <p:spPr>
          <a:xfrm>
            <a:off x="468360" y="2060640"/>
            <a:ext cx="946080" cy="1230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rcRect l="34848" t="50851" r="58798" b="39556"/>
          <a:stretch/>
        </p:blipFill>
        <p:spPr>
          <a:xfrm>
            <a:off x="468360" y="3357720"/>
            <a:ext cx="1017720" cy="1230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3"/>
          <a:srcRect l="34848" t="41424" r="58866" b="49980"/>
          <a:stretch/>
        </p:blipFill>
        <p:spPr>
          <a:xfrm>
            <a:off x="395280" y="4724280"/>
            <a:ext cx="1008000" cy="1103400"/>
          </a:xfrm>
          <a:prstGeom prst="rect">
            <a:avLst/>
          </a:prstGeom>
          <a:ln w="0">
            <a:noFill/>
          </a:ln>
        </p:spPr>
      </p:pic>
      <p:sp>
        <p:nvSpPr>
          <p:cNvPr id="482" name="Tekstvak 8"/>
          <p:cNvSpPr/>
          <p:nvPr/>
        </p:nvSpPr>
        <p:spPr>
          <a:xfrm>
            <a:off x="1619280" y="342900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rotestants/christelijk. Hulp aan vluchtelingen in ons land. Geen abortus en euthanasie. God beslist. Zuinig zijn op de aarde (is van god), kinderbijslag aan gezin met kinderen. Alcohol en drugsgebruik streng aanpakk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kstvak 9"/>
          <p:cNvSpPr/>
          <p:nvPr/>
        </p:nvSpPr>
        <p:spPr>
          <a:xfrm>
            <a:off x="1619280" y="2060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mocratie vernieuwen. Meer macht voor burgers. Meer geld voor onderwijs. Soepel ontslagrecht. Kiezen burgemeester en minister president. Gevangenisstraf = taakstraf. Meer eu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kstvak 10"/>
          <p:cNvSpPr/>
          <p:nvPr/>
        </p:nvSpPr>
        <p:spPr>
          <a:xfrm>
            <a:off x="1547640" y="486900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hristelijke partij. Mensen moeten voor elkaar zorgen. In noodgevallen helpt de overheid. Overheid niet bemoeien met opvoeding kinderen. Maatschappelijke stage jongeren verplicht. Altijd hulp geven aan ontwikkelingsland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rcRect l="47250" t="51021" r="46845" b="39383"/>
          <a:stretch/>
        </p:blipFill>
        <p:spPr>
          <a:xfrm>
            <a:off x="611280" y="3500280"/>
            <a:ext cx="1152360" cy="1498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2"/>
          <a:srcRect l="59583" t="41339" r="33921" b="49806"/>
          <a:stretch/>
        </p:blipFill>
        <p:spPr>
          <a:xfrm>
            <a:off x="539640" y="5084640"/>
            <a:ext cx="1266840" cy="1382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"/>
          <p:cNvPicPr/>
          <p:nvPr/>
        </p:nvPicPr>
        <p:blipFill>
          <a:blip r:embed="rId3"/>
          <a:srcRect l="53610" t="41251" r="40488" b="49895"/>
          <a:stretch/>
        </p:blipFill>
        <p:spPr>
          <a:xfrm>
            <a:off x="611280" y="2060640"/>
            <a:ext cx="1152360" cy="1382760"/>
          </a:xfrm>
          <a:prstGeom prst="rect">
            <a:avLst/>
          </a:prstGeom>
          <a:ln w="0">
            <a:noFill/>
          </a:ln>
        </p:spPr>
      </p:pic>
      <p:sp>
        <p:nvSpPr>
          <p:cNvPr id="490" name="Tekstvak 7"/>
          <p:cNvSpPr/>
          <p:nvPr/>
        </p:nvSpPr>
        <p:spPr>
          <a:xfrm>
            <a:off x="1943280" y="213372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rijheid belangrijkst! Meer wegen aanleggen ivm files, werkgevers vrijheid geven (zoals makkelijk ontslaan). Meer geld voor poli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kstvak 8"/>
          <p:cNvSpPr/>
          <p:nvPr/>
        </p:nvSpPr>
        <p:spPr>
          <a:xfrm>
            <a:off x="1943280" y="35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ereformeerde partij. Regeren volgens de bijbel. Mensen beschermen, verder niet mee bemoeien. Abortus en euthanasie en homohuwelijk verboden. Moord = doodstra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kstvak 9"/>
          <p:cNvSpPr/>
          <p:nvPr/>
        </p:nvSpPr>
        <p:spPr>
          <a:xfrm>
            <a:off x="1943280" y="515772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arde uitspraken over Islam. Mensen zelf verantwoordelijke voor hun gedrag, iedereen aanpassen aan regels van dit land. Ook ander geloof/cultuur. Zo niet: Hoge straf. Na 3 geweldsmisdrijven: levenslang. Weinig immigranten toela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680" y="3330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40E0-F7A9-404C-9412-1D4AD0FE7F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4D51-25C2-4D0B-99B2-76C566D755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A76C-05B7-4A55-879C-AD6C7B8A69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hthoek 4"/>
          <p:cNvSpPr/>
          <p:nvPr/>
        </p:nvSpPr>
        <p:spPr>
          <a:xfrm>
            <a:off x="1692360" y="1916280"/>
            <a:ext cx="638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Een maatschappelijk proble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ciaal problee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veel mensen hebben er mee t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schillende men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is niet snel op te lossen omdat er vaak zoveel verschillende meningen ove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verheid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overheid moet erbij betrokken zijn om dit probleem te kunnen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andacht van de medi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probleem moet de aandacht van de media krij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DA6E-5EA9-42A5-B4CC-FA1894FF79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81BD-41FA-4FB9-AFF9-0BDD29E816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47640" y="404640"/>
            <a:ext cx="84963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7170-950B-40B2-918B-7293BD2BEF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5DDF-BEF2-43D6-ADFB-733AE74E13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arden zijn dingen en denkbeelden waar we waarde aan hechten. Aspecten die we belangrijk vin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7F44-53CE-4591-A805-E6CEEAAF2D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tdurend opdringen van bepaalde meningen (met behulp van zeer intensieve psychologische middeltjes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12C4-F4D5-4E17-BFA0-6C820F21CD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0499-3216-47F8-B92B-66E45A549A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3B06-1162-43A3-84B6-5B0D6C7C5B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Analyseschem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is het proble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economische invalshoek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en, belangentegenstellingen, belangengroepen, maatschappelijke posities, gemeenschappelijke belangen, ongelijkheid, economische bel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-culturel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aarden, normen, culturen, plurifor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litiek-juridisch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politieke agenda, machtsmiddelen, actiegroepen, politieke parti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anderings- en vergelijkend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hoe in het verleden? Andere landen? Andere cultu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loss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tandpunten partijen, ov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igen men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ubjectieve bronnen of objectieve bro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3951-EEB1-4F0F-9095-66CBC876FC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8BD5-6856-455D-B86F-AE560EE4B7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DDF6-959F-48CB-91E9-9D4532F882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1-09-26T10:03:01Z</dcterms:modified>
  <cp:revision>129</cp:revision>
  <dc:subject/>
  <dc:title>Dia 1</dc:title>
</cp:coreProperties>
</file>