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19.jpeg" ContentType="image/jpeg"/>
  <Override PartName="/ppt/media/image21.jpeg" ContentType="image/jpeg"/>
  <Override PartName="/ppt/media/image29.png" ContentType="image/png"/>
  <Override PartName="/ppt/media/image18.gif" ContentType="image/gif"/>
  <Override PartName="/ppt/media/image53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54.gif" ContentType="image/gif"/>
  <Override PartName="/ppt/media/image5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42.png" ContentType="image/png"/>
  <Override PartName="/ppt/media/image46.png" ContentType="image/png"/>
  <Override PartName="/ppt/media/image47.gif" ContentType="image/gif"/>
  <Override PartName="/ppt/media/image52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5.png" ContentType="image/png"/>
  <Override PartName="/ppt/media/image57.png" ContentType="image/png"/>
  <Override PartName="/ppt/media/image40.png" ContentType="image/png"/>
  <Override PartName="/ppt/media/image35.gif" ContentType="image/gif"/>
  <Override PartName="/ppt/media/image32.png" ContentType="image/png"/>
  <Override PartName="/ppt/media/image31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28.gif" ContentType="image/gif"/>
  <Override PartName="/ppt/media/image4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22.jpeg" ContentType="image/jpeg"/>
  <Override PartName="/ppt/media/image39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EB8-3367-40B2-94F4-59BCA0FB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E54-44DF-4DEA-96D8-30EA74E3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DDC-9658-4662-B734-CD03A36C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45D-4CC3-4644-95E3-4BB50072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17D-6E1F-4B44-959D-CD353F07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157-C27E-4903-8C4F-544BE025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DDD-BCDD-4673-9F7E-141078EF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B246-01AA-4A20-AB3F-475C8E9C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0A7-6679-40EB-90A7-4BC25441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689D-DD30-40F1-AA78-69089E26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3013-135B-42E1-9005-D04168EE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D7ED-8BA0-4464-BEDD-46518742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550F-DBB5-434C-ADAE-3A8817E96E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5837-6949-47BF-B2A1-AB27712153D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750960" y="285840"/>
            <a:ext cx="735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Criminaliteit en rechtssta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GIF_boef"/>
          <p:cNvPicPr/>
          <p:nvPr/>
        </p:nvPicPr>
        <p:blipFill>
          <a:blip r:embed="rId1"/>
          <a:stretch/>
        </p:blipFill>
        <p:spPr>
          <a:xfrm>
            <a:off x="2571840" y="3357720"/>
            <a:ext cx="2636640" cy="245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amenka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schappijleer 2 VMBO K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9810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(materi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ten in Nederland staan hier in (buiten de grondwet d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de strafbare feiten zijn en welke straffen ervoor kunnen uitgesprok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fbare feiten omschr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als: moord, diefstal, oplicht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vordering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form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t hoe strafbare feiten vervolgd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t de hele procedure van aanhouding t/m de strafoplegging door de rechter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twee wetboeken vormen de basis van het Nederlandse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F9FB-F9A2-48E4-9D4C-885AD9A855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es verdrag tot bescherming van de rechten van de mens (EV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rechtsregels binnen de 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0C9C-A681-4E28-BBF7-82B0F30298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sdu.nl/Lists/Productlist/Attachments/5971/full_EVRMHW.jpg"/>
          <p:cNvPicPr/>
          <p:nvPr/>
        </p:nvPicPr>
        <p:blipFill>
          <a:blip r:embed="rId1"/>
          <a:stretch/>
        </p:blipFill>
        <p:spPr>
          <a:xfrm>
            <a:off x="2987640" y="3429000"/>
            <a:ext cx="21607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1341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riminaliteit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ijd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roeger was vreemdgaan strafbaar: sinds 1970 niet me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odslastering strafbaar: nu niet m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cken is nu WEL strafbaar, bestond vroeger ni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laats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gels verschillen per land en cultu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l: Euthanasie en abortus mag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in veel landen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VS bijna iedereen een wapen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hier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70CC-70A2-40B7-B70B-299DDE61F8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enmerken van ee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staat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Burger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overheid moet zich aan de wet houden; burgers hebben rech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Grond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staan in de grondwet. De overheid mag geen wetten maken tégen de grondwet i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verheid zorgt voor rechtsha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having é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Parlementair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democrati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heeft altijd democratisch gekozen par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Scheidin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van machten: triaspoli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nafhankelijk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praak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rechter opereert onafhankelijk van de overhe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E576-9897-46C2-8DE4-0BD185327B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48572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en land waarin bewoners en overheid rechten hebben en waar deze rechten zijn vastgelegd in wetten. Burgers worden beschermd tegen machtsmisbruik en willkeur van de over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deze taakverdeling voorkomen we machtsmisbrui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116000" y="549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525456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59280" y="518328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227640" y="5195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611280" y="3645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rech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ermt worden tegen de over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zeker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weten wat je te wachten staat na het plegen van een de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niet anders behandelt worden dan a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2468-D471-4C91-A900-1EAE3E3709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army-chaplaincy.be/images/assets/extracts/def1142004061/Aantasting%20burgerrechten.jpg"/>
          <p:cNvPicPr/>
          <p:nvPr/>
        </p:nvPicPr>
        <p:blipFill>
          <a:blip r:embed="rId1"/>
          <a:stretch/>
        </p:blipFill>
        <p:spPr>
          <a:xfrm>
            <a:off x="3564000" y="4221000"/>
            <a:ext cx="29178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hand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haven van de rechts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vb: staand houden als je zonder licht rij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spreken bij wildp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brekers arre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ke verdachte heeft r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lijk vermoeden van sch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antwoorden op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4CD0-AC05-4A75-83FD-B0CF582F0E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Strafbaar gedrag: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je wetregels overtre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Criminalitei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: alle misdrijven die in de wet s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misdrijf: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vertre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nieling, diefsta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braak, verkrachtin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rood rij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afblad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geen strafb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hech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eplichti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niet medeplich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aardere st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minder zware 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riminee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overtreder/ of ni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1EE4-166B-4768-B381-CE6BE076A9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stopPolitie"/>
          <p:cNvPicPr/>
          <p:nvPr/>
        </p:nvPicPr>
        <p:blipFill>
          <a:blip r:embed="rId1"/>
          <a:stretch/>
        </p:blipFill>
        <p:spPr>
          <a:xfrm>
            <a:off x="7559640" y="1214280"/>
            <a:ext cx="15843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D548-7A22-4CDE-9018-29B097A8F8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teriele schade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kost miljarden euro’s per j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tv die uit je huis gehaald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fiets die gejat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trijding fraude ed kost veel 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 rekenen schade die ze lijden vaak door in de prijzen van hun produc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 en bedrijven lijden financiele schad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politie"/>
          <p:cNvPicPr/>
          <p:nvPr/>
        </p:nvPicPr>
        <p:blipFill>
          <a:blip r:embed="rId1"/>
          <a:stretch/>
        </p:blipFill>
        <p:spPr>
          <a:xfrm>
            <a:off x="6429240" y="2357280"/>
            <a:ext cx="215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D655-3839-4FC3-94A2-CE635A21A9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mmateriele schad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peloze nachten omdat er ooit is ingebro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g zijn op straat, wegens een overv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chtsgevoel van mensen wordt aangetas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rele verontwaardig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vinden het oneerlijk/onrechtvaardig als men zich niet aan de wet houd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vertrouwen (in bvb de overhei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vervaging, normen en waarden verand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olitie"/>
          <p:cNvPicPr/>
          <p:nvPr/>
        </p:nvPicPr>
        <p:blipFill>
          <a:blip r:embed="rId1"/>
          <a:stretch/>
        </p:blipFill>
        <p:spPr>
          <a:xfrm>
            <a:off x="7164360" y="227664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7154-3150-4DD0-B830-29ECEE5AAA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198900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5620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0" y="4637160"/>
            <a:ext cx="414036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4"/>
          <a:srcRect l="1705" t="0" r="5168" b="0"/>
          <a:stretch/>
        </p:blipFill>
        <p:spPr>
          <a:xfrm>
            <a:off x="4427640" y="4653000"/>
            <a:ext cx="3960720" cy="56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us van Pieter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on: rechtvoorjou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8175-586F-478B-8D78-DBBC2ABCA6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879336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EB81-2C1F-4F2E-A4E5-7C4A16A4CD7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642960" y="1143000"/>
            <a:ext cx="72867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E63F-1C8C-40C0-8DEC-D864D541EC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500120" y="1785960"/>
            <a:ext cx="72392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kenmerken van een crimineel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uiterlijk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Lagere maatschappelijke posi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: - vaker door mannen dan door vrouw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lechte opvoeding leidt vaker tot crimineel gedr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epsgedrag: als je vrienden het doen..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pijbelaars/zonder dipl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politie"/>
          <p:cNvPicPr/>
          <p:nvPr/>
        </p:nvPicPr>
        <p:blipFill>
          <a:blip r:embed="rId1"/>
          <a:stretch/>
        </p:blipFill>
        <p:spPr>
          <a:xfrm>
            <a:off x="395280" y="3933720"/>
            <a:ext cx="1519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507F-957B-422F-A913-422D6E5B33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politie"/>
          <p:cNvPicPr/>
          <p:nvPr/>
        </p:nvPicPr>
        <p:blipFill>
          <a:blip r:embed="rId1"/>
          <a:stretch/>
        </p:blipFill>
        <p:spPr>
          <a:xfrm>
            <a:off x="7905600" y="57168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182520" y="1928880"/>
            <a:ext cx="89614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EFD2-F30D-4E83-84B7-B0D14AB0EC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17360" y="1785960"/>
            <a:ext cx="9026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6978-DCA6-4345-B61D-73BF14E49B4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84872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AC11-96F0-4F32-9280-0AADDFFBCC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50920" y="1916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atschappelijke oorza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2692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 een grote stad gebeurd het vak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900000" y="2637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ociale controle is minder ge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pakkans is daardoor kleiner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826920" y="22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ormen en waarden zijn minder stre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95280" y="472428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Bindingstheorie van Hirschi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een combinatie van individuele en maatschappelijke oorzaken. Niemand is alleen meer goed, iedereen kan misdadiger zijn. Ligt aan de bindingen die je hebt: vrienden, band met familie, werk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2692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cohol en drugs gebruik toegenom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politie"/>
          <p:cNvPicPr/>
          <p:nvPr/>
        </p:nvPicPr>
        <p:blipFill>
          <a:blip r:embed="rId1"/>
          <a:stretch/>
        </p:blipFill>
        <p:spPr>
          <a:xfrm>
            <a:off x="6732720" y="1557360"/>
            <a:ext cx="1238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41DD-8FAD-4062-B21B-2F98476EC0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75009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4920" y="981000"/>
            <a:ext cx="84978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verjaringstermijn is de periode waarna de verdachte in een strafzaak niet meer kunt worden vervolg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termijn van verjaring hangt af van het soort strafbaar feit dat u heeft gepleeg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tredingen: na 3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ldboete, hechtenis, of gevangenisstraf van 3 jaar of minder kan worden opgelegd: na 6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tijdelijke gevangenisstraf van meer dan 3 jaar kan worden opgelegd: na 12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vangenisstraf van meer dan 10 jaar kan worden opgelegd: na 20 ja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verjaring bij levenslange gevangenis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DF19-BB28-483E-9AA8-FB29505A9A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B59B-E5F3-402A-91D2-AB8D676C98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42920" y="1500120"/>
            <a:ext cx="90010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3D6E-F502-4579-853E-DDC90C304B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364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CBC3-32B2-4F99-85FC-5BA01E834A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2349360"/>
            <a:ext cx="849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kan een aantal dingen do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90000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900000" y="5589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oeken naar bewijsmateriaal. Huiszoekingsbevel nodig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politie"/>
          <p:cNvPicPr/>
          <p:nvPr/>
        </p:nvPicPr>
        <p:blipFill>
          <a:blip r:embed="rId1"/>
          <a:stretch/>
        </p:blipFill>
        <p:spPr>
          <a:xfrm>
            <a:off x="7286760" y="642960"/>
            <a:ext cx="1493640" cy="187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CFC9-0247-4F26-A98E-22B08D8284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9"/>
          <p:cNvGraphicFramePr/>
          <p:nvPr/>
        </p:nvGraphicFramePr>
        <p:xfrm>
          <a:off x="6286680" y="1285920"/>
          <a:ext cx="2577960" cy="14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285920"/>
                    <a:ext cx="2577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055A-83A7-40A4-B9A8-D14DD674BA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1332000" y="3141720"/>
          <a:ext cx="6048360" cy="267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141720"/>
                    <a:ext cx="604836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E215-59D0-4170-9C40-73F3C81FE3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95200" y="500040"/>
            <a:ext cx="88488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607F-550A-4ED6-8BDC-C1CB430A32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77882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0FF1-7044-4B00-B888-1835ECF116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862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9D70-F468-4324-B256-ABFF559909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21DD-1E7B-497D-A12D-63283BC313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EFCA-3A92-476D-8DC3-BE5730BD71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857680" y="1143000"/>
            <a:ext cx="43574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06DD-8109-43C7-B349-462E3880B5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24000" y="2205000"/>
            <a:ext cx="8280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leest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rechter, de OvJ en de advocaat gaan Pieter nu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 Bvb of hij wel eens eerder met de politie te maken heeft geh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judge"/>
          <p:cNvPicPr/>
          <p:nvPr/>
        </p:nvPicPr>
        <p:blipFill>
          <a:blip r:embed="rId1"/>
          <a:stretch/>
        </p:blipFill>
        <p:spPr>
          <a:xfrm>
            <a:off x="6804000" y="907920"/>
            <a:ext cx="1857240" cy="1609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7935-6568-4A8D-ADF6-375E35F3A8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0220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3816360" cy="117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4249800" cy="1012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416D-385E-4897-BEA4-FFF915594C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206064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5.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6. De advocaat neemt het dan op voor Pieter en vraagt om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7. Pieter mag als verdachte zelf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hebben en spijt betui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8. De rechter spreekt he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nni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uit: Hij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9F3A-D425-4440-B958-5B38FB5FF33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F069-8863-4AC1-9A50-5CCFC510FB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84360" y="2060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Taken van de officier van justiti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n uitvoeren van opgelegde vonnis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dat veroordeelden hun straf uitzit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 geven aan opsporingsonderzoek/ opsporingstaa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 van strafbare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rechter brengen van verda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klagen van verdach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201A-B139-456B-B39E-C0A71541B5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judge"/>
          <p:cNvPicPr/>
          <p:nvPr/>
        </p:nvPicPr>
        <p:blipFill>
          <a:blip r:embed="rId1"/>
          <a:stretch/>
        </p:blipFill>
        <p:spPr>
          <a:xfrm>
            <a:off x="3429000" y="1428840"/>
            <a:ext cx="2730600" cy="2367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352760" cy="2581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5500800" y="3857760"/>
            <a:ext cx="3400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ABCA-667B-496C-A7E8-10F4B1C82D6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194616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68360" y="335772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gevangenisstraf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68360" y="386064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rijbewijs inleveren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95280" y="4365720"/>
            <a:ext cx="799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BS (ter Beschikking stelling aan de staat), agressietrain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police"/>
          <p:cNvPicPr/>
          <p:nvPr/>
        </p:nvPicPr>
        <p:blipFill>
          <a:blip r:embed="rId1"/>
          <a:stretch/>
        </p:blipFill>
        <p:spPr>
          <a:xfrm>
            <a:off x="6659640" y="76500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8D41-A33D-4BBA-8221-2221A6C38A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23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aarom straffen we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British_police"/>
          <p:cNvPicPr/>
          <p:nvPr/>
        </p:nvPicPr>
        <p:blipFill>
          <a:blip r:embed="rId1"/>
          <a:stretch/>
        </p:blipFill>
        <p:spPr>
          <a:xfrm>
            <a:off x="7500960" y="428760"/>
            <a:ext cx="1371600" cy="13237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2"/>
          <p:cNvSpPr/>
          <p:nvPr/>
        </p:nvSpPr>
        <p:spPr>
          <a:xfrm>
            <a:off x="1311120" y="28004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468360" y="2852640"/>
            <a:ext cx="79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f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nsen moeten niet crimineel willen 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socialisati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edrag verbeteren, zodat criminelen terug kunnen in de samenle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iliger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elen zitten in de gevangenis, dus is het daarbuiten veilig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raak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lachtoffers en familiedaarvoor wilden vergelding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itel 1"/>
          <p:cNvSpPr/>
          <p:nvPr/>
        </p:nvSpPr>
        <p:spPr>
          <a:xfrm>
            <a:off x="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07FE-5CCF-46B9-AE83-18E6361524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50920" y="407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ak- en leer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ternatieve straffen: helpen in de winkel waar je hebt gestolen, dronken iemand aangereden: gehandicapte slachtoffers help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324000" y="2708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enger 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affen hoger maken, hogere boetes, langere gevangenisstraf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25092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k-op-stukbeleid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ader sneller pakken én bere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53006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reventie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oorkomen dat er criminaliteit plaats heeft. Meer politie op straat, meer camera’s bij winkels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ffen helpt niet voldoende: 4 oploss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6D4E-DDD4-4B52-B7DF-5A0AE0AF64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91598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0B54-A95E-4369-8B91-827B5CEB84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521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pressie/ repressieve maatregelen:</a:t>
            </a: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nada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isdrijven zijn gepleegd, actie onder nemen (straffen, opsporen).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Achte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reventie/ preventieve maatregelen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te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at criminaliteit gebeurd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CF85-4E5E-4651-B27C-913069071D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politie"/>
          <p:cNvPicPr/>
          <p:nvPr/>
        </p:nvPicPr>
        <p:blipFill>
          <a:blip r:embed="rId1"/>
          <a:stretch/>
        </p:blipFill>
        <p:spPr>
          <a:xfrm>
            <a:off x="7086600" y="3789360"/>
            <a:ext cx="1811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E389-285F-4947-B88D-997CD62D083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1840" cy="237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029120" cy="230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4032000" cy="85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456000" cy="671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por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A2B2-3DEF-47CF-BB3E-D0831DEB5C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politie"/>
          <p:cNvPicPr/>
          <p:nvPr/>
        </p:nvPicPr>
        <p:blipFill>
          <a:blip r:embed="rId1"/>
          <a:stretch/>
        </p:blipFill>
        <p:spPr>
          <a:xfrm>
            <a:off x="5435640" y="278136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psporingsbelei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opsporen van criminal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vormen verdienen aanda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id om pakkans te verh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anier waarop overheid misdrijven wil be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Bvb snelrecht/ lik-op-stuk beleid (zelfde dag opgepak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oor de rech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97DD-23B2-47A4-81F2-8EDCB84BC31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politie"/>
          <p:cNvPicPr/>
          <p:nvPr/>
        </p:nvPicPr>
        <p:blipFill>
          <a:blip r:embed="rId1"/>
          <a:stretch/>
        </p:blipFill>
        <p:spPr>
          <a:xfrm>
            <a:off x="7093080" y="191628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elvoorkomendecriminaliteit: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isdrijven die relatief vaak voorkomen: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winkeldiefstal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zakkenrollen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oetbal vandalisme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vernielin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Worden bestraft met taakstraf en geldboe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eer met preventieve maatregelen aanpakk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Zware criminaliteit: 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erkrachting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412F-E5DB-4817-AC44-71A2DDD987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rborgen criminaliteit:</a:t>
            </a:r>
            <a:br>
              <a:rPr sz="21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belastingfraude       - onterechte uitkering</a:t>
            </a:r>
            <a:br>
              <a:rPr sz="17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internetcriminalite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Wordt extra onder de loep genom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Georganiseerde misda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rouwenhandel   - Ontvoerin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rnografie          - He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Fraude                  - gokk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aak internationale ben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Bestreden door streng optred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Meer politieagenten, gevangeniscell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litie en justitie mogen telefoons en computers afluister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chters geven hogere straff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E210-BCAF-412D-9705-6D69CD132F3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752040" indent="-322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52040" indent="-3222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terreurbestrijd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aanslagen (denk aan New-York, London, Madri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trengere controles op vliegvel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Niet alleen daders strafbaar </a:t>
            </a:r>
            <a:r>
              <a:rPr b="0" lang="nl-N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ok als jee van plan bent of lid terroristische groe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Zelfs als je het toejuicht kan je voor de rechter kom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Politie arresteert al, als je, je verdacht gedraag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Dit is: verruiming van de bevoegdhe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2671-4101-4CAE-B32C-E92A56EE60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politie"/>
          <p:cNvPicPr/>
          <p:nvPr/>
        </p:nvPicPr>
        <p:blipFill>
          <a:blip r:embed="rId1"/>
          <a:stretch/>
        </p:blipFill>
        <p:spPr>
          <a:xfrm>
            <a:off x="7451640" y="1125360"/>
            <a:ext cx="13334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3. 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cellen bouwen bij cellen tek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dan 1 gevange per c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verschot: gevangenis ‘verhuren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4. 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boeken aanpa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effectief zijn (moet werken, effect oplev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wenselijk zijn (samenleving moet accept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t het bij de normen en waarden van de samenl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F34B-C897-48D2-9A9E-BF2E72CAC1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5. 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Criminaliteit voorkomen (h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6. 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criminaliteit terugdr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toezicht, meer cont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ler 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werkprojecten/ taak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aandacht voor onderwijs: niet spijbelen, schooluit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8B78-4B1C-43D6-BDEF-24F938E2CE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inks/socialis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maatschappelijke aspec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v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 banenplannen voor jongeren/ wijkagenten inz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risten democra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belang gezin, school &amp; maatschapp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uders en leraren moeten kinderen respect/eerbied bijbr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chts/Liberal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repressieve aanpak: zwaarder stra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r bevoegdheden voor politie en justi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in strijd met burgerre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1545-23B1-4689-AA57-3E56F3DC9D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9" descr="politie"/>
          <p:cNvPicPr/>
          <p:nvPr/>
        </p:nvPicPr>
        <p:blipFill>
          <a:blip r:embed="rId1"/>
          <a:stretch/>
        </p:blipFill>
        <p:spPr>
          <a:xfrm>
            <a:off x="7667640" y="1197000"/>
            <a:ext cx="9176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33A7-38D9-4968-AADF-A1A601A940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1214280" y="1285920"/>
            <a:ext cx="6828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4A6D-29C2-4B31-8867-E37794CA0AE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al 5"/>
          <p:cNvSpPr/>
          <p:nvPr/>
        </p:nvSpPr>
        <p:spPr>
          <a:xfrm>
            <a:off x="395280" y="2349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al 6"/>
          <p:cNvSpPr/>
          <p:nvPr/>
        </p:nvSpPr>
        <p:spPr>
          <a:xfrm>
            <a:off x="826920" y="450864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al 7"/>
          <p:cNvSpPr/>
          <p:nvPr/>
        </p:nvSpPr>
        <p:spPr>
          <a:xfrm>
            <a:off x="5867280" y="24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al 8"/>
          <p:cNvSpPr/>
          <p:nvPr/>
        </p:nvSpPr>
        <p:spPr>
          <a:xfrm>
            <a:off x="5651640" y="42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kstvak 9"/>
          <p:cNvSpPr/>
          <p:nvPr/>
        </p:nvSpPr>
        <p:spPr>
          <a:xfrm>
            <a:off x="755640" y="25653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kstvak 11"/>
          <p:cNvSpPr/>
          <p:nvPr/>
        </p:nvSpPr>
        <p:spPr>
          <a:xfrm>
            <a:off x="615636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kstvak 12"/>
          <p:cNvSpPr/>
          <p:nvPr/>
        </p:nvSpPr>
        <p:spPr>
          <a:xfrm>
            <a:off x="1332000" y="472428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kstvak 13"/>
          <p:cNvSpPr/>
          <p:nvPr/>
        </p:nvSpPr>
        <p:spPr>
          <a:xfrm>
            <a:off x="6372360" y="27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Gelijkbenige driehoek 14"/>
          <p:cNvSpPr/>
          <p:nvPr/>
        </p:nvSpPr>
        <p:spPr>
          <a:xfrm>
            <a:off x="3564000" y="2349360"/>
            <a:ext cx="2232000" cy="194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kstvak 15"/>
          <p:cNvSpPr/>
          <p:nvPr/>
        </p:nvSpPr>
        <p:spPr>
          <a:xfrm>
            <a:off x="3851280" y="3429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reventie door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U-vormige pijl 16"/>
          <p:cNvSpPr/>
          <p:nvPr/>
        </p:nvSpPr>
        <p:spPr>
          <a:xfrm>
            <a:off x="5076720" y="2060640"/>
            <a:ext cx="885960" cy="877680"/>
          </a:xfrm>
          <a:custGeom>
            <a:avLst/>
            <a:gdLst/>
            <a:ahLst/>
            <a:rect l="l" t="t" r="r" b="b"/>
            <a:pathLst>
              <a:path w="885825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3" y="0"/>
                </a:lnTo>
                <a:lnTo>
                  <a:pt x="392013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6"/>
                </a:lnTo>
                <a:lnTo>
                  <a:pt x="446881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U-vormige pijl 17"/>
          <p:cNvSpPr/>
          <p:nvPr/>
        </p:nvSpPr>
        <p:spPr>
          <a:xfrm rot="7020600">
            <a:off x="3528720" y="4474800"/>
            <a:ext cx="887400" cy="87804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3601" y="0"/>
                </a:lnTo>
                <a:lnTo>
                  <a:pt x="393601" y="0"/>
                </a:lnTo>
                <a:arcTo wR="384076" hR="384076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4076"/>
                </a:lnTo>
                <a:lnTo>
                  <a:pt x="558205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U-vormige pijl 18"/>
          <p:cNvSpPr/>
          <p:nvPr/>
        </p:nvSpPr>
        <p:spPr>
          <a:xfrm rot="16389000">
            <a:off x="4807440" y="4248720"/>
            <a:ext cx="885600" cy="877680"/>
          </a:xfrm>
          <a:custGeom>
            <a:avLst/>
            <a:gdLst/>
            <a:ahLst/>
            <a:rect l="l" t="t" r="r" b="b"/>
            <a:pathLst>
              <a:path w="885825" h="877887">
                <a:moveTo>
                  <a:pt x="0" y="877887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4" y="0"/>
                </a:lnTo>
                <a:lnTo>
                  <a:pt x="392014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5"/>
                </a:lnTo>
                <a:lnTo>
                  <a:pt x="446882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U-vormige pijl 19"/>
          <p:cNvSpPr/>
          <p:nvPr/>
        </p:nvSpPr>
        <p:spPr>
          <a:xfrm rot="13525200">
            <a:off x="3058560" y="2420640"/>
            <a:ext cx="887400" cy="87768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8650"/>
                </a:lnTo>
                <a:lnTo>
                  <a:pt x="0" y="388650"/>
                </a:lnTo>
                <a:arcTo wR="388650" hR="388650" stAng="10800000" swAng="5400009"/>
                <a:lnTo>
                  <a:pt x="389027" y="0"/>
                </a:lnTo>
                <a:lnTo>
                  <a:pt x="389027" y="0"/>
                </a:lnTo>
                <a:arcTo wR="388650" hR="388650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8650"/>
                </a:lnTo>
                <a:lnTo>
                  <a:pt x="558205" y="388650"/>
                </a:lnTo>
                <a:arcTo wR="169178" hR="169178" stAng="0" swAng="-5400000"/>
                <a:lnTo>
                  <a:pt x="388650" y="219472"/>
                </a:lnTo>
                <a:lnTo>
                  <a:pt x="388650" y="219472"/>
                </a:lnTo>
                <a:arcTo wR="169178" hR="169178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8257-BFE6-417B-8F22-E88E36E298B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032360" cy="230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4572000" y="206064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179280" y="443700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ieter wordt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opgepak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oor de politie. Hij moet mee naar het bureau. Daar wordt besloten dat hij voor de rechter moet komen. Enkele weken voor de rechtszitting krijgt Pieter een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. Dat is de oproep om voor de rechter te verschijnen.Pieter moet niet voor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8360" y="2349000"/>
            <a:ext cx="822960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goede huisv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b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lichting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wijs verbeteren: antispijbelbe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uders erbij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5913-5132-49AF-AE3D-AE1E6FF889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urgemeester toestemming vragen om preventief te fouil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meester kan voetbalwedstrijd verbi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 raad kan iets strafbar stellen (blowverb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2804-98CD-414D-AEB3-9A6009CBB2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aten industriebedrijf: riskant terrei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larminstalla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boven bedrijf w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akingsdienst inhu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winkeldief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chnische maatregelen (camera’s, spiegels, diefstal poortj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personeel in de wink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bedrijven: geen geld voor diefstal preven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o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pijbelbeleid (samenwerken met politie/geme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76AE-66DA-419A-8202-496FE36FB3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al 5"/>
          <p:cNvSpPr/>
          <p:nvPr/>
        </p:nvSpPr>
        <p:spPr>
          <a:xfrm>
            <a:off x="0" y="907920"/>
            <a:ext cx="266400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468360" y="1052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wijken op elkaar letten: sociale cont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ieronden burgerw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verantwoordelijk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stelen van je eigen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baas:) zorgen voor goede sfeer om ste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1F0E-3667-420F-BA20-7BC3D97C0E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kstvak 9"/>
          <p:cNvSpPr/>
          <p:nvPr/>
        </p:nvSpPr>
        <p:spPr>
          <a:xfrm>
            <a:off x="468360" y="134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sociale contro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ond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dsw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akingsdiensten winkel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mera’s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politie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7D60-184E-4272-854E-2C2A0D8DD4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21337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eteren woonomge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uizen leeg laten staan. Ziet het er netjes uit wordt er minder vern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chnische maatregelen: afsluiten trappenhuis en galerij, verbeteren van sl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voorzieningen voor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A3A1-D01B-44D2-A506-00938B805F9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39640" y="184464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lt-bu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LT: Het ALTerna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ze: direct herstellen OF rechtzaak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ngeren tot 18 jaar (bijna de helft van de delictple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straf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daders af te schr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één OvJ of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us geen strafb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él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strafblad/ uitreksel justitiële documen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6DA2-38ED-4F61-8B3A-DCC15D017A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A1F6-5719-4C84-B70E-D84D7A5553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5" descr="After_the_Criminal"/>
          <p:cNvPicPr/>
          <p:nvPr/>
        </p:nvPicPr>
        <p:blipFill>
          <a:blip r:embed="rId1"/>
          <a:stretch/>
        </p:blipFill>
        <p:spPr>
          <a:xfrm>
            <a:off x="2124000" y="3933720"/>
            <a:ext cx="4657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t voor wetboeken zijn 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nd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v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genverkeer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 economische deli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pium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8CAF-465C-4AB0-B798-F3A19717EC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672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58920" y="333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349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49200" y="773280"/>
            <a:ext cx="634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162920" y="62064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SD1</cp:lastModifiedBy>
  <dcterms:modified xsi:type="dcterms:W3CDTF">2013-07-08T13:46:09Z</dcterms:modified>
  <cp:revision>152</cp:revision>
  <dc:subject/>
  <dc:title>Dia 1</dc:title>
</cp:coreProperties>
</file>