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19.jpeg" ContentType="image/jpeg"/>
  <Override PartName="/ppt/media/image21.jpeg" ContentType="image/jpeg"/>
  <Override PartName="/ppt/media/image29.png" ContentType="image/png"/>
  <Override PartName="/ppt/media/image18.gif" ContentType="image/gif"/>
  <Override PartName="/ppt/media/image53.png" ContentType="image/png"/>
  <Override PartName="/ppt/media/image1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54.gif" ContentType="image/gif"/>
  <Override PartName="/ppt/media/image5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42.png" ContentType="image/png"/>
  <Override PartName="/ppt/media/image46.png" ContentType="image/png"/>
  <Override PartName="/ppt/media/image47.gif" ContentType="image/gif"/>
  <Override PartName="/ppt/media/image52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5.png" ContentType="image/png"/>
  <Override PartName="/ppt/media/image57.png" ContentType="image/png"/>
  <Override PartName="/ppt/media/image40.png" ContentType="image/png"/>
  <Override PartName="/ppt/media/image35.gif" ContentType="image/gif"/>
  <Override PartName="/ppt/media/image32.png" ContentType="image/png"/>
  <Override PartName="/ppt/media/image31.png" ContentType="image/png"/>
  <Override PartName="/ppt/media/image30.png" ContentType="image/png"/>
  <Override PartName="/ppt/media/image38.png" ContentType="image/png"/>
  <Override PartName="/ppt/media/image8.png" ContentType="image/png"/>
  <Override PartName="/ppt/media/image28.gif" ContentType="image/gif"/>
  <Override PartName="/ppt/media/image4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37.png" ContentType="image/png"/>
  <Override PartName="/ppt/media/image22.jpeg" ContentType="image/jpeg"/>
  <Override PartName="/ppt/media/image39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0F5-DD66-4C4F-A44D-F249EE9F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B9B1-1168-4C53-9873-D6A473E5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0C5F-2F05-44DE-95BC-8B4FFE56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7C6B-A8DB-496C-A753-017718D9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7DB1-88A0-4668-AEAA-DD814721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547-B0F0-491A-A9E6-EE0BD423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5D0C-4130-41E7-8DA5-582A3914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FB3-7DA7-49BA-86B4-AD19C613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9B0A-D929-44DA-888D-ACD08D62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1B3-FB33-46A5-A14E-045F658B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0BE6-5B66-42F3-B56D-052BCD3A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8887-59B3-4CDF-AC7C-D258F1BF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C608-5709-4542-A5B5-D8495CB93AC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B17B-6090-4264-B429-60B87DB687C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750960" y="285840"/>
            <a:ext cx="735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Criminaliteit en rechtsstaa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7" descr="GIF_boef"/>
          <p:cNvPicPr/>
          <p:nvPr/>
        </p:nvPicPr>
        <p:blipFill>
          <a:blip r:embed="rId1"/>
          <a:stretch/>
        </p:blipFill>
        <p:spPr>
          <a:xfrm>
            <a:off x="2571840" y="3357720"/>
            <a:ext cx="2636640" cy="245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571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amenkat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schappijleer 2 VMBO K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98100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boek van straf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(materieel strafrech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langrijkste wetten in Nederland staan hier in (buiten de grondwet d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de strafbare feiten zijn en welke straffen ervoor kunnen uitgesproken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fbare feiten omschr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als: moord, diefstal, oplichting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boek van strafvordering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formeel strafrech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aalt hoe strafbare feiten vervolgd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andelt de hele procedure van aanhouding t/m de strafoplegging door de rechter.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twee wetboeken vormen de basis van het Nederlandse straf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3E9A-E477-4FC7-8665-D11D5824938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ropees verdrag tot bescherming van de rechten van de mens (EV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rechtsregels binnen de 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D98B-919F-4AC6-A55B-A5AEF7A2AA2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www.sdu.nl/Lists/Productlist/Attachments/5971/full_EVRMHW.jpg"/>
          <p:cNvPicPr/>
          <p:nvPr/>
        </p:nvPicPr>
        <p:blipFill>
          <a:blip r:embed="rId1"/>
          <a:stretch/>
        </p:blipFill>
        <p:spPr>
          <a:xfrm>
            <a:off x="2987640" y="3429000"/>
            <a:ext cx="216072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560" y="1341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riminaliteit 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ijdgebonden: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roeger was vreemdgaan strafbaar: sinds 1970 niet me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odslastering strafbaar: nu niet m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acken is nu WEL strafbaar, bestond vroeger ni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laatsgebonden: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egels verschillen per land en cultu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l: Euthanasie en abortus mag </a:t>
            </a:r>
            <a:r>
              <a:rPr b="0" lang="nl-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in veel landen verbo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VS bijna iedereen een wapen </a:t>
            </a:r>
            <a:r>
              <a:rPr b="0" lang="nl-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hier verbo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79A9-6AE1-48F6-9E96-7F8A00A904C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enmerken van een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staat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Burgerrechte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overheid moet zich aan de wet houden; burgers hebben rech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Grondrechte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staan in de grondwet. De overheid mag geen wetten maken tégen de grondwet i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Overheid zorgt voor rechtsha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having én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bescher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Parlementair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democrati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heeft altijd democratisch gekozen par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Scheiding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van machten: triaspoli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nafhankelijk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praak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rechter opereert onafhankelijk van de overhei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EDC1-3526-404D-AACA-63F16D58375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48572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chtsstaat: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en land waarin bewoners en overheid rechten hebben en waar deze rechten zijn vastgelegd in wetten. Burgers worden beschermd tegen machtsmisbruik en willkeur van de overhe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riaspolitica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machtenschei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deze taakverdeling voorkomen we machtsmisbrui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ierdoor heeft dus nooit één groep alle mach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gevend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voerende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erlijkem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116000" y="54936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24000" y="525456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e en 2e kamer beslissen over de wetsvoorstell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59280" y="5183280"/>
            <a:ext cx="223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sters (en ambtenaren zoals de politie) voeren de wet u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227640" y="5195880"/>
            <a:ext cx="223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rs oordelen in specifieke situaties of er volgens de wet is gehandeld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435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611280" y="3645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rgerrech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ermt worden tegen de over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szeker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weten wat je te wachten staat na het plegen van een de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sgelijk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niet anders behandelt worden dan a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F729-3DCB-4F69-A732-FB7C009D202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www.army-chaplaincy.be/images/assets/extracts/def1142004061/Aantasting%20burgerrechten.jpg"/>
          <p:cNvPicPr/>
          <p:nvPr/>
        </p:nvPicPr>
        <p:blipFill>
          <a:blip r:embed="rId1"/>
          <a:stretch/>
        </p:blipFill>
        <p:spPr>
          <a:xfrm>
            <a:off x="3564000" y="4221000"/>
            <a:ext cx="29178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shandh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ndhaven van de rechts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vb: staand houden als je zonder licht rijd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spreken bij wildp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brekers arrest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s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ke verdachte heeft re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delijk vermoeden van sch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antwoorden op v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D18D-03E3-4DCF-86A3-3A617B39CF3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Strafbaar gedrag: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je wetregels overtreed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Criminalitei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: alle misdrijven die in de wet sta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misdrijf: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vertre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nieling, diefstal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rijden zonder lich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braak, verkrachting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rood rij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afblad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geen strafbl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ngenis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hechte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deplichtig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niet medeplich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waardere straf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minder zware str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rimineel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overtreder/ of ni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F573-19BA-4B9B-81F4-2EF723BF954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stopPolitie"/>
          <p:cNvPicPr/>
          <p:nvPr/>
        </p:nvPicPr>
        <p:blipFill>
          <a:blip r:embed="rId1"/>
          <a:stretch/>
        </p:blipFill>
        <p:spPr>
          <a:xfrm>
            <a:off x="7559640" y="1214280"/>
            <a:ext cx="158436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3ED9-F7A1-48C8-ACA8-4717388A6C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57120" y="1571760"/>
            <a:ext cx="8064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Materiele schade: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aliteit kost miljarden euro’s per j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tv die uit je huis gehaald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fiets die gejat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strijding fraude ed kost veel g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 rekenen schade die ze lijden vaak door in de prijzen van hun produc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erheid en bedrijven lijden financiele schad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politie"/>
          <p:cNvPicPr/>
          <p:nvPr/>
        </p:nvPicPr>
        <p:blipFill>
          <a:blip r:embed="rId1"/>
          <a:stretch/>
        </p:blipFill>
        <p:spPr>
          <a:xfrm>
            <a:off x="6429240" y="2357280"/>
            <a:ext cx="2159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53EA-2B13-4574-A3EC-6DEAA4672E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57120" y="1571760"/>
            <a:ext cx="8064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mmateriele schad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peloze nachten omdat er ooit is ingebro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ng zijn op straat, wegens een overv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chtsgevoel van mensen wordt aangetas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rele verontwaardig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vinden het oneerlijk/onrechtvaardig als men zich niet aan de wet houd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van vertrouwen (in bvb de overheid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rmvervaging, normen en waarden verand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politie"/>
          <p:cNvPicPr/>
          <p:nvPr/>
        </p:nvPicPr>
        <p:blipFill>
          <a:blip r:embed="rId1"/>
          <a:stretch/>
        </p:blipFill>
        <p:spPr>
          <a:xfrm>
            <a:off x="7164360" y="2276640"/>
            <a:ext cx="21589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069F-16E8-459B-AAC0-D3F30949D5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0" y="1989000"/>
            <a:ext cx="4032360" cy="223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4156200" cy="223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0" y="4637160"/>
            <a:ext cx="4140360" cy="73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4"/>
          <a:srcRect l="1705" t="0" r="5168" b="0"/>
          <a:stretch/>
        </p:blipFill>
        <p:spPr>
          <a:xfrm>
            <a:off x="4427640" y="4653000"/>
            <a:ext cx="3960720" cy="565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us van Pieter                              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on: rechtvoorjou.n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3: Ons beeld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BDC8-EA97-4167-813B-B18A6643BCE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879336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3: Ons beeld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0337-F6B8-4A76-B01F-65017CF5B16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642960" y="1143000"/>
            <a:ext cx="72867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BEDB-25ED-49B1-8A76-DCFD453CA96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500120" y="1785960"/>
            <a:ext cx="72392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kenmerken van een crimineel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: uiterlijk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: Lagere maatschappelijke posi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: - vaker door mannen dan door vrouw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slechte opvoeding leidt vaker tot crimineel gedra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epsgedrag: als je vrienden het doen..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Spijbelaars/zonder diplo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politie"/>
          <p:cNvPicPr/>
          <p:nvPr/>
        </p:nvPicPr>
        <p:blipFill>
          <a:blip r:embed="rId1"/>
          <a:stretch/>
        </p:blipFill>
        <p:spPr>
          <a:xfrm>
            <a:off x="395280" y="3933720"/>
            <a:ext cx="15192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9FE8-641F-49FD-A420-6A0FD0FEF13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7" descr="politie"/>
          <p:cNvPicPr/>
          <p:nvPr/>
        </p:nvPicPr>
        <p:blipFill>
          <a:blip r:embed="rId1"/>
          <a:stretch/>
        </p:blipFill>
        <p:spPr>
          <a:xfrm>
            <a:off x="7905600" y="57168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182520" y="1928880"/>
            <a:ext cx="89614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568F-B3F2-4352-B9D4-5C37139DAC5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politie"/>
          <p:cNvPicPr/>
          <p:nvPr/>
        </p:nvPicPr>
        <p:blipFill>
          <a:blip r:embed="rId1"/>
          <a:stretch/>
        </p:blipFill>
        <p:spPr>
          <a:xfrm>
            <a:off x="7905600" y="64296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117360" y="1785960"/>
            <a:ext cx="9026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A0A6-8A4A-408C-AF05-DF081A5A038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7" descr="politie"/>
          <p:cNvPicPr/>
          <p:nvPr/>
        </p:nvPicPr>
        <p:blipFill>
          <a:blip r:embed="rId1"/>
          <a:stretch/>
        </p:blipFill>
        <p:spPr>
          <a:xfrm>
            <a:off x="7905600" y="64296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714240" y="1357200"/>
            <a:ext cx="784872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8799-94D6-49B6-AC72-0179357C73F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50920" y="1916280"/>
            <a:ext cx="65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Maatschappelijke oorza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826920" y="3645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In een grote stad gebeurd het vak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900000" y="2637000"/>
            <a:ext cx="63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ociale controle is minder ge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pakkans is daardoor kleiner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826920" y="22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ormen en waarden zijn minder stre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395280" y="4724280"/>
            <a:ext cx="8280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Bindingstheorie van Hirschi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aliteit een combinatie van individuele en maatschappelijke oorzaken. Niemand is alleen meer goed, iedereen kan misdadiger zijn. Ligt aan de bindingen die je hebt: vrienden, band met familie, werk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26920" y="40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lcohol en drugs gebruik toegenom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politie"/>
          <p:cNvPicPr/>
          <p:nvPr/>
        </p:nvPicPr>
        <p:blipFill>
          <a:blip r:embed="rId1"/>
          <a:stretch/>
        </p:blipFill>
        <p:spPr>
          <a:xfrm>
            <a:off x="6732720" y="1557360"/>
            <a:ext cx="12380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C162-E991-4AB9-B629-6857A766DCF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071720" y="1500120"/>
            <a:ext cx="750096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4920" y="981000"/>
            <a:ext cx="84978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verjaringstermijn is de periode waarna de verdachte in een strafzaak niet meer kunt worden vervolg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termijn van verjaring hangt af van het soort strafbaar feit dat u heeft gepleeg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tredingen: na 3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geldboete, hechtenis, of gevangenisstraf van 3 jaar of minder kan worden opgelegd: na 6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tijdelijke gevangenisstraf van meer dan 3 jaar kan worden opgelegd: na 12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gevangenisstraf van meer dan 10 jaar kan worden opgelegd: na 20 jaa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verjaring bij levenslange gevangenisstr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8156-30D3-4EC1-A468-430DC83E228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626A-B93D-40A0-B4E1-00B00F9CB3E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142920" y="1500120"/>
            <a:ext cx="90010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44BA-52B8-4AEB-8D3F-111BD170B7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032360" cy="237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4103640" cy="2376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3A0A-CFA3-4C7A-8B79-A024B8F468D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4000" y="2349360"/>
            <a:ext cx="8496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ieter is nu 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dachte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politie denkt dat je iets strafbaars hebt gedaan. Een redelijk vermoeden van schul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politie kan een aantal dingen doen om een zaak op te loss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900000" y="4365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Fouill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kleding en lichaam wordt onderzoch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82692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rrest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moet mee naar het politiebureau voor verhoor. (je kan een paar dagen worden vastgehouden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900000" y="558972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uis doorzoek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oeken naar bewijsmateriaal. Huiszoekingsbevel nodig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4" descr="politie"/>
          <p:cNvPicPr/>
          <p:nvPr/>
        </p:nvPicPr>
        <p:blipFill>
          <a:blip r:embed="rId1"/>
          <a:stretch/>
        </p:blipFill>
        <p:spPr>
          <a:xfrm>
            <a:off x="7286760" y="642960"/>
            <a:ext cx="1493640" cy="187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C7EC-878A-4798-9DE9-ED448C0C0AD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24000" y="1916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3 keuzes:</a:t>
            </a:r>
            <a:r>
              <a:rPr b="0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539640" y="4581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volg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moet WEL  naar de rechter. De rechter zal beslissen of je schuldig of onschuldig ben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539640" y="3860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chikk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hoeft niet naar de rechter. Je kan een boete betalen of iets dergelijks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1042920" y="5373720"/>
            <a:ext cx="748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Vrijspraak: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s de rechter bij vervolging beslist dat je onschuldig ben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Schuldig: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s de rechter bij vervolging beslist dat er genoeg bewijs tegen je is, ben je schuldig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9"/>
          <p:cNvGraphicFramePr/>
          <p:nvPr/>
        </p:nvGraphicFramePr>
        <p:xfrm>
          <a:off x="6286680" y="1285920"/>
          <a:ext cx="2577960" cy="142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6680" y="1285920"/>
                    <a:ext cx="25779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11"/>
          <p:cNvSpPr/>
          <p:nvPr/>
        </p:nvSpPr>
        <p:spPr>
          <a:xfrm>
            <a:off x="611280" y="2708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epon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J onderneemt geen stappen.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hoeft niet naar de rechter. Vaak door onvoldoende bewijs, of als je al ‘genoeg gestraft’ ben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CE48-E7BC-49EF-A952-5A2A82AD3A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12"/>
          <p:cNvGraphicFramePr/>
          <p:nvPr/>
        </p:nvGraphicFramePr>
        <p:xfrm>
          <a:off x="1332000" y="3141720"/>
          <a:ext cx="6048360" cy="267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141720"/>
                    <a:ext cx="604836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87CE-1DDE-499E-B2F1-A63AAF858B6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295200" y="500040"/>
            <a:ext cx="88488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72F8-CFDC-4FDC-B2B6-9031778923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785880" y="1143000"/>
            <a:ext cx="778824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3EBF-6493-4DB9-A015-A9765E3ECBC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8629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FAAE-3DE4-4525-83FE-D53774B2EC0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-243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280" y="404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rechtbank"/>
          <p:cNvPicPr/>
          <p:nvPr/>
        </p:nvPicPr>
        <p:blipFill>
          <a:blip r:embed="rId1"/>
          <a:srcRect l="0" t="0" r="0" b="32627"/>
          <a:stretch/>
        </p:blipFill>
        <p:spPr>
          <a:xfrm>
            <a:off x="1979640" y="1916280"/>
            <a:ext cx="4802040" cy="4941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3"/>
          <p:cNvSpPr/>
          <p:nvPr/>
        </p:nvSpPr>
        <p:spPr>
          <a:xfrm>
            <a:off x="250920" y="2205000"/>
            <a:ext cx="172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Officier van justitie: </a:t>
            </a:r>
            <a:br>
              <a:rPr sz="1600"/>
            </a:b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wil bewijzen dat de verdachte schuldig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6877080" y="4653000"/>
            <a:ext cx="17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Advocaat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verdedigt de verdachte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6877080" y="3284640"/>
            <a:ext cx="2266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Verdachte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de persoon die verdacht wordt van een misdrijf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6877080" y="1916280"/>
            <a:ext cx="172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Griffier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Noteert alles wat er gezegd word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2771640" y="981000"/>
            <a:ext cx="396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er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Beslist of de verdachte schuldig is en bepaalt de straf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2627280" y="141300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 flipH="1">
            <a:off x="665928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 flipH="1">
            <a:off x="5292360" y="3284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1"/>
          <p:cNvSpPr/>
          <p:nvPr/>
        </p:nvSpPr>
        <p:spPr>
          <a:xfrm flipH="1" flipV="1">
            <a:off x="6443640" y="422100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140328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9E63-0BB0-40EA-A19D-3AD7DAA847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3" descr="RECHTSPRAAK"/>
          <p:cNvPicPr/>
          <p:nvPr/>
        </p:nvPicPr>
        <p:blipFill>
          <a:blip r:embed="rId1"/>
          <a:stretch/>
        </p:blipFill>
        <p:spPr>
          <a:xfrm>
            <a:off x="1908000" y="2276640"/>
            <a:ext cx="5010480" cy="3809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933A-6C5B-4478-9662-54B2066566F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857680" y="1143000"/>
            <a:ext cx="435744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A400-4756-446F-8F62-39805681E1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24000" y="2205000"/>
            <a:ext cx="82803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ieter weet precies wat er gaat gebeur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rechter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controleert all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persoonlijke gegevens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naam, geboortedatum, adre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J leest 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anklacht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voor. Daarin staat waarvan Pieter verdacht wordt en wanneer het is gebeur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rechter, de OvJ en de advocaat gaan Pieter nu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ragen stellen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. Bvb of hij wel eens eerder met de politie te maken heeft geh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en vriend is opgeroepen als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tuige.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Hij moet eerlijk vertellen wat er is gebeurd. Getuiges mogen niet lieg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judge"/>
          <p:cNvPicPr/>
          <p:nvPr/>
        </p:nvPicPr>
        <p:blipFill>
          <a:blip r:embed="rId1"/>
          <a:stretch/>
        </p:blipFill>
        <p:spPr>
          <a:xfrm>
            <a:off x="6804000" y="907920"/>
            <a:ext cx="1857240" cy="1609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0F29-DC4B-41C0-B457-EDD8D7854D7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364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4102200" cy="2305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3816360" cy="117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4249800" cy="1012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550C-A604-4882-846F-0CC6AA82FA3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0" y="2060640"/>
            <a:ext cx="8280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5. De OvJ legt uit waarom hij vindt dat Piet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chuldig is 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eist een stra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6. De advocaat neemt het dan op voor Pieter en vraagt om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trafverminde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7. Pieter mag als verdachte zelf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et laatste woord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hebben en spijt betui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8. De rechter spreekt he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onnis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uit: Hij veroordeelt Pieter tot 2 maanden voorwaardelijke gevangenisstraf en 120 uur taakstraf.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oorwaardelijk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betekent dat Pieter voorlopig niet de gevangenis in hoeft, tenzij hij weer zoiets stoms doe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jail"/>
          <p:cNvPicPr/>
          <p:nvPr/>
        </p:nvPicPr>
        <p:blipFill>
          <a:blip r:embed="rId3"/>
          <a:stretch/>
        </p:blipFill>
        <p:spPr>
          <a:xfrm>
            <a:off x="324000" y="765000"/>
            <a:ext cx="1485720" cy="12384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C68E-FACA-4407-9B53-395E3B15B74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8AB6-E05C-476E-A6C3-60684FD3390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684360" y="206064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Taken van de officier van justiti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n uitvoeren van opgelegde vonniss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dat veroordeelden hun straf uitzit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 geven aan opsporingsonderzoek/ opsporingstaa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lgen van strafbare fei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rechter brengen van verda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klagen van verdacht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jail"/>
          <p:cNvPicPr/>
          <p:nvPr/>
        </p:nvPicPr>
        <p:blipFill>
          <a:blip r:embed="rId3"/>
          <a:stretch/>
        </p:blipFill>
        <p:spPr>
          <a:xfrm>
            <a:off x="324000" y="765000"/>
            <a:ext cx="14857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ABEB-4AE9-4006-B142-57059C0EB8F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judge"/>
          <p:cNvPicPr/>
          <p:nvPr/>
        </p:nvPicPr>
        <p:blipFill>
          <a:blip r:embed="rId1"/>
          <a:stretch/>
        </p:blipFill>
        <p:spPr>
          <a:xfrm>
            <a:off x="3429000" y="1428840"/>
            <a:ext cx="2730600" cy="2367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285840" y="3857760"/>
            <a:ext cx="4352760" cy="2581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3"/>
          <a:stretch/>
        </p:blipFill>
        <p:spPr>
          <a:xfrm>
            <a:off x="5500800" y="3857760"/>
            <a:ext cx="34002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D369-A6C1-4D44-9909-5153D43173B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1946160"/>
            <a:ext cx="806436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oorten straffen: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468360" y="3357720"/>
            <a:ext cx="799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Hoofdstraffen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: zoals gevangenisstraf, geldboete, taakstraf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468360" y="386064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Bijkomendestraf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: zoals rijbewijs inleveren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395280" y="4365720"/>
            <a:ext cx="799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- Maatregelen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BS (ter Beschikking stelling aan de staat), agressietraining, etc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4" descr="police"/>
          <p:cNvPicPr/>
          <p:nvPr/>
        </p:nvPicPr>
        <p:blipFill>
          <a:blip r:embed="rId1"/>
          <a:stretch/>
        </p:blipFill>
        <p:spPr>
          <a:xfrm>
            <a:off x="6659640" y="765000"/>
            <a:ext cx="1333440" cy="1333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22"/>
          <p:cNvSpPr/>
          <p:nvPr/>
        </p:nvSpPr>
        <p:spPr>
          <a:xfrm>
            <a:off x="611280" y="5516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Pieter krijgt van de rechter 2 maanden voorwaardelijk en een taakstraf als hoofdstraf en de maatregel dat hij agressietraining moet vol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87E2-2C9E-4FE6-85EC-4F7C528F375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234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Waarom straffen we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9" descr="British_police"/>
          <p:cNvPicPr/>
          <p:nvPr/>
        </p:nvPicPr>
        <p:blipFill>
          <a:blip r:embed="rId1"/>
          <a:stretch/>
        </p:blipFill>
        <p:spPr>
          <a:xfrm>
            <a:off x="7500960" y="428760"/>
            <a:ext cx="1371600" cy="13237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2"/>
          <p:cNvSpPr/>
          <p:nvPr/>
        </p:nvSpPr>
        <p:spPr>
          <a:xfrm>
            <a:off x="1311120" y="2800440"/>
            <a:ext cx="448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468360" y="2852640"/>
            <a:ext cx="7920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fschikk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nsen moeten niet crimineel willen 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Resocialisatie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gedrag verbeteren, zodat criminelen terug kunnen in de samenlev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iliger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elen zitten in de gevangenis, dus is het daarbuiten veiliger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Wraak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lachtoffers en familiedaarvoor wilden vergelding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itel 1"/>
          <p:cNvSpPr/>
          <p:nvPr/>
        </p:nvSpPr>
        <p:spPr>
          <a:xfrm>
            <a:off x="0" y="500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3E19-2664-4B86-B54D-186164E8A4E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250920" y="4076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ak- en leerstraffen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ternatieve straffen: helpen in de winkel waar je hebt gestolen, dronken iemand aangereden: gehandicapte slachtoffers help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324000" y="2708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enger straffen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affen hoger maken, hogere boetes, langere gevangenisstraf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250920" y="3573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Lik-op-stukbeleid: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ader sneller pakken én bere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530064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Preventie: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oorkomen dat er criminaliteit plaats heeft. Meer politie op straat, meer camera’s bij winkels,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affen helpt niet voldoende: 4 oploss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334E-964B-4122-8B56-54AD7B96679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0" y="1571760"/>
            <a:ext cx="91598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BB5F-B393-4773-A145-60BF648E931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5215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pressie/ repressieve maatregelen:</a:t>
            </a:r>
            <a:br>
              <a:rPr sz="22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nada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misdrijven zijn gepleegd, actie onder nemen (straffen, opsporen).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Achteraf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reventie/ preventieve maatregelen: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te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om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at criminaliteit gebeurd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moord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roofov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AC8A-27A9-4275-9539-3FA030BCD49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politie"/>
          <p:cNvPicPr/>
          <p:nvPr/>
        </p:nvPicPr>
        <p:blipFill>
          <a:blip r:embed="rId1"/>
          <a:stretch/>
        </p:blipFill>
        <p:spPr>
          <a:xfrm>
            <a:off x="7086600" y="3789360"/>
            <a:ext cx="1811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AA61-53F6-4BA9-BC26-D790F8C296F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1840" cy="237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4572000" y="2060640"/>
            <a:ext cx="4029120" cy="230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4032000" cy="855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3456000" cy="6714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por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olg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ngeni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uwe wetg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5E5D-604B-4542-942A-12C0CE6586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politie"/>
          <p:cNvPicPr/>
          <p:nvPr/>
        </p:nvPicPr>
        <p:blipFill>
          <a:blip r:embed="rId1"/>
          <a:stretch/>
        </p:blipFill>
        <p:spPr>
          <a:xfrm>
            <a:off x="5435640" y="2781360"/>
            <a:ext cx="2238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psporingsbeleid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opsporen van criminalit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vormen verdienen aanda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leid om pakkans te verho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ervolg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manier waarop overheid misdrijven wil be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Bvb snelrecht/ lik-op-stuk beleid (zelfde dag opgepak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oor de rech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9076-DED2-4037-9461-750D9C0A0E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9" descr="politie"/>
          <p:cNvPicPr/>
          <p:nvPr/>
        </p:nvPicPr>
        <p:blipFill>
          <a:blip r:embed="rId1"/>
          <a:stretch/>
        </p:blipFill>
        <p:spPr>
          <a:xfrm>
            <a:off x="7093080" y="191628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640080" indent="-27432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Veelvoorkomendecriminaliteit: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misdrijven die relatief vaak voorkomen: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winkeldiefstal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zakkenrollen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voetbal vandalisme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vernielin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Worden bestraft met taakstraf en geldboe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Meer met preventieve maatregelen aanpakk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Zware criminaliteit: 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verkrachting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moord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roofoverv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F879-3F5C-43C5-A90A-9306EF3EEBA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9" descr="politie"/>
          <p:cNvPicPr/>
          <p:nvPr/>
        </p:nvPicPr>
        <p:blipFill>
          <a:blip r:embed="rId1"/>
          <a:stretch/>
        </p:blipFill>
        <p:spPr>
          <a:xfrm>
            <a:off x="7236000" y="335772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664200" indent="-2844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0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Verborgen criminaliteit:</a:t>
            </a:r>
            <a:br>
              <a:rPr sz="2100"/>
            </a:b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- belastingfraude       - onterechte uitkering</a:t>
            </a:r>
            <a:br>
              <a:rPr sz="1700"/>
            </a:b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- internetcriminalite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0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Wordt extra onder de loep genom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Georganiseerde misda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Vrouwenhandel   - Ontvoering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Pornografie          - Hel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Fraude                  - gokk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Vaak internationale bend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Bestreden door streng optred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Meer politieagenten, gevangeniscelle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Politie en justitie mogen telefoons en computers afluister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Rechters geven hogere straffe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061A-332B-4BA9-9CD8-95AB6F76F05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politie"/>
          <p:cNvPicPr/>
          <p:nvPr/>
        </p:nvPicPr>
        <p:blipFill>
          <a:blip r:embed="rId1"/>
          <a:stretch/>
        </p:blipFill>
        <p:spPr>
          <a:xfrm>
            <a:off x="7236000" y="335772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752040" indent="-3222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52040" indent="-3222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terreurbestrijd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aanslagen (denk aan New-York, London, Madri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Strengere controles op vliegveld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Niet alleen daders strafbaar </a:t>
            </a:r>
            <a:r>
              <a:rPr b="0" lang="nl-NL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Ook als jee van plan bent of lid terroristische groe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Zelfs als je het toejuicht kan je voor de rechter kom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Politie arresteert al, als je, je verdacht gedraag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Dit is: verruiming van de bevoegdhed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ECE2-9F75-4196-918E-E95F70A1958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9" descr="politie"/>
          <p:cNvPicPr/>
          <p:nvPr/>
        </p:nvPicPr>
        <p:blipFill>
          <a:blip r:embed="rId1"/>
          <a:stretch/>
        </p:blipFill>
        <p:spPr>
          <a:xfrm>
            <a:off x="7451640" y="1125360"/>
            <a:ext cx="133344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3. Gevangeni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tra cellen bouwen bij cellen tek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dan 1 gevange per c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overschot: gevangenis ‘verhuren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4. Nieuwe wetg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boeken aanpa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 moet effectief zijn (moet werken, effect oplever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 moet wenselijk zijn (samenleving moet accepter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t het bij de normen en waarden van de samenl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BBF1-31CB-46D5-957F-D52C57F95E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9" descr="politie"/>
          <p:cNvPicPr/>
          <p:nvPr/>
        </p:nvPicPr>
        <p:blipFill>
          <a:blip r:embed="rId1"/>
          <a:stretch/>
        </p:blipFill>
        <p:spPr>
          <a:xfrm>
            <a:off x="7236000" y="1916280"/>
            <a:ext cx="14922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5. 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Criminaliteit voorkomen (h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6. 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criminaliteit terugdr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toezicht, meer contr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eller 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werkprojecten/ taak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aandacht voor onderwijs: niet spijbelen, schooluit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F8F9-1FB5-4D3F-BB02-07A6C482BB4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9" descr="politie"/>
          <p:cNvPicPr/>
          <p:nvPr/>
        </p:nvPicPr>
        <p:blipFill>
          <a:blip r:embed="rId1"/>
          <a:stretch/>
        </p:blipFill>
        <p:spPr>
          <a:xfrm>
            <a:off x="7236000" y="1916280"/>
            <a:ext cx="14922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inks/socialist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maatschappelijke aspec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ventieve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 banenplannen voor jongeren/ wijkagenten inze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risten democrat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belang gezin, school &amp; maatschapp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uders en leraren moeten kinderen respect/eerbied bijbre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echts/Liberal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repressieve aanpak: zwaarder stra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r bevoegdheden voor politie en justitie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ms in strijd met burgerre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C726-574D-4B6A-8EAF-324B5F73F77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9" descr="politie"/>
          <p:cNvPicPr/>
          <p:nvPr/>
        </p:nvPicPr>
        <p:blipFill>
          <a:blip r:embed="rId1"/>
          <a:stretch/>
        </p:blipFill>
        <p:spPr>
          <a:xfrm>
            <a:off x="7667640" y="1197000"/>
            <a:ext cx="9176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15FD-D2AF-427D-9D94-4E0EF39B896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1214280" y="1285920"/>
            <a:ext cx="6828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C45D-F292-492C-91E5-28287CA2EDA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al 5"/>
          <p:cNvSpPr/>
          <p:nvPr/>
        </p:nvSpPr>
        <p:spPr>
          <a:xfrm>
            <a:off x="395280" y="2349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al 6"/>
          <p:cNvSpPr/>
          <p:nvPr/>
        </p:nvSpPr>
        <p:spPr>
          <a:xfrm>
            <a:off x="826920" y="450864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al 7"/>
          <p:cNvSpPr/>
          <p:nvPr/>
        </p:nvSpPr>
        <p:spPr>
          <a:xfrm>
            <a:off x="5867280" y="242100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al 8"/>
          <p:cNvSpPr/>
          <p:nvPr/>
        </p:nvSpPr>
        <p:spPr>
          <a:xfrm>
            <a:off x="5651640" y="422100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kstvak 9"/>
          <p:cNvSpPr/>
          <p:nvPr/>
        </p:nvSpPr>
        <p:spPr>
          <a:xfrm>
            <a:off x="755640" y="256536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ndelijk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kstvak 11"/>
          <p:cNvSpPr/>
          <p:nvPr/>
        </p:nvSpPr>
        <p:spPr>
          <a:xfrm>
            <a:off x="6156360" y="45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kstvak 12"/>
          <p:cNvSpPr/>
          <p:nvPr/>
        </p:nvSpPr>
        <p:spPr>
          <a:xfrm>
            <a:off x="1332000" y="472428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okal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kstvak 13"/>
          <p:cNvSpPr/>
          <p:nvPr/>
        </p:nvSpPr>
        <p:spPr>
          <a:xfrm>
            <a:off x="6372360" y="27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Gelijkbenige driehoek 14"/>
          <p:cNvSpPr/>
          <p:nvPr/>
        </p:nvSpPr>
        <p:spPr>
          <a:xfrm>
            <a:off x="3564000" y="2349360"/>
            <a:ext cx="2232000" cy="1943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kstvak 15"/>
          <p:cNvSpPr/>
          <p:nvPr/>
        </p:nvSpPr>
        <p:spPr>
          <a:xfrm>
            <a:off x="3851280" y="342900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reventie door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U-vormige pijl 16"/>
          <p:cNvSpPr/>
          <p:nvPr/>
        </p:nvSpPr>
        <p:spPr>
          <a:xfrm>
            <a:off x="5076720" y="2060640"/>
            <a:ext cx="885960" cy="877680"/>
          </a:xfrm>
          <a:custGeom>
            <a:avLst/>
            <a:gdLst/>
            <a:ahLst/>
            <a:rect l="l" t="t" r="r" b="b"/>
            <a:pathLst>
              <a:path w="885825" h="877888">
                <a:moveTo>
                  <a:pt x="0" y="877888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2013" y="0"/>
                </a:lnTo>
                <a:lnTo>
                  <a:pt x="392013" y="0"/>
                </a:lnTo>
                <a:arcTo wR="384076" hR="384076" stAng="-5400000" swAng="5400009"/>
                <a:lnTo>
                  <a:pt x="776089" y="438944"/>
                </a:lnTo>
                <a:lnTo>
                  <a:pt x="885825" y="438944"/>
                </a:lnTo>
                <a:lnTo>
                  <a:pt x="666353" y="658416"/>
                </a:lnTo>
                <a:lnTo>
                  <a:pt x="446881" y="438944"/>
                </a:lnTo>
                <a:lnTo>
                  <a:pt x="556617" y="438944"/>
                </a:lnTo>
                <a:lnTo>
                  <a:pt x="556617" y="384076"/>
                </a:lnTo>
                <a:lnTo>
                  <a:pt x="556617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U-vormige pijl 17"/>
          <p:cNvSpPr/>
          <p:nvPr/>
        </p:nvSpPr>
        <p:spPr>
          <a:xfrm rot="7020600">
            <a:off x="3528720" y="4474800"/>
            <a:ext cx="887400" cy="878040"/>
          </a:xfrm>
          <a:custGeom>
            <a:avLst/>
            <a:gdLst/>
            <a:ahLst/>
            <a:rect l="l" t="t" r="r" b="b"/>
            <a:pathLst>
              <a:path w="887413" h="877888">
                <a:moveTo>
                  <a:pt x="0" y="877888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3601" y="0"/>
                </a:lnTo>
                <a:lnTo>
                  <a:pt x="393601" y="0"/>
                </a:lnTo>
                <a:arcTo wR="384076" hR="384076" stAng="-5400000" swAng="5400009"/>
                <a:lnTo>
                  <a:pt x="777677" y="438944"/>
                </a:lnTo>
                <a:lnTo>
                  <a:pt x="887413" y="438944"/>
                </a:lnTo>
                <a:lnTo>
                  <a:pt x="667941" y="658416"/>
                </a:lnTo>
                <a:lnTo>
                  <a:pt x="448469" y="438944"/>
                </a:lnTo>
                <a:lnTo>
                  <a:pt x="558205" y="438944"/>
                </a:lnTo>
                <a:lnTo>
                  <a:pt x="558205" y="384076"/>
                </a:lnTo>
                <a:lnTo>
                  <a:pt x="558205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U-vormige pijl 18"/>
          <p:cNvSpPr/>
          <p:nvPr/>
        </p:nvSpPr>
        <p:spPr>
          <a:xfrm rot="16389000">
            <a:off x="4807440" y="4248720"/>
            <a:ext cx="885600" cy="877680"/>
          </a:xfrm>
          <a:custGeom>
            <a:avLst/>
            <a:gdLst/>
            <a:ahLst/>
            <a:rect l="l" t="t" r="r" b="b"/>
            <a:pathLst>
              <a:path w="885825" h="877887">
                <a:moveTo>
                  <a:pt x="0" y="877887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2014" y="0"/>
                </a:lnTo>
                <a:lnTo>
                  <a:pt x="392014" y="0"/>
                </a:lnTo>
                <a:arcTo wR="384076" hR="384076" stAng="-5400000" swAng="5400009"/>
                <a:lnTo>
                  <a:pt x="776089" y="438944"/>
                </a:lnTo>
                <a:lnTo>
                  <a:pt x="885825" y="438944"/>
                </a:lnTo>
                <a:lnTo>
                  <a:pt x="666353" y="658415"/>
                </a:lnTo>
                <a:lnTo>
                  <a:pt x="446882" y="438944"/>
                </a:lnTo>
                <a:lnTo>
                  <a:pt x="556617" y="438944"/>
                </a:lnTo>
                <a:lnTo>
                  <a:pt x="556617" y="384076"/>
                </a:lnTo>
                <a:lnTo>
                  <a:pt x="556617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U-vormige pijl 19"/>
          <p:cNvSpPr/>
          <p:nvPr/>
        </p:nvSpPr>
        <p:spPr>
          <a:xfrm rot="13525200">
            <a:off x="3058560" y="2420640"/>
            <a:ext cx="887400" cy="877680"/>
          </a:xfrm>
          <a:custGeom>
            <a:avLst/>
            <a:gdLst/>
            <a:ahLst/>
            <a:rect l="l" t="t" r="r" b="b"/>
            <a:pathLst>
              <a:path w="887413" h="877888">
                <a:moveTo>
                  <a:pt x="0" y="877888"/>
                </a:moveTo>
                <a:lnTo>
                  <a:pt x="0" y="388650"/>
                </a:lnTo>
                <a:lnTo>
                  <a:pt x="0" y="388650"/>
                </a:lnTo>
                <a:arcTo wR="388650" hR="388650" stAng="10800000" swAng="5400009"/>
                <a:lnTo>
                  <a:pt x="389027" y="0"/>
                </a:lnTo>
                <a:lnTo>
                  <a:pt x="389027" y="0"/>
                </a:lnTo>
                <a:arcTo wR="388650" hR="388650" stAng="-5400000" swAng="5400009"/>
                <a:lnTo>
                  <a:pt x="777677" y="438944"/>
                </a:lnTo>
                <a:lnTo>
                  <a:pt x="887413" y="438944"/>
                </a:lnTo>
                <a:lnTo>
                  <a:pt x="667941" y="658416"/>
                </a:lnTo>
                <a:lnTo>
                  <a:pt x="448469" y="438944"/>
                </a:lnTo>
                <a:lnTo>
                  <a:pt x="558205" y="438944"/>
                </a:lnTo>
                <a:lnTo>
                  <a:pt x="558205" y="388650"/>
                </a:lnTo>
                <a:lnTo>
                  <a:pt x="558205" y="388650"/>
                </a:lnTo>
                <a:arcTo wR="169178" hR="169178" stAng="0" swAng="-5400000"/>
                <a:lnTo>
                  <a:pt x="388650" y="219472"/>
                </a:lnTo>
                <a:lnTo>
                  <a:pt x="388650" y="219472"/>
                </a:lnTo>
                <a:arcTo wR="169178" hR="169178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CB25-B039-4BD4-90E0-9F0E4298825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032360" cy="2303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police.gif police image by scottametz"/>
          <p:cNvPicPr/>
          <p:nvPr/>
        </p:nvPicPr>
        <p:blipFill>
          <a:blip r:embed="rId2"/>
          <a:stretch/>
        </p:blipFill>
        <p:spPr>
          <a:xfrm>
            <a:off x="4572000" y="2060640"/>
            <a:ext cx="3097080" cy="2322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179280" y="4437000"/>
            <a:ext cx="80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ieter wordt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opgepakt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door de politie. Hij moet mee naar het bureau. Daar wordt besloten dat hij voor de rechter moet komen. Enkele weken voor de rechtszitting krijgt Pieter een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dagvaarding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. Dat is de oproep om voor de rechter te verschijnen.Pieter moet niet voor de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politierechter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komen (die is alleen bij lichte misdrijven) maar bij de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meervoudige kamer.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Deze bestaat uit 3 rechters en is bedoeld voor zware misdrijven zoals moord en mishandeling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8360" y="2349000"/>
            <a:ext cx="822960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goede huisv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b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lichting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wijs verbeteren: antispijbelbel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uders erbij be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3603-4C51-4837-93F2-81767E0BE15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kstvak 9"/>
          <p:cNvSpPr/>
          <p:nvPr/>
        </p:nvSpPr>
        <p:spPr>
          <a:xfrm>
            <a:off x="468360" y="13413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ndelijk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68360" y="263700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burgemeester toestemming vragen om preventief te fouil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meester kan voetbalwedstrijd verbi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 raad kan iets strafbar stellen (blowverb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6B21-6257-4C6E-AAA8-36B2E870A46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kstvak 9"/>
          <p:cNvSpPr/>
          <p:nvPr/>
        </p:nvSpPr>
        <p:spPr>
          <a:xfrm>
            <a:off x="468360" y="13413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okal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39640" y="2276640"/>
            <a:ext cx="822960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aten industriebedrijf: riskant terrei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alarminstallat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en boven bedrijf wo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akingsdienst inhu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winkeldiefs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chnische maatregelen (camera’s, spiegels, diefstal poortj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personeel in de wink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bedrijven: geen geld voor diefstal prevent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o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tispijbelbeleid (samenwerken met politie/gemeen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4E2C-E973-4C5A-BEE4-44EE2A1B25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al 5"/>
          <p:cNvSpPr/>
          <p:nvPr/>
        </p:nvSpPr>
        <p:spPr>
          <a:xfrm>
            <a:off x="0" y="907920"/>
            <a:ext cx="266400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kstvak 9"/>
          <p:cNvSpPr/>
          <p:nvPr/>
        </p:nvSpPr>
        <p:spPr>
          <a:xfrm>
            <a:off x="468360" y="105264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360" y="263700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wijken op elkaar letten: sociale cont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spectieronden burgerw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 verantwoordelijk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stelen van je eigen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ls baas:) zorgen voor goede sfeer om stelen te voork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535E-2207-44BE-95A0-F4E8DA578B9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kstvak 9"/>
          <p:cNvSpPr/>
          <p:nvPr/>
        </p:nvSpPr>
        <p:spPr>
          <a:xfrm>
            <a:off x="468360" y="134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39640" y="2276640"/>
            <a:ext cx="822960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sociale contro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condu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dsw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akingsdiensten winkel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mera’s op str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politie op str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91F5-4971-4F3E-B213-54C10167F99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640" y="21337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eteren woonomge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huizen leeg laten staan. Ziet het er netjes uit wordt er minder vern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chnische maatregelen: afsluiten trappenhuis en galerij, verbeteren van slo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voorzieningen voor jong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FFBC-FF77-42C2-BD0F-5DFD430495D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39640" y="184464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lt-bu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LT: Het ALTerna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ze: direct herstellen OF rechtzaak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er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ongeren tot 18 jaar (bijna de helft van de delictpleg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straf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daders af te schrik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één OvJ of recht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us geen strafb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él recht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strafblad/ uitreksel justitiële documen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891C-8281-443C-9EA3-243132C9C6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A398-086F-411A-A61B-220BCD88371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5" descr="After_the_Criminal"/>
          <p:cNvPicPr/>
          <p:nvPr/>
        </p:nvPicPr>
        <p:blipFill>
          <a:blip r:embed="rId1"/>
          <a:stretch/>
        </p:blipFill>
        <p:spPr>
          <a:xfrm>
            <a:off x="2124000" y="3933720"/>
            <a:ext cx="46576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at voor wetboeken zijn 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rond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boek van strafrech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boek van strafvo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genverkeer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 economische deli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pium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352B-1040-4673-A2ED-B151B8BFF59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672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Grondw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Wet waarin de belangrijkst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re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pli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an alle inwoners in een land zijn vastgeleg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andere wetten zijn hierop gebaseer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Wat staat er o.a. in de grondwe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meningsui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tenscheiding (triaspolit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vrijh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258920" y="33336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6732720" y="2349360"/>
            <a:ext cx="1847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li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belasting te beta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naar school te gaan. Leerp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je id bij te hebb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249200" y="773280"/>
            <a:ext cx="634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7162920" y="620640"/>
            <a:ext cx="14889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SD1</cp:lastModifiedBy>
  <dcterms:modified xsi:type="dcterms:W3CDTF">2013-07-08T13:46:09Z</dcterms:modified>
  <cp:revision>152</cp:revision>
  <dc:subject/>
  <dc:title>Dia 1</dc:title>
</cp:coreProperties>
</file>