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19.jpeg" ContentType="image/jpeg"/>
  <Override PartName="/ppt/media/image21.jpeg" ContentType="image/jpeg"/>
  <Override PartName="/ppt/media/image29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5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7.gif" ContentType="image/gif"/>
  <Override PartName="/ppt/media/image52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0.png" ContentType="image/png"/>
  <Override PartName="/ppt/media/image35.gif" ContentType="image/gif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3FA-581C-4550-8FC7-14B0282B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152-A02A-4F6F-AF19-8A0F2CC2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934-7989-47CF-A44C-D69E637D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3F8-FCAA-45E3-9D14-F93C34E8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0CB-4D73-4AED-8014-A9D06632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D6B-A70A-4F43-9E1E-57B47D4A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ECB-1352-4E15-8ED4-0700471F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5D1-0BDF-4C83-8B71-E1CA4589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299-D5AF-4948-9B57-AC63BF86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A0E-FEA0-4FDA-BB2E-25B7A2D5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3D6-CD33-442F-8AFF-E4BBF5F0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C62-0276-41F7-AADD-25DF6D7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AB34-7FDC-4A27-9DC1-D4160AE2E9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E23E-4BDD-43C6-AFC4-ABCDC544EA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50960" y="285840"/>
            <a:ext cx="735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Criminaliteit en rechtssta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GIF_boef"/>
          <p:cNvPicPr/>
          <p:nvPr/>
        </p:nvPicPr>
        <p:blipFill>
          <a:blip r:embed="rId1"/>
          <a:stretch/>
        </p:blipFill>
        <p:spPr>
          <a:xfrm>
            <a:off x="2571840" y="3357720"/>
            <a:ext cx="2636640" cy="24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enka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ijleer 2 VMBO K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981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(materi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ten in Nederland staan hier in (buiten de grondwet 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de strafbare feiten zijn en welke straffen ervoor kunnen uitgesprok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fbare feiten omschr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als: moord, diefstal, oplicht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vordering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rm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t hoe strafbare feiten vervolgd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t de hele procedure van aanhouding t/m de strafoplegging door de r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twee wetboeken vormen de basis van het Nederlandse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B7AD-AA90-410C-94F5-FAE9E77C29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es verdrag tot bescherming van de rechten van de mens (EV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rechtsregels binnen de 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9713-229C-4285-AAB0-C8A9DC0370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sdu.nl/Lists/Productlist/Attachments/5971/full_EVRMHW.jpg"/>
          <p:cNvPicPr/>
          <p:nvPr/>
        </p:nvPicPr>
        <p:blipFill>
          <a:blip r:embed="rId1"/>
          <a:stretch/>
        </p:blipFill>
        <p:spPr>
          <a:xfrm>
            <a:off x="2987640" y="3429000"/>
            <a:ext cx="2160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minalite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ijd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roeger was vreemdgaan strafbaar: sinds 1970 niet m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odslastering strafbaar: nu niet m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cken is nu WEL strafbaar, bestond vroeger ni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ats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gels verschillen per land en cult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l: Euthanasie en abortus mag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in veel landen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VS bijna iedereen een wapen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hier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2544-F851-4276-AD33-27C0FE351D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enmerken van ee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staa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Burger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overheid moet zich aan de wet houden; burgers hebben rech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rond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staan in de grondwet. De overheid mag geen wetten maken tégen de grondwet 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verheid zorgt voor rechtsha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having é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Parlementair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democrati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heeft altijd democratisch gekozen par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Scheidin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van machten: triaspoli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nafhankelijk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praak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rechter opereert onafhankelijk van de overhe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914F-357C-4EB8-9CDE-358198B23E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572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en land waarin bewoners en overheid rechten hebben en waar deze rechten zijn vastgelegd in wetten. Burgers worden beschermd tegen machtsmisbruik en willkeur van de over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deze taakverdeling voorkomen we machtsmisbru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549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525456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59280" y="518328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195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1280" y="3645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re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ermt worden tegen de over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zeker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weten wat je te wachten staat na het plegen van een de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niet anders behandelt worden dan 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42B6-9666-4EB1-9298-63965FC82E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army-chaplaincy.be/images/assets/extracts/def1142004061/Aantasting%20burgerrechten.jpg"/>
          <p:cNvPicPr/>
          <p:nvPr/>
        </p:nvPicPr>
        <p:blipFill>
          <a:blip r:embed="rId1"/>
          <a:stretch/>
        </p:blipFill>
        <p:spPr>
          <a:xfrm>
            <a:off x="3564000" y="4221000"/>
            <a:ext cx="291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896D-41BD-4079-9FC6-057C900FCA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afblad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aardere st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minder zware 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riminee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overtreder/ of ni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34CE-CBD7-4F5B-A2A8-6876676AEA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C0D-97C2-4154-AE69-CAB1167911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trijding fraude ed kost veel 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 rekenen schade die ze lijden vaak door in de prijzen van hun produc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 en bedrijven lijden financiele scha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olitie"/>
          <p:cNvPicPr/>
          <p:nvPr/>
        </p:nvPicPr>
        <p:blipFill>
          <a:blip r:embed="rId1"/>
          <a:stretch/>
        </p:blipFill>
        <p:spPr>
          <a:xfrm>
            <a:off x="6429240" y="2357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CA3-5F15-4409-BE00-13F1295AFD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m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chtsgevoel van mensen wordt aangeta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le verontwaardig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vinden het oneerlijk/onrechtvaardig als men zich niet aan de wet houd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vertrouwen (in bvb de overhei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vervaging, normen en waarden verand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litie"/>
          <p:cNvPicPr/>
          <p:nvPr/>
        </p:nvPicPr>
        <p:blipFill>
          <a:blip r:embed="rId1"/>
          <a:stretch/>
        </p:blipFill>
        <p:spPr>
          <a:xfrm>
            <a:off x="716436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4B93-EA59-40E7-92B7-DD5866507A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8CA8-B936-48FD-A164-9185251224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93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C4A3-80AD-49C8-B2CB-AEAC49C7BE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7286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3E53-E50A-4616-94FD-0913DCC6A6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00120" y="1785960"/>
            <a:ext cx="72392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AE74-0670-4D5A-B536-BDFF4B4269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politie"/>
          <p:cNvPicPr/>
          <p:nvPr/>
        </p:nvPicPr>
        <p:blipFill>
          <a:blip r:embed="rId1"/>
          <a:stretch/>
        </p:blipFill>
        <p:spPr>
          <a:xfrm>
            <a:off x="7905600" y="57168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82520" y="1928880"/>
            <a:ext cx="896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DEA7-3DE1-4C7A-B720-F59661BE1A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17360" y="1785960"/>
            <a:ext cx="9026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3E46-15E6-478A-909E-B684F91A02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487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2B26-0D58-4FC7-B1A0-788351150C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36F7-1F67-45F1-8A28-FE98D8D469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500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981000"/>
            <a:ext cx="8497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verjaringstermijn is de periode waarna de verdachte in een strafzaak niet meer kunt worden vervolg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termijn van verjaring hangt af van het soort strafbaar feit dat u heeft gepleeg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tredingen: na 3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ldboete, hechtenis, of gevangenisstraf van 3 jaar of minder kan worden opgelegd: na 6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tijdelijke gevangenisstraf van meer dan 3 jaar kan worden opgelegd: na 12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vangenisstraf van meer dan 10 jaar kan worden opgelegd: na 20 ja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verjaring bij levenslange gevangenis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1514-00D0-43B2-93C0-7B4AE744B2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0EA6-6F0F-472D-A13D-1E530302E8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42920" y="1500120"/>
            <a:ext cx="9001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F1BD-8D6A-4752-961E-32F51D8438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B81D-DB5A-47C7-9BC0-CC590A29FC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politie"/>
          <p:cNvPicPr/>
          <p:nvPr/>
        </p:nvPicPr>
        <p:blipFill>
          <a:blip r:embed="rId1"/>
          <a:stretch/>
        </p:blipFill>
        <p:spPr>
          <a:xfrm>
            <a:off x="7286760" y="642960"/>
            <a:ext cx="149364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398E-E448-40D5-AE2F-DFA59227B8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8DE9-CC40-4A88-AB9B-A8727B5DF5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1332000" y="3141720"/>
          <a:ext cx="604836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6048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CDFF-C8D9-4562-9452-46E5D5EEF1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95200" y="500040"/>
            <a:ext cx="884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E3F1-F361-429F-94F4-6DCECC97EF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88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D7D-A5C9-4DC4-86D6-BA063DC00A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89AE-8291-4EF6-9207-B595810F8F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55D1-0B57-4827-A725-A01FB2365C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3A09-5EFF-4E7B-B6D5-5D0CC8E400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BC4-18BC-4FD5-8201-84D03DC540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99F8-9DCB-473C-888F-001F52892F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071-3117-4798-99C9-0CD4EAA9EC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84DA-4074-4052-97B6-115DC79147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F44E-A23D-41DA-A237-AD705435F8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4360" y="2060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929-3CAF-4F63-9DD0-1D9538A5C1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FD7D-F5F8-495F-B534-F573E3A0B1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1252-EFF6-4F26-9E92-CE00299A54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British_police"/>
          <p:cNvPicPr/>
          <p:nvPr/>
        </p:nvPicPr>
        <p:blipFill>
          <a:blip r:embed="rId1"/>
          <a:stretch/>
        </p:blipFill>
        <p:spPr>
          <a:xfrm>
            <a:off x="7500960" y="4287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68360" y="28526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f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el 1"/>
          <p:cNvSpPr/>
          <p:nvPr/>
        </p:nvSpPr>
        <p:spPr>
          <a:xfrm>
            <a:off x="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778-51DE-483B-B58E-6C57DAEA74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93C0-A807-4A19-AEF2-C2DB8DCDBE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59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97E6-4DC0-44A3-9CD3-006DF28180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pressie/ repressieve maatregelen: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nada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isdrijven zijn gepleegd, actie onder nemen (straffen, opsporen).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chte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reventie/ preventieve maatregelen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te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at criminaliteit gebeur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7B8D-E915-441E-A39F-DF0D8ED4CF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olitie"/>
          <p:cNvPicPr/>
          <p:nvPr/>
        </p:nvPicPr>
        <p:blipFill>
          <a:blip r:embed="rId1"/>
          <a:stretch/>
        </p:blipFill>
        <p:spPr>
          <a:xfrm>
            <a:off x="7086600" y="3789360"/>
            <a:ext cx="181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569-DECB-4091-B96A-D4E62ED143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5243-1CB1-48BA-8695-634C074182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psporingsbelei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opsporen van criminal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vormen verdienen aanda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id om pakkans te verh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anier waarop overheid misdrijven wil be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Bvb snelrecht/ lik-op-stuk beleid (zelfde dag opgepak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oor de rech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EBB1-A618-401F-9C12-A84A1D5FD0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politie"/>
          <p:cNvPicPr/>
          <p:nvPr/>
        </p:nvPicPr>
        <p:blipFill>
          <a:blip r:embed="rId1"/>
          <a:stretch/>
        </p:blipFill>
        <p:spPr>
          <a:xfrm>
            <a:off x="7093080" y="191628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elvoorkomendecriminaliteit: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isdrijven die relatief vaak voorkomen: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winkeldiefstal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zakkenrollen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oetbal vandalisme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vernieli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orden bestraft met taakstraf en geldboe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eer met preventieve maatregelen aanpak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Zware criminaliteit: 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erkrachting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1D69-AADE-4E36-84A6-D82FD24286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rborgen criminaliteit:</a:t>
            </a:r>
            <a:br>
              <a:rPr sz="21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belastingfraude       - onterechte uitkering</a:t>
            </a:r>
            <a:br>
              <a:rPr sz="17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internetcriminalite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Wordt extra onder de loep genom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eorganiseerde misda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rouwenhandel   - Ontvoeri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rnografie          - H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Fraude                  - gokk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aak internationale ben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Bestreden door streng optr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Meer politieagenten, gevangeniscell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litie en justitie mogen telefoons en computers afluiste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chters geven hogere straff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8FDE-79B2-427E-B4BC-99D008ADE9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52040" indent="-322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2040" indent="-3222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terreurbestrij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anslagen (denk aan New-York, London, Madr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trengere controles op vliegve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Niet alleen daders strafbaar </a:t>
            </a:r>
            <a:r>
              <a:rPr b="0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ok als jee van plan bent of lid terroristische gro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Zelfs als je het toejuicht kan je voor de rechter ko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olitie arresteert al, als je, je verdacht gedraag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Dit is: verruiming van de bevoegdhe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49DE-A058-4247-87AC-B12A207E37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politie"/>
          <p:cNvPicPr/>
          <p:nvPr/>
        </p:nvPicPr>
        <p:blipFill>
          <a:blip r:embed="rId1"/>
          <a:stretch/>
        </p:blipFill>
        <p:spPr>
          <a:xfrm>
            <a:off x="7451640" y="1125360"/>
            <a:ext cx="1333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3. 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cellen bouwen bij cellen tek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dan 1 gevange per 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verschot: gevangenis ‘verhuren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4. 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boeken aanp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effectief zijn (moet werken, effect oplev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wenselijk zijn (samenleving moet accept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t het bij de normen en waarden van de samenl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5C1-6819-466E-98BE-80EEAC74CA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5. 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Criminaliteit voorkomen (h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6. 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criminaliteit terugdr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toezicht, meer cont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werkprojecten/ taak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aandacht voor onderwijs: niet spijbelen, schooluit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3247-2B29-476F-9D00-E66677C848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inks/socialis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maatschappelijke aspe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v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 banenplannen voor jongeren/ wijkagenten in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risten democra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belang gezin, school &amp; 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uders en leraren moeten kinderen respect/eerbied bij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chts/Liberal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repressieve aanpak: zwaarder str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bevoegdheden voor politie en justi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in strijd met burgerre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9BD3-E5A3-421E-ABFD-35449E020E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politie"/>
          <p:cNvPicPr/>
          <p:nvPr/>
        </p:nvPicPr>
        <p:blipFill>
          <a:blip r:embed="rId1"/>
          <a:stretch/>
        </p:blipFill>
        <p:spPr>
          <a:xfrm>
            <a:off x="7667640" y="1197000"/>
            <a:ext cx="917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24BA-F324-4C36-96EC-63538D4157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EE27-D9CC-4E49-9847-0A6DD0EB5C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al 5"/>
          <p:cNvSpPr/>
          <p:nvPr/>
        </p:nvSpPr>
        <p:spPr>
          <a:xfrm>
            <a:off x="395280" y="2349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al 6"/>
          <p:cNvSpPr/>
          <p:nvPr/>
        </p:nvSpPr>
        <p:spPr>
          <a:xfrm>
            <a:off x="826920" y="450864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al 7"/>
          <p:cNvSpPr/>
          <p:nvPr/>
        </p:nvSpPr>
        <p:spPr>
          <a:xfrm>
            <a:off x="5867280" y="24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al 8"/>
          <p:cNvSpPr/>
          <p:nvPr/>
        </p:nvSpPr>
        <p:spPr>
          <a:xfrm>
            <a:off x="5651640" y="42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vak 9"/>
          <p:cNvSpPr/>
          <p:nvPr/>
        </p:nvSpPr>
        <p:spPr>
          <a:xfrm>
            <a:off x="755640" y="2565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11"/>
          <p:cNvSpPr/>
          <p:nvPr/>
        </p:nvSpPr>
        <p:spPr>
          <a:xfrm>
            <a:off x="6156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12"/>
          <p:cNvSpPr/>
          <p:nvPr/>
        </p:nvSpPr>
        <p:spPr>
          <a:xfrm>
            <a:off x="133200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13"/>
          <p:cNvSpPr/>
          <p:nvPr/>
        </p:nvSpPr>
        <p:spPr>
          <a:xfrm>
            <a:off x="637236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Gelijkbenige driehoek 14"/>
          <p:cNvSpPr/>
          <p:nvPr/>
        </p:nvSpPr>
        <p:spPr>
          <a:xfrm>
            <a:off x="3564000" y="2349360"/>
            <a:ext cx="223200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15"/>
          <p:cNvSpPr/>
          <p:nvPr/>
        </p:nvSpPr>
        <p:spPr>
          <a:xfrm>
            <a:off x="3851280" y="342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entie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U-vormige pijl 16"/>
          <p:cNvSpPr/>
          <p:nvPr/>
        </p:nvSpPr>
        <p:spPr>
          <a:xfrm>
            <a:off x="5076720" y="2060640"/>
            <a:ext cx="885960" cy="877680"/>
          </a:xfrm>
          <a:custGeom>
            <a:avLst/>
            <a:gdLst/>
            <a:ahLst/>
            <a:rect l="l" t="t" r="r" b="b"/>
            <a:pathLst>
              <a:path w="885825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3" y="0"/>
                </a:lnTo>
                <a:lnTo>
                  <a:pt x="392013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6"/>
                </a:lnTo>
                <a:lnTo>
                  <a:pt x="446881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-vormige pijl 17"/>
          <p:cNvSpPr/>
          <p:nvPr/>
        </p:nvSpPr>
        <p:spPr>
          <a:xfrm rot="7020600">
            <a:off x="3528720" y="4474800"/>
            <a:ext cx="887400" cy="87804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lnTo>
                  <a:pt x="558205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U-vormige pijl 18"/>
          <p:cNvSpPr/>
          <p:nvPr/>
        </p:nvSpPr>
        <p:spPr>
          <a:xfrm rot="16389000">
            <a:off x="4807440" y="4248720"/>
            <a:ext cx="885600" cy="877680"/>
          </a:xfrm>
          <a:custGeom>
            <a:avLst/>
            <a:gdLst/>
            <a:ahLst/>
            <a:rect l="l" t="t" r="r" b="b"/>
            <a:pathLst>
              <a:path w="885825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4" y="0"/>
                </a:lnTo>
                <a:lnTo>
                  <a:pt x="392014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5"/>
                </a:lnTo>
                <a:lnTo>
                  <a:pt x="446882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U-vormige pijl 19"/>
          <p:cNvSpPr/>
          <p:nvPr/>
        </p:nvSpPr>
        <p:spPr>
          <a:xfrm rot="13525200">
            <a:off x="3058560" y="242064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8650"/>
                </a:lnTo>
                <a:lnTo>
                  <a:pt x="0" y="388650"/>
                </a:lnTo>
                <a:arcTo wR="388650" hR="388650" stAng="10800000" swAng="5400009"/>
                <a:lnTo>
                  <a:pt x="389027" y="0"/>
                </a:lnTo>
                <a:lnTo>
                  <a:pt x="389027" y="0"/>
                </a:lnTo>
                <a:arcTo wR="388650" hR="388650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8650"/>
                </a:lnTo>
                <a:lnTo>
                  <a:pt x="558205" y="388650"/>
                </a:lnTo>
                <a:arcTo wR="169178" hR="169178" stAng="0" swAng="-5400000"/>
                <a:lnTo>
                  <a:pt x="388650" y="219472"/>
                </a:lnTo>
                <a:lnTo>
                  <a:pt x="388650" y="219472"/>
                </a:lnTo>
                <a:arcTo wR="169178" hR="169178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A4FD-6A70-49E2-8B04-E1BA49FDB1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2349000"/>
            <a:ext cx="82296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goede huis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b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lichting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erbeteren: antispijbelbe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ders erbij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7B4A-CBC7-4841-8AC9-A4C75074A3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urgemeester toestemming vragen om preventief te fouil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meester kan voetbalwedstrijd verb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 raad kan iets strafbar stellen (blowverb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C9B4-5EE8-41D9-B053-A659FDA10E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aten industriebedrijf: riskant terrei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larminstalla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boven bedrijf w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kingsdienst inh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winkeldief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chnische maatregelen (camera’s, spiegels, diefstal poortj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personeel in de win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bedrijven: geen geld voor diefstal preven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pijbelbeleid (samenwerken met politie/geme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BE1D-F70B-41AA-AA7D-379B125758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al 5"/>
          <p:cNvSpPr/>
          <p:nvPr/>
        </p:nvSpPr>
        <p:spPr>
          <a:xfrm>
            <a:off x="0" y="907920"/>
            <a:ext cx="266400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468360" y="10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ken op elkaar letten: social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ieronden burgerw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verantwoordelijk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stelen van je eigen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baas:) zorgen voor goede sfeer om ste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6FED-A372-4C41-AE33-2AD251CE6F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kstvak 9"/>
          <p:cNvSpPr/>
          <p:nvPr/>
        </p:nvSpPr>
        <p:spPr>
          <a:xfrm>
            <a:off x="468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sociale contr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ond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dsw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akingsdiensten winkel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mera’s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olitie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516B-4C9B-4A6D-8128-51E5B41496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21337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eteren woonom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uizen leeg laten staan. Ziet het er netjes uit wordt er minder vern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chnische maatregelen: afsluiten trappenhuis en galerij, verbeteren van sl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voorzieningen voor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A7F1-0912-4BBB-A1E0-BEA3646D47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9640" y="184464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lt-bu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LT: Het ALTern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: direct herstellen OF rechtzaa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ngeren tot 18 jaar (bijna de helft van de delictpl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straf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daders af te schr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één OvJ of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us geen strafb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él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trafblad/ uitreksel justitiële docu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9F82-F9B5-426C-8CD6-431ED3BFDD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99E3-335C-4F95-B35D-39CCF8B7CB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3933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voor wetboeken zijn 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v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 economische del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pium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247C-5D46-4254-93B5-BBDE29CA08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72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33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349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49200" y="773280"/>
            <a:ext cx="63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162920" y="62064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3:46:09Z</dcterms:modified>
  <cp:revision>152</cp:revision>
  <dc:subject/>
  <dc:title>Dia 1</dc:title>
</cp:coreProperties>
</file>