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19.jpeg" ContentType="image/jpeg"/>
  <Override PartName="/ppt/media/image21.jpeg" ContentType="image/jpeg"/>
  <Override PartName="/ppt/media/image29.png" ContentType="image/png"/>
  <Override PartName="/ppt/media/image18.gif" ContentType="image/gif"/>
  <Override PartName="/ppt/media/image53.png" ContentType="image/png"/>
  <Override PartName="/ppt/media/image17.png" ContentType="image/png"/>
  <Override PartName="/ppt/media/image24.gif" ContentType="image/gif"/>
  <Override PartName="/ppt/media/image16.png" ContentType="image/png"/>
  <Override PartName="/ppt/media/image23.gif" ContentType="image/gif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54.gif" ContentType="image/gif"/>
  <Override PartName="/ppt/media/image5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41.png" ContentType="image/png"/>
  <Override PartName="/ppt/media/image42.png" ContentType="image/png"/>
  <Override PartName="/ppt/media/image46.png" ContentType="image/png"/>
  <Override PartName="/ppt/media/image47.gif" ContentType="image/gif"/>
  <Override PartName="/ppt/media/image52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5.png" ContentType="image/png"/>
  <Override PartName="/ppt/media/image57.png" ContentType="image/png"/>
  <Override PartName="/ppt/media/image40.png" ContentType="image/png"/>
  <Override PartName="/ppt/media/image35.gif" ContentType="image/gif"/>
  <Override PartName="/ppt/media/image32.png" ContentType="image/png"/>
  <Override PartName="/ppt/media/image31.png" ContentType="image/png"/>
  <Override PartName="/ppt/media/image30.png" ContentType="image/png"/>
  <Override PartName="/ppt/media/image38.png" ContentType="image/png"/>
  <Override PartName="/ppt/media/image8.png" ContentType="image/png"/>
  <Override PartName="/ppt/media/image28.gif" ContentType="image/gif"/>
  <Override PartName="/ppt/media/image4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37.png" ContentType="image/png"/>
  <Override PartName="/ppt/media/image22.jpeg" ContentType="image/jpeg"/>
  <Override PartName="/ppt/media/image39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A2A0-86B1-403A-9AE6-FEEC407E8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D652-98AE-449D-848E-9014EC10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8CD5-1FD4-42A5-9ACA-A8555433E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1EEE-D6A7-41FE-9049-338DAFED9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E01A-33FC-426B-8D09-69355D40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C4EF-B698-482A-A449-9794F699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2307-5F9B-4829-B61B-EF756C3B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3B36-9801-40F5-9D5A-37A25036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3FA2-C386-4AB1-833D-33004246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18FB-C40A-4A1A-B3E5-BB3B5ED0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A9B0-3C3A-4FF0-960B-295B9C80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8016-6C85-45D4-9DFF-D21F64A8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C750-7007-4EE8-B4E5-7AF1EF0DB30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taylorssolicitors.com/home.htm" TargetMode="External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taylorssolicitors.com/home.htm" TargetMode="External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F134-18A8-4A86-B3D8-2F9055313C1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750960" y="285840"/>
            <a:ext cx="735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Criminaliteit en rechtsstaat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7" descr="GIF_boef"/>
          <p:cNvPicPr/>
          <p:nvPr/>
        </p:nvPicPr>
        <p:blipFill>
          <a:blip r:embed="rId1"/>
          <a:stretch/>
        </p:blipFill>
        <p:spPr>
          <a:xfrm>
            <a:off x="2571840" y="3357720"/>
            <a:ext cx="2636640" cy="2452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5712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xamenkater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tschappijleer 2 VMBO K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5280" y="98100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etboek van strafre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(materieel strafrecht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belangrijkste wetten in Nederland staan hier in (buiten de grondwet d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 de strafbare feiten zijn en welke straffen ervoor kunnen uitgesproken wo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afbare feiten omschre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als: moord, diefstal, oplichting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etboek van strafvordering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formeel strafrecht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paalt hoe strafbare feiten vervolgd wo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handelt de hele procedure van aanhouding t/m de strafoplegging door de rechter.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ze twee wetboeken vormen de basis van het Nederlandse strafre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859A-C83E-4D89-9ACA-6E7AE3FC433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uropees verdrag tot bescherming van de rechten van de mens (EV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rechtsregels binnen de E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66FE-DF67-4FDD-848B-BE6B92EB35C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http://www.sdu.nl/Lists/Productlist/Attachments/5971/full_EVRMHW.jpg"/>
          <p:cNvPicPr/>
          <p:nvPr/>
        </p:nvPicPr>
        <p:blipFill>
          <a:blip r:embed="rId1"/>
          <a:stretch/>
        </p:blipFill>
        <p:spPr>
          <a:xfrm>
            <a:off x="2987640" y="3429000"/>
            <a:ext cx="216072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0560" y="134136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riminaliteit 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tijdgebonden: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roeger was vreemdgaan strafbaar: sinds 1970 niet me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Godslastering strafbaar: nu niet m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Hacken is nu WEL strafbaar, bestond vroeger ni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plaatsgebonden: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Regels verschillen per land en cultu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Nl: Euthanasie en abortus mag </a:t>
            </a:r>
            <a:r>
              <a:rPr b="0" lang="nl-N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in veel landen verbod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 VS bijna iedereen een wapen </a:t>
            </a:r>
            <a:r>
              <a:rPr b="0" lang="nl-N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hier verbod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242C-21B4-4DA5-A246-26DCFBFC814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Kenmerken van een </a:t>
            </a: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rechtsstaat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Burgerrechten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: overheid moet zich aan de wet houden; burgers hebben rech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Grondrechten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: staan in de grondwet. De overheid mag geen wetten maken tégen de grondwet i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Overheid zorgt voor rechtsha</a:t>
            </a: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having én </a:t>
            </a: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rechtsbescherm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Parlementaire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democratie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: heeft altijd democratisch gekozen par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Scheiding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van machten: triaspolit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Onafhankelijke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rechtspraak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: rechter opereert onafhankelijk van de overhei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D764-D9F6-4047-AC4B-B273815DEC8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48572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echtsstaat: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en land waarin bewoners en overheid rechten hebben en waar deze rechten zijn vastgelegd in wetten. Burgers worden beschermd tegen machtsmisbruik en willkeur van de overhe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Triaspolitica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machtenscheid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oor deze taakverdeling voorkomen we machtsmisbruik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Hierdoor heeft dus nooit één groep alle mach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etgevendmacht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Uitvoerendemacht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chterlijkemac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116000" y="54936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24000" y="5254560"/>
            <a:ext cx="1944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e en 2e kamer beslissen over de wetsvoorstell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059280" y="5183280"/>
            <a:ext cx="2233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isters (en ambtenaren zoals de politie) voeren de wet ui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6227640" y="5195880"/>
            <a:ext cx="2232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rechters oordelen in specifieke situaties of er volgens de wet is gehandeld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4356000" y="3573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611280" y="364500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urgerrecht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chermt worden tegen de overhei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chtszeker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weten wat je te wachten staat na het plegen van een del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chtsgelijk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niet anders behandelt worden dan and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76379-3572-49E7-8413-65626D491A5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http://www.army-chaplaincy.be/images/assets/extracts/def1142004061/Aantasting%20burgerrechten.jpg"/>
          <p:cNvPicPr/>
          <p:nvPr/>
        </p:nvPicPr>
        <p:blipFill>
          <a:blip r:embed="rId1"/>
          <a:stretch/>
        </p:blipFill>
        <p:spPr>
          <a:xfrm>
            <a:off x="3564000" y="4221000"/>
            <a:ext cx="29178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chtshandha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ndhaven van de rechtso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vb: staand houden als je zonder licht rijd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spreken bij wildpla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brekers arrest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chts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ke verdachte heeft re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delijk vermoeden van schu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antwoorden op vr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653A-9181-4D2A-97C0-B30DF30219E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2: Criminaliteit, een proble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Strafbaar gedrag: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at je wetregels overtreed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Criminaliteit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: alle misdrijven die in de wet sta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misdrijf: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overtred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nieling, diefstal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rijden zonder licht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braak, verkrachting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or rood rij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rafblad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geen strafbl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ngenis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hechten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deplichtig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niet medeplicht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waardere straf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minder zware stra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rimineel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overtreder/ of ni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765A-7123-481F-9745-21702B8FB4B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3" descr="stopPolitie"/>
          <p:cNvPicPr/>
          <p:nvPr/>
        </p:nvPicPr>
        <p:blipFill>
          <a:blip r:embed="rId1"/>
          <a:stretch/>
        </p:blipFill>
        <p:spPr>
          <a:xfrm>
            <a:off x="7559640" y="1214280"/>
            <a:ext cx="158436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4712-616A-426D-945D-A13FA974243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2: Criminaliteit, een proble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357120" y="1571760"/>
            <a:ext cx="806472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Materiele schade: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Criminaliteit kost miljarden euro’s per jaa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tv die uit je huis gehaald i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fiets die gejat i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estrijding fraude ed kost veel gel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edrijven rekenen schade die ze lijden vaak door in de prijzen van hun produc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verheid en bedrijven lijden financiele schad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politie"/>
          <p:cNvPicPr/>
          <p:nvPr/>
        </p:nvPicPr>
        <p:blipFill>
          <a:blip r:embed="rId1"/>
          <a:stretch/>
        </p:blipFill>
        <p:spPr>
          <a:xfrm>
            <a:off x="6429240" y="2357280"/>
            <a:ext cx="215928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D189-3EBC-4F5E-9296-5E3CA6F9EBD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2: Criminaliteit, een proble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57120" y="1571760"/>
            <a:ext cx="806472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Immateriele schade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lapeloze nachten omdat er ooit is ingebrok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ang zijn op straat, wegens een overva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chtsgevoel van mensen wordt aangetas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rele verontwaardig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sen vinden het oneerlijk/onrechtvaardig als men zich niet aan de wet houd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lies van vertrouwen (in bvb de overheid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rmvervaging, normen en waarden verander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politie"/>
          <p:cNvPicPr/>
          <p:nvPr/>
        </p:nvPicPr>
        <p:blipFill>
          <a:blip r:embed="rId1"/>
          <a:stretch/>
        </p:blipFill>
        <p:spPr>
          <a:xfrm>
            <a:off x="7164360" y="2276640"/>
            <a:ext cx="21589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1388-96F9-4674-8F6E-057C936C019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0" y="1989000"/>
            <a:ext cx="4032360" cy="2232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2"/>
          <a:stretch/>
        </p:blipFill>
        <p:spPr>
          <a:xfrm>
            <a:off x="4356000" y="1989000"/>
            <a:ext cx="4156200" cy="2232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3"/>
          <a:stretch/>
        </p:blipFill>
        <p:spPr>
          <a:xfrm>
            <a:off x="0" y="4637160"/>
            <a:ext cx="4140360" cy="736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"/>
          <p:cNvPicPr/>
          <p:nvPr/>
        </p:nvPicPr>
        <p:blipFill>
          <a:blip r:embed="rId4"/>
          <a:srcRect l="1705" t="0" r="5168" b="0"/>
          <a:stretch/>
        </p:blipFill>
        <p:spPr>
          <a:xfrm>
            <a:off x="4427640" y="4653000"/>
            <a:ext cx="3960720" cy="565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us van Pieter                              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ron: rechtvoorjou.n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3: Ons beeld van 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84A8-F8AC-45B5-9D01-7A958A9C3FB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214200" y="1571760"/>
            <a:ext cx="879336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3: Ons beeld van 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CB8D-890B-4C17-B4B0-078C1A66ABB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642960" y="1143000"/>
            <a:ext cx="72867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1879-4F33-43CB-9D94-0E2336C1230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4: Oorzaken van 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500120" y="1785960"/>
            <a:ext cx="72392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kenmerken van een crimineel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: uiterlijk,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: Lagere maatschappelijke positi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: - vaker door mannen dan door vrouw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slechte opvoeding leidt vaker tot crimineel gedra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roepsgedrag: als je vrienden het doen..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Spijbelaars/zonder diplom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" descr="politie"/>
          <p:cNvPicPr/>
          <p:nvPr/>
        </p:nvPicPr>
        <p:blipFill>
          <a:blip r:embed="rId1"/>
          <a:stretch/>
        </p:blipFill>
        <p:spPr>
          <a:xfrm>
            <a:off x="395280" y="3933720"/>
            <a:ext cx="151920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9ED4-C336-4984-A012-D015E1AA5E5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4: Oorzaken van 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7" descr="politie"/>
          <p:cNvPicPr/>
          <p:nvPr/>
        </p:nvPicPr>
        <p:blipFill>
          <a:blip r:embed="rId1"/>
          <a:stretch/>
        </p:blipFill>
        <p:spPr>
          <a:xfrm>
            <a:off x="7905600" y="571680"/>
            <a:ext cx="1238400" cy="1190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"/>
          <p:cNvPicPr/>
          <p:nvPr/>
        </p:nvPicPr>
        <p:blipFill>
          <a:blip r:embed="rId2"/>
          <a:stretch/>
        </p:blipFill>
        <p:spPr>
          <a:xfrm>
            <a:off x="182520" y="1928880"/>
            <a:ext cx="896148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766A-16AF-4FAA-83C4-FEB1074A171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4: Oorzaken van 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7" descr="politie"/>
          <p:cNvPicPr/>
          <p:nvPr/>
        </p:nvPicPr>
        <p:blipFill>
          <a:blip r:embed="rId1"/>
          <a:stretch/>
        </p:blipFill>
        <p:spPr>
          <a:xfrm>
            <a:off x="7905600" y="642960"/>
            <a:ext cx="1238400" cy="1190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117360" y="1785960"/>
            <a:ext cx="90266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C826D-C4C3-4CD1-85D7-36AF9D4DFA8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4: Oorzaken van 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7" descr="politie"/>
          <p:cNvPicPr/>
          <p:nvPr/>
        </p:nvPicPr>
        <p:blipFill>
          <a:blip r:embed="rId1"/>
          <a:stretch/>
        </p:blipFill>
        <p:spPr>
          <a:xfrm>
            <a:off x="7905600" y="642960"/>
            <a:ext cx="1238400" cy="1190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714240" y="1357200"/>
            <a:ext cx="7848720" cy="49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FAF6-4BD5-464C-B8D5-09D79377B74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4: Oorzaken van 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50920" y="1916280"/>
            <a:ext cx="65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Maatschappelijke oorzak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826920" y="3645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In een grote stad gebeurd het vake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900000" y="2637000"/>
            <a:ext cx="633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Sociale controle is minder geword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(pakkans is daardoor kleiner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826920" y="227664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Normen en waarden zijn minder stre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395280" y="4724280"/>
            <a:ext cx="82803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Bindingstheorie van Hirschi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Criminaliteit een combinatie van individuele en maatschappelijke oorzaken. Niemand is alleen meer goed, iedereen kan misdadiger zijn. Ligt aan de bindingen die je hebt: vrienden, band met familie, werk etc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826920" y="407664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Alcohol en drugs gebruik toegenomen!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7" descr="politie"/>
          <p:cNvPicPr/>
          <p:nvPr/>
        </p:nvPicPr>
        <p:blipFill>
          <a:blip r:embed="rId1"/>
          <a:stretch/>
        </p:blipFill>
        <p:spPr>
          <a:xfrm>
            <a:off x="6732720" y="1557360"/>
            <a:ext cx="123804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5: Het strafre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0AC3-09FC-4BF0-A0DF-14D64A1292D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1071720" y="1500120"/>
            <a:ext cx="750096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5: Het strafre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94920" y="981000"/>
            <a:ext cx="84978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verjaringstermijn is de periode waarna de verdachte in een strafzaak niet meer kunt worden vervolg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termijn van verjaring hangt af van het soort strafbaar feit dat u heeft gepleeg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vertredingen: na 3 jaar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isdrijven waarvoor een geldboete, hechtenis, of gevangenisstraf van 3 jaar of minder kan worden opgelegd: na 6 jaar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isdrijven waarvoor een tijdelijke gevangenisstraf van meer dan 3 jaar kan worden opgelegd: na 12 jaar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isdrijven waarvoor een gevangenisstraf van meer dan 10 jaar kan worden opgelegd: na 20 jaa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verjaring bij levenslange gevangenisstra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E11D-CDFA-4248-B97A-D9528EF770F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5: Het strafre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9625-D618-410C-AA14-0671314A232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142920" y="1500120"/>
            <a:ext cx="900108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0252-7ACB-41D0-BFCC-12EBE58AD3B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4032360" cy="2374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4788000" y="2060640"/>
            <a:ext cx="4103640" cy="2376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FF66-5EB0-4537-88F0-4CEC7F31EBB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6: Van politie naar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24000" y="2349360"/>
            <a:ext cx="8496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ieter is nu de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rdachte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politie denkt dat je iets strafbaars hebt gedaan. Een redelijk vermoeden van schuld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politie kan een aantal dingen doen om een zaak op te loss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900000" y="4365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Fouilleren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je kleding en lichaam wordt onderzoch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826920" y="4797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Arresteren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je moet mee naar het politiebureau voor verhoor. (je kan een paar dagen worden vastgehouden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900000" y="558972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Huis doorzoeken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zoeken naar bewijsmateriaal. Huiszoekingsbevel nodig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4" descr="politie"/>
          <p:cNvPicPr/>
          <p:nvPr/>
        </p:nvPicPr>
        <p:blipFill>
          <a:blip r:embed="rId1"/>
          <a:stretch/>
        </p:blipFill>
        <p:spPr>
          <a:xfrm>
            <a:off x="7286760" y="642960"/>
            <a:ext cx="1493640" cy="1871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C6CE-1C8F-41B8-83A8-68672044FC3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6: Van politie naar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324000" y="191628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3 keuzes:</a:t>
            </a:r>
            <a:r>
              <a:rPr b="0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539640" y="4581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rvolgen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Je moet WEL  naar de rechter. De rechter zal beslissen of je schuldig of onschuldig bent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539640" y="3860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Schikking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je hoeft niet naar de rechter. Je kan een boete betalen of iets dergelijks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1042920" y="5373720"/>
            <a:ext cx="7488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Vrijspraak: </a:t>
            </a: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als de rechter bij vervolging beslist dat je onschuldig bent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Schuldig: </a:t>
            </a: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als de rechter bij vervolging beslist dat er genoeg bewijs tegen je is, ben je schuldig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Object 9"/>
          <p:cNvGraphicFramePr/>
          <p:nvPr/>
        </p:nvGraphicFramePr>
        <p:xfrm>
          <a:off x="6286680" y="1285920"/>
          <a:ext cx="2577960" cy="142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6680" y="1285920"/>
                    <a:ext cx="257796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Text Box 11"/>
          <p:cNvSpPr/>
          <p:nvPr/>
        </p:nvSpPr>
        <p:spPr>
          <a:xfrm>
            <a:off x="611280" y="27082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Seponeren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vJ onderneemt geen stappen.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Je hoeft niet naar de rechter. Vaak door onvoldoende bewijs, of als je al ‘genoeg gestraft’ bent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EFAA-4A07-41EE-BFFC-177D31935AB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6: Van politie naar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Object 12"/>
          <p:cNvGraphicFramePr/>
          <p:nvPr/>
        </p:nvGraphicFramePr>
        <p:xfrm>
          <a:off x="1332000" y="3141720"/>
          <a:ext cx="6048360" cy="267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3141720"/>
                    <a:ext cx="604836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6624-8685-4C6B-BA10-DF6F7418BCC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295200" y="500040"/>
            <a:ext cx="884880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6: Van politie naar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6DE2-8B7C-40DC-91CB-4DF406E346F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6" descr=""/>
          <p:cNvPicPr/>
          <p:nvPr/>
        </p:nvPicPr>
        <p:blipFill>
          <a:blip r:embed="rId1"/>
          <a:stretch/>
        </p:blipFill>
        <p:spPr>
          <a:xfrm>
            <a:off x="785880" y="1143000"/>
            <a:ext cx="778824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6: Van politie naar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350C-05C1-4072-B5BB-43B75420AEE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285840" y="1643040"/>
            <a:ext cx="86295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526F7-E54E-43D4-8A5F-5F8FA1914DC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1549440" y="-24336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9280" y="40428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2" descr="rechtbank"/>
          <p:cNvPicPr/>
          <p:nvPr/>
        </p:nvPicPr>
        <p:blipFill>
          <a:blip r:embed="rId1"/>
          <a:srcRect l="0" t="0" r="0" b="32627"/>
          <a:stretch/>
        </p:blipFill>
        <p:spPr>
          <a:xfrm>
            <a:off x="1979640" y="1916280"/>
            <a:ext cx="4802040" cy="4941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3"/>
          <p:cNvSpPr/>
          <p:nvPr/>
        </p:nvSpPr>
        <p:spPr>
          <a:xfrm>
            <a:off x="250920" y="2205000"/>
            <a:ext cx="1728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Officier van justitie: </a:t>
            </a:r>
            <a:br>
              <a:rPr sz="1600"/>
            </a:b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wil bewijzen dat de verdachte schuldig i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6877080" y="4653000"/>
            <a:ext cx="17287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Advocaat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verdedigt de verdachte.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5"/>
          <p:cNvSpPr/>
          <p:nvPr/>
        </p:nvSpPr>
        <p:spPr>
          <a:xfrm>
            <a:off x="6877080" y="3284640"/>
            <a:ext cx="22669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Verdachte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de persoon die verdacht wordt van een misdrijf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6877080" y="1916280"/>
            <a:ext cx="17287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Griffier: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Noteert alles wat er gezegd wordt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7"/>
          <p:cNvSpPr/>
          <p:nvPr/>
        </p:nvSpPr>
        <p:spPr>
          <a:xfrm>
            <a:off x="2771640" y="981000"/>
            <a:ext cx="3961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Rechter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Beslist of de verdachte schuldig is en bepaalt de straf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8"/>
          <p:cNvSpPr/>
          <p:nvPr/>
        </p:nvSpPr>
        <p:spPr>
          <a:xfrm>
            <a:off x="2627280" y="1413000"/>
            <a:ext cx="360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9"/>
          <p:cNvSpPr/>
          <p:nvPr/>
        </p:nvSpPr>
        <p:spPr>
          <a:xfrm flipH="1">
            <a:off x="6659280" y="184464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0"/>
          <p:cNvSpPr/>
          <p:nvPr/>
        </p:nvSpPr>
        <p:spPr>
          <a:xfrm flipH="1">
            <a:off x="5292360" y="3284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1"/>
          <p:cNvSpPr/>
          <p:nvPr/>
        </p:nvSpPr>
        <p:spPr>
          <a:xfrm flipH="1" flipV="1">
            <a:off x="6443640" y="4221000"/>
            <a:ext cx="504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2"/>
          <p:cNvSpPr/>
          <p:nvPr/>
        </p:nvSpPr>
        <p:spPr>
          <a:xfrm>
            <a:off x="1403280" y="256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7ED9-5522-4362-AF20-000D9C623E0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3" descr="RECHTSPRAAK"/>
          <p:cNvPicPr/>
          <p:nvPr/>
        </p:nvPicPr>
        <p:blipFill>
          <a:blip r:embed="rId1"/>
          <a:stretch/>
        </p:blipFill>
        <p:spPr>
          <a:xfrm>
            <a:off x="1908000" y="2276640"/>
            <a:ext cx="5010480" cy="38098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E8D4-E663-48D6-B683-5835CD7B213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2857680" y="1143000"/>
            <a:ext cx="435744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C2D0-F707-4A98-AB6D-3DB3A67C488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24000" y="2205000"/>
            <a:ext cx="828036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ieter weet precies wat er gaat gebeur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rechter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controleert alle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persoonlijke gegevens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(naam, geboortedatum, adres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vJ leest de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aanklacht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voor. Daarin staat waarvan Pieter verdacht wordt en wanneer het is gebeurd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rechter, de OvJ en de advocaat gaan Pieter nu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ragen stellen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. Bvb of hij wel eens eerder met de politie te maken heeft geha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Een vriend is opgeroepen als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getuige.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Hij moet eerlijk vertellen wat er is gebeurd. Getuiges mogen niet liegen!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judge"/>
          <p:cNvPicPr/>
          <p:nvPr/>
        </p:nvPicPr>
        <p:blipFill>
          <a:blip r:embed="rId1"/>
          <a:stretch/>
        </p:blipFill>
        <p:spPr>
          <a:xfrm>
            <a:off x="6804000" y="907920"/>
            <a:ext cx="1857240" cy="16099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001D-F3E9-4716-84B9-23FB1C53A05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103640" cy="223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4716360" y="1989000"/>
            <a:ext cx="4102200" cy="2305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"/>
          <p:cNvPicPr/>
          <p:nvPr/>
        </p:nvPicPr>
        <p:blipFill>
          <a:blip r:embed="rId3"/>
          <a:stretch/>
        </p:blipFill>
        <p:spPr>
          <a:xfrm>
            <a:off x="324000" y="4653000"/>
            <a:ext cx="3816360" cy="1171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"/>
          <p:cNvPicPr/>
          <p:nvPr/>
        </p:nvPicPr>
        <p:blipFill>
          <a:blip r:embed="rId4"/>
          <a:stretch/>
        </p:blipFill>
        <p:spPr>
          <a:xfrm>
            <a:off x="4716360" y="4653000"/>
            <a:ext cx="4249800" cy="10126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2841-D08D-408B-88B2-AD849E9587A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0" y="2060640"/>
            <a:ext cx="828036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5. De OvJ legt uit waarom hij vindt dat Pieter 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schuldig is en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eist een straf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6. De advocaat neemt het dan op voor Pieter en vraagt om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strafverminder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7. Pieter mag als verdachte zelf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het laatste woord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hebben en spijt betuig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8. De rechter spreekt het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onnis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uit: Hij veroordeelt Pieter tot 2 maanden voorwaardelijke gevangenisstraf en 120 uur taakstraf.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oorwaardelijk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betekent dat Pieter voorlopig niet de gevangenis in hoeft, tenzij hij weer zoiets stoms doet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Enter Taylors Solicitors web pag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34440" y="620640"/>
            <a:ext cx="1609560" cy="1609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jail"/>
          <p:cNvPicPr/>
          <p:nvPr/>
        </p:nvPicPr>
        <p:blipFill>
          <a:blip r:embed="rId3"/>
          <a:stretch/>
        </p:blipFill>
        <p:spPr>
          <a:xfrm>
            <a:off x="324000" y="765000"/>
            <a:ext cx="1485720" cy="12384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A09F-65F9-4D48-948D-79C1B442C33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A3CC-56E9-446C-B779-971D5385D63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684360" y="2060640"/>
            <a:ext cx="8280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Taken van de officier van justitie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n uitvoeren van opgelegde vonniss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en dat veroordeelden hun straf uitzit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iding geven aan opsporingsonderzoek/ opsporingstaak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volgen van strafbare fei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de rechter brengen van verdach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klagen van verdacht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" descr="Enter Taylors Solicitors web pag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34440" y="620640"/>
            <a:ext cx="1609560" cy="16099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jail"/>
          <p:cNvPicPr/>
          <p:nvPr/>
        </p:nvPicPr>
        <p:blipFill>
          <a:blip r:embed="rId3"/>
          <a:stretch/>
        </p:blipFill>
        <p:spPr>
          <a:xfrm>
            <a:off x="324000" y="765000"/>
            <a:ext cx="148572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DE6A-DAE2-4C93-8333-D3615CD4370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judge"/>
          <p:cNvPicPr/>
          <p:nvPr/>
        </p:nvPicPr>
        <p:blipFill>
          <a:blip r:embed="rId1"/>
          <a:stretch/>
        </p:blipFill>
        <p:spPr>
          <a:xfrm>
            <a:off x="3429000" y="1428840"/>
            <a:ext cx="2730600" cy="2367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"/>
          <p:cNvPicPr/>
          <p:nvPr/>
        </p:nvPicPr>
        <p:blipFill>
          <a:blip r:embed="rId2"/>
          <a:stretch/>
        </p:blipFill>
        <p:spPr>
          <a:xfrm>
            <a:off x="285840" y="3857760"/>
            <a:ext cx="4352760" cy="25812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"/>
          <p:cNvPicPr/>
          <p:nvPr/>
        </p:nvPicPr>
        <p:blipFill>
          <a:blip r:embed="rId3"/>
          <a:stretch/>
        </p:blipFill>
        <p:spPr>
          <a:xfrm>
            <a:off x="5500800" y="3857760"/>
            <a:ext cx="340020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39261-1D97-4512-BAC1-2B81AFBB112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0" y="1946160"/>
            <a:ext cx="8064360" cy="16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oorten straffen: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468360" y="3357720"/>
            <a:ext cx="7991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Hoofdstraffen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: zoals gevangenisstraf, geldboete, taakstraf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468360" y="3860640"/>
            <a:ext cx="7848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Bijkomendestraf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: zoals rijbewijs inleveren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395280" y="4365720"/>
            <a:ext cx="79930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- Maatregelen: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TBS (ter Beschikking stelling aan de staat), agressietraining, etc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4" descr="police"/>
          <p:cNvPicPr/>
          <p:nvPr/>
        </p:nvPicPr>
        <p:blipFill>
          <a:blip r:embed="rId1"/>
          <a:stretch/>
        </p:blipFill>
        <p:spPr>
          <a:xfrm>
            <a:off x="6659640" y="765000"/>
            <a:ext cx="1333440" cy="133380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22"/>
          <p:cNvSpPr/>
          <p:nvPr/>
        </p:nvSpPr>
        <p:spPr>
          <a:xfrm>
            <a:off x="611280" y="5516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Pieter krijgt van de rechter 2 maanden voorwaardelijk en een taakstraf als hoofdstraf en de maatregel dat hij agressietraining moet volg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544F-BF41-4D63-8B24-401E7678237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0" y="2349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Waarom straffen we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9" descr="British_police"/>
          <p:cNvPicPr/>
          <p:nvPr/>
        </p:nvPicPr>
        <p:blipFill>
          <a:blip r:embed="rId1"/>
          <a:stretch/>
        </p:blipFill>
        <p:spPr>
          <a:xfrm>
            <a:off x="7500960" y="428760"/>
            <a:ext cx="1371600" cy="13237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12"/>
          <p:cNvSpPr/>
          <p:nvPr/>
        </p:nvSpPr>
        <p:spPr>
          <a:xfrm>
            <a:off x="1311120" y="2800440"/>
            <a:ext cx="448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3"/>
          <p:cNvSpPr/>
          <p:nvPr/>
        </p:nvSpPr>
        <p:spPr>
          <a:xfrm>
            <a:off x="468360" y="2852640"/>
            <a:ext cx="79200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afschikking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mensen moeten niet crimineel willen word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Resocialisatie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gedrag verbeteren, zodat criminelen terug kunnen in de samenlev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iliger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criminelen zitten in de gevangenis, dus is het daarbuiten veiliger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Wraak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slachtoffers en familiedaarvoor wilden vergelding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itel 1"/>
          <p:cNvSpPr/>
          <p:nvPr/>
        </p:nvSpPr>
        <p:spPr>
          <a:xfrm>
            <a:off x="0" y="500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8: Waarom straffen we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8C55-F39F-45C6-A640-B107B131410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250920" y="407664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aak- en leerstraffen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ternatieve straffen: helpen in de winkel waar je hebt gestolen, dronken iemand aangereden: gehandicapte slachtoffers helpen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0"/>
          <p:cNvSpPr/>
          <p:nvPr/>
        </p:nvSpPr>
        <p:spPr>
          <a:xfrm>
            <a:off x="324000" y="270828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renger straffen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affen hoger maken, hogere boetes, langere gevangenisstraf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250920" y="3573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Lik-op-stukbeleid: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ader sneller pakken én berecht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250920" y="5300640"/>
            <a:ext cx="806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Preventie: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voorkomen dat er criminaliteit plaats heeft. Meer politie op straat, meer camera’s bij winkels, etc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raffen helpt niet voldoende: 4 oploss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itel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8: Waarom straffen we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FFDD-2308-4CA2-A95D-74CECEC85C5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itel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8: Waarom straffen we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0" y="1571760"/>
            <a:ext cx="91598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D0C3-2AD8-4379-8DEB-62471B83CC0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itel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8: Waarom straffen we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285840" y="1285920"/>
            <a:ext cx="852156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Repressie/ repressieve maatregelen:</a:t>
            </a:r>
            <a:br>
              <a:rPr sz="2200"/>
            </a:b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nadat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misdrijven zijn gepleegd, actie onder nemen (straffen, opsporen). 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Achteraf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Preventie/ preventieve maatregelen: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 te 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voorkom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dat criminaliteit gebeurd.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moord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roofoverv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0318-0AA6-43A8-9D6F-7B26B361A18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9" descr="politie"/>
          <p:cNvPicPr/>
          <p:nvPr/>
        </p:nvPicPr>
        <p:blipFill>
          <a:blip r:embed="rId1"/>
          <a:stretch/>
        </p:blipFill>
        <p:spPr>
          <a:xfrm>
            <a:off x="7086600" y="3789360"/>
            <a:ext cx="18111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0A22-56F1-462A-BA13-E202BE6C20A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101840" cy="2374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2"/>
          <a:stretch/>
        </p:blipFill>
        <p:spPr>
          <a:xfrm>
            <a:off x="4572000" y="2060640"/>
            <a:ext cx="4029120" cy="2305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"/>
          <p:cNvPicPr/>
          <p:nvPr/>
        </p:nvPicPr>
        <p:blipFill>
          <a:blip r:embed="rId3"/>
          <a:stretch/>
        </p:blipFill>
        <p:spPr>
          <a:xfrm>
            <a:off x="324000" y="4653000"/>
            <a:ext cx="4032000" cy="855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"/>
          <p:cNvPicPr/>
          <p:nvPr/>
        </p:nvPicPr>
        <p:blipFill>
          <a:blip r:embed="rId4"/>
          <a:stretch/>
        </p:blipFill>
        <p:spPr>
          <a:xfrm>
            <a:off x="4716360" y="4653000"/>
            <a:ext cx="3456000" cy="6714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Het beleid van de overheid bestaat uit 6 onderdel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sporings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volgings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ngenis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uwe wetge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eventie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jeugd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CA0E-A694-4C66-BBEC-136989DA7AA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9" descr="politie"/>
          <p:cNvPicPr/>
          <p:nvPr/>
        </p:nvPicPr>
        <p:blipFill>
          <a:blip r:embed="rId1"/>
          <a:stretch/>
        </p:blipFill>
        <p:spPr>
          <a:xfrm>
            <a:off x="5435640" y="2781360"/>
            <a:ext cx="22384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672120" indent="-2880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Het beleid van de overheid bestaat uit 6 onderdel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Opsporingsbeleid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t opsporen van criminalite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lke vormen verdienen aanda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leid om pakkans te verho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Vervolgings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manier waarop overheid misdrijven wil bestraff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Bvb snelrecht/ lik-op-stuk beleid (zelfde dag opgepakt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voor de rech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670C-AC66-4ABA-AA0D-7D8C47EE4C5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9" descr="politie"/>
          <p:cNvPicPr/>
          <p:nvPr/>
        </p:nvPicPr>
        <p:blipFill>
          <a:blip r:embed="rId1"/>
          <a:stretch/>
        </p:blipFill>
        <p:spPr>
          <a:xfrm>
            <a:off x="7093080" y="1916280"/>
            <a:ext cx="22381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lvl="1" marL="640080" indent="-27432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2. Vervolgingsbeleid. De vervolging va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7432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Veelvoorkomendecriminaliteit: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7432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misdrijven die relatief vaak voorkomen:</a:t>
            </a:r>
            <a:br>
              <a:rPr sz="2100"/>
            </a:b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- winkeldiefstal</a:t>
            </a:r>
            <a:br>
              <a:rPr sz="2100"/>
            </a:b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- zakkenrollen</a:t>
            </a:r>
            <a:br>
              <a:rPr sz="2100"/>
            </a:b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- voetbal vandalisme</a:t>
            </a:r>
            <a:br>
              <a:rPr sz="2100"/>
            </a:b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-vernieling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7432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Worden bestraft met taakstraf en geldboe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7432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Meer met preventieve maatregelen aanpakk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7432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7432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Zware criminaliteit: </a:t>
            </a:r>
            <a:br>
              <a:rPr sz="2100"/>
            </a:b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- verkrachting</a:t>
            </a:r>
            <a:br>
              <a:rPr sz="2100"/>
            </a:b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- moord</a:t>
            </a:r>
            <a:br>
              <a:rPr sz="2100"/>
            </a:b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- roofoverv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765C-6B79-4B79-9073-10385B7B4F0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9" descr="politie"/>
          <p:cNvPicPr/>
          <p:nvPr/>
        </p:nvPicPr>
        <p:blipFill>
          <a:blip r:embed="rId1"/>
          <a:stretch/>
        </p:blipFill>
        <p:spPr>
          <a:xfrm>
            <a:off x="7236000" y="3357720"/>
            <a:ext cx="22381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lvl="1" marL="664200" indent="-28440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2. Vervolgingsbeleid. De vervolging va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0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Verborgen criminaliteit:</a:t>
            </a:r>
            <a:br>
              <a:rPr sz="2100"/>
            </a:b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- belastingfraude       - onterechte uitkering</a:t>
            </a:r>
            <a:br>
              <a:rPr sz="1700"/>
            </a:b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- internetcriminalitei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0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Wordt extra onder de loep genom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Georganiseerde misdaad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Vrouwenhandel   - Ontvoering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Pornografie          - Hel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Fraude                  - gokk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Vaak internationale bend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Bestreden door streng optred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Meer politieagenten, gevangeniscelle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Politie en justitie mogen telefoons en computers afluister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Rechters geven hogere straffe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C6FF-F74C-4EA8-84B7-F245703A175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9" descr="politie"/>
          <p:cNvPicPr/>
          <p:nvPr/>
        </p:nvPicPr>
        <p:blipFill>
          <a:blip r:embed="rId1"/>
          <a:stretch/>
        </p:blipFill>
        <p:spPr>
          <a:xfrm>
            <a:off x="7236000" y="3357720"/>
            <a:ext cx="22381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752040" indent="-32220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2. Vervolgingsbeleid. De vervolging va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52040" indent="-32220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terreurbestrijding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aanslagen (denk aan New-York, London, Madrid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Strengere controles op vliegveld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Niet alleen daders strafbaar </a:t>
            </a:r>
            <a:r>
              <a:rPr b="0" lang="nl-NL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Ook als jee van plan bent of lid terroristische groe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Zelfs als je het toejuicht kan je voor de rechter kom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Politie arresteert al, als je, je verdacht gedraag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Dit is: verruiming van de bevoegdhed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337D-4B63-4931-91D5-15B744535A3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9" descr="politie"/>
          <p:cNvPicPr/>
          <p:nvPr/>
        </p:nvPicPr>
        <p:blipFill>
          <a:blip r:embed="rId1"/>
          <a:stretch/>
        </p:blipFill>
        <p:spPr>
          <a:xfrm>
            <a:off x="7451640" y="1125360"/>
            <a:ext cx="133344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lvl="1" marL="592200" indent="-2538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Het beleid van de overheid bestaat uit 6 onderdel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3. Gevangenis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tra cellen bouwen bij cellen tek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er dan 1 gevange per c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overschot: gevangenis ‘verhuren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4. Nieuwe wetge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tboeken aanpas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t moet effectief zijn (moet werken, effect oplevere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t moet wenselijk zijn (samenleving moet acceptere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ast het bij de normen en waarden van de samenle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eventie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jeugd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E26D-12F3-4206-B05F-E57D8F3AEB5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9" descr="politie"/>
          <p:cNvPicPr/>
          <p:nvPr/>
        </p:nvPicPr>
        <p:blipFill>
          <a:blip r:embed="rId1"/>
          <a:stretch/>
        </p:blipFill>
        <p:spPr>
          <a:xfrm>
            <a:off x="7236000" y="1916280"/>
            <a:ext cx="14922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720000" indent="-30852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Het beleid van de overheid bestaat uit 6 onderdel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5. Preventie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Criminaliteit voorkomen (h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6. Jeugd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Jeugdcriminaliteit terugdri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er toezicht, meer contr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eller straff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er werkprojecten/ taakstraff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er aandacht voor onderwijs: niet spijbelen, schooluitv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D4E3-DF74-45C9-8A45-761A49CC5DA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9" descr="politie"/>
          <p:cNvPicPr/>
          <p:nvPr/>
        </p:nvPicPr>
        <p:blipFill>
          <a:blip r:embed="rId1"/>
          <a:stretch/>
        </p:blipFill>
        <p:spPr>
          <a:xfrm>
            <a:off x="7236000" y="1916280"/>
            <a:ext cx="14922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lvl="1" marL="664200" indent="-2844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Links/socialist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druk op maatschappelijke aspec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ventieve maatreg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b banenplannen voor jongeren/ wijkagenten inzet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hristen democrat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druk op belang gezin, school &amp; maatschappi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uders en leraren moeten kinderen respect/eerbied bijbre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Rechts/Liberal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druk op repressieve aanpak: zwaarder stra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er bevoegdheden voor politie en justitie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ms in strijd met burgerre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86C7-1761-4E8D-A163-57B2A96C33B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9" descr="politie"/>
          <p:cNvPicPr/>
          <p:nvPr/>
        </p:nvPicPr>
        <p:blipFill>
          <a:blip r:embed="rId1"/>
          <a:stretch/>
        </p:blipFill>
        <p:spPr>
          <a:xfrm>
            <a:off x="7667640" y="1197000"/>
            <a:ext cx="9176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8065-C8B5-42F9-B852-7FE64F86921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5" descr=""/>
          <p:cNvPicPr/>
          <p:nvPr/>
        </p:nvPicPr>
        <p:blipFill>
          <a:blip r:embed="rId1"/>
          <a:stretch/>
        </p:blipFill>
        <p:spPr>
          <a:xfrm>
            <a:off x="1214280" y="1285920"/>
            <a:ext cx="6828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7284-3242-4F90-8FD8-A1EBDD61C74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al 5"/>
          <p:cNvSpPr/>
          <p:nvPr/>
        </p:nvSpPr>
        <p:spPr>
          <a:xfrm>
            <a:off x="395280" y="2349360"/>
            <a:ext cx="2664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al 6"/>
          <p:cNvSpPr/>
          <p:nvPr/>
        </p:nvSpPr>
        <p:spPr>
          <a:xfrm>
            <a:off x="826920" y="4508640"/>
            <a:ext cx="266544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al 7"/>
          <p:cNvSpPr/>
          <p:nvPr/>
        </p:nvSpPr>
        <p:spPr>
          <a:xfrm>
            <a:off x="5867280" y="2421000"/>
            <a:ext cx="266544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al 8"/>
          <p:cNvSpPr/>
          <p:nvPr/>
        </p:nvSpPr>
        <p:spPr>
          <a:xfrm>
            <a:off x="5651640" y="4221000"/>
            <a:ext cx="266544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kstvak 9"/>
          <p:cNvSpPr/>
          <p:nvPr/>
        </p:nvSpPr>
        <p:spPr>
          <a:xfrm>
            <a:off x="755640" y="256536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Landelijke over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kstvak 11"/>
          <p:cNvSpPr/>
          <p:nvPr/>
        </p:nvSpPr>
        <p:spPr>
          <a:xfrm>
            <a:off x="6156360" y="4581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urger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kstvak 12"/>
          <p:cNvSpPr/>
          <p:nvPr/>
        </p:nvSpPr>
        <p:spPr>
          <a:xfrm>
            <a:off x="1332000" y="472428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Lokale over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kstvak 13"/>
          <p:cNvSpPr/>
          <p:nvPr/>
        </p:nvSpPr>
        <p:spPr>
          <a:xfrm>
            <a:off x="6372360" y="2781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edrijv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Gelijkbenige driehoek 14"/>
          <p:cNvSpPr/>
          <p:nvPr/>
        </p:nvSpPr>
        <p:spPr>
          <a:xfrm>
            <a:off x="3564000" y="2349360"/>
            <a:ext cx="2232000" cy="19432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kstvak 15"/>
          <p:cNvSpPr/>
          <p:nvPr/>
        </p:nvSpPr>
        <p:spPr>
          <a:xfrm>
            <a:off x="3851280" y="342900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reventie door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U-vormige pijl 16"/>
          <p:cNvSpPr/>
          <p:nvPr/>
        </p:nvSpPr>
        <p:spPr>
          <a:xfrm>
            <a:off x="5076720" y="2060640"/>
            <a:ext cx="885960" cy="877680"/>
          </a:xfrm>
          <a:custGeom>
            <a:avLst/>
            <a:gdLst/>
            <a:ahLst/>
            <a:rect l="l" t="t" r="r" b="b"/>
            <a:pathLst>
              <a:path w="885825" h="877888">
                <a:moveTo>
                  <a:pt x="0" y="877888"/>
                </a:moveTo>
                <a:lnTo>
                  <a:pt x="0" y="384076"/>
                </a:lnTo>
                <a:lnTo>
                  <a:pt x="0" y="384076"/>
                </a:lnTo>
                <a:arcTo wR="384076" hR="384076" stAng="10800000" swAng="5400009"/>
                <a:lnTo>
                  <a:pt x="392013" y="0"/>
                </a:lnTo>
                <a:lnTo>
                  <a:pt x="392013" y="0"/>
                </a:lnTo>
                <a:arcTo wR="384076" hR="384076" stAng="-5400000" swAng="5400009"/>
                <a:lnTo>
                  <a:pt x="776089" y="438944"/>
                </a:lnTo>
                <a:lnTo>
                  <a:pt x="885825" y="438944"/>
                </a:lnTo>
                <a:lnTo>
                  <a:pt x="666353" y="658416"/>
                </a:lnTo>
                <a:lnTo>
                  <a:pt x="446881" y="438944"/>
                </a:lnTo>
                <a:lnTo>
                  <a:pt x="556617" y="438944"/>
                </a:lnTo>
                <a:lnTo>
                  <a:pt x="556617" y="384076"/>
                </a:lnTo>
                <a:lnTo>
                  <a:pt x="556617" y="384076"/>
                </a:lnTo>
                <a:arcTo wR="164604" hR="164604" stAng="0" swAng="-5400000"/>
                <a:lnTo>
                  <a:pt x="384076" y="219472"/>
                </a:lnTo>
                <a:lnTo>
                  <a:pt x="384076" y="219472"/>
                </a:lnTo>
                <a:arcTo wR="164604" hR="164604" stAng="-5400000" swAng="-5400000"/>
                <a:lnTo>
                  <a:pt x="219472" y="877888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U-vormige pijl 17"/>
          <p:cNvSpPr/>
          <p:nvPr/>
        </p:nvSpPr>
        <p:spPr>
          <a:xfrm rot="7020600">
            <a:off x="3528720" y="4474800"/>
            <a:ext cx="887400" cy="878040"/>
          </a:xfrm>
          <a:custGeom>
            <a:avLst/>
            <a:gdLst/>
            <a:ahLst/>
            <a:rect l="l" t="t" r="r" b="b"/>
            <a:pathLst>
              <a:path w="887413" h="877888">
                <a:moveTo>
                  <a:pt x="0" y="877888"/>
                </a:moveTo>
                <a:lnTo>
                  <a:pt x="0" y="384076"/>
                </a:lnTo>
                <a:lnTo>
                  <a:pt x="0" y="384076"/>
                </a:lnTo>
                <a:arcTo wR="384076" hR="384076" stAng="10800000" swAng="5400009"/>
                <a:lnTo>
                  <a:pt x="393601" y="0"/>
                </a:lnTo>
                <a:lnTo>
                  <a:pt x="393601" y="0"/>
                </a:lnTo>
                <a:arcTo wR="384076" hR="384076" stAng="-5400000" swAng="5400009"/>
                <a:lnTo>
                  <a:pt x="777677" y="438944"/>
                </a:lnTo>
                <a:lnTo>
                  <a:pt x="887413" y="438944"/>
                </a:lnTo>
                <a:lnTo>
                  <a:pt x="667941" y="658416"/>
                </a:lnTo>
                <a:lnTo>
                  <a:pt x="448469" y="438944"/>
                </a:lnTo>
                <a:lnTo>
                  <a:pt x="558205" y="438944"/>
                </a:lnTo>
                <a:lnTo>
                  <a:pt x="558205" y="384076"/>
                </a:lnTo>
                <a:lnTo>
                  <a:pt x="558205" y="384076"/>
                </a:lnTo>
                <a:arcTo wR="164604" hR="164604" stAng="0" swAng="-5400000"/>
                <a:lnTo>
                  <a:pt x="384076" y="219472"/>
                </a:lnTo>
                <a:lnTo>
                  <a:pt x="384076" y="219472"/>
                </a:lnTo>
                <a:arcTo wR="164604" hR="164604" stAng="-5400000" swAng="-5400000"/>
                <a:lnTo>
                  <a:pt x="219472" y="877888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U-vormige pijl 18"/>
          <p:cNvSpPr/>
          <p:nvPr/>
        </p:nvSpPr>
        <p:spPr>
          <a:xfrm rot="16389000">
            <a:off x="4807440" y="4248720"/>
            <a:ext cx="885600" cy="877680"/>
          </a:xfrm>
          <a:custGeom>
            <a:avLst/>
            <a:gdLst/>
            <a:ahLst/>
            <a:rect l="l" t="t" r="r" b="b"/>
            <a:pathLst>
              <a:path w="885825" h="877887">
                <a:moveTo>
                  <a:pt x="0" y="877887"/>
                </a:moveTo>
                <a:lnTo>
                  <a:pt x="0" y="384076"/>
                </a:lnTo>
                <a:lnTo>
                  <a:pt x="0" y="384076"/>
                </a:lnTo>
                <a:arcTo wR="384076" hR="384076" stAng="10800000" swAng="5400009"/>
                <a:lnTo>
                  <a:pt x="392014" y="0"/>
                </a:lnTo>
                <a:lnTo>
                  <a:pt x="392014" y="0"/>
                </a:lnTo>
                <a:arcTo wR="384076" hR="384076" stAng="-5400000" swAng="5400009"/>
                <a:lnTo>
                  <a:pt x="776089" y="438944"/>
                </a:lnTo>
                <a:lnTo>
                  <a:pt x="885825" y="438944"/>
                </a:lnTo>
                <a:lnTo>
                  <a:pt x="666353" y="658415"/>
                </a:lnTo>
                <a:lnTo>
                  <a:pt x="446882" y="438944"/>
                </a:lnTo>
                <a:lnTo>
                  <a:pt x="556617" y="438944"/>
                </a:lnTo>
                <a:lnTo>
                  <a:pt x="556617" y="384076"/>
                </a:lnTo>
                <a:lnTo>
                  <a:pt x="556617" y="384076"/>
                </a:lnTo>
                <a:arcTo wR="164604" hR="164604" stAng="0" swAng="-5400000"/>
                <a:lnTo>
                  <a:pt x="384076" y="219472"/>
                </a:lnTo>
                <a:lnTo>
                  <a:pt x="384076" y="219472"/>
                </a:lnTo>
                <a:arcTo wR="164604" hR="164604" stAng="-5400000" swAng="-5400000"/>
                <a:lnTo>
                  <a:pt x="219472" y="877887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U-vormige pijl 19"/>
          <p:cNvSpPr/>
          <p:nvPr/>
        </p:nvSpPr>
        <p:spPr>
          <a:xfrm rot="13525200">
            <a:off x="3058560" y="2420640"/>
            <a:ext cx="887400" cy="877680"/>
          </a:xfrm>
          <a:custGeom>
            <a:avLst/>
            <a:gdLst/>
            <a:ahLst/>
            <a:rect l="l" t="t" r="r" b="b"/>
            <a:pathLst>
              <a:path w="887413" h="877888">
                <a:moveTo>
                  <a:pt x="0" y="877888"/>
                </a:moveTo>
                <a:lnTo>
                  <a:pt x="0" y="388650"/>
                </a:lnTo>
                <a:lnTo>
                  <a:pt x="0" y="388650"/>
                </a:lnTo>
                <a:arcTo wR="388650" hR="388650" stAng="10800000" swAng="5400009"/>
                <a:lnTo>
                  <a:pt x="389027" y="0"/>
                </a:lnTo>
                <a:lnTo>
                  <a:pt x="389027" y="0"/>
                </a:lnTo>
                <a:arcTo wR="388650" hR="388650" stAng="-5400000" swAng="5400009"/>
                <a:lnTo>
                  <a:pt x="777677" y="438944"/>
                </a:lnTo>
                <a:lnTo>
                  <a:pt x="887413" y="438944"/>
                </a:lnTo>
                <a:lnTo>
                  <a:pt x="667941" y="658416"/>
                </a:lnTo>
                <a:lnTo>
                  <a:pt x="448469" y="438944"/>
                </a:lnTo>
                <a:lnTo>
                  <a:pt x="558205" y="438944"/>
                </a:lnTo>
                <a:lnTo>
                  <a:pt x="558205" y="388650"/>
                </a:lnTo>
                <a:lnTo>
                  <a:pt x="558205" y="388650"/>
                </a:lnTo>
                <a:arcTo wR="169178" hR="169178" stAng="0" swAng="-5400000"/>
                <a:lnTo>
                  <a:pt x="388650" y="219472"/>
                </a:lnTo>
                <a:lnTo>
                  <a:pt x="388650" y="219472"/>
                </a:lnTo>
                <a:arcTo wR="169178" hR="169178" stAng="-5400000" swAng="-5400000"/>
                <a:lnTo>
                  <a:pt x="219472" y="877888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C06B-FD6C-4086-8614-5BA7E96D120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4032360" cy="2303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police.gif police image by scottametz"/>
          <p:cNvPicPr/>
          <p:nvPr/>
        </p:nvPicPr>
        <p:blipFill>
          <a:blip r:embed="rId2"/>
          <a:stretch/>
        </p:blipFill>
        <p:spPr>
          <a:xfrm>
            <a:off x="4572000" y="2060640"/>
            <a:ext cx="3097080" cy="23223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7"/>
          <p:cNvSpPr/>
          <p:nvPr/>
        </p:nvSpPr>
        <p:spPr>
          <a:xfrm>
            <a:off x="179280" y="4437000"/>
            <a:ext cx="8064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Pieter wordt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opgepakt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door de politie. Hij moet mee naar het bureau. Daar wordt besloten dat hij voor de rechter moet komen. Enkele weken voor de rechtszitting krijgt Pieter een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dagvaarding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. Dat is de oproep om voor de rechter te verschijnen.Pieter moet niet voor de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politierechter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komen (die is alleen bij lichte misdrijven) maar bij de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meervoudige kamer.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Deze bestaat uit 3 rechters en is bedoeld voor zware misdrijven zoals moord en mishandeling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68360" y="2349000"/>
            <a:ext cx="8229600" cy="35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en voor goede huisv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 b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lichting g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wijs verbeteren: antispijbelbel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uders erbij betre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5A60-F650-448A-A40E-6CBE4BD3562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al 5"/>
          <p:cNvSpPr/>
          <p:nvPr/>
        </p:nvSpPr>
        <p:spPr>
          <a:xfrm>
            <a:off x="0" y="1125360"/>
            <a:ext cx="2664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kstvak 9"/>
          <p:cNvSpPr/>
          <p:nvPr/>
        </p:nvSpPr>
        <p:spPr>
          <a:xfrm>
            <a:off x="468360" y="134136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Landelijke over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68360" y="263700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 burgemeester toestemming vragen om preventief te fouill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rgemeester kan voetbalwedstrijd verbi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eente raad kan iets strafbar stellen (blowverb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D48E-D6D5-4E8A-8AB3-D1BAED23E53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al 5"/>
          <p:cNvSpPr/>
          <p:nvPr/>
        </p:nvSpPr>
        <p:spPr>
          <a:xfrm>
            <a:off x="0" y="1125360"/>
            <a:ext cx="2664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kstvak 9"/>
          <p:cNvSpPr/>
          <p:nvPr/>
        </p:nvSpPr>
        <p:spPr>
          <a:xfrm>
            <a:off x="468360" y="134136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Lokal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ver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539640" y="2276640"/>
            <a:ext cx="8229600" cy="35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1" marL="653760" indent="-2512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laten industriebedrijf: riskant terrei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alarminstallat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nsen boven bedrijf wo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wakingsdienst inhu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gen winkeldiefs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chnische maatregelen (camera’s, spiegels, diefstal poortj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er personeel in de wink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leine bedrijven: geen geld voor diefstal prevent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o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tispijbelbeleid (samenwerken met politie/gemeen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4324-F42D-461B-8A48-A27AD14D4CF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al 5"/>
          <p:cNvSpPr/>
          <p:nvPr/>
        </p:nvSpPr>
        <p:spPr>
          <a:xfrm>
            <a:off x="0" y="907920"/>
            <a:ext cx="2664000" cy="122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kstvak 9"/>
          <p:cNvSpPr/>
          <p:nvPr/>
        </p:nvSpPr>
        <p:spPr>
          <a:xfrm>
            <a:off x="468360" y="1052640"/>
            <a:ext cx="17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edrijv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68360" y="263700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wijken op elkaar letten: sociale cont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spectieronden burgerwa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igen verantwoordelijkhei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stelen van je eigen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Als baas:) zorgen voor goede sfeer om stelen te voork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97D8-AD96-47F6-882A-510E9DBC357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al 5"/>
          <p:cNvSpPr/>
          <p:nvPr/>
        </p:nvSpPr>
        <p:spPr>
          <a:xfrm>
            <a:off x="0" y="1125360"/>
            <a:ext cx="2664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kstvak 9"/>
          <p:cNvSpPr/>
          <p:nvPr/>
        </p:nvSpPr>
        <p:spPr>
          <a:xfrm>
            <a:off x="468360" y="134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urger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539640" y="2276640"/>
            <a:ext cx="8229600" cy="35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 sociale contro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conduc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dswa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wakingsdiensten winkelce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amera’s op str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politie op str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61B0-61DD-41D4-AA47-9662356E6FE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kstvak 9"/>
          <p:cNvSpPr/>
          <p:nvPr/>
        </p:nvSpPr>
        <p:spPr>
          <a:xfrm>
            <a:off x="468360" y="1341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elke preventieve maatregelen zijn er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39640" y="21337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beteren woonomgev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huizen leeg laten staan. Ziet het er netjes uit wordt er minder vern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chnische maatregelen: afsluiten trappenhuis en galerij, verbeteren van slo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voorzieningen voor jong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2B68-E7AE-4149-B043-08810B020EC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kstvak 9"/>
          <p:cNvSpPr/>
          <p:nvPr/>
        </p:nvSpPr>
        <p:spPr>
          <a:xfrm>
            <a:off x="468360" y="1341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elke preventieve maatregelen zijn er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539640" y="184464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lt-bu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LT: Het ALTernat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uze: direct herstellen OF rechtzaak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her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ongeren tot 18 jaar (bijna de helft van de delictpleg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akstraf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 daders af te schrik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één OvJ of rechter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us geen strafbl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él rechter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strafblad/ uitreksel justitiële document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62C6-E7C3-40E8-AD9F-9C9F1F4E5E4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kstvak 9"/>
          <p:cNvSpPr/>
          <p:nvPr/>
        </p:nvSpPr>
        <p:spPr>
          <a:xfrm>
            <a:off x="468360" y="1341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elke preventieve maatregelen zijn er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4209-4F8B-4887-83A5-692FEBA0131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cces met ler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324000" y="2349360"/>
            <a:ext cx="806436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15" descr="After_the_Criminal"/>
          <p:cNvPicPr/>
          <p:nvPr/>
        </p:nvPicPr>
        <p:blipFill>
          <a:blip r:embed="rId1"/>
          <a:stretch/>
        </p:blipFill>
        <p:spPr>
          <a:xfrm>
            <a:off x="2124000" y="3933720"/>
            <a:ext cx="465768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at voor wetboeken zijn 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rond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etboek van strafrech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etboek van strafvord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egenverkeers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et economische delic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Opium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19F6-02B5-4C2A-9A26-E8A41061809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96720" y="1268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Grondwet: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Wet waarin de belangrijkst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</a:rPr>
              <a:t>recht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</a:rPr>
              <a:t>plicht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van alle inwoners in een land zijn vastgeleg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 andere wetten zijn hierop gebaseer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Wat staat er o.a. in de grondwet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gemeen kiesre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elmatige verkiezi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ijheid van meningsuit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ijheid van vereniging en vergad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chtenscheiding (triaspolitic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rsvrijh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politieke partij op te rich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p gelijke behande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niet zomaar door de politie te worden opgepak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1258920" y="33336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http://www.frankwatching.com/wordpress/wp-content/uploads/2009/04/grondwet-194x300.jpg"/>
          <p:cNvPicPr/>
          <p:nvPr/>
        </p:nvPicPr>
        <p:blipFill>
          <a:blip r:embed="rId1"/>
          <a:stretch/>
        </p:blipFill>
        <p:spPr>
          <a:xfrm>
            <a:off x="6732720" y="2349360"/>
            <a:ext cx="1847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96720" y="1484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Rechte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gemeen kiesre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politieke partij op te rich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p gelijke behande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niet zomaar door de politie te worden opgepak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Plichte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 om belasting te beta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 om naar school te gaan. Leerpli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 om je id bij te hebben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249200" y="773280"/>
            <a:ext cx="6347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http://www.frankwatching.com/wordpress/wp-content/uploads/2009/04/grondwet-194x300.jpg"/>
          <p:cNvPicPr/>
          <p:nvPr/>
        </p:nvPicPr>
        <p:blipFill>
          <a:blip r:embed="rId1"/>
          <a:stretch/>
        </p:blipFill>
        <p:spPr>
          <a:xfrm>
            <a:off x="7162920" y="620640"/>
            <a:ext cx="14889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SD1</cp:lastModifiedBy>
  <dcterms:modified xsi:type="dcterms:W3CDTF">2013-07-08T13:46:09Z</dcterms:modified>
  <cp:revision>152</cp:revision>
  <dc:subject/>
  <dc:title>Dia 1</dc:title>
</cp:coreProperties>
</file>