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11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png" ContentType="image/png"/>
  <Override PartName="/ppt/media/image27.png" ContentType="image/png"/>
  <Override PartName="/ppt/media/image30.png" ContentType="image/png"/>
  <Override PartName="/ppt/media/image32.png" ContentType="image/png"/>
  <Override PartName="/ppt/media/image40.png" ContentType="image/png"/>
  <Override PartName="/ppt/media/image8.jpeg" ContentType="image/jpeg"/>
  <Override PartName="/ppt/media/image38.png" ContentType="image/png"/>
  <Override PartName="/ppt/media/image31.jpeg" ContentType="image/jpeg"/>
  <Override PartName="/ppt/media/image41.png" ContentType="image/png"/>
  <Override PartName="/ppt/media/image37.png" ContentType="image/png"/>
  <Override PartName="/ppt/media/image44.jpeg" ContentType="image/jpeg"/>
  <Override PartName="/ppt/media/image4.png" ContentType="image/png"/>
  <Override PartName="/ppt/media/image3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50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7.jpeg" ContentType="image/jpeg"/>
  <Override PartName="/ppt/media/image18.png" ContentType="image/png"/>
  <Override PartName="/ppt/media/image28.jpeg" ContentType="image/jpeg"/>
  <Override PartName="/ppt/media/image51.jpeg" ContentType="image/jpeg"/>
  <Override PartName="/ppt/media/image6.png" ContentType="image/png"/>
  <Override PartName="/ppt/media/image29.jpeg" ContentType="image/jpeg"/>
  <Override PartName="/ppt/media/image52.jpeg" ContentType="image/jpeg"/>
  <Override PartName="/ppt/media/image26.jpeg" ContentType="image/jpeg"/>
  <Override PartName="/ppt/media/image4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67E8-11E9-4290-AC91-D54F478EB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C39-43A9-4939-9D98-C9595EF8D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DCA-8938-423C-9B11-A1E596E99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BCE4-67C1-476B-9B2B-15700D0E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D6D3-2F10-499A-AE5D-856E21348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A85-6E56-4FC9-BFF6-CF81E393D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604F-C87A-4369-9770-8285AED5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FD55-6E4A-47A1-B5F7-73C7A79E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08DC-8DE3-4383-A5BB-F92E915C9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0BBB-B7EC-46E7-994C-B0F30BE7D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FE59-2EE2-44C6-8400-06EE17D3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413-6F13-479A-9396-A9EC5586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0863-01A3-4F3C-8BF3-D1BB7A2BBA0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45.jpeg"/><Relationship Id="rId7" Type="http://schemas.openxmlformats.org/officeDocument/2006/relationships/image" Target="../media/image21.png"/><Relationship Id="rId8" Type="http://schemas.openxmlformats.org/officeDocument/2006/relationships/image" Target="../media/image46.jpeg"/><Relationship Id="rId9" Type="http://schemas.openxmlformats.org/officeDocument/2006/relationships/image" Target="../media/image47.jpe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C158-AE3E-403A-B14F-8F441E83AEC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menvatting Politiek m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examen_vak_succes_met_maatschappijleer"/>
          <p:cNvPicPr/>
          <p:nvPr/>
        </p:nvPicPr>
        <p:blipFill>
          <a:blip r:embed="rId1"/>
          <a:stretch/>
        </p:blipFill>
        <p:spPr>
          <a:xfrm>
            <a:off x="1116000" y="1773360"/>
            <a:ext cx="7128000" cy="42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5550-7D3B-4483-BCF7-ED1DDEA2B5B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24000" y="148428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4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5 jaar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stemmen vo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lijsttrekker"/>
          <p:cNvPicPr/>
          <p:nvPr/>
        </p:nvPicPr>
        <p:blipFill>
          <a:blip r:embed="rId1"/>
          <a:srcRect l="12929" t="0" r="11185" b="0"/>
          <a:stretch/>
        </p:blipFill>
        <p:spPr>
          <a:xfrm>
            <a:off x="108000" y="1773360"/>
            <a:ext cx="381636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24F4-D0BA-4243-AE4F-1B89ABC86C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5256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assief kies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kozen kunnen worden als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van de Tweede Kame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andere volksvertegen-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rdigende lichamen: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iesbaar 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f kiesre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ers van 18 jaar e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uder met Nederlands paspoor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bben het recht om te 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ieskompas"/>
          <p:cNvPicPr/>
          <p:nvPr/>
        </p:nvPicPr>
        <p:blipFill>
          <a:blip r:embed="rId1"/>
          <a:stretch/>
        </p:blipFill>
        <p:spPr>
          <a:xfrm>
            <a:off x="5148360" y="2249640"/>
            <a:ext cx="3887640" cy="24256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214200" y="274680"/>
            <a:ext cx="8929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B9EC-CB2E-457A-84E9-208DE2BFDEB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195640" y="1628640"/>
            <a:ext cx="676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79280" y="1268280"/>
            <a:ext cx="5832720" cy="49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Lijsttrekker: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 hoogst geplaatste persoon op de kandidatenlijst van een politieke partij bij verkiezingen.  De belangrijkste persoon van de partij in de verkiezingsstrijd.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Zwevende kiezers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roep kiezers die bij verkiezingen niet steeds op dezelfde politieke partij stemt.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eursstemmen: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 op een persoon (niet op een partij) waardoor die misschien wel in de tweedekamer komt, ondanks dat die laag op de lijst staat.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stomwijzer_1"/>
          <p:cNvPicPr/>
          <p:nvPr/>
        </p:nvPicPr>
        <p:blipFill>
          <a:blip r:embed="rId1"/>
          <a:stretch/>
        </p:blipFill>
        <p:spPr>
          <a:xfrm>
            <a:off x="6227640" y="1484280"/>
            <a:ext cx="2667240" cy="40323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384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C8B7-0257-4C88-BF0F-EA7D1C6637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55280" y="1052280"/>
            <a:ext cx="838836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Evenredige vertegenwoordiging: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alle zetels worden gelijk verdeld op baisis van alle geldig uitgebrachte stemmen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Kiesdel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- Aantal geldig uitgebrachte stemmen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Arial"/>
              </a:rPr>
              <a:t>150 zete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beeld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 geldi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uitgebrachte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an is de kiesdele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7.500.000/1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= 50.000 stemme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oor 1 zetel nodi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4284720" y="6165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 zete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4788000" y="3716280"/>
            <a:ext cx="4211640" cy="2497320"/>
          </a:xfrm>
          <a:prstGeom prst="rect">
            <a:avLst/>
          </a:prstGeom>
          <a:ln w="0">
            <a:noFill/>
          </a:ln>
        </p:spPr>
      </p:pic>
      <p:sp>
        <p:nvSpPr>
          <p:cNvPr id="97" name="Line 6"/>
          <p:cNvSpPr/>
          <p:nvPr/>
        </p:nvSpPr>
        <p:spPr>
          <a:xfrm flipV="1">
            <a:off x="4859280" y="5229000"/>
            <a:ext cx="289080" cy="93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2: Nederland is een rechtsstaat en een democrati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71DB-0D76-4C74-B8B6-60FF7D7AA4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2340000" y="249228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eed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835280" y="587700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erste kam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547640" y="1628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lemen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492360" y="4221000"/>
            <a:ext cx="201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n-Generaal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012000" y="3429000"/>
            <a:ext cx="10792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bine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2916360" y="335772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ingi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7093080" y="4149720"/>
            <a:ext cx="180000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ksvertegenwoordig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2556000" y="5084640"/>
            <a:ext cx="1800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6588000" y="2060640"/>
            <a:ext cx="230508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atssecrtariss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258920" y="3716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ering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364000" y="508464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raad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932360" y="1628640"/>
            <a:ext cx="1152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mier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7451640" y="2997360"/>
            <a:ext cx="86364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7524720" y="6021360"/>
            <a:ext cx="576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7"/>
          <p:cNvSpPr/>
          <p:nvPr/>
        </p:nvSpPr>
        <p:spPr>
          <a:xfrm>
            <a:off x="468360" y="2637000"/>
            <a:ext cx="1368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sterie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4932360" y="2708280"/>
            <a:ext cx="122400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g. 15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5292720" y="6093000"/>
            <a:ext cx="180036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395280" y="4581360"/>
            <a:ext cx="1944720" cy="368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rect gekoz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1B998-E93C-443F-9B62-07EC4B424D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2"/>
          <p:cNvGrpSpPr/>
          <p:nvPr/>
        </p:nvGrpSpPr>
        <p:grpSpPr>
          <a:xfrm>
            <a:off x="971640" y="1268280"/>
            <a:ext cx="6948360" cy="2239920"/>
            <a:chOff x="971640" y="1268280"/>
            <a:chExt cx="6948360" cy="2239920"/>
          </a:xfrm>
        </p:grpSpPr>
        <p:sp>
          <p:nvSpPr>
            <p:cNvPr id="121" name="Text Box 3"/>
            <p:cNvSpPr/>
            <p:nvPr/>
          </p:nvSpPr>
          <p:spPr>
            <a:xfrm>
              <a:off x="1979640" y="1915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weed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4"/>
            <p:cNvSpPr/>
            <p:nvPr/>
          </p:nvSpPr>
          <p:spPr>
            <a:xfrm>
              <a:off x="4284720" y="191592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erste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m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5"/>
            <p:cNvSpPr/>
            <p:nvPr/>
          </p:nvSpPr>
          <p:spPr>
            <a:xfrm>
              <a:off x="971640" y="1268280"/>
              <a:ext cx="6948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Parlement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(ookwel:</a:t>
              </a: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Staten-Generaal of Volksvertegenwoordiging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6"/>
            <p:cNvSpPr/>
            <p:nvPr/>
          </p:nvSpPr>
          <p:spPr>
            <a:xfrm>
              <a:off x="1979640" y="2563560"/>
              <a:ext cx="792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7"/>
            <p:cNvSpPr/>
            <p:nvPr/>
          </p:nvSpPr>
          <p:spPr>
            <a:xfrm>
              <a:off x="5508720" y="2563560"/>
              <a:ext cx="576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8"/>
            <p:cNvSpPr/>
            <p:nvPr/>
          </p:nvSpPr>
          <p:spPr>
            <a:xfrm>
              <a:off x="197964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9"/>
            <p:cNvSpPr/>
            <p:nvPr/>
          </p:nvSpPr>
          <p:spPr>
            <a:xfrm>
              <a:off x="4284720" y="3139920"/>
              <a:ext cx="194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irect gekoz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241128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>
              <a:off x="5940360" y="23475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>
              <a:off x="3708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13"/>
            <p:cNvSpPr/>
            <p:nvPr/>
          </p:nvSpPr>
          <p:spPr>
            <a:xfrm>
              <a:off x="4716360" y="234756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4"/>
            <p:cNvSpPr/>
            <p:nvPr/>
          </p:nvSpPr>
          <p:spPr>
            <a:xfrm flipH="1">
              <a:off x="3563640" y="1699920"/>
              <a:ext cx="21564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5"/>
            <p:cNvSpPr/>
            <p:nvPr/>
          </p:nvSpPr>
          <p:spPr>
            <a:xfrm>
              <a:off x="4500360" y="1699920"/>
              <a:ext cx="21600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Group 16"/>
          <p:cNvGrpSpPr/>
          <p:nvPr/>
        </p:nvGrpSpPr>
        <p:grpSpPr>
          <a:xfrm>
            <a:off x="1116000" y="4076640"/>
            <a:ext cx="6516720" cy="2581560"/>
            <a:chOff x="1116000" y="4076640"/>
            <a:chExt cx="6516720" cy="2581560"/>
          </a:xfrm>
        </p:grpSpPr>
        <p:sp>
          <p:nvSpPr>
            <p:cNvPr id="135" name="Text Box 17"/>
            <p:cNvSpPr/>
            <p:nvPr/>
          </p:nvSpPr>
          <p:spPr>
            <a:xfrm>
              <a:off x="5076720" y="4076640"/>
              <a:ext cx="1079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Kabinet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5148360" y="4797360"/>
              <a:ext cx="248436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Staatssecretariss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19"/>
            <p:cNvSpPr/>
            <p:nvPr/>
          </p:nvSpPr>
          <p:spPr>
            <a:xfrm>
              <a:off x="1189080" y="4797360"/>
              <a:ext cx="13669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NL" sz="1800" spc="-1" strike="noStrike">
                  <a:solidFill>
                    <a:srgbClr val="000000"/>
                  </a:solidFill>
                  <a:latin typeface="Arial"/>
                </a:rPr>
                <a:t>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20"/>
            <p:cNvSpPr/>
            <p:nvPr/>
          </p:nvSpPr>
          <p:spPr>
            <a:xfrm>
              <a:off x="3132000" y="4797360"/>
              <a:ext cx="129564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s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21"/>
            <p:cNvSpPr/>
            <p:nvPr/>
          </p:nvSpPr>
          <p:spPr>
            <a:xfrm>
              <a:off x="1116000" y="4076640"/>
              <a:ext cx="144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ering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22"/>
            <p:cNvSpPr/>
            <p:nvPr/>
          </p:nvSpPr>
          <p:spPr>
            <a:xfrm>
              <a:off x="2916360" y="4076640"/>
              <a:ext cx="1800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raad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23"/>
            <p:cNvSpPr/>
            <p:nvPr/>
          </p:nvSpPr>
          <p:spPr>
            <a:xfrm>
              <a:off x="3348000" y="58057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mier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ider kabinet (minister president)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24"/>
            <p:cNvSpPr/>
            <p:nvPr/>
          </p:nvSpPr>
          <p:spPr>
            <a:xfrm>
              <a:off x="3348000" y="6289920"/>
              <a:ext cx="428472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inisteries: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gespecialiseerde beleidsterreinen</a:t>
              </a:r>
              <a:endParaRPr b="0" i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25"/>
            <p:cNvSpPr/>
            <p:nvPr/>
          </p:nvSpPr>
          <p:spPr>
            <a:xfrm>
              <a:off x="4213080" y="5300640"/>
              <a:ext cx="1224000" cy="368280"/>
            </a:xfrm>
            <a:prstGeom prst="rect">
              <a:avLst/>
            </a:prstGeom>
            <a:solidFill>
              <a:srgbClr val="ffff99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g. 15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6"/>
            <p:cNvSpPr/>
            <p:nvPr/>
          </p:nvSpPr>
          <p:spPr>
            <a:xfrm>
              <a:off x="241308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2413080" y="4508640"/>
              <a:ext cx="7189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8"/>
            <p:cNvSpPr/>
            <p:nvPr/>
          </p:nvSpPr>
          <p:spPr>
            <a:xfrm>
              <a:off x="529272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9"/>
            <p:cNvSpPr/>
            <p:nvPr/>
          </p:nvSpPr>
          <p:spPr>
            <a:xfrm flipH="1">
              <a:off x="4500720" y="4508640"/>
              <a:ext cx="79200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0"/>
            <p:cNvSpPr/>
            <p:nvPr/>
          </p:nvSpPr>
          <p:spPr>
            <a:xfrm>
              <a:off x="3781440" y="450864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31"/>
            <p:cNvSpPr/>
            <p:nvPr/>
          </p:nvSpPr>
          <p:spPr>
            <a:xfrm>
              <a:off x="4429080" y="501336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2"/>
            <p:cNvSpPr/>
            <p:nvPr/>
          </p:nvSpPr>
          <p:spPr>
            <a:xfrm flipH="1">
              <a:off x="5005080" y="501336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3"/>
            <p:cNvSpPr/>
            <p:nvPr/>
          </p:nvSpPr>
          <p:spPr>
            <a:xfrm>
              <a:off x="4573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34"/>
            <p:cNvSpPr/>
            <p:nvPr/>
          </p:nvSpPr>
          <p:spPr>
            <a:xfrm>
              <a:off x="5005440" y="501336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5"/>
            <p:cNvSpPr/>
            <p:nvPr/>
          </p:nvSpPr>
          <p:spPr>
            <a:xfrm>
              <a:off x="3132000" y="5229360"/>
              <a:ext cx="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36"/>
            <p:cNvSpPr/>
            <p:nvPr/>
          </p:nvSpPr>
          <p:spPr>
            <a:xfrm>
              <a:off x="3132000" y="5948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37"/>
            <p:cNvSpPr/>
            <p:nvPr/>
          </p:nvSpPr>
          <p:spPr>
            <a:xfrm>
              <a:off x="3132000" y="645336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Line 38"/>
          <p:cNvSpPr/>
          <p:nvPr/>
        </p:nvSpPr>
        <p:spPr>
          <a:xfrm>
            <a:off x="826920" y="3789360"/>
            <a:ext cx="70930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2130-B923-4B10-93F8-042E3ACE03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schema politiek systeem antwoorden"/>
          <p:cNvPicPr/>
          <p:nvPr/>
        </p:nvPicPr>
        <p:blipFill>
          <a:blip r:embed="rId1"/>
          <a:srcRect l="0" t="0" r="0" b="14868"/>
          <a:stretch/>
        </p:blipFill>
        <p:spPr>
          <a:xfrm>
            <a:off x="2340000" y="1341360"/>
            <a:ext cx="5310000" cy="55166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2"/>
          <p:cNvSpPr/>
          <p:nvPr/>
        </p:nvSpPr>
        <p:spPr>
          <a:xfrm>
            <a:off x="357120" y="357120"/>
            <a:ext cx="8497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3: kabinet en regering / §4:Het Parlement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6BC63-6D8F-4DD1-B4DF-4FF927AD74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weedekamer verkiezingen </a:t>
            </a:r>
            <a:r>
              <a:rPr b="1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 dan de kabinets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atie van ministers d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t samen globaal eens zijn over het toekomstig bel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 de meerderheid van de zetels hebben (de helft + 1 = 7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D42F-73B9-4A57-B408-315E5D9EE0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0920" y="1268280"/>
            <a:ext cx="8447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oe gaat de kabinetsformati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gadering  m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  Koning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ice-president Raad van St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oorzitters 1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Fractievoorzit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in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ze onderzoekt welke partijen misschien samen kun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aat partijen compromissen slui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lt samen met coalitiepartijen het regeerakkoord o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formateur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oekt geschikte ministers en staatssecretarisse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55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s meestal afkomstig van de grootste regeringspartij en wordt meestal minister presiden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oningin benoemt ministers en staatssecretari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5. Foto op het bor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971640" y="476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http://www.elsevier.nl/upload/045be808-d989-459c-86a2-b85ff68a04f1_bordesrutte.jpg"/>
          <p:cNvPicPr/>
          <p:nvPr/>
        </p:nvPicPr>
        <p:blipFill>
          <a:blip r:embed="rId1"/>
          <a:stretch/>
        </p:blipFill>
        <p:spPr>
          <a:xfrm>
            <a:off x="179280" y="1413000"/>
            <a:ext cx="8685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EC20-F1B4-4A8D-9A0F-C7EF4EF1819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arlementaire democra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539640" y="6237360"/>
            <a:ext cx="7561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Toets november 2009                  Hele boek!!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65_montesquieu"/>
          <p:cNvPicPr/>
          <p:nvPr/>
        </p:nvPicPr>
        <p:blipFill>
          <a:blip r:embed="rId1"/>
          <a:stretch/>
        </p:blipFill>
        <p:spPr>
          <a:xfrm>
            <a:off x="1692360" y="2708280"/>
            <a:ext cx="5933880" cy="3295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question_mark_3d"/>
          <p:cNvPicPr/>
          <p:nvPr/>
        </p:nvPicPr>
        <p:blipFill>
          <a:blip r:embed="rId2"/>
          <a:stretch/>
        </p:blipFill>
        <p:spPr>
          <a:xfrm rot="1550400">
            <a:off x="4140360" y="2060640"/>
            <a:ext cx="267624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rcRect l="17344" t="21284" r="6249" b="17687"/>
          <a:stretch/>
        </p:blipFill>
        <p:spPr>
          <a:xfrm>
            <a:off x="468360" y="1052640"/>
            <a:ext cx="81262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" descr=""/>
          <p:cNvPicPr/>
          <p:nvPr/>
        </p:nvPicPr>
        <p:blipFill>
          <a:blip r:embed="rId2"/>
          <a:srcRect l="16606" t="18332" r="3661" b="22613"/>
          <a:stretch/>
        </p:blipFill>
        <p:spPr>
          <a:xfrm>
            <a:off x="324000" y="981000"/>
            <a:ext cx="85532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971640" y="260280"/>
            <a:ext cx="7020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547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(nieuwe) regering noteert de belangrijkste plannen voor komende </a:t>
            </a:r>
            <a:br>
              <a:rPr sz="3200"/>
            </a:b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4 jaar in een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erakkoor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6" descr="http://www.elsevier.nl/upload/c6bcec6d-de90-4dce-8bec-190ae10054d0_verhagenruttewilders.jpg"/>
          <p:cNvPicPr/>
          <p:nvPr/>
        </p:nvPicPr>
        <p:blipFill>
          <a:blip r:embed="rId1"/>
          <a:stretch/>
        </p:blipFill>
        <p:spPr>
          <a:xfrm>
            <a:off x="2124000" y="2997360"/>
            <a:ext cx="46436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2195280" y="1268280"/>
            <a:ext cx="69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regerings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uidige 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logo vvd"/>
          <p:cNvPicPr/>
          <p:nvPr/>
        </p:nvPicPr>
        <p:blipFill>
          <a:blip r:embed="rId1"/>
          <a:stretch/>
        </p:blipFill>
        <p:spPr>
          <a:xfrm>
            <a:off x="4572000" y="1628640"/>
            <a:ext cx="700200" cy="865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logo cda"/>
          <p:cNvPicPr/>
          <p:nvPr/>
        </p:nvPicPr>
        <p:blipFill>
          <a:blip r:embed="rId2"/>
          <a:stretch/>
        </p:blipFill>
        <p:spPr>
          <a:xfrm>
            <a:off x="2411280" y="1773360"/>
            <a:ext cx="1511280" cy="7254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logo CU"/>
          <p:cNvPicPr/>
          <p:nvPr/>
        </p:nvPicPr>
        <p:blipFill>
          <a:blip r:embed="rId3"/>
          <a:stretch/>
        </p:blipFill>
        <p:spPr>
          <a:xfrm>
            <a:off x="5796000" y="3716280"/>
            <a:ext cx="2303280" cy="638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logo d66"/>
          <p:cNvPicPr/>
          <p:nvPr/>
        </p:nvPicPr>
        <p:blipFill>
          <a:blip r:embed="rId4"/>
          <a:stretch/>
        </p:blipFill>
        <p:spPr>
          <a:xfrm>
            <a:off x="5508720" y="4653000"/>
            <a:ext cx="863640" cy="6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LOGO groen links"/>
          <p:cNvPicPr/>
          <p:nvPr/>
        </p:nvPicPr>
        <p:blipFill>
          <a:blip r:embed="rId5"/>
          <a:srcRect l="0" t="21404" r="0" b="0"/>
          <a:stretch/>
        </p:blipFill>
        <p:spPr>
          <a:xfrm>
            <a:off x="2411280" y="3716280"/>
            <a:ext cx="1441440" cy="523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LOGO pvda"/>
          <p:cNvPicPr/>
          <p:nvPr/>
        </p:nvPicPr>
        <p:blipFill>
          <a:blip r:embed="rId6"/>
          <a:stretch/>
        </p:blipFill>
        <p:spPr>
          <a:xfrm>
            <a:off x="1332000" y="4005360"/>
            <a:ext cx="662040" cy="7920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logo pvv"/>
          <p:cNvPicPr/>
          <p:nvPr/>
        </p:nvPicPr>
        <p:blipFill>
          <a:blip r:embed="rId7"/>
          <a:srcRect l="0" t="17829" r="0" b="19982"/>
          <a:stretch/>
        </p:blipFill>
        <p:spPr>
          <a:xfrm>
            <a:off x="2268360" y="4508640"/>
            <a:ext cx="1835280" cy="6062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1" descr="logo sgp"/>
          <p:cNvPicPr/>
          <p:nvPr/>
        </p:nvPicPr>
        <p:blipFill>
          <a:blip r:embed="rId8"/>
          <a:srcRect l="16553" t="0" r="16723" b="11262"/>
          <a:stretch/>
        </p:blipFill>
        <p:spPr>
          <a:xfrm>
            <a:off x="8244000" y="458136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2" descr="LOGO sp"/>
          <p:cNvPicPr/>
          <p:nvPr/>
        </p:nvPicPr>
        <p:blipFill>
          <a:blip r:embed="rId9"/>
          <a:stretch/>
        </p:blipFill>
        <p:spPr>
          <a:xfrm>
            <a:off x="6875640" y="4653000"/>
            <a:ext cx="863280" cy="4777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3" descr="logo pvvd"/>
          <p:cNvPicPr/>
          <p:nvPr/>
        </p:nvPicPr>
        <p:blipFill>
          <a:blip r:embed="rId10"/>
          <a:stretch/>
        </p:blipFill>
        <p:spPr>
          <a:xfrm>
            <a:off x="4356000" y="3716280"/>
            <a:ext cx="825480" cy="93492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F73A-FE13-43A3-96A3-1E23464AB4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8920" y="1267920"/>
            <a:ext cx="576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de koningi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 handtekening onder alle w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est de troonrede v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legt met de minister presi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tegenwoordigt ons land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lpt ná de verkiezingen met het vormen van de nieuwe reg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schendb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2006-09-20%20-%20Koningin%20Beatrix%20-%20troonrede%202006"/>
          <p:cNvPicPr/>
          <p:nvPr/>
        </p:nvPicPr>
        <p:blipFill>
          <a:blip r:embed="rId1"/>
          <a:srcRect l="8960" t="0" r="10939" b="5207"/>
          <a:stretch/>
        </p:blipFill>
        <p:spPr>
          <a:xfrm>
            <a:off x="5940360" y="1268280"/>
            <a:ext cx="2952720" cy="50292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3610-50C1-4384-BD55-EAB096DB747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-324360" y="1413000"/>
            <a:ext cx="88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Ministers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zij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olitiek verantwoordelijk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voor hun beleidsterrein (portefeuil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ken zij een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rnstige fou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ftr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-3884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amerleden dienen motie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wantrouwen in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angenomen = ook aftre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tie van wantrouwen tegen hele kabinetsbeleid = kabinetscri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56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7" descr="fs"/>
          <p:cNvPicPr/>
          <p:nvPr/>
        </p:nvPicPr>
        <p:blipFill>
          <a:blip r:embed="rId1"/>
          <a:srcRect l="12929" t="0" r="9545" b="14848"/>
          <a:stretch/>
        </p:blipFill>
        <p:spPr>
          <a:xfrm>
            <a:off x="5219640" y="2781360"/>
            <a:ext cx="3672000" cy="252576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971640" y="260280"/>
            <a:ext cx="7020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</a:rPr>
              <a:t>§3: Kabinet en regering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98FE-331D-46DE-88AE-D1A3B5B1D07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3" descr="65_montesquieu"/>
          <p:cNvPicPr/>
          <p:nvPr/>
        </p:nvPicPr>
        <p:blipFill>
          <a:blip r:embed="rId1"/>
          <a:stretch/>
        </p:blipFill>
        <p:spPr>
          <a:xfrm>
            <a:off x="395280" y="1268280"/>
            <a:ext cx="8604360" cy="47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FDF2-E44F-4469-B624-84A3222A35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stembiljet"/>
          <p:cNvPicPr/>
          <p:nvPr/>
        </p:nvPicPr>
        <p:blipFill>
          <a:blip r:embed="rId1"/>
          <a:stretch/>
        </p:blipFill>
        <p:spPr>
          <a:xfrm>
            <a:off x="1908000" y="3429000"/>
            <a:ext cx="4535640" cy="15112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324000" y="1268280"/>
            <a:ext cx="8569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olitieke partij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ste beleidsterreinen (programma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kandidaten bij verkiezing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omen op voor het algemeen bela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50920" y="5013360"/>
            <a:ext cx="889308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pressiegroep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ideeën over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nkel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belangrijke beleidsterrein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lt zich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verkiesb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beert de politiek te beïnvloe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C27D-ABBE-4C2B-86B5-5EFECF5A30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3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oalitieregering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gering die uit meerdere partijen besta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gerings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 én in de reg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de meerderheid zelf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ppositiepartij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eft leden in het par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regering + stelt dingen v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612-D090-479A-8925-691EF588AE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324000" y="1268280"/>
            <a:ext cx="8820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at doet het Parlem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etgev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temrecht bij wetsontwer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udgetrecht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= rijksbegroting wel of niet goedk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itiatief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wetsontwerp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Amendemen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 meerderheid veranderingen aanbrengen in wetsvoorst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ntrolerende taa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ragenrech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elke dinsdag vragen stellen aan mini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Moties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= bijvoorbeeld een motie van wantrouwen aannemen of indie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ouden van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interpellati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ver belangrijk onderwerp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poeddeb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arlementaire Enquête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houden, onderzoekscommissie vormen, onder ede laten getuig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3" descr="j0124651.wmf (126222 bytes)"/>
          <p:cNvPicPr/>
          <p:nvPr/>
        </p:nvPicPr>
        <p:blipFill>
          <a:blip r:embed="rId1"/>
          <a:stretch/>
        </p:blipFill>
        <p:spPr>
          <a:xfrm>
            <a:off x="6516720" y="620640"/>
            <a:ext cx="2305080" cy="1594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5"/>
          <p:cNvSpPr/>
          <p:nvPr/>
        </p:nvSpPr>
        <p:spPr>
          <a:xfrm>
            <a:off x="611280" y="26028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395E-4334-4456-82BA-D5C720B57F0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7640" y="1267920"/>
            <a:ext cx="87850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olitiek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t maken van keuzes zodat een land, een provincie of een gemeente kan worden bestuu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vloed do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m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d worden van politieke parti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oek indienen (bvb bij gemeentera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bena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sluiten bij actie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zwaarschrift schrijven (rech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urgelijke ongehoorzaamheid (kerk zet geen asielzoekers 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1587-426D-4D6D-B8C3-E2C3980FC21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24360" y="1268280"/>
            <a:ext cx="9720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9705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 wetsontwerp naar w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gering maak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ndt ontwerp naar Tweed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ractiespecialisten bekijken het, kunnen punten wijzigen, stellen vragen aan de minister: debateren. Daarna geeft voltallige Tweede Kamer het oordeel over het wetsontwerp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derheid Tweede Kamer voo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aat naar Eerste kamer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g géén wijzigingen meer aannemen, bekijkt het nog eens goed, zegt: “ja” of “nee” (bijna altijd; “j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. Betreffende minister + koningin zetten handtekening onder de w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5. Wet komt in de Staatsco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staatscourant"/>
          <p:cNvPicPr/>
          <p:nvPr/>
        </p:nvPicPr>
        <p:blipFill>
          <a:blip r:embed="rId1"/>
          <a:stretch/>
        </p:blipFill>
        <p:spPr>
          <a:xfrm>
            <a:off x="4219560" y="5661000"/>
            <a:ext cx="4924440" cy="9334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4: Het Par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CCFB5-6040-4950-A3D6-2C3E17D7E2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413000"/>
            <a:ext cx="7705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decentraliseerde eenheidssta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ijk beslit grote lijnen, gedetailleerde invulling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aan lagere overheden overgela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2637000"/>
            <a:ext cx="3240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Voor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een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r niet alles centraal gere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tere afstem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lokale zeggenschap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4716360" y="2708280"/>
            <a:ext cx="3492720" cy="28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Nadel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okale bevoegdheden zijn beperkt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é veel centrale stu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veel verscheidenheid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5306-FF7A-425C-8DEC-D26FDF17EF6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meentera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 liggen dichter bij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emmingsplan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enbaar vervo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oner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port en onderwijsvoorzie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reca vergunn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F4287-85B8-4160-BB27-F649547D08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11280" y="1600200"/>
            <a:ext cx="807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et college van B&amp;W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llege van Burgemeester en Wethou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rt het beleid u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en benoemd door de gemeentera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meentera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emt besluit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ontroleert het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gekozen door de bevol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 burgemeeste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voorzitter van de gemeenteraad en College van B&amp;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ordt benoemd door de reg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21AB5-E60E-4173-A681-85D0A0B95FE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Provinc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ar stemmen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provinciale 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aken liggen b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uimtelijke orde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k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lie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geme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Toezicht op waterbeh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02802-4A71-4747-82E0-E7E7706DE9D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2268000" y="1600200"/>
            <a:ext cx="64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dental Provinciale Staten hangt af van aantal inwoners van de provinc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Provinciale Staten kiezen de leden van de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deputeerde Sta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dagelijks best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0987-9F06-4086-B43E-BAAAA53EA8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5"/>
          <p:cNvGrpSpPr/>
          <p:nvPr/>
        </p:nvGrpSpPr>
        <p:grpSpPr>
          <a:xfrm>
            <a:off x="179280" y="1773360"/>
            <a:ext cx="8675640" cy="3288240"/>
            <a:chOff x="179280" y="1773360"/>
            <a:chExt cx="8675640" cy="3288240"/>
          </a:xfrm>
        </p:grpSpPr>
        <p:sp>
          <p:nvSpPr>
            <p:cNvPr id="238" name="Text Box 4"/>
            <p:cNvSpPr/>
            <p:nvPr/>
          </p:nvSpPr>
          <p:spPr>
            <a:xfrm>
              <a:off x="2195280" y="3141720"/>
              <a:ext cx="2160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rgemeester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5"/>
            <p:cNvSpPr/>
            <p:nvPr/>
          </p:nvSpPr>
          <p:spPr>
            <a:xfrm>
              <a:off x="212220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meenteraad (9 tot 45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6"/>
            <p:cNvSpPr/>
            <p:nvPr/>
          </p:nvSpPr>
          <p:spPr>
            <a:xfrm>
              <a:off x="457020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Wethouders (2-9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7"/>
            <p:cNvSpPr/>
            <p:nvPr/>
          </p:nvSpPr>
          <p:spPr>
            <a:xfrm>
              <a:off x="284292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B en W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17928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349092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Text Box 10"/>
            <p:cNvSpPr/>
            <p:nvPr/>
          </p:nvSpPr>
          <p:spPr>
            <a:xfrm>
              <a:off x="727056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727056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GR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356220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565128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572292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Line 15"/>
            <p:cNvSpPr/>
            <p:nvPr/>
          </p:nvSpPr>
          <p:spPr>
            <a:xfrm>
              <a:off x="176184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6"/>
            <p:cNvSpPr/>
            <p:nvPr/>
          </p:nvSpPr>
          <p:spPr>
            <a:xfrm flipH="1">
              <a:off x="709092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24"/>
            <p:cNvSpPr/>
            <p:nvPr/>
          </p:nvSpPr>
          <p:spPr>
            <a:xfrm flipV="1">
              <a:off x="5506920" y="443700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 Box 30"/>
            <p:cNvSpPr/>
            <p:nvPr/>
          </p:nvSpPr>
          <p:spPr>
            <a:xfrm>
              <a:off x="2050920" y="4724280"/>
              <a:ext cx="680400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ekozen door de bevolk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36C8-1D03-462C-B8CA-5AC9883F49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"/>
          <p:cNvGrpSpPr/>
          <p:nvPr/>
        </p:nvGrpSpPr>
        <p:grpSpPr>
          <a:xfrm>
            <a:off x="468360" y="1773360"/>
            <a:ext cx="8675640" cy="2600280"/>
            <a:chOff x="468360" y="1773360"/>
            <a:chExt cx="8675640" cy="2600280"/>
          </a:xfrm>
        </p:grpSpPr>
        <p:sp>
          <p:nvSpPr>
            <p:cNvPr id="256" name="Text Box 4"/>
            <p:cNvSpPr/>
            <p:nvPr/>
          </p:nvSpPr>
          <p:spPr>
            <a:xfrm>
              <a:off x="2484360" y="3141720"/>
              <a:ext cx="2160720" cy="64260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mmissaris van de Koningi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5"/>
            <p:cNvSpPr/>
            <p:nvPr/>
          </p:nvSpPr>
          <p:spPr>
            <a:xfrm>
              <a:off x="2411280" y="4005360"/>
              <a:ext cx="673272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Provinciale Staten (39 tot 83 leden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6"/>
            <p:cNvSpPr/>
            <p:nvPr/>
          </p:nvSpPr>
          <p:spPr>
            <a:xfrm>
              <a:off x="4859280" y="3141720"/>
              <a:ext cx="244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Gedeputeerden (6-8)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7"/>
            <p:cNvSpPr/>
            <p:nvPr/>
          </p:nvSpPr>
          <p:spPr>
            <a:xfrm>
              <a:off x="3132000" y="2205000"/>
              <a:ext cx="3889440" cy="368280"/>
            </a:xfrm>
            <a:prstGeom prst="rect">
              <a:avLst/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College van Gedeputeerde Staten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8"/>
            <p:cNvSpPr/>
            <p:nvPr/>
          </p:nvSpPr>
          <p:spPr>
            <a:xfrm>
              <a:off x="468360" y="314172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regering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9"/>
            <p:cNvSpPr/>
            <p:nvPr/>
          </p:nvSpPr>
          <p:spPr>
            <a:xfrm>
              <a:off x="3780000" y="1773360"/>
              <a:ext cx="2160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agelijks bestuur: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0"/>
            <p:cNvSpPr/>
            <p:nvPr/>
          </p:nvSpPr>
          <p:spPr>
            <a:xfrm>
              <a:off x="7559640" y="2708280"/>
              <a:ext cx="1584360" cy="58068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Benoemd door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1"/>
            <p:cNvSpPr/>
            <p:nvPr/>
          </p:nvSpPr>
          <p:spPr>
            <a:xfrm>
              <a:off x="7559640" y="3357720"/>
              <a:ext cx="1584360" cy="337320"/>
            </a:xfrm>
            <a:prstGeom prst="rect">
              <a:avLst/>
            </a:prstGeom>
            <a:solidFill>
              <a:srgbClr val="ff00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één lid PS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12"/>
            <p:cNvSpPr/>
            <p:nvPr/>
          </p:nvSpPr>
          <p:spPr>
            <a:xfrm>
              <a:off x="3851280" y="263700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13"/>
            <p:cNvSpPr/>
            <p:nvPr/>
          </p:nvSpPr>
          <p:spPr>
            <a:xfrm>
              <a:off x="5940360" y="2637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4"/>
            <p:cNvSpPr/>
            <p:nvPr/>
          </p:nvSpPr>
          <p:spPr>
            <a:xfrm>
              <a:off x="6012000" y="357336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2050920" y="342900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6"/>
            <p:cNvSpPr/>
            <p:nvPr/>
          </p:nvSpPr>
          <p:spPr>
            <a:xfrm flipH="1">
              <a:off x="7380000" y="335772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 Box 17"/>
          <p:cNvSpPr/>
          <p:nvPr/>
        </p:nvSpPr>
        <p:spPr>
          <a:xfrm>
            <a:off x="7920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5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8"/>
          <p:cNvSpPr/>
          <p:nvPr/>
        </p:nvSpPr>
        <p:spPr>
          <a:xfrm>
            <a:off x="521964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3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6588000" y="4724280"/>
            <a:ext cx="1224000" cy="52020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4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20"/>
          <p:cNvSpPr/>
          <p:nvPr/>
        </p:nvSpPr>
        <p:spPr>
          <a:xfrm>
            <a:off x="370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2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21"/>
          <p:cNvSpPr/>
          <p:nvPr/>
        </p:nvSpPr>
        <p:spPr>
          <a:xfrm>
            <a:off x="2268360" y="4724280"/>
            <a:ext cx="1224000" cy="5202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Fractie 1</a:t>
            </a:r>
            <a:br>
              <a:rPr sz="1400"/>
            </a:b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oppositie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2"/>
          <p:cNvSpPr/>
          <p:nvPr/>
        </p:nvSpPr>
        <p:spPr>
          <a:xfrm flipV="1">
            <a:off x="284328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3"/>
          <p:cNvSpPr/>
          <p:nvPr/>
        </p:nvSpPr>
        <p:spPr>
          <a:xfrm flipV="1">
            <a:off x="4284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4"/>
          <p:cNvSpPr/>
          <p:nvPr/>
        </p:nvSpPr>
        <p:spPr>
          <a:xfrm flipV="1">
            <a:off x="579600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5"/>
          <p:cNvSpPr/>
          <p:nvPr/>
        </p:nvSpPr>
        <p:spPr>
          <a:xfrm flipV="1">
            <a:off x="7164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6"/>
          <p:cNvSpPr/>
          <p:nvPr/>
        </p:nvSpPr>
        <p:spPr>
          <a:xfrm flipV="1">
            <a:off x="853272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5: Gemeente en provinc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D512-1C49-455D-8D93-D4178490B2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23640" y="160020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: Europese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munteenheid (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voor vre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concurrentie in europ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al ecnomische bela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europe%20flag"/>
          <p:cNvPicPr/>
          <p:nvPr/>
        </p:nvPicPr>
        <p:blipFill>
          <a:blip r:embed="rId1"/>
          <a:stretch/>
        </p:blipFill>
        <p:spPr>
          <a:xfrm>
            <a:off x="4500720" y="2205000"/>
            <a:ext cx="43210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A513-3F89-4F8D-93B4-5BF742A6FF6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427280" y="1557360"/>
            <a:ext cx="439236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EU: Europese Unie: nad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nationale soevereiniteit: De Nederlandse regering kan niet alles zelf besli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democratisch karak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ederlandse burger hebben minder invloed op besluiten van de EU (dan van onze nationale reg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werkgelegen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5" descr="EU%20vlag"/>
          <p:cNvPicPr/>
          <p:nvPr/>
        </p:nvPicPr>
        <p:blipFill>
          <a:blip r:embed="rId1"/>
          <a:stretch/>
        </p:blipFill>
        <p:spPr>
          <a:xfrm>
            <a:off x="250920" y="1844640"/>
            <a:ext cx="3889440" cy="278604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1A87-B542-4BF4-875B-3DEE184B4A3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ictatuur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uba (Fidel Castro)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ed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1 persoon/groep/familie/partij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olksvertegenwoordiging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litairen aan de ma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egenoversgestelde van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geldt nie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ndwet met basis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Fraude bij verkiezing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heime/vrije verkiez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en gelijke rechte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elijke rechten voor ieder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onderdruk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 recht op 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Censuur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Pers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iet je mening uit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Vrijheid van meningsu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Manipulatie/indoctrinatie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Indirecte democr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Onderdanen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bu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Nooit een rechtsstaa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sst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Rechters niet onafhankelijk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trias 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Heerst veel angs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leven in vrij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634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§1: politiek, staat en dict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99EAC-7772-4FD5-99F8-8C3AD5CD44E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drie instellingen die samen het bestuur van de Europese Unie vorme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se Commiss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uropees Parl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6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06366-173F-4233-897D-276D8D0FB32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uropese Commissie:</a:t>
            </a:r>
            <a:br>
              <a:rPr sz="2800"/>
            </a:b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 het 'dagelijks bestuur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itiatief tot voorstellen voor wetgeving en maatregelen op Europees nivea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zorgt voor uitvoering van de w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EU%20vlag"/>
          <p:cNvPicPr/>
          <p:nvPr/>
        </p:nvPicPr>
        <p:blipFill>
          <a:blip r:embed="rId1"/>
          <a:stretch/>
        </p:blipFill>
        <p:spPr>
          <a:xfrm>
            <a:off x="6227640" y="4581360"/>
            <a:ext cx="2162160" cy="15494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6E04-EACB-45C9-BAC7-6E4594941D1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Europees Parlemen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s per 5 jaar gekoz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t ervoor dat wetten democratisch tot stand kom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dviseert of beslist over de wetsvoorstell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list over de toetreding van nieuwe land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trole over de Europese Commiss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EU%20vlag"/>
          <p:cNvPicPr/>
          <p:nvPr/>
        </p:nvPicPr>
        <p:blipFill>
          <a:blip r:embed="rId1"/>
          <a:stretch/>
        </p:blipFill>
        <p:spPr>
          <a:xfrm>
            <a:off x="7126200" y="541188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5D21-B4F7-4E87-8F91-9E86247791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aad van Minist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ministers van de afzonderlijke lidstaten nemen de uiteindelijke beslissing over de wetgeving in de Un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gen met regeringsleiders (euro-to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uisteren naar voorstellen van de Commissie en het advies van het Europees Parlem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EU%20vlag"/>
          <p:cNvPicPr/>
          <p:nvPr/>
        </p:nvPicPr>
        <p:blipFill>
          <a:blip r:embed="rId1"/>
          <a:stretch/>
        </p:blipFill>
        <p:spPr>
          <a:xfrm>
            <a:off x="6804000" y="5157720"/>
            <a:ext cx="2017800" cy="1446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5496B-5032-4AC5-8DF8-6A1F79A896C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611280" y="1557360"/>
            <a:ext cx="76327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Leden van de EU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4" descr=""/>
          <p:cNvPicPr/>
          <p:nvPr/>
        </p:nvPicPr>
        <p:blipFill>
          <a:blip r:embed="rId1"/>
          <a:srcRect l="16032" t="25589" r="21208" b="36162"/>
          <a:stretch/>
        </p:blipFill>
        <p:spPr>
          <a:xfrm>
            <a:off x="0" y="2060640"/>
            <a:ext cx="8820000" cy="403236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1728-4716-4478-8617-62BB762044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EU%20vlag"/>
          <p:cNvPicPr/>
          <p:nvPr/>
        </p:nvPicPr>
        <p:blipFill>
          <a:blip r:embed="rId1"/>
          <a:stretch/>
        </p:blipFill>
        <p:spPr>
          <a:xfrm>
            <a:off x="6877080" y="5229360"/>
            <a:ext cx="2017800" cy="144612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6" descr=""/>
          <p:cNvPicPr/>
          <p:nvPr/>
        </p:nvPicPr>
        <p:blipFill>
          <a:blip r:embed="rId2"/>
          <a:srcRect l="15301" t="22439" r="24154" b="7683"/>
          <a:stretch/>
        </p:blipFill>
        <p:spPr>
          <a:xfrm>
            <a:off x="1187280" y="1413000"/>
            <a:ext cx="6048720" cy="523548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A32E-FD01-4B8D-8BAB-A69926B6E0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enigde Naties (V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ijna alle landen van de wereld zijn er lid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el: komende generaties behoeden voor oor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or internationale vrede en veiligheid te handh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amen werken bij natuurrampen, oorlog, hongersnood en armo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spect bevorderen van mensenre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lag V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6" descr="Vlag van de Verenigde Naties"/>
          <p:cNvPicPr/>
          <p:nvPr/>
        </p:nvPicPr>
        <p:blipFill>
          <a:blip r:embed="rId1"/>
          <a:stretch/>
        </p:blipFill>
        <p:spPr>
          <a:xfrm>
            <a:off x="6667560" y="521028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AF9B-C82F-47A5-99EF-D745AA33A31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324000" y="1341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Bestuur van de Verenigde Naties (V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r zijn zes bestuursorganen die de werkzaamheden van de organisatie aanstur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Algemene Verga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Economische en Sociale 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et Internationaal Gerechtsh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het Secretariaat (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craterus-genera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Trustschapsraad (tegenwoordig inactief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e Veiligheidsra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6667560" y="3357720"/>
            <a:ext cx="2476440" cy="164772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0CD6-CF05-415C-AFFA-3AD72228726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79214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k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an september tot december bespreken ze de problemen in de wer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oms komt er een resolutie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t is een soort niet bindende wetg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 kunnen voorstellen om een land te boyco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edestroepen: ze kunnen militairen sturen naar een gebied. (zoals de Nederlandse Blauwhel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Vlag van de Verenigde Naties"/>
          <p:cNvPicPr/>
          <p:nvPr/>
        </p:nvPicPr>
        <p:blipFill>
          <a:blip r:embed="rId1"/>
          <a:stretch/>
        </p:blipFill>
        <p:spPr>
          <a:xfrm>
            <a:off x="1476360" y="4941720"/>
            <a:ext cx="2476440" cy="1648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6" descr="10828987"/>
          <p:cNvPicPr/>
          <p:nvPr/>
        </p:nvPicPr>
        <p:blipFill>
          <a:blip r:embed="rId2"/>
          <a:stretch/>
        </p:blipFill>
        <p:spPr>
          <a:xfrm>
            <a:off x="5724360" y="4941720"/>
            <a:ext cx="2381400" cy="165744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6: Nederland en Europa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 zijn veel knelpunten i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ek vinden veel mensen niet interessant: de afstand is groot tussen kiezers en polit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hebben wij gekozen: zij zouden meer macht moeten hebben dan de reg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ringspartijen maken regeerakkoord, parlement heeft weinig te vertellen: meerderheid is toch wel voo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FED4-7C8F-4530-AFE5-CFEB5D436B0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8302-E49F-4F0C-8C4E-B4B8C6E2489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979280" y="1600200"/>
            <a:ext cx="670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052640"/>
            <a:ext cx="828036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 Basiselementen voor democra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1. Alle 18+ inwoners met NL paspoort kunnen d.m.v. algemeen kiesrecht invloed uitoefenen op de 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2. Aantal grondrechten is gewaarborgd om in vrijheid invloed te kunnen uitoefen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er is enkel sprake van democratie als er ook een rechtsstaat i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alle burgers hebben gelijke rechten. Er mag niet worden gediscrimineerd.</a:t>
            </a:r>
            <a:br>
              <a:rPr sz="2400"/>
            </a:b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Vrij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burgers moeten hun eigen leven kunnen inri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lement neemt soms een besluit tegen de wil van de NL-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mige problemen zijn nou eenmaal moeilijk op te lo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ls zijn té ingewikkeld daarom weinig vertrouwen in de politiek (bureauctati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ms houden aan de regels op Europees niveau, ookal niet mee 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EB70-A5C2-4247-9914-1711946E2F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7:Knelpunten in de politi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ferendum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iezers stemmen direct over een bepaald onderwer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ionale kandidaatstell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ndidaten voor politieke partijen moeten uit de verschillende regio’s kom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eregulering: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taken worden steeds meer uitgevoerd door gemeente en provincie in plaats van landelij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72ED-C42A-4381-9C3B-EA656B9B4B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 het nemen van een besluit/het maken van een wet moet altijd eerst een reden zijn. Er zijn 5 fasen waarin de besluiten genomen worden binnen de politie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DF50D-7078-4B45-8282-C69D9B51633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8: Politieke besluitvor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28760" y="1571760"/>
            <a:ext cx="82296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lsel van politieke besluitvorm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8FAE-8F01-4BA0-BCCA-8CE41757E96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kstvak 5"/>
          <p:cNvSpPr/>
          <p:nvPr/>
        </p:nvSpPr>
        <p:spPr>
          <a:xfrm>
            <a:off x="42876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1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kstvak 6"/>
          <p:cNvSpPr/>
          <p:nvPr/>
        </p:nvSpPr>
        <p:spPr>
          <a:xfrm>
            <a:off x="1071720" y="4071960"/>
            <a:ext cx="6991200" cy="4597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5: Terugkoppeling: </a:t>
            </a: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werkt de maatregel/wet? Evalueren.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kstvak 7"/>
          <p:cNvSpPr/>
          <p:nvPr/>
        </p:nvSpPr>
        <p:spPr>
          <a:xfrm>
            <a:off x="7215120" y="2857680"/>
            <a:ext cx="15001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4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Uitvo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kstvak 8"/>
          <p:cNvSpPr/>
          <p:nvPr/>
        </p:nvSpPr>
        <p:spPr>
          <a:xfrm>
            <a:off x="4643280" y="2857680"/>
            <a:ext cx="225756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3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luitvorm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2428920" y="2857680"/>
            <a:ext cx="1890720" cy="8254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Fase 2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mzett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Rechte verbindingslijn met pijl 11"/>
          <p:cNvCxnSpPr>
            <a:stCxn id="349" idx="3"/>
            <a:endCxn id="353" idx="1"/>
          </p:cNvCxnSpPr>
          <p:nvPr/>
        </p:nvCxnSpPr>
        <p:spPr>
          <a:xfrm>
            <a:off x="1928520" y="3273480"/>
            <a:ext cx="5007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5" name="Rechte verbindingslijn met pijl 15"/>
          <p:cNvCxnSpPr>
            <a:stCxn id="352" idx="3"/>
            <a:endCxn id="351" idx="1"/>
          </p:cNvCxnSpPr>
          <p:nvPr/>
        </p:nvCxnSpPr>
        <p:spPr>
          <a:xfrm>
            <a:off x="6900480" y="3273480"/>
            <a:ext cx="3150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6" name="Rechte verbindingslijn met pijl 20"/>
          <p:cNvCxnSpPr>
            <a:stCxn id="353" idx="3"/>
            <a:endCxn id="352" idx="1"/>
          </p:cNvCxnSpPr>
          <p:nvPr/>
        </p:nvCxnSpPr>
        <p:spPr>
          <a:xfrm>
            <a:off x="4319280" y="3273480"/>
            <a:ext cx="324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7" name="Gebogen verbindingslijn 22"/>
          <p:cNvCxnSpPr>
            <a:stCxn id="351" idx="2"/>
            <a:endCxn id="350" idx="3"/>
          </p:cNvCxnSpPr>
          <p:nvPr/>
        </p:nvCxnSpPr>
        <p:spPr>
          <a:xfrm flipH="1" rot="16200000">
            <a:off x="7706520" y="3946320"/>
            <a:ext cx="614880" cy="97560"/>
          </a:xfrm>
          <a:prstGeom prst="bentConnector4">
            <a:avLst>
              <a:gd name="adj1" fmla="val 31165"/>
              <a:gd name="adj2" fmla="val 1002222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358" name="Vorm 25"/>
          <p:cNvCxnSpPr>
            <a:endCxn id="350" idx="1"/>
          </p:cNvCxnSpPr>
          <p:nvPr/>
        </p:nvCxnSpPr>
        <p:spPr>
          <a:xfrm rot="5400000">
            <a:off x="813240" y="3972600"/>
            <a:ext cx="587880" cy="72000"/>
          </a:xfrm>
          <a:prstGeom prst="bentConnector4">
            <a:avLst>
              <a:gd name="adj1" fmla="val 30330"/>
              <a:gd name="adj2" fmla="val 419597"/>
            </a:avLst>
          </a:prstGeom>
          <a:ln w="93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359" name="Rechte verbindingslijn 28"/>
          <p:cNvSpPr/>
          <p:nvPr/>
        </p:nvSpPr>
        <p:spPr>
          <a:xfrm>
            <a:off x="2143080" y="2500200"/>
            <a:ext cx="0" cy="14288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kstvak 29"/>
          <p:cNvSpPr/>
          <p:nvPr/>
        </p:nvSpPr>
        <p:spPr>
          <a:xfrm>
            <a:off x="857160" y="2143080"/>
            <a:ext cx="80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nl-NL" sz="1400" spc="-1" strike="noStrike">
                <a:solidFill>
                  <a:srgbClr val="000000"/>
                </a:solidFill>
                <a:latin typeface="Arial"/>
              </a:rPr>
              <a:t>poortwachters: kijken of het probleem belangrijk genoeg is om op de politieke agenda te komen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kstvak 30"/>
          <p:cNvSpPr/>
          <p:nvPr/>
        </p:nvSpPr>
        <p:spPr>
          <a:xfrm>
            <a:off x="500040" y="4643280"/>
            <a:ext cx="157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Uiten van wensen, verlangens en behoeft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31"/>
          <p:cNvSpPr/>
          <p:nvPr/>
        </p:nvSpPr>
        <p:spPr>
          <a:xfrm>
            <a:off x="7215120" y="4714920"/>
            <a:ext cx="157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Besluit wordt uitgevoerd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kstvak 32"/>
          <p:cNvSpPr/>
          <p:nvPr/>
        </p:nvSpPr>
        <p:spPr>
          <a:xfrm>
            <a:off x="5000760" y="4714920"/>
            <a:ext cx="1571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(Voorlopig) besluit wordt genomen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kstvak 33"/>
          <p:cNvSpPr/>
          <p:nvPr/>
        </p:nvSpPr>
        <p:spPr>
          <a:xfrm>
            <a:off x="2500200" y="4714920"/>
            <a:ext cx="200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Prioriteit bekijken,  onderzoeken wat mogelijke oplossingen zij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kstvak 34"/>
          <p:cNvSpPr/>
          <p:nvPr/>
        </p:nvSpPr>
        <p:spPr>
          <a:xfrm>
            <a:off x="428760" y="5780160"/>
            <a:ext cx="1785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r wordt actie gevoerd omdat er te veel tussen uren zijn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35"/>
          <p:cNvSpPr/>
          <p:nvPr/>
        </p:nvSpPr>
        <p:spPr>
          <a:xfrm>
            <a:off x="2428920" y="5857920"/>
            <a:ext cx="2571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Vroeger/later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Zaterdag ook naar school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Etc…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kstvak 36"/>
          <p:cNvSpPr/>
          <p:nvPr/>
        </p:nvSpPr>
        <p:spPr>
          <a:xfrm>
            <a:off x="5072040" y="5780160"/>
            <a:ext cx="2071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Meer huiswerkuren beste oplossing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Wat vindt het parlement?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kstvak 37"/>
          <p:cNvSpPr/>
          <p:nvPr/>
        </p:nvSpPr>
        <p:spPr>
          <a:xfrm>
            <a:off x="7072200" y="5786280"/>
            <a:ext cx="1785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600" spc="-1" strike="noStrike">
                <a:solidFill>
                  <a:srgbClr val="000000"/>
                </a:solidFill>
                <a:latin typeface="Arial"/>
              </a:rPr>
              <a:t>Scholen moeten huiswerkbegeleid uren instellen.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kstvak 38"/>
          <p:cNvSpPr/>
          <p:nvPr/>
        </p:nvSpPr>
        <p:spPr>
          <a:xfrm>
            <a:off x="0" y="5786280"/>
            <a:ext cx="500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500" spc="-1" strike="noStrike">
                <a:solidFill>
                  <a:srgbClr val="000000"/>
                </a:solidFill>
                <a:latin typeface="Arial"/>
              </a:rPr>
              <a:t>VB</a:t>
            </a:r>
            <a:endParaRPr b="0" i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ie hebben er invloed op de politie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essiegro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langen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tiegroe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55888-8ED5-430B-9FB8-61CD3734835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dia vervult 5 func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nformatieve functi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informatie geven over bepaalde gebeurtenissen en besluiten die genom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genda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urnalisten zien problemen die onder de bevolking speelt en brengt dit onder de aandac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entaar- en meningsvorm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levert kritiek op de politi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trolerende 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dia houdt de politiek in de g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Spreekbuisfunctie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volking kan zelf via media hun mening g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78300-1FB9-49A7-BDC4-88A6F26456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28760" y="857160"/>
            <a:ext cx="85723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t kunnen burgers do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emmen: door hun stem hun mening laten ho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preekrecht: tijdens hoorzittingen in de 2</a:t>
            </a:r>
            <a:r>
              <a:rPr b="0" lang="nl-NL" sz="2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Kamer, Gemeenteraad, et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een politieke parti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elf een politieke partij oprichten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Partij voor naatenliefde, vrijheid en diversiteit/pedopartij: Gesprek  met Pnvd voorzitter    Artikel over 'pedopartij‘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ontact opnemen met politi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zoek/klacht/bezwaarschrift indie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ia inschakelen (spreekbuisfuncti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Lid worden van pressiegroe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emonstre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ationale Ombudsman inschakelen: www.nationaleombudsman.nl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94D-4D5C-4AC9-B33F-AB338442D62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groep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 hebben bepaalde belangen en proberen darom invloed uit te oefenen op de besluiten van de politic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essie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onderstuk z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Belangen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men op voor een bepaalde groep uit de samenleving.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B: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tiëntenverenigingen, consumentenbond, winkeliersvereniging, vakbonden, La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groep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etten zich (soms voor korte tijd) in voor een duidelijk probleem. Verschillende mensen kunnen hierin deelnem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ctieorganisaties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eenpeace, amnesty international,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7950F-EB2F-4C8F-9421-26F1952FEBD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9: Burgers, de media en pressiegroepen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2876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oe krijgt een Pressiegroep mac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rootte van de gro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oegang tot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arisma van de le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itting hebben in het bestu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A493A-34E6-4B9D-8B64-4BEDFFCC8B8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9" descr=""/>
          <p:cNvPicPr/>
          <p:nvPr/>
        </p:nvPicPr>
        <p:blipFill>
          <a:blip r:embed="rId1"/>
          <a:stretch/>
        </p:blipFill>
        <p:spPr>
          <a:xfrm>
            <a:off x="684360" y="5589720"/>
            <a:ext cx="7694640" cy="109512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2"/>
          <a:stretch/>
        </p:blipFill>
        <p:spPr>
          <a:xfrm>
            <a:off x="539640" y="62064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1908000" y="274680"/>
            <a:ext cx="59770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5"/>
          <p:cNvSpPr/>
          <p:nvPr/>
        </p:nvSpPr>
        <p:spPr>
          <a:xfrm>
            <a:off x="-396720" y="1125360"/>
            <a:ext cx="36734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k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lijkheid/ gelijkwaardig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eve overheid/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te rol voor de staat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komen op voor mensen met een zwakke positie in de samenleving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progressieve uitgangspun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stal richting socialism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"/>
          <p:cNvSpPr/>
          <p:nvPr/>
        </p:nvSpPr>
        <p:spPr>
          <a:xfrm>
            <a:off x="5435640" y="2997360"/>
            <a:ext cx="3708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hts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rijhe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ssieve overheid/ 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conomische vrijheid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artijen met 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estal richting liberaa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2771640" y="1989000"/>
            <a:ext cx="3168720" cy="25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247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dden: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astenliefde (elkaar helpen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echten veel waarde aan het gez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perkte rol voor de staat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nservatieve uitgangspunt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247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hristelijke normen en waard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kstvak 11"/>
          <p:cNvSpPr/>
          <p:nvPr/>
        </p:nvSpPr>
        <p:spPr>
          <a:xfrm>
            <a:off x="3203640" y="5732640"/>
            <a:ext cx="223200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ffffff"/>
                </a:solidFill>
                <a:latin typeface="Arial"/>
              </a:rPr>
              <a:t>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08000" y="333360"/>
            <a:ext cx="921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565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266D-E6EA-492A-9C8C-AF5A6EB8293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374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ristendemocrat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t tussen links en rech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chten veel waarde aan het gezin en Christelijke normen en waarden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l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ijbel schrijft voor hoe de mens zich dient te ged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8" descr=""/>
          <p:cNvPicPr/>
          <p:nvPr/>
        </p:nvPicPr>
        <p:blipFill>
          <a:blip r:embed="rId1"/>
          <a:srcRect l="7494" t="0" r="0" b="0"/>
          <a:stretch/>
        </p:blipFill>
        <p:spPr>
          <a:xfrm>
            <a:off x="4140360" y="1484280"/>
            <a:ext cx="4752720" cy="36180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9" descr=""/>
          <p:cNvPicPr/>
          <p:nvPr/>
        </p:nvPicPr>
        <p:blipFill>
          <a:blip r:embed="rId2"/>
          <a:stretch/>
        </p:blipFill>
        <p:spPr>
          <a:xfrm>
            <a:off x="684360" y="5445000"/>
            <a:ext cx="7694640" cy="10954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FDE1-0988-4A4F-A842-8D43C4EF41E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"/>
          <p:cNvSpPr/>
          <p:nvPr/>
        </p:nvSpPr>
        <p:spPr>
          <a:xfrm>
            <a:off x="1476360" y="1557360"/>
            <a:ext cx="5670720" cy="41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beral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rijheid als het idea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conomisch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vrij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ontwikkeling van het individu staat   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op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dividu is verantwoordelijk voor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t inrichten van zijn lev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heidsbemoeienis moet hierbij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inimaal zij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7640640" cy="145728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13"/>
          <p:cNvSpPr/>
          <p:nvPr/>
        </p:nvSpPr>
        <p:spPr>
          <a:xfrm>
            <a:off x="3132000" y="558972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42600" y="274680"/>
            <a:ext cx="868212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AE1A-5D3A-4895-AF97-A7082AF097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cialisme / Sociaal- democr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de belangrijkste waar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staat moet  het verschil in economische macht, dus arm en rijk, voorko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een eerlijke samenleving met gelijke k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el overheidsbemoeienis om sociale en maatschappelijke problemen op te loss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erke antipathie voor een (te) vrije mark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"/>
          <p:cNvSpPr/>
          <p:nvPr/>
        </p:nvSpPr>
        <p:spPr>
          <a:xfrm>
            <a:off x="3276720" y="515772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41F5-4382-4B64-9175-29341501AB5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ess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olitieke opvattinge gebasseerd op geloofsovertui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ntmeesterschap: als mens goed voor de aarde zor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spreide verantwoordelijkheid: ‘zorgzame samenleving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aatschappelijk middenveld: overheid aanvullende rol, de rest overlaten aan bvb welzijnsinstellingen en schoolbestu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3" descr=""/>
          <p:cNvPicPr/>
          <p:nvPr/>
        </p:nvPicPr>
        <p:blipFill>
          <a:blip r:embed="rId1"/>
          <a:stretch/>
        </p:blipFill>
        <p:spPr>
          <a:xfrm>
            <a:off x="611280" y="4941720"/>
            <a:ext cx="7627680" cy="144792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4"/>
          <p:cNvSpPr/>
          <p:nvPr/>
        </p:nvSpPr>
        <p:spPr>
          <a:xfrm>
            <a:off x="3348000" y="5157720"/>
            <a:ext cx="18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3276720" y="494172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DD06-8DB9-4AD3-BBE2-032E1EF2EB1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/>
          </p:nvPr>
        </p:nvSpPr>
        <p:spPr>
          <a:xfrm>
            <a:off x="755640" y="1267920"/>
            <a:ext cx="8137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Progress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olitieke stroming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gebaseerd op progres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uitgang, toenemend, vooruitgaand, zich uitbreide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links/sociaal-democratische denkwij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nservatief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 een politieke stroming die zich grondvest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p de traditi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atijnse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onservar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, dat "in ongeschonden toestand bewaren" betek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inig verandering, het oude in takt willen hou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ort meestal bij de rechtse/liberale en Christen=democratische vis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50560" y="274680"/>
            <a:ext cx="69850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hthoek 3"/>
          <p:cNvSpPr/>
          <p:nvPr/>
        </p:nvSpPr>
        <p:spPr>
          <a:xfrm>
            <a:off x="611280" y="1197000"/>
            <a:ext cx="7129440" cy="5661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6" descr="Bestand:Pol-landschap-2010.gif"/>
          <p:cNvPicPr/>
          <p:nvPr/>
        </p:nvPicPr>
        <p:blipFill>
          <a:blip r:embed="rId1"/>
          <a:stretch/>
        </p:blipFill>
        <p:spPr>
          <a:xfrm>
            <a:off x="125892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8"/>
          <p:cNvSpPr/>
          <p:nvPr/>
        </p:nvSpPr>
        <p:spPr>
          <a:xfrm>
            <a:off x="684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A967F-6CF1-45BC-8AF4-B7D46371422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284360" y="1268280"/>
            <a:ext cx="47530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Fascisme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eeft zeer nationalistische en autoritaire begins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ert zich tegen vrijheid, gelijkheid en toleran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 bedreigd door maatschappelijke veranderingen en ‘vreemde groepe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ering eigen natie en vo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gressieve rassenl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"/>
          <p:cNvSpPr/>
          <p:nvPr/>
        </p:nvSpPr>
        <p:spPr>
          <a:xfrm>
            <a:off x="539640" y="1268280"/>
            <a:ext cx="3816360" cy="55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Communism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en extreme vorm van socialisme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ijkheid staat centraal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roductiefactoren beheerd door de staa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articuliere eigendom is niet toegestaan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0: Politieke strom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2"/>
          <p:cNvGrpSpPr/>
          <p:nvPr/>
        </p:nvGrpSpPr>
        <p:grpSpPr>
          <a:xfrm>
            <a:off x="826920" y="5300640"/>
            <a:ext cx="7745760" cy="1362240"/>
            <a:chOff x="826920" y="5300640"/>
            <a:chExt cx="7745760" cy="1362240"/>
          </a:xfrm>
        </p:grpSpPr>
        <p:pic>
          <p:nvPicPr>
            <p:cNvPr id="426" name="Picture 8" descr=""/>
            <p:cNvPicPr/>
            <p:nvPr/>
          </p:nvPicPr>
          <p:blipFill>
            <a:blip r:embed="rId1"/>
            <a:stretch/>
          </p:blipFill>
          <p:spPr>
            <a:xfrm>
              <a:off x="826920" y="5300640"/>
              <a:ext cx="7745760" cy="136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1"/>
            <p:cNvSpPr/>
            <p:nvPr/>
          </p:nvSpPr>
          <p:spPr>
            <a:xfrm>
              <a:off x="3708360" y="544500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fessionalisme</a:t>
              </a:r>
              <a:endParaRPr b="0" i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FD21-6757-4B8A-8682-1C52EF2C835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0" y="-67464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432" name="Line 5"/>
          <p:cNvSpPr/>
          <p:nvPr/>
        </p:nvSpPr>
        <p:spPr>
          <a:xfrm>
            <a:off x="0" y="3213000"/>
            <a:ext cx="9144000" cy="0"/>
          </a:xfrm>
          <a:prstGeom prst="line">
            <a:avLst/>
          </a:prstGeom>
          <a:ln w="47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6"/>
          <p:cNvSpPr/>
          <p:nvPr/>
        </p:nvSpPr>
        <p:spPr>
          <a:xfrm>
            <a:off x="0" y="2637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mun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7"/>
          <p:cNvSpPr/>
          <p:nvPr/>
        </p:nvSpPr>
        <p:spPr>
          <a:xfrm>
            <a:off x="521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ber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1979640" y="1700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ial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673272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cht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1332000" y="220500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028000" y="270828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scism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2"/>
          <p:cNvSpPr/>
          <p:nvPr/>
        </p:nvSpPr>
        <p:spPr>
          <a:xfrm>
            <a:off x="3924360" y="2276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ristendemocratie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3" descr="logo vvd"/>
          <p:cNvPicPr/>
          <p:nvPr/>
        </p:nvPicPr>
        <p:blipFill>
          <a:blip r:embed="rId2"/>
          <a:stretch/>
        </p:blipFill>
        <p:spPr>
          <a:xfrm>
            <a:off x="5651640" y="3284640"/>
            <a:ext cx="466560" cy="5760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4" descr="logo cda"/>
          <p:cNvPicPr/>
          <p:nvPr/>
        </p:nvPicPr>
        <p:blipFill>
          <a:blip r:embed="rId3"/>
          <a:stretch/>
        </p:blipFill>
        <p:spPr>
          <a:xfrm>
            <a:off x="4643280" y="3284640"/>
            <a:ext cx="720720" cy="3459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5" descr="logo CU"/>
          <p:cNvPicPr/>
          <p:nvPr/>
        </p:nvPicPr>
        <p:blipFill>
          <a:blip r:embed="rId4"/>
          <a:stretch/>
        </p:blipFill>
        <p:spPr>
          <a:xfrm>
            <a:off x="3564000" y="4076640"/>
            <a:ext cx="1152360" cy="3193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6" descr="logo d66"/>
          <p:cNvPicPr/>
          <p:nvPr/>
        </p:nvPicPr>
        <p:blipFill>
          <a:blip r:embed="rId5"/>
          <a:stretch/>
        </p:blipFill>
        <p:spPr>
          <a:xfrm>
            <a:off x="3564000" y="3284640"/>
            <a:ext cx="720720" cy="53316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7" descr="LOGO groen links"/>
          <p:cNvPicPr/>
          <p:nvPr/>
        </p:nvPicPr>
        <p:blipFill>
          <a:blip r:embed="rId6"/>
          <a:stretch/>
        </p:blipFill>
        <p:spPr>
          <a:xfrm>
            <a:off x="900000" y="3933720"/>
            <a:ext cx="792360" cy="3668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8" descr="LOGO pvda"/>
          <p:cNvPicPr/>
          <p:nvPr/>
        </p:nvPicPr>
        <p:blipFill>
          <a:blip r:embed="rId7"/>
          <a:stretch/>
        </p:blipFill>
        <p:spPr>
          <a:xfrm>
            <a:off x="2916360" y="3789360"/>
            <a:ext cx="420480" cy="50328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9" descr="logo pvv"/>
          <p:cNvPicPr/>
          <p:nvPr/>
        </p:nvPicPr>
        <p:blipFill>
          <a:blip r:embed="rId8"/>
          <a:srcRect l="0" t="17834" r="0" b="20000"/>
          <a:stretch/>
        </p:blipFill>
        <p:spPr>
          <a:xfrm>
            <a:off x="7020000" y="3284640"/>
            <a:ext cx="936720" cy="30960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0" descr="logo sgp"/>
          <p:cNvPicPr/>
          <p:nvPr/>
        </p:nvPicPr>
        <p:blipFill>
          <a:blip r:embed="rId9"/>
          <a:stretch/>
        </p:blipFill>
        <p:spPr>
          <a:xfrm>
            <a:off x="6300720" y="3284640"/>
            <a:ext cx="576360" cy="4334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LOGO sp"/>
          <p:cNvPicPr/>
          <p:nvPr/>
        </p:nvPicPr>
        <p:blipFill>
          <a:blip r:embed="rId10"/>
          <a:stretch/>
        </p:blipFill>
        <p:spPr>
          <a:xfrm>
            <a:off x="468360" y="3357720"/>
            <a:ext cx="574560" cy="31752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" descr="logo pvvd"/>
          <p:cNvPicPr/>
          <p:nvPr/>
        </p:nvPicPr>
        <p:blipFill>
          <a:blip r:embed="rId11"/>
          <a:stretch/>
        </p:blipFill>
        <p:spPr>
          <a:xfrm>
            <a:off x="1835280" y="3357720"/>
            <a:ext cx="635040" cy="718920"/>
          </a:xfrm>
          <a:prstGeom prst="rect">
            <a:avLst/>
          </a:prstGeom>
          <a:ln w="0">
            <a:noFill/>
          </a:ln>
        </p:spPr>
      </p:pic>
      <p:sp>
        <p:nvSpPr>
          <p:cNvPr id="450" name="Line 23"/>
          <p:cNvSpPr/>
          <p:nvPr/>
        </p:nvSpPr>
        <p:spPr>
          <a:xfrm>
            <a:off x="17928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24"/>
          <p:cNvSpPr/>
          <p:nvPr/>
        </p:nvSpPr>
        <p:spPr>
          <a:xfrm>
            <a:off x="169236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25"/>
          <p:cNvSpPr/>
          <p:nvPr/>
        </p:nvSpPr>
        <p:spPr>
          <a:xfrm>
            <a:off x="241128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26"/>
          <p:cNvSpPr/>
          <p:nvPr/>
        </p:nvSpPr>
        <p:spPr>
          <a:xfrm>
            <a:off x="4284720" y="2637000"/>
            <a:ext cx="0" cy="57600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27"/>
          <p:cNvSpPr/>
          <p:nvPr/>
        </p:nvSpPr>
        <p:spPr>
          <a:xfrm>
            <a:off x="6227640" y="299736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28"/>
          <p:cNvSpPr/>
          <p:nvPr/>
        </p:nvSpPr>
        <p:spPr>
          <a:xfrm>
            <a:off x="7020000" y="3068640"/>
            <a:ext cx="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29"/>
          <p:cNvSpPr/>
          <p:nvPr/>
        </p:nvSpPr>
        <p:spPr>
          <a:xfrm>
            <a:off x="6227640" y="2133720"/>
            <a:ext cx="0" cy="107928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30"/>
          <p:cNvSpPr/>
          <p:nvPr/>
        </p:nvSpPr>
        <p:spPr>
          <a:xfrm>
            <a:off x="7020000" y="2565360"/>
            <a:ext cx="0" cy="64944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31"/>
          <p:cNvSpPr/>
          <p:nvPr/>
        </p:nvSpPr>
        <p:spPr>
          <a:xfrm>
            <a:off x="8964720" y="3068640"/>
            <a:ext cx="14040" cy="144360"/>
          </a:xfrm>
          <a:prstGeom prst="line">
            <a:avLst/>
          </a:prstGeom>
          <a:ln w="442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2"/>
          <p:cNvSpPr/>
          <p:nvPr/>
        </p:nvSpPr>
        <p:spPr>
          <a:xfrm>
            <a:off x="3059280" y="2060640"/>
            <a:ext cx="18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itiek midd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33"/>
          <p:cNvSpPr/>
          <p:nvPr/>
        </p:nvSpPr>
        <p:spPr>
          <a:xfrm>
            <a:off x="3419640" y="1773360"/>
            <a:ext cx="194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fessionalisme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7" dur="2000" fill="hold"/>
                                        <p:tgtEl>
                                          <p:spTgt spid="4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7" dur="1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4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4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2000" fill="hold"/>
                                        <p:tgtEl>
                                          <p:spTgt spid="4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2000" fill="hold"/>
                                        <p:tgtEl>
                                          <p:spTgt spid="4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4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7" dur="2000" fill="hold"/>
                                        <p:tgtEl>
                                          <p:spTgt spid="4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7" dur="2000" fill="hold"/>
                                        <p:tgtEl>
                                          <p:spTgt spid="4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7" dur="2000" fill="hold"/>
                                        <p:tgtEl>
                                          <p:spTgt spid="4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 op volgorde van aantal zetel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"/>
          <p:cNvPicPr/>
          <p:nvPr/>
        </p:nvPicPr>
        <p:blipFill>
          <a:blip r:embed="rId1"/>
          <a:srcRect l="34848" t="41424" r="28535" b="39383"/>
          <a:stretch/>
        </p:blipFill>
        <p:spPr>
          <a:xfrm>
            <a:off x="611280" y="2781360"/>
            <a:ext cx="8070840" cy="33843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2" descr=""/>
          <p:cNvPicPr/>
          <p:nvPr/>
        </p:nvPicPr>
        <p:blipFill>
          <a:blip r:embed="rId2"/>
          <a:srcRect l="20081" t="8858" r="64564" b="88193"/>
          <a:stretch/>
        </p:blipFill>
        <p:spPr>
          <a:xfrm>
            <a:off x="7451640" y="3573360"/>
            <a:ext cx="1260720" cy="193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link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2" descr=""/>
          <p:cNvPicPr/>
          <p:nvPr/>
        </p:nvPicPr>
        <p:blipFill>
          <a:blip r:embed="rId1"/>
          <a:srcRect l="53678" t="50936" r="40420" b="39383"/>
          <a:stretch/>
        </p:blipFill>
        <p:spPr>
          <a:xfrm>
            <a:off x="611280" y="4076640"/>
            <a:ext cx="988920" cy="12970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2" descr=""/>
          <p:cNvPicPr/>
          <p:nvPr/>
        </p:nvPicPr>
        <p:blipFill>
          <a:blip r:embed="rId2"/>
          <a:srcRect l="65424" t="41251" r="28535" b="49895"/>
          <a:stretch/>
        </p:blipFill>
        <p:spPr>
          <a:xfrm>
            <a:off x="611280" y="2852640"/>
            <a:ext cx="1008000" cy="11829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2" descr=""/>
          <p:cNvPicPr/>
          <p:nvPr/>
        </p:nvPicPr>
        <p:blipFill>
          <a:blip r:embed="rId3"/>
          <a:srcRect l="41137" t="41424" r="52370" b="49242"/>
          <a:stretch/>
        </p:blipFill>
        <p:spPr>
          <a:xfrm>
            <a:off x="611280" y="5445000"/>
            <a:ext cx="1008000" cy="11588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2" descr=""/>
          <p:cNvPicPr/>
          <p:nvPr/>
        </p:nvPicPr>
        <p:blipFill>
          <a:blip r:embed="rId4"/>
          <a:srcRect l="47633" t="41424" r="45871" b="49242"/>
          <a:stretch/>
        </p:blipFill>
        <p:spPr>
          <a:xfrm>
            <a:off x="611280" y="1700280"/>
            <a:ext cx="1008000" cy="116028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"/>
          <p:cNvPicPr/>
          <p:nvPr/>
        </p:nvPicPr>
        <p:blipFill>
          <a:blip r:embed="rId5"/>
          <a:srcRect l="20081" t="8858" r="64564" b="88193"/>
          <a:stretch/>
        </p:blipFill>
        <p:spPr>
          <a:xfrm>
            <a:off x="684360" y="3500280"/>
            <a:ext cx="900000" cy="139680"/>
          </a:xfrm>
          <a:prstGeom prst="rect">
            <a:avLst/>
          </a:prstGeom>
          <a:ln w="0">
            <a:noFill/>
          </a:ln>
        </p:spPr>
      </p:pic>
      <p:sp>
        <p:nvSpPr>
          <p:cNvPr id="473" name="Tekstvak 10"/>
          <p:cNvSpPr/>
          <p:nvPr/>
        </p:nvSpPr>
        <p:spPr>
          <a:xfrm>
            <a:off x="1619280" y="17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Meest links. Komt op voor belangen arme mensen. Goede uitkeringen! Rijken meer belasting betalen. Goedkope gezondheidszorg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kstvak 11"/>
          <p:cNvSpPr/>
          <p:nvPr/>
        </p:nvSpPr>
        <p:spPr>
          <a:xfrm>
            <a:off x="1692360" y="299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milieu. Ongelijkheid tussen mensen tegengaan. Gratis kinderopvang/ meer vrouwen werken. Schone energie gebruiken. Kraamverlof voor vaders. Geen koningshuis meer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kstvak 12"/>
          <p:cNvSpPr/>
          <p:nvPr/>
        </p:nvSpPr>
        <p:spPr>
          <a:xfrm>
            <a:off x="1692360" y="4221000"/>
            <a:ext cx="745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Komt op voor belangen van dieren. Rechten van het dier opnemen in grondwet. Dierenmishandeling streng straffen. Einde aan dierproeven. Verbod gebruik dieren in reclame/film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kstvak 13"/>
          <p:cNvSpPr/>
          <p:nvPr/>
        </p:nvSpPr>
        <p:spPr>
          <a:xfrm>
            <a:off x="1692360" y="5516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verheid zorgt  vooral voorvoldoende werkgelegenheid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oor ziekte, handicap of ouderdom niet werken: overheid geeft uitkering! Tot 27 jaar werk/leerplicht. Geld aan bedrijven voor langdurig werklozen. Discriminatie bij bedrijf = boete!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0" y="476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093080" y="342900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Mid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" descr=""/>
          <p:cNvPicPr/>
          <p:nvPr/>
        </p:nvPicPr>
        <p:blipFill>
          <a:blip r:embed="rId1"/>
          <a:srcRect l="41276" t="50936" r="52821" b="39471"/>
          <a:stretch/>
        </p:blipFill>
        <p:spPr>
          <a:xfrm>
            <a:off x="468360" y="2060640"/>
            <a:ext cx="946080" cy="12301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2" descr=""/>
          <p:cNvPicPr/>
          <p:nvPr/>
        </p:nvPicPr>
        <p:blipFill>
          <a:blip r:embed="rId2"/>
          <a:srcRect l="34848" t="50851" r="58798" b="39556"/>
          <a:stretch/>
        </p:blipFill>
        <p:spPr>
          <a:xfrm>
            <a:off x="468360" y="3357720"/>
            <a:ext cx="1017720" cy="12301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2" descr=""/>
          <p:cNvPicPr/>
          <p:nvPr/>
        </p:nvPicPr>
        <p:blipFill>
          <a:blip r:embed="rId3"/>
          <a:srcRect l="34848" t="41424" r="58866" b="49980"/>
          <a:stretch/>
        </p:blipFill>
        <p:spPr>
          <a:xfrm>
            <a:off x="395280" y="4724280"/>
            <a:ext cx="1008000" cy="1103400"/>
          </a:xfrm>
          <a:prstGeom prst="rect">
            <a:avLst/>
          </a:prstGeom>
          <a:ln w="0">
            <a:noFill/>
          </a:ln>
        </p:spPr>
      </p:pic>
      <p:sp>
        <p:nvSpPr>
          <p:cNvPr id="482" name="Tekstvak 8"/>
          <p:cNvSpPr/>
          <p:nvPr/>
        </p:nvSpPr>
        <p:spPr>
          <a:xfrm>
            <a:off x="1619280" y="342900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rotestants/christelijk. Hulp aan vluchtelingen in ons land. Geen abortus en euthanasie. God beslist. Zuinig zijn op de aarde (is van god), kinderbijslag aan gezin met kinderen. Alcohol en drugsgebruik streng aanpakk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kstvak 9"/>
          <p:cNvSpPr/>
          <p:nvPr/>
        </p:nvSpPr>
        <p:spPr>
          <a:xfrm>
            <a:off x="1619280" y="206064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Democratie vernieuwen. Meer macht voor burgers. Meer geld voor onderwijs. Soepel ontslagrecht. Kiezen burgemeester en minister president. Gevangenisstraf = taakstraf. Meer eu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kstvak 10"/>
          <p:cNvSpPr/>
          <p:nvPr/>
        </p:nvSpPr>
        <p:spPr>
          <a:xfrm>
            <a:off x="1547640" y="4869000"/>
            <a:ext cx="72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hristelijke partij. Mensen moeten voor elkaar zorgen. In noodgevallen helpt de overheid. Overheid niet bemoeien met opvoeding kinderen. Maatschappelijke stage jongeren verplicht. Altijd hulp geven aan ontwikkelingslanden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artijen in de 2</a:t>
            </a:r>
            <a:r>
              <a:rPr b="0" lang="nl-NL" sz="32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kamer: Rec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2" descr=""/>
          <p:cNvPicPr/>
          <p:nvPr/>
        </p:nvPicPr>
        <p:blipFill>
          <a:blip r:embed="rId1"/>
          <a:srcRect l="47250" t="51021" r="46845" b="39383"/>
          <a:stretch/>
        </p:blipFill>
        <p:spPr>
          <a:xfrm>
            <a:off x="611280" y="3500280"/>
            <a:ext cx="1152360" cy="149868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" descr=""/>
          <p:cNvPicPr/>
          <p:nvPr/>
        </p:nvPicPr>
        <p:blipFill>
          <a:blip r:embed="rId2"/>
          <a:srcRect l="59583" t="41339" r="33921" b="49806"/>
          <a:stretch/>
        </p:blipFill>
        <p:spPr>
          <a:xfrm>
            <a:off x="539640" y="5084640"/>
            <a:ext cx="1266840" cy="138276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" descr=""/>
          <p:cNvPicPr/>
          <p:nvPr/>
        </p:nvPicPr>
        <p:blipFill>
          <a:blip r:embed="rId3"/>
          <a:srcRect l="53610" t="41251" r="40488" b="49895"/>
          <a:stretch/>
        </p:blipFill>
        <p:spPr>
          <a:xfrm>
            <a:off x="611280" y="2060640"/>
            <a:ext cx="1152360" cy="1382760"/>
          </a:xfrm>
          <a:prstGeom prst="rect">
            <a:avLst/>
          </a:prstGeom>
          <a:ln w="0">
            <a:noFill/>
          </a:ln>
        </p:spPr>
      </p:pic>
      <p:sp>
        <p:nvSpPr>
          <p:cNvPr id="490" name="Tekstvak 7"/>
          <p:cNvSpPr/>
          <p:nvPr/>
        </p:nvSpPr>
        <p:spPr>
          <a:xfrm>
            <a:off x="1943280" y="213372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Vrijheid belangrijkst! Meer wegen aanleggen ivm files, werkgevers vrijheid geven (zoals makkelijk ontslaan). Meer geld voor politi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kstvak 8"/>
          <p:cNvSpPr/>
          <p:nvPr/>
        </p:nvSpPr>
        <p:spPr>
          <a:xfrm>
            <a:off x="1943280" y="3573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Gereformeerde partij. Regeren volgens de bijbel. Mensen beschermen, verder niet mee bemoeien. Abortus en euthanasie en homohuwelijk verboden. Moord = doodstraf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kstvak 9"/>
          <p:cNvSpPr/>
          <p:nvPr/>
        </p:nvSpPr>
        <p:spPr>
          <a:xfrm>
            <a:off x="1943280" y="5157720"/>
            <a:ext cx="72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Harde uitspraken over Islam. Mensen zelf verantwoordelijke voor hun gedrag, iedereen aanpassen aan regels van dit land. Ook ander geloof/cultuur. Zo niet: Hoge straf. Na 3 geweldsmisdrijven: levenslang. Weinig immigranten toelate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1680" y="33300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AE6F7-02E2-4FEA-9F66-14591308C00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orte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 basis van IDEOLOGIE: ontstaan door dezelfde ideologiën/strom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E-ISSUEPARTIJEN: gericht op 1 aspect in de samenleving. (Pvd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OTESTPARTIJEN: ontstaan uit onvrede met bestaande politiek. (L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-52992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-DEMOCRATISCHE parijen: zoals fascisitische partijen. Komen niet vaak voor in parlemen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9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8DEA-0A99-495C-A1A4-7FE2595DFE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4360" y="148428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uncties van partij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tegratiefunctie: het partijenprogram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formatiefunctie: informeren over standpu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articipatiefunctie: burgers stimuleren actief aan politiek te do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electiefunctie: mensen die in de politiek willen, kijken bij welke partij ze willen 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71680" y="274680"/>
            <a:ext cx="8572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§11: linkse en rechtse partijen</a:t>
            </a:r>
            <a:endParaRPr b="0" i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03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F4595-BC1F-4374-A25D-6E1C7A2D33D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hthoek 4"/>
          <p:cNvSpPr/>
          <p:nvPr/>
        </p:nvSpPr>
        <p:spPr>
          <a:xfrm>
            <a:off x="1692360" y="1916280"/>
            <a:ext cx="638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Een maatschappelijk proble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Sociaal probleem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veel mensen hebben er mee te m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Verschillende meninge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is niet snel op te lossen omdat er vaak zoveel verschillende meningen over z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verheid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 overheid moet erbij betrokken zijn om dit probleem te kunnen oplo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3320" indent="-483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Aandacht van de media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: het probleem moet de aandacht van de media krijge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620A-E3FF-4F34-B9D0-618E92D56B5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74B4-9AF9-479C-B972-925B739ADE6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899640" y="1341360"/>
            <a:ext cx="72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macht is officieel vastgelegd in wetten en regels (geza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beeld: de burgemeester verbied een boetbalwedstrij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formele mach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cht die niet officieel is vastgelegd (invlo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b: ‘regels’ die binnen je vriendengroep gel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647640" y="404640"/>
            <a:ext cx="84963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4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F616-6BE1-41C9-9AC8-695278DE138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Machtsmiddelen: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macht te kunnen hebben, bestaan er machtmiddel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Functie/beroep (politie als hij een bekeuring geef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nnis/vaardigheden (dokter weet welke medicijnen je nodig he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zien (de paus vraagt gelovigen iets wel of niet te do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vertuigingskracht (politici zijn vaak getraind om mensen te overtuig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ld (de overheid beslist wat ze doen met die miljarden euro’s die ze heb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tal (de klas weigert massaal een proefwerk te mak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weld (een rechter veroordeeld de moordenaar tot levensla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AE2E-E6E9-4F8E-AF82-A47695E23A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Normen: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dragsregels, v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rwachtingen over wat normaal is, manier van handelen waar mensen zich aan kunnen of moeten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Waarden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waarden zijn dingen en denkbeelden waar we waarde aan hechten. Aspecten die we belangrijk vinde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de: eerlijk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orm: niet st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F9C4D-FD1D-451B-AD57-CC61CBB3F2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914400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pagand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doelbewust eenzijdige informatie geven, om meningen te beinvlo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anipul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met opzet feiten weglaten of veran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doctrinatie: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voortdurend opdringen van bepaalde meningen (met behulp van zeer intensieve psychologische middeltjes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1D18-4343-4A26-9053-34B181D65A3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324000" y="1125360"/>
            <a:ext cx="882000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kunnen rechtstreeks meepraten en beslissen.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en bij weinig inwoner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oms via referendum: volksstemming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Indirecte democratie: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ia een volksvertegenwoordig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rs stemmen op vertegenwoordigers die hun belangen behartigen in de politieke besluitvorming.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eze hebben de meeste landen in de wereld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DE67-9903-4D56-837E-A391685B302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0" y="1341000"/>
            <a:ext cx="5867280" cy="58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Stereotyper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eld van een bepaalde bevolkingsgroep dat met de werkelijkheid weinig of niets te maken heef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Afrikanen in rieten rokjes met botjes in hun neus en dikke lip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ederlanders op klom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Vooroordeel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en vooroordeel is een mening over iemand of een groep mensen die niet op feiten is gebaseer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: 'alle duitsers hebben bierbuiken, 'Belgen zijn dom', 'Nederlanders zijn krenterig' of 'dikke mensen zijn gezelli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</a:rPr>
              <a:t>Discriminatie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ls mensen op basis van deze vooroordelen worden achtergesteld, is er sprake van discriminat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3"/>
          <p:cNvSpPr/>
          <p:nvPr/>
        </p:nvSpPr>
        <p:spPr>
          <a:xfrm>
            <a:off x="395280" y="333360"/>
            <a:ext cx="8496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 u="sng">
                <a:solidFill>
                  <a:srgbClr val="bbe0e3"/>
                </a:solidFill>
                <a:uFillTx/>
                <a:latin typeface="Arial"/>
              </a:rPr>
              <a:t>Analyse maatschappelijk vraagstuk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5" descr="10809"/>
          <p:cNvPicPr/>
          <p:nvPr/>
        </p:nvPicPr>
        <p:blipFill>
          <a:blip r:embed="rId1"/>
          <a:stretch/>
        </p:blipFill>
        <p:spPr>
          <a:xfrm>
            <a:off x="7451640" y="1052640"/>
            <a:ext cx="1438200" cy="26668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121581"/>
          <p:cNvPicPr/>
          <p:nvPr/>
        </p:nvPicPr>
        <p:blipFill>
          <a:blip r:embed="rId2"/>
          <a:srcRect l="9962" t="2883" r="10174" b="4043"/>
          <a:stretch/>
        </p:blipFill>
        <p:spPr>
          <a:xfrm>
            <a:off x="6300720" y="393372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ijdelijke aanduiding voor dianumm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186F-C583-4468-A2E0-05B070FE926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428760" y="642960"/>
          <a:ext cx="8334360" cy="5962680"/>
        </p:xfrm>
        <a:graphic>
          <a:graphicData uri="http://schemas.openxmlformats.org/drawingml/2006/table">
            <a:tbl>
              <a:tblPr/>
              <a:tblGrid>
                <a:gridCol w="1836720"/>
                <a:gridCol w="630000"/>
                <a:gridCol w="3043440"/>
                <a:gridCol w="630000"/>
                <a:gridCol w="2194200"/>
              </a:tblGrid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EN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ORM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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TVANG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um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CTIEF/SUBJECTIEF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Feiten/Meningen [Meerdere kanten]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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ROUWBARE BRONN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BS, Wikipedia, edu-sites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IPUL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LECTIEVE WAARNEM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Verdraai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Passend voor jezelf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NDA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enzijd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FERENTIEKADER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</a:tr>
              <a:tr h="2826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CTR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Ervaring, Waarden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Dwingend/Langdurig)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CRIMINATIE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40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reotypering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404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oroordelen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i="1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400" spc="-1" strike="noStrike">
                <a:solidFill>
                  <a:srgbClr val="000000"/>
                </a:solidFill>
                <a:latin typeface="Arial"/>
              </a:rPr>
              <a:t>Analyse maatschappelijke vraagstukk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5712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Arial"/>
              </a:rPr>
              <a:t>Analyseschem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at is het proble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economische invalshoek: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en, belangentegenstellingen, belangengroepen, maatschappelijke posities, gemeenschappelijke belangen, ongelijkheid, economische bel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Sociaal-culturel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waarden, normen, culturen, pluriformit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Politiek-juridisch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politieke agenda, machtsmiddelen, actiegroepen, politieke partij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Veranderings- en vergelijkende invalshoek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hoe in het verleden? Andere landen? Andere cultu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Oplossing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tandpunten partijen, overhe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igen mening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: subjectieve bronnen of objectieve bron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ijdelijke aanduiding voor dianummer 3"/>
          <p:cNvSpPr/>
          <p:nvPr/>
        </p:nvSpPr>
        <p:spPr>
          <a:xfrm>
            <a:off x="6500880" y="621504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5F06-3383-4C69-9798-CF231C7E95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DDC-B31E-4551-AFE4-61799646A95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5" descr="sw_einde"/>
          <p:cNvPicPr/>
          <p:nvPr/>
        </p:nvPicPr>
        <p:blipFill>
          <a:blip r:embed="rId1"/>
          <a:stretch/>
        </p:blipFill>
        <p:spPr>
          <a:xfrm>
            <a:off x="2195640" y="476280"/>
            <a:ext cx="387504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5ADC-F0F4-48A7-A325-65A651C2E1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en land waarin iedereen rechten heeft en waar deze rechten zijn vastgelegd in wet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deze splitsing voorkomen we machtsmisbrui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24000" y="443700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059280" y="450864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6227640" y="4430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 flipH="1">
            <a:off x="1692000" y="3573360"/>
            <a:ext cx="1150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9"/>
          <p:cNvSpPr/>
          <p:nvPr/>
        </p:nvSpPr>
        <p:spPr>
          <a:xfrm>
            <a:off x="6443640" y="3573360"/>
            <a:ext cx="79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611280" y="3573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468360" y="333360"/>
            <a:ext cx="83898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 u="sng">
                <a:solidFill>
                  <a:srgbClr val="000000"/>
                </a:solidFill>
                <a:uFillTx/>
                <a:latin typeface="Arial"/>
              </a:rPr>
              <a:t>§2: Nederland is een rechtsstaat en democratie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Absent</cp:lastModifiedBy>
  <dcterms:modified xsi:type="dcterms:W3CDTF">2011-09-26T10:03:01Z</dcterms:modified>
  <cp:revision>129</cp:revision>
  <dc:subject/>
  <dc:title>Dia 1</dc:title>
</cp:coreProperties>
</file>