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19.jpeg" ContentType="image/jpeg"/>
  <Override PartName="/ppt/media/image21.jpeg" ContentType="image/jpeg"/>
  <Override PartName="/ppt/media/image29.png" ContentType="image/png"/>
  <Override PartName="/ppt/media/image18.gif" ContentType="image/gif"/>
  <Override PartName="/ppt/media/image53.png" ContentType="image/png"/>
  <Override PartName="/ppt/media/image17.png" ContentType="image/png"/>
  <Override PartName="/ppt/media/image24.gif" ContentType="image/gif"/>
  <Override PartName="/ppt/media/image16.png" ContentType="image/png"/>
  <Override PartName="/ppt/media/image23.gif" ContentType="image/gif"/>
  <Override PartName="/ppt/media/image15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54.gif" ContentType="image/gif"/>
  <Override PartName="/ppt/media/image5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42.png" ContentType="image/png"/>
  <Override PartName="/ppt/media/image46.png" ContentType="image/png"/>
  <Override PartName="/ppt/media/image47.gif" ContentType="image/gif"/>
  <Override PartName="/ppt/media/image52.png" ContentType="image/png"/>
  <Override PartName="/ppt/media/image50.png" ContentType="image/png"/>
  <Override PartName="/ppt/media/image13.png" ContentType="image/png"/>
  <Override PartName="/ppt/media/image51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5.png" ContentType="image/png"/>
  <Override PartName="/ppt/media/image57.png" ContentType="image/png"/>
  <Override PartName="/ppt/media/image40.png" ContentType="image/png"/>
  <Override PartName="/ppt/media/image35.gif" ContentType="image/gif"/>
  <Override PartName="/ppt/media/image32.png" ContentType="image/png"/>
  <Override PartName="/ppt/media/image31.png" ContentType="image/png"/>
  <Override PartName="/ppt/media/image30.png" ContentType="image/png"/>
  <Override PartName="/ppt/media/image38.png" ContentType="image/png"/>
  <Override PartName="/ppt/media/image8.png" ContentType="image/png"/>
  <Override PartName="/ppt/media/image28.gif" ContentType="image/gif"/>
  <Override PartName="/ppt/media/image4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37.png" ContentType="image/png"/>
  <Override PartName="/ppt/media/image22.jpeg" ContentType="image/jpeg"/>
  <Override PartName="/ppt/media/image39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BB18-E5E9-437A-8068-C75EF0B6D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123D-4339-47D6-83DA-DE053446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5CD-9966-428D-9616-6E895AA6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D53F-7F51-45C2-9825-9389D1FD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779B-6D85-44B9-B46D-6656B6E4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A52-0E96-4A8B-8A85-7F4C2AE1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6D9A-85A3-4593-A690-EEA9F87F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18CC-4725-4D35-BA75-CA3D64C1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4E89-6F7F-4E14-9892-25CF8EFA2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9851-78BC-4DC1-B89C-2A30C26A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D8AE-3F3B-4DD0-BEA4-B052ECB52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FD6-AB4A-4D5A-8FBA-7C59A414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5FDD2-B1A5-4259-AB27-7A1D93EF1A4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taylorssolicitors.com/home.htm" TargetMode="External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E958B-D5A2-4F98-A81B-06291EE8708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750960" y="285840"/>
            <a:ext cx="735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Criminaliteit en rechtsstaat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7" descr="GIF_boef"/>
          <p:cNvPicPr/>
          <p:nvPr/>
        </p:nvPicPr>
        <p:blipFill>
          <a:blip r:embed="rId1"/>
          <a:stretch/>
        </p:blipFill>
        <p:spPr>
          <a:xfrm>
            <a:off x="2571840" y="3357720"/>
            <a:ext cx="2636640" cy="2452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35712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xamenka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schappijleer 2 VMBO K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5280" y="981000"/>
            <a:ext cx="87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boek van straf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(materieel strafrech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e belangrijkste wetten in Nederland staan hier in (buiten de grondwet d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t de strafbare feiten zijn en welke straffen ervoor kunnen uitgesproken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rafbare feiten omschr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als: moord, diefstal, oplichting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boek van strafvordering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formeel strafrecht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paalt hoe strafbare feiten vervolgd wo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handelt de hele procedure van aanhouding t/m de strafoplegging door de rechter. 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eze twee wetboeken vormen de basis van het Nederlandse strafrecht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826C-6814-4E5A-964C-7D69FE90A04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ropees verdrag tot bescherming van de rechten van de mens (EV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rechtsregels binnen de 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DA0C-C2AC-4EAF-BD0B-623B1219184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http://www.sdu.nl/Lists/Productlist/Attachments/5971/full_EVRMHW.jpg"/>
          <p:cNvPicPr/>
          <p:nvPr/>
        </p:nvPicPr>
        <p:blipFill>
          <a:blip r:embed="rId1"/>
          <a:stretch/>
        </p:blipFill>
        <p:spPr>
          <a:xfrm>
            <a:off x="2987640" y="3429000"/>
            <a:ext cx="216072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560" y="1341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riminaliteit i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tijdgebonden: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Vroeger was vreemdgaan strafbaar: sinds 1970 niet me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odslastering strafbaar: nu niet m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acken is nu WEL strafbaar, bestond vroeger ni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plaatsgebonden: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egels verschillen per land en cultu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Nl: Euthanasie en abortus mag </a:t>
            </a:r>
            <a:r>
              <a:rPr b="0" lang="nl-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in veel landen verbo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In VS bijna iedereen een wapen </a:t>
            </a:r>
            <a:r>
              <a:rPr b="0" lang="nl-NL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hier verbod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D392C-5904-4CF5-B20A-63AC49A6C39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Kenmerken van een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staat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Burgerrechte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overheid moet zich aan de wet houden; burgers hebben rech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Grondrechte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staan in de grondwet. De overheid mag geen wetten maken tégen de grondwet i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verheid zorgt voor rechtsha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having én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bescherm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Parlementair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democrati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heeft altijd democratisch gekozen par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Scheiding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van machten: triaspolit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6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Onafhankelijke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600" spc="-1" strike="noStrike">
                <a:solidFill>
                  <a:srgbClr val="000000"/>
                </a:solidFill>
                <a:latin typeface="Arial"/>
              </a:rPr>
              <a:t>rechtspraak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: rechter opereert onafhankelijk van de overhei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ACAB-5AE7-44D9-839C-4DE0EE84D89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48572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Rechtsstaat: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en land waarin bewoners en overheid rechten hebben en waar deze rechten zijn vastgelegd in wetten. Burgers worden beschermd tegen machtsmisbruik en willkeur van de overhe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Triaspolitica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machtenscheid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oor deze taakverdeling voorkomen we machtsmisbruik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Hierdoor heeft dus nooit één groep alle mach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gevend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voerendemacht: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erlijkemach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116000" y="54936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24000" y="5254560"/>
            <a:ext cx="1944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e en 2e kamer beslissen over de wetsvoorstellen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59280" y="5183280"/>
            <a:ext cx="2233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sters (en ambtenaren zoals de politie) voeren de wet uit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6227640" y="5195880"/>
            <a:ext cx="2232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rechters oordelen in specifieke situaties of er volgens de wet is gehandeld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4356000" y="357336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611280" y="364500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urgerrecht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schermt worden tegen de over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szeker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weten wat je te wachten staat na het plegen van een de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Rechtsgelijkheid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: niet anders behandelt worden dan and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A425C-D424-46AB-B439-29A70CB3DADE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http://www.army-chaplaincy.be/images/assets/extracts/def1142004061/Aantasting%20burgerrechten.jpg"/>
          <p:cNvPicPr/>
          <p:nvPr/>
        </p:nvPicPr>
        <p:blipFill>
          <a:blip r:embed="rId1"/>
          <a:stretch/>
        </p:blipFill>
        <p:spPr>
          <a:xfrm>
            <a:off x="3564000" y="4221000"/>
            <a:ext cx="29178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shand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ndhaven van de rechts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vb: staand houden als je zonder licht rijd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spreken bij wildplas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brekers arrest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chtsbescher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lke verdachte heeft re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lijk vermoeden van schu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antwoorden op vr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71AA-FD53-49C2-B259-E30CE2994BC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Strafbaar gedrag: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at je wetregels overtreed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Criminalitei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: alle misdrijven die in de wet staa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misdrijf: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vertred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nieling, diefstal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rijden zonder licht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inbraak, verkrachting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door rood rij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trafblad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geen strafbl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ngenis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hechten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deplichtig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niet medeplich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Zwaardere straf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minder zware str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Crimineel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overtreder/ of ni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D065-4F05-41B8-84ED-D1EE74438DF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stopPolitie"/>
          <p:cNvPicPr/>
          <p:nvPr/>
        </p:nvPicPr>
        <p:blipFill>
          <a:blip r:embed="rId1"/>
          <a:stretch/>
        </p:blipFill>
        <p:spPr>
          <a:xfrm>
            <a:off x="7559640" y="1214280"/>
            <a:ext cx="158436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3D51-DE94-4562-8A1B-85AF409FF49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57120" y="1571760"/>
            <a:ext cx="8064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Materiele schade: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aliteit kost miljarden euro’s per jaa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tv die uit je huis gehaald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fiets die gejat 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strijding fraude ed kost veel gel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 rekenen schade die ze lijden vaak door in de prijzen van hun produc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erheid en bedrijven lijden financiele schad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politie"/>
          <p:cNvPicPr/>
          <p:nvPr/>
        </p:nvPicPr>
        <p:blipFill>
          <a:blip r:embed="rId1"/>
          <a:stretch/>
        </p:blipFill>
        <p:spPr>
          <a:xfrm>
            <a:off x="6429240" y="2357280"/>
            <a:ext cx="2159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63C3-1741-40A8-9131-D8CD32F4C3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2: Criminaliteit, een problee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57120" y="1571760"/>
            <a:ext cx="80647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Immateriele schad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lapeloze nachten omdat er ooit is ingebro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ang zijn op straat, wegens een overv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Rechtsgevoel van mensen wordt aangetas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orele verontwaardig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nsen vinden het oneerlijk/onrechtvaardig als men zich niet aan de wet houd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lies van vertrouwen (in bvb de overheid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rmvervaging, normen en waarden verander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politie"/>
          <p:cNvPicPr/>
          <p:nvPr/>
        </p:nvPicPr>
        <p:blipFill>
          <a:blip r:embed="rId1"/>
          <a:stretch/>
        </p:blipFill>
        <p:spPr>
          <a:xfrm>
            <a:off x="7164360" y="227664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54AF-426F-4349-83BF-DF0599B127F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"/>
          <p:cNvPicPr/>
          <p:nvPr/>
        </p:nvPicPr>
        <p:blipFill>
          <a:blip r:embed="rId1"/>
          <a:stretch/>
        </p:blipFill>
        <p:spPr>
          <a:xfrm>
            <a:off x="0" y="1989000"/>
            <a:ext cx="4032360" cy="2232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2"/>
          <a:stretch/>
        </p:blipFill>
        <p:spPr>
          <a:xfrm>
            <a:off x="4356000" y="1989000"/>
            <a:ext cx="4156200" cy="223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3"/>
          <a:stretch/>
        </p:blipFill>
        <p:spPr>
          <a:xfrm>
            <a:off x="0" y="4637160"/>
            <a:ext cx="4140360" cy="736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4"/>
          <a:srcRect l="1705" t="0" r="5168" b="0"/>
          <a:stretch/>
        </p:blipFill>
        <p:spPr>
          <a:xfrm>
            <a:off x="4427640" y="4653000"/>
            <a:ext cx="3960720" cy="565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sus van Pieter                               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bron: rechtvoorjou.n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3: Ons beeld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EE7C-D755-4115-AF94-D5BECF29C76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214200" y="1571760"/>
            <a:ext cx="879336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3: Ons beeld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6940-878A-4D5E-9151-FDDF9840D1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642960" y="1143000"/>
            <a:ext cx="728676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87B1-EA5D-462E-9CFF-5490B963E24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500120" y="1785960"/>
            <a:ext cx="72392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ersoonlijke kenmerken van een crimineel;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: uiterlijk,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: Lagere maatschappelijke positi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EL: - vaker door mannen dan door vrouw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slechte opvoeding leidt vaker tot crimineel gedra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Groepsgedrag: als je vrienden het doen..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27240" indent="-77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236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- Spijbelaars/zonder diploma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politie"/>
          <p:cNvPicPr/>
          <p:nvPr/>
        </p:nvPicPr>
        <p:blipFill>
          <a:blip r:embed="rId1"/>
          <a:stretch/>
        </p:blipFill>
        <p:spPr>
          <a:xfrm>
            <a:off x="395280" y="3933720"/>
            <a:ext cx="15192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0D5C-6D6E-4B93-9910-CFAA393EAC6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7" descr="politie"/>
          <p:cNvPicPr/>
          <p:nvPr/>
        </p:nvPicPr>
        <p:blipFill>
          <a:blip r:embed="rId1"/>
          <a:stretch/>
        </p:blipFill>
        <p:spPr>
          <a:xfrm>
            <a:off x="7905600" y="57168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"/>
          <p:cNvPicPr/>
          <p:nvPr/>
        </p:nvPicPr>
        <p:blipFill>
          <a:blip r:embed="rId2"/>
          <a:stretch/>
        </p:blipFill>
        <p:spPr>
          <a:xfrm>
            <a:off x="182520" y="1928880"/>
            <a:ext cx="896148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D155-4C6E-48E5-86BB-68ED838327B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7" descr="politie"/>
          <p:cNvPicPr/>
          <p:nvPr/>
        </p:nvPicPr>
        <p:blipFill>
          <a:blip r:embed="rId1"/>
          <a:stretch/>
        </p:blipFill>
        <p:spPr>
          <a:xfrm>
            <a:off x="7905600" y="64296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117360" y="1785960"/>
            <a:ext cx="902664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A363-241C-4D94-82D7-C3847B0248F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7" descr="politie"/>
          <p:cNvPicPr/>
          <p:nvPr/>
        </p:nvPicPr>
        <p:blipFill>
          <a:blip r:embed="rId1"/>
          <a:stretch/>
        </p:blipFill>
        <p:spPr>
          <a:xfrm>
            <a:off x="7905600" y="642960"/>
            <a:ext cx="1238400" cy="1190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714240" y="1357200"/>
            <a:ext cx="7848720" cy="49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5CFF-8073-43C9-B727-3D60423D62E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4: Oorzaken van 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50920" y="1916280"/>
            <a:ext cx="65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Maatschappelijke oorzak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826920" y="364500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In een grote stad gebeurd het vaker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900000" y="2637000"/>
            <a:ext cx="6337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ociale controle is minder ge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pakkans is daardoor kleiner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826920" y="22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Normen en waarden zijn minder stre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395280" y="4724280"/>
            <a:ext cx="8280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Bindingstheorie van Hirschi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aliteit een combinatie van individuele en maatschappelijke oorzaken. Niemand is alleen meer goed, iedereen kan misdadiger zijn. Ligt aan de bindingen die je hebt: vrienden, band met familie, werk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826920" y="4076640"/>
            <a:ext cx="63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Alcohol en drugs gebruik toegenom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politie"/>
          <p:cNvPicPr/>
          <p:nvPr/>
        </p:nvPicPr>
        <p:blipFill>
          <a:blip r:embed="rId1"/>
          <a:stretch/>
        </p:blipFill>
        <p:spPr>
          <a:xfrm>
            <a:off x="6732720" y="1557360"/>
            <a:ext cx="123804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EECB-AEDD-4EE4-9090-974FC961408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1071720" y="1500120"/>
            <a:ext cx="750096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94920" y="981000"/>
            <a:ext cx="84978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verjaringstermijn is de periode waarna de verdachte in een strafzaak niet meer kunt worden vervolg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termijn van verjaring hangt af van het soort strafbaar feit dat u heeft gepleegd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vertredingen: na 3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geldboete, hechtenis, of gevangenisstraf van 3 jaar of minder kan worden opgelegd: na 6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tijdelijke gevangenisstraf van meer dan 3 jaar kan worden opgelegd: na 12 jaar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isdrijven waarvoor een gevangenisstraf van meer dan 10 jaar kan worden opgelegd: na 20 jaa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en verjaring bij levenslange gevangenisstra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B2E8-777E-4386-BCC6-DB5544BF13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5: Het strafre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8251-C903-4E1D-B0AD-42316F88EBC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"/>
          <p:cNvPicPr/>
          <p:nvPr/>
        </p:nvPicPr>
        <p:blipFill>
          <a:blip r:embed="rId2"/>
          <a:stretch/>
        </p:blipFill>
        <p:spPr>
          <a:xfrm>
            <a:off x="142920" y="1500120"/>
            <a:ext cx="90010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49FB-23C9-46F5-A98B-DC8BB4C7F31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032360" cy="237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2"/>
          <a:stretch/>
        </p:blipFill>
        <p:spPr>
          <a:xfrm>
            <a:off x="4788000" y="2060640"/>
            <a:ext cx="4103640" cy="2376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E0481-B12D-4DD6-ACBF-5FABCB2B10F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2349360"/>
            <a:ext cx="8496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ieter is nu 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dachte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politie denkt dat je iets strafbaars hebt gedaan. Een redelijk vermoeden van schul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politie kan een aantal dingen doen om een zaak op te loss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900000" y="43657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Fouill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kleding en lichaam wordt onderzoch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82692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rrest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moet mee naar het politiebureau voor verhoor. (je kan een paar dagen worden vastgehouden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900000" y="558972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uis doorzoek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zoeken naar bewijsmateriaal. Huiszoekingsbevel nodig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4" descr="politie"/>
          <p:cNvPicPr/>
          <p:nvPr/>
        </p:nvPicPr>
        <p:blipFill>
          <a:blip r:embed="rId1"/>
          <a:stretch/>
        </p:blipFill>
        <p:spPr>
          <a:xfrm>
            <a:off x="7286760" y="642960"/>
            <a:ext cx="1493640" cy="18716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673E-22B1-438E-ABE5-63A2FBFC4B9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324000" y="191628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3 keuzes:</a:t>
            </a: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539640" y="4581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rvolg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moet WEL  naar de rechter. De rechter zal beslissen of je schuldig of onschuldig bent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539640" y="38606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chikk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hoeft niet naar de rechter. Je kan een boete betalen of iets dergelijks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1042920" y="5373720"/>
            <a:ext cx="7488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Vrijspraak: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s de rechter bij vervolging beslist dat je onschuldig bent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</a:rPr>
              <a:t>Schuldig: </a:t>
            </a: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s de rechter bij vervolging beslist dat er genoeg bewijs tegen je is, ben je schuldig.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9"/>
          <p:cNvGraphicFramePr/>
          <p:nvPr/>
        </p:nvGraphicFramePr>
        <p:xfrm>
          <a:off x="6286680" y="1285920"/>
          <a:ext cx="2577960" cy="142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6680" y="1285920"/>
                    <a:ext cx="257796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11"/>
          <p:cNvSpPr/>
          <p:nvPr/>
        </p:nvSpPr>
        <p:spPr>
          <a:xfrm>
            <a:off x="611280" y="270828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eponeren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J onderneemt geen stappen.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Je hoeft niet naar de rechter. Vaak door onvoldoende bewijs, of als je al ‘genoeg gestraft’ ben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809F-54DB-4ACD-8057-1F055B4675D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12"/>
          <p:cNvGraphicFramePr/>
          <p:nvPr/>
        </p:nvGraphicFramePr>
        <p:xfrm>
          <a:off x="1332000" y="3141720"/>
          <a:ext cx="6048360" cy="267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3141720"/>
                    <a:ext cx="6048360" cy="26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2538-0D66-4F89-90E5-45E6BAC967A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295200" y="500040"/>
            <a:ext cx="8848800" cy="60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4F40-A9F3-4EEA-9923-EDC3367E047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785880" y="1143000"/>
            <a:ext cx="778824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6: Van politie naar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93DC-EC49-4C76-A0DA-E0F6EAC537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85840" y="1643040"/>
            <a:ext cx="86295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A0A5-4B76-4BCB-B112-E4B3D4D525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1549440" y="-24336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39280" y="404280"/>
            <a:ext cx="764388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rechtbank"/>
          <p:cNvPicPr/>
          <p:nvPr/>
        </p:nvPicPr>
        <p:blipFill>
          <a:blip r:embed="rId1"/>
          <a:srcRect l="0" t="0" r="0" b="32627"/>
          <a:stretch/>
        </p:blipFill>
        <p:spPr>
          <a:xfrm>
            <a:off x="1979640" y="1916280"/>
            <a:ext cx="4802040" cy="4941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3"/>
          <p:cNvSpPr/>
          <p:nvPr/>
        </p:nvSpPr>
        <p:spPr>
          <a:xfrm>
            <a:off x="250920" y="2205000"/>
            <a:ext cx="1728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Officier van justitie: </a:t>
            </a:r>
            <a:br>
              <a:rPr sz="1600"/>
            </a:b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wil bewijzen dat de verdachte schuldig is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6877080" y="4653000"/>
            <a:ext cx="17287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Advocaat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verdedigt de verdachte.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5"/>
          <p:cNvSpPr/>
          <p:nvPr/>
        </p:nvSpPr>
        <p:spPr>
          <a:xfrm>
            <a:off x="6877080" y="3284640"/>
            <a:ext cx="22669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Verdachte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de persoon die verdacht wordt van een misdrijf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6877080" y="1916280"/>
            <a:ext cx="172872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Griffier: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Noteert alles wat er gezegd wordt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2771640" y="981000"/>
            <a:ext cx="39610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 u="sng">
                <a:solidFill>
                  <a:srgbClr val="000000"/>
                </a:solidFill>
                <a:uFillTx/>
                <a:latin typeface="Arial"/>
              </a:rPr>
              <a:t>Rechter: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</a:rPr>
              <a:t>Beslist of de verdachte schuldig is en bepaalt de straf 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2627280" y="141300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 flipH="1">
            <a:off x="6659280" y="1844640"/>
            <a:ext cx="36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 flipH="1">
            <a:off x="5292360" y="3284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 flipH="1" flipV="1">
            <a:off x="6443640" y="4221000"/>
            <a:ext cx="50472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1403280" y="256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6CC6-1DA5-406C-AFEE-CDBFB5C2A56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3" descr="RECHTSPRAAK"/>
          <p:cNvPicPr/>
          <p:nvPr/>
        </p:nvPicPr>
        <p:blipFill>
          <a:blip r:embed="rId1"/>
          <a:stretch/>
        </p:blipFill>
        <p:spPr>
          <a:xfrm>
            <a:off x="1908000" y="2276640"/>
            <a:ext cx="5010480" cy="38098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EADD-91BD-4AE2-9263-87F2F24C542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2857680" y="1143000"/>
            <a:ext cx="435744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FD6B4-92B5-46EF-8631-3F361359C30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24000" y="2205000"/>
            <a:ext cx="8280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ieter weet precies wat er gaat gebeuren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rechter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controleert all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persoonlijke gegevens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(naam, geboortedatum, adres)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J leest de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anklacht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voor. Daarin staat waarvan Pieter verdacht wordt en wanneer het is gebeurd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e rechter, de OvJ en de advocaat gaan Pieter nu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ragen stellen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. Bvb of hij wel eens eerder met de politie te maken heeft geha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Een vriend is opgeroepen als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getuige.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Hij moet eerlijk vertellen wat er is gebeurd. Getuiges mogen niet liegen!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judge"/>
          <p:cNvPicPr/>
          <p:nvPr/>
        </p:nvPicPr>
        <p:blipFill>
          <a:blip r:embed="rId1"/>
          <a:stretch/>
        </p:blipFill>
        <p:spPr>
          <a:xfrm>
            <a:off x="6804000" y="907920"/>
            <a:ext cx="1857240" cy="16099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A42F-BB6A-4FE6-88BD-E428A0EC7D7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3640" cy="223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4716360" y="1989000"/>
            <a:ext cx="4102200" cy="2305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3816360" cy="117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4249800" cy="10126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CC76-48DA-40E1-A4A6-1AEC90FCBAD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0" y="2060640"/>
            <a:ext cx="8280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5. De OvJ legt uit waarom hij vindt dat Pieter 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chuldig is en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eist een straf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6. De advocaat neemt het dan op voor Pieter en vraagt om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strafverminder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7. Pieter mag als verdachte zelf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het laatste woord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hebben en spijt betui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8. De rechter spreekt het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onnis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uit: Hij veroordeelt Pieter tot 2 maanden voorwaardelijke gevangenisstraf en 120 uur taakstraf. 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oorwaardelijk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 betekent dat Pieter voorlopig niet de gevangenis in hoeft, tenzij hij weer zoiets stoms doet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7" descr="jail"/>
          <p:cNvPicPr/>
          <p:nvPr/>
        </p:nvPicPr>
        <p:blipFill>
          <a:blip r:embed="rId3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29B5-DE4E-40F7-867E-22E6E7AC024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6921-1B15-4B1D-9F60-FA038647E55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684360" y="2060640"/>
            <a:ext cx="828036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Taken van de officier van justitie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oen uitvoeren van opgelegde vonniss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Zorgen dat veroordeelden hun straf uitzit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iding geven aan opsporingsonderzoek/ opsporingstaak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volgen van strafbare fei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or de rechter brengen van verdacht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Aanklagen van verdacht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Enter Taylors Solicitors web pag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34440" y="620640"/>
            <a:ext cx="1609560" cy="1609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jail"/>
          <p:cNvPicPr/>
          <p:nvPr/>
        </p:nvPicPr>
        <p:blipFill>
          <a:blip r:embed="rId3"/>
          <a:stretch/>
        </p:blipFill>
        <p:spPr>
          <a:xfrm>
            <a:off x="324000" y="765000"/>
            <a:ext cx="14857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61AF-A5EE-48F5-BE2E-5E19B73D27A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0" y="19461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6" descr="judge"/>
          <p:cNvPicPr/>
          <p:nvPr/>
        </p:nvPicPr>
        <p:blipFill>
          <a:blip r:embed="rId1"/>
          <a:stretch/>
        </p:blipFill>
        <p:spPr>
          <a:xfrm>
            <a:off x="3429000" y="1428840"/>
            <a:ext cx="2730600" cy="2367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285840" y="3857760"/>
            <a:ext cx="4352760" cy="2581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3"/>
          <a:stretch/>
        </p:blipFill>
        <p:spPr>
          <a:xfrm>
            <a:off x="5500800" y="3857760"/>
            <a:ext cx="340020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ijdelijke aanduiding voor dianumm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0B34-A5C1-49EB-9382-A751A82BE94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7: voor de rech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0" y="1946160"/>
            <a:ext cx="806436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oorten straffen: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468360" y="3357720"/>
            <a:ext cx="799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Hoofdstraffen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: zoals gevangenisstraf, geldboete, taakstraf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468360" y="3860640"/>
            <a:ext cx="78487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Bijkomendestraf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: zoals rijbewijs inleveren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395280" y="4365720"/>
            <a:ext cx="799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- Maatregelen: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BS (ter Beschikking stelling aan de staat), agressietraining, etc</a:t>
            </a:r>
            <a:endParaRPr b="0" i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4" descr="police"/>
          <p:cNvPicPr/>
          <p:nvPr/>
        </p:nvPicPr>
        <p:blipFill>
          <a:blip r:embed="rId1"/>
          <a:stretch/>
        </p:blipFill>
        <p:spPr>
          <a:xfrm>
            <a:off x="6659640" y="765000"/>
            <a:ext cx="1333440" cy="13338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22"/>
          <p:cNvSpPr/>
          <p:nvPr/>
        </p:nvSpPr>
        <p:spPr>
          <a:xfrm>
            <a:off x="611280" y="551664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Pieter krijgt van de rechter 2 maanden voorwaardelijk en een taakstraf als hoofdstraf en de maatregel dat hij agressietraining moet volg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7231-DEA1-44C3-AB7F-0ED030DD022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0" y="234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Waarom straffen we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British_police"/>
          <p:cNvPicPr/>
          <p:nvPr/>
        </p:nvPicPr>
        <p:blipFill>
          <a:blip r:embed="rId1"/>
          <a:stretch/>
        </p:blipFill>
        <p:spPr>
          <a:xfrm>
            <a:off x="7500960" y="428760"/>
            <a:ext cx="1371600" cy="13237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2"/>
          <p:cNvSpPr/>
          <p:nvPr/>
        </p:nvSpPr>
        <p:spPr>
          <a:xfrm>
            <a:off x="1311120" y="2800440"/>
            <a:ext cx="448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3"/>
          <p:cNvSpPr/>
          <p:nvPr/>
        </p:nvSpPr>
        <p:spPr>
          <a:xfrm>
            <a:off x="468360" y="2852640"/>
            <a:ext cx="7920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afschikking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mensen moeten niet crimineel willen word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Resocialisatie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gedrag verbeteren, zodat criminelen terug kunnen in de samenlev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Veiliger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criminelen zitten in de gevangenis, dus is het daarbuiten veiliger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Wraak: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slachtoffers en familiedaarvoor wilden vergelding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itel 1"/>
          <p:cNvSpPr/>
          <p:nvPr/>
        </p:nvSpPr>
        <p:spPr>
          <a:xfrm>
            <a:off x="0" y="500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A087-F569-4AA2-BC22-BB5BE9E44C5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250920" y="407664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aak- en leerstraffen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ternatieve straffen: helpen in de winkel waar je hebt gestolen, dronken iemand aangereden: gehandicapte slachtoffers helpen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324000" y="270828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trenger straffen: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affen hoger maken, hogere boetes, langere gevangenisstraf. 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250920" y="3573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Lik-op-stukbeleid: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dader sneller pakken én berechten.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17"/>
          <p:cNvSpPr/>
          <p:nvPr/>
        </p:nvSpPr>
        <p:spPr>
          <a:xfrm>
            <a:off x="250920" y="530064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</a:rPr>
              <a:t>Preventie:</a:t>
            </a:r>
            <a:r>
              <a:rPr b="1" i="1" lang="nl-N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voorkomen dat er criminaliteit plaats heeft. Meer politie op straat, meer camera’s bij winkels, etc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raffen helpt niet voldoende: 4 oploss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7F87-1D65-4CEE-A3C8-048AABD43EF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1"/>
          <a:stretch/>
        </p:blipFill>
        <p:spPr>
          <a:xfrm>
            <a:off x="0" y="1571760"/>
            <a:ext cx="91598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DAA9-F208-4474-9DA5-9C5CCD13D27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itel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8: Waarom straffen we?</a:t>
            </a:r>
            <a:endParaRPr b="0" i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285840" y="1285920"/>
            <a:ext cx="852156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pressie/ repressieve maatregelen:</a:t>
            </a:r>
            <a:br>
              <a:rPr sz="2200"/>
            </a:b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nadat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misdrijven zijn gepleegd, actie onder nemen (straffen, opsporen).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Achteraf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reventie/ preventieve maatregelen: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m te 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oorkom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dat criminaliteit gebeurd. 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moord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roofover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C305-8FA3-4E9C-9BFD-784D636814C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9" descr="politie"/>
          <p:cNvPicPr/>
          <p:nvPr/>
        </p:nvPicPr>
        <p:blipFill>
          <a:blip r:embed="rId1"/>
          <a:stretch/>
        </p:blipFill>
        <p:spPr>
          <a:xfrm>
            <a:off x="7086600" y="3789360"/>
            <a:ext cx="181116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2551-679F-4431-B881-A918F187CD0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101840" cy="2374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2"/>
          <a:stretch/>
        </p:blipFill>
        <p:spPr>
          <a:xfrm>
            <a:off x="4572000" y="2060640"/>
            <a:ext cx="4029120" cy="2305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0" descr=""/>
          <p:cNvPicPr/>
          <p:nvPr/>
        </p:nvPicPr>
        <p:blipFill>
          <a:blip r:embed="rId3"/>
          <a:stretch/>
        </p:blipFill>
        <p:spPr>
          <a:xfrm>
            <a:off x="324000" y="4653000"/>
            <a:ext cx="4032000" cy="855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"/>
          <p:cNvPicPr/>
          <p:nvPr/>
        </p:nvPicPr>
        <p:blipFill>
          <a:blip r:embed="rId4"/>
          <a:stretch/>
        </p:blipFill>
        <p:spPr>
          <a:xfrm>
            <a:off x="4716360" y="4653000"/>
            <a:ext cx="3456000" cy="6714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Opspor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evangeni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Nieuwe wetg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7A7B-3A37-4AD0-A3AE-0C210F1C870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9" descr="politie"/>
          <p:cNvPicPr/>
          <p:nvPr/>
        </p:nvPicPr>
        <p:blipFill>
          <a:blip r:embed="rId1"/>
          <a:stretch/>
        </p:blipFill>
        <p:spPr>
          <a:xfrm>
            <a:off x="5435640" y="2781360"/>
            <a:ext cx="22384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Opsporingsbeleid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het opsporen van criminalite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lke vormen verdienen aanda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leid om pakkans te verho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Vervolging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manier waarop overheid misdrijven wil be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Bvb snelrecht/ lik-op-stuk beleid (zelfde dag opgepakt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oor de rech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C676-AE7B-4E11-B280-4A2B5681C1C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9" descr="politie"/>
          <p:cNvPicPr/>
          <p:nvPr/>
        </p:nvPicPr>
        <p:blipFill>
          <a:blip r:embed="rId1"/>
          <a:stretch/>
        </p:blipFill>
        <p:spPr>
          <a:xfrm>
            <a:off x="7093080" y="191628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lvl="1" marL="640080" indent="-27432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Veelvoorkomendecriminaliteit: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misdrijven die relatief vaak voorkomen: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winkeldiefstal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zakkenrollen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voetbal vandalisme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vernieling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Worden bestraft met taakstraf en geldboe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Meer met preventieve maatregelen aanpakk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40080" indent="-27432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Zware criminaliteit: 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verkrachting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moord</a:t>
            </a:r>
            <a:br>
              <a:rPr sz="2100"/>
            </a:b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- roofoverv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762D-2428-4E66-8921-1C992BBE545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9" descr="politie"/>
          <p:cNvPicPr/>
          <p:nvPr/>
        </p:nvPicPr>
        <p:blipFill>
          <a:blip r:embed="rId1"/>
          <a:stretch/>
        </p:blipFill>
        <p:spPr>
          <a:xfrm>
            <a:off x="7236000" y="335772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664200" indent="-2844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0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Verborgen criminaliteit:</a:t>
            </a:r>
            <a:br>
              <a:rPr sz="2100"/>
            </a:b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- belastingfraude       - onterechte uitkering</a:t>
            </a:r>
            <a:br>
              <a:rPr sz="1700"/>
            </a:b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- internetcriminalitei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063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Wordt extra onder de loep genom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Georganiseerde misdaa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Vrouwenhandel   - Ontvoering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Pornografie          - Hel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Fraude                  - gokk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Vaak internationale bend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Bestreden door streng optred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Meer politieagenten, gevangeniscell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Politie en justitie mogen telefoons en computers afluistere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96120" indent="-284400">
              <a:spcBef>
                <a:spcPts val="1063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700" spc="-1" strike="noStrike">
                <a:solidFill>
                  <a:srgbClr val="000000"/>
                </a:solidFill>
                <a:latin typeface="Arial"/>
              </a:rPr>
              <a:t>Rechters geven hogere straffen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7B18-35F1-4D8F-88B2-B0E0ECF87EC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politie"/>
          <p:cNvPicPr/>
          <p:nvPr/>
        </p:nvPicPr>
        <p:blipFill>
          <a:blip r:embed="rId1"/>
          <a:stretch/>
        </p:blipFill>
        <p:spPr>
          <a:xfrm>
            <a:off x="7236000" y="3357720"/>
            <a:ext cx="22381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752040" indent="-322200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2. Vervolgingsbeleid. De vervolging van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52040" indent="-322200">
              <a:spcBef>
                <a:spcPts val="131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Arial"/>
              </a:rPr>
              <a:t>terreurbestrijding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aanslagen (denk aan New-York, London, Madrid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Strengere controles op vliegveld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Niet alleen daders strafbaar </a:t>
            </a:r>
            <a:r>
              <a:rPr b="0" lang="nl-NL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Ook als jee van plan bent of lid terroristische groe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Zelfs als je het toejuicht kan je voor de rechter kom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Politie arresteert al, als je, je verdacht gedraag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27880" indent="-322200"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Dit is: verruiming van de bevoegdhede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9223F-715B-4738-9393-616B4C61466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9" descr="politie"/>
          <p:cNvPicPr/>
          <p:nvPr/>
        </p:nvPicPr>
        <p:blipFill>
          <a:blip r:embed="rId1"/>
          <a:stretch/>
        </p:blipFill>
        <p:spPr>
          <a:xfrm>
            <a:off x="7451640" y="1125360"/>
            <a:ext cx="133344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3. Gevangenis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Extra cellen bouwen bij cellen tek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dan 1 gevange per c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ij overschot: gevangenis ‘verhuren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4. Nieuwe wetg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boeken aanpass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 moet effectief zijn (moet werken, effect oplever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Wet moet wenselijk zijn (samenleving moet acceptere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ast het bij de normen en waarden van de samenlev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92200" indent="-25380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682D-0D54-429A-8F35-7BB375087EC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9" descr="politie"/>
          <p:cNvPicPr/>
          <p:nvPr/>
        </p:nvPicPr>
        <p:blipFill>
          <a:blip r:embed="rId1"/>
          <a:stretch/>
        </p:blipFill>
        <p:spPr>
          <a:xfrm>
            <a:off x="7236000" y="1916280"/>
            <a:ext cx="1492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Het beleid van de overheid bestaat uit 6 onderdelen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5. Preventie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- Criminaliteit voorkomen (h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6. Jeugdbel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Jeugdcriminaliteit terugdr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toezicht, meer contr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neller 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werkprojecten/ taakstraff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000" indent="-308520">
              <a:spcBef>
                <a:spcPts val="137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aandacht voor onderwijs: niet spijbelen, schooluitv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1F5E-CC64-4F9C-A306-83778DCDD06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9" descr="politie"/>
          <p:cNvPicPr/>
          <p:nvPr/>
        </p:nvPicPr>
        <p:blipFill>
          <a:blip r:embed="rId1"/>
          <a:stretch/>
        </p:blipFill>
        <p:spPr>
          <a:xfrm>
            <a:off x="7236000" y="1916280"/>
            <a:ext cx="1492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95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Links/socialis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maatschappelijke aspec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ventieve maatrege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b banenplannen voor jongeren/ wijkagenten inze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Christen democrat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belang gezin, school &amp; maatschapp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uders en leraren moeten kinderen respect/eerbied bijbre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Rechts/Liberale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adruk op repressieve aanpak: zwaarder straff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eer bevoegdheden voor politie en justitie </a:t>
            </a:r>
            <a:r>
              <a:rPr b="0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oms in strijd met burgerrech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4200" indent="-2844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D3F4B-87C4-4228-BA7F-F9B568E2ACB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9" descr="politie"/>
          <p:cNvPicPr/>
          <p:nvPr/>
        </p:nvPicPr>
        <p:blipFill>
          <a:blip r:embed="rId1"/>
          <a:stretch/>
        </p:blipFill>
        <p:spPr>
          <a:xfrm>
            <a:off x="7667640" y="1197000"/>
            <a:ext cx="9176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9: Het beleid van de over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C2B4-DF5B-441A-B790-C82D3EFC9A7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"/>
          <p:cNvPicPr/>
          <p:nvPr/>
        </p:nvPicPr>
        <p:blipFill>
          <a:blip r:embed="rId1"/>
          <a:stretch/>
        </p:blipFill>
        <p:spPr>
          <a:xfrm>
            <a:off x="1214280" y="1285920"/>
            <a:ext cx="6828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5A23-A27E-4F22-BAD6-9AC67D3483A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al 5"/>
          <p:cNvSpPr/>
          <p:nvPr/>
        </p:nvSpPr>
        <p:spPr>
          <a:xfrm>
            <a:off x="395280" y="2349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al 6"/>
          <p:cNvSpPr/>
          <p:nvPr/>
        </p:nvSpPr>
        <p:spPr>
          <a:xfrm>
            <a:off x="826920" y="450864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al 7"/>
          <p:cNvSpPr/>
          <p:nvPr/>
        </p:nvSpPr>
        <p:spPr>
          <a:xfrm>
            <a:off x="5867280" y="242100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al 8"/>
          <p:cNvSpPr/>
          <p:nvPr/>
        </p:nvSpPr>
        <p:spPr>
          <a:xfrm>
            <a:off x="5651640" y="4221000"/>
            <a:ext cx="266544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kstvak 9"/>
          <p:cNvSpPr/>
          <p:nvPr/>
        </p:nvSpPr>
        <p:spPr>
          <a:xfrm>
            <a:off x="755640" y="256536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kstvak 11"/>
          <p:cNvSpPr/>
          <p:nvPr/>
        </p:nvSpPr>
        <p:spPr>
          <a:xfrm>
            <a:off x="6156360" y="45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kstvak 12"/>
          <p:cNvSpPr/>
          <p:nvPr/>
        </p:nvSpPr>
        <p:spPr>
          <a:xfrm>
            <a:off x="1332000" y="472428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okal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kstvak 13"/>
          <p:cNvSpPr/>
          <p:nvPr/>
        </p:nvSpPr>
        <p:spPr>
          <a:xfrm>
            <a:off x="6372360" y="27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Gelijkbenige driehoek 14"/>
          <p:cNvSpPr/>
          <p:nvPr/>
        </p:nvSpPr>
        <p:spPr>
          <a:xfrm>
            <a:off x="3564000" y="2349360"/>
            <a:ext cx="2232000" cy="1943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kstvak 15"/>
          <p:cNvSpPr/>
          <p:nvPr/>
        </p:nvSpPr>
        <p:spPr>
          <a:xfrm>
            <a:off x="3851280" y="342900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Preventie door: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U-vormige pijl 16"/>
          <p:cNvSpPr/>
          <p:nvPr/>
        </p:nvSpPr>
        <p:spPr>
          <a:xfrm>
            <a:off x="5076720" y="2060640"/>
            <a:ext cx="885960" cy="877680"/>
          </a:xfrm>
          <a:custGeom>
            <a:avLst/>
            <a:gdLst/>
            <a:ahLst/>
            <a:rect l="l" t="t" r="r" b="b"/>
            <a:pathLst>
              <a:path w="885825" h="877888">
                <a:moveTo>
                  <a:pt x="0" y="877888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2013" y="0"/>
                </a:lnTo>
                <a:lnTo>
                  <a:pt x="392013" y="0"/>
                </a:lnTo>
                <a:arcTo wR="384076" hR="384076" stAng="-5400000" swAng="5400009"/>
                <a:lnTo>
                  <a:pt x="776089" y="438944"/>
                </a:lnTo>
                <a:lnTo>
                  <a:pt x="885825" y="438944"/>
                </a:lnTo>
                <a:lnTo>
                  <a:pt x="666353" y="658416"/>
                </a:lnTo>
                <a:lnTo>
                  <a:pt x="446881" y="438944"/>
                </a:lnTo>
                <a:lnTo>
                  <a:pt x="556617" y="438944"/>
                </a:lnTo>
                <a:lnTo>
                  <a:pt x="556617" y="384076"/>
                </a:lnTo>
                <a:lnTo>
                  <a:pt x="556617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U-vormige pijl 17"/>
          <p:cNvSpPr/>
          <p:nvPr/>
        </p:nvSpPr>
        <p:spPr>
          <a:xfrm rot="7020600">
            <a:off x="3528720" y="4474800"/>
            <a:ext cx="887400" cy="878040"/>
          </a:xfrm>
          <a:custGeom>
            <a:avLst/>
            <a:gdLst/>
            <a:ahLst/>
            <a:rect l="l" t="t" r="r" b="b"/>
            <a:pathLst>
              <a:path w="887413" h="877888">
                <a:moveTo>
                  <a:pt x="0" y="877888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3601" y="0"/>
                </a:lnTo>
                <a:lnTo>
                  <a:pt x="393601" y="0"/>
                </a:lnTo>
                <a:arcTo wR="384076" hR="384076" stAng="-5400000" swAng="5400009"/>
                <a:lnTo>
                  <a:pt x="777677" y="438944"/>
                </a:lnTo>
                <a:lnTo>
                  <a:pt x="887413" y="438944"/>
                </a:lnTo>
                <a:lnTo>
                  <a:pt x="667941" y="658416"/>
                </a:lnTo>
                <a:lnTo>
                  <a:pt x="448469" y="438944"/>
                </a:lnTo>
                <a:lnTo>
                  <a:pt x="558205" y="438944"/>
                </a:lnTo>
                <a:lnTo>
                  <a:pt x="558205" y="384076"/>
                </a:lnTo>
                <a:lnTo>
                  <a:pt x="558205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U-vormige pijl 18"/>
          <p:cNvSpPr/>
          <p:nvPr/>
        </p:nvSpPr>
        <p:spPr>
          <a:xfrm rot="16389000">
            <a:off x="4807440" y="4248720"/>
            <a:ext cx="885600" cy="877680"/>
          </a:xfrm>
          <a:custGeom>
            <a:avLst/>
            <a:gdLst/>
            <a:ahLst/>
            <a:rect l="l" t="t" r="r" b="b"/>
            <a:pathLst>
              <a:path w="885825" h="877887">
                <a:moveTo>
                  <a:pt x="0" y="877887"/>
                </a:moveTo>
                <a:lnTo>
                  <a:pt x="0" y="384076"/>
                </a:lnTo>
                <a:lnTo>
                  <a:pt x="0" y="384076"/>
                </a:lnTo>
                <a:arcTo wR="384076" hR="384076" stAng="10800000" swAng="5400009"/>
                <a:lnTo>
                  <a:pt x="392014" y="0"/>
                </a:lnTo>
                <a:lnTo>
                  <a:pt x="392014" y="0"/>
                </a:lnTo>
                <a:arcTo wR="384076" hR="384076" stAng="-5400000" swAng="5400009"/>
                <a:lnTo>
                  <a:pt x="776089" y="438944"/>
                </a:lnTo>
                <a:lnTo>
                  <a:pt x="885825" y="438944"/>
                </a:lnTo>
                <a:lnTo>
                  <a:pt x="666353" y="658415"/>
                </a:lnTo>
                <a:lnTo>
                  <a:pt x="446882" y="438944"/>
                </a:lnTo>
                <a:lnTo>
                  <a:pt x="556617" y="438944"/>
                </a:lnTo>
                <a:lnTo>
                  <a:pt x="556617" y="384076"/>
                </a:lnTo>
                <a:lnTo>
                  <a:pt x="556617" y="384076"/>
                </a:lnTo>
                <a:arcTo wR="164604" hR="164604" stAng="0" swAng="-5400000"/>
                <a:lnTo>
                  <a:pt x="384076" y="219472"/>
                </a:lnTo>
                <a:lnTo>
                  <a:pt x="384076" y="219472"/>
                </a:lnTo>
                <a:arcTo wR="164604" hR="164604" stAng="-5400000" swAng="-5400000"/>
                <a:lnTo>
                  <a:pt x="219472" y="877887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U-vormige pijl 19"/>
          <p:cNvSpPr/>
          <p:nvPr/>
        </p:nvSpPr>
        <p:spPr>
          <a:xfrm rot="13525200">
            <a:off x="3058560" y="2420640"/>
            <a:ext cx="887400" cy="877680"/>
          </a:xfrm>
          <a:custGeom>
            <a:avLst/>
            <a:gdLst/>
            <a:ahLst/>
            <a:rect l="l" t="t" r="r" b="b"/>
            <a:pathLst>
              <a:path w="887413" h="877888">
                <a:moveTo>
                  <a:pt x="0" y="877888"/>
                </a:moveTo>
                <a:lnTo>
                  <a:pt x="0" y="388650"/>
                </a:lnTo>
                <a:lnTo>
                  <a:pt x="0" y="388650"/>
                </a:lnTo>
                <a:arcTo wR="388650" hR="388650" stAng="10800000" swAng="5400009"/>
                <a:lnTo>
                  <a:pt x="389027" y="0"/>
                </a:lnTo>
                <a:lnTo>
                  <a:pt x="389027" y="0"/>
                </a:lnTo>
                <a:arcTo wR="388650" hR="388650" stAng="-5400000" swAng="5400009"/>
                <a:lnTo>
                  <a:pt x="777677" y="438944"/>
                </a:lnTo>
                <a:lnTo>
                  <a:pt x="887413" y="438944"/>
                </a:lnTo>
                <a:lnTo>
                  <a:pt x="667941" y="658416"/>
                </a:lnTo>
                <a:lnTo>
                  <a:pt x="448469" y="438944"/>
                </a:lnTo>
                <a:lnTo>
                  <a:pt x="558205" y="438944"/>
                </a:lnTo>
                <a:lnTo>
                  <a:pt x="558205" y="388650"/>
                </a:lnTo>
                <a:lnTo>
                  <a:pt x="558205" y="388650"/>
                </a:lnTo>
                <a:arcTo wR="169178" hR="169178" stAng="0" swAng="-5400000"/>
                <a:lnTo>
                  <a:pt x="388650" y="219472"/>
                </a:lnTo>
                <a:lnTo>
                  <a:pt x="388650" y="219472"/>
                </a:lnTo>
                <a:arcTo wR="169178" hR="169178" stAng="-5400000" swAng="-5400000"/>
                <a:lnTo>
                  <a:pt x="219472" y="877888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AAD2-2BDF-468B-BD39-DC39075C0AE2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4032360" cy="23032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police.gif police image by scottametz"/>
          <p:cNvPicPr/>
          <p:nvPr/>
        </p:nvPicPr>
        <p:blipFill>
          <a:blip r:embed="rId2"/>
          <a:stretch/>
        </p:blipFill>
        <p:spPr>
          <a:xfrm>
            <a:off x="4572000" y="2060640"/>
            <a:ext cx="3097080" cy="23223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179280" y="4437000"/>
            <a:ext cx="8064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Pieter wordt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opgepakt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door de politie. Hij moet mee naar het bureau. Daar wordt besloten dat hij voor de rechter moet komen. Enkele weken voor de rechtszitting krijgt Pieter een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dagvaarding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. Dat is de oproep om voor de rechter te verschijnen.Pieter moet niet voor de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politierechter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komen (die is alleen bij lichte misdrijven) maar bij de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</a:rPr>
              <a:t>meervoudige kamer.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 Deze bestaat uit 3 rechters en is bedoeld voor zware misdrijven zoals moord en mishandeling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8360" y="2349000"/>
            <a:ext cx="8229600" cy="35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rgen voor goede huisv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ba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lichting g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derwijs verbeteren: antispijbelbel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uders erbij be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C796-0158-4532-A252-D9F3A43C8B8A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kstvak 9"/>
          <p:cNvSpPr/>
          <p:nvPr/>
        </p:nvSpPr>
        <p:spPr>
          <a:xfrm>
            <a:off x="468360" y="13413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andelijke 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68360" y="263700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an burgemeester toestemming vragen om preventief te fouill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urgemeester kan voetbalwedstrijd verbi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eente raad kan iets strafbar stellen (blowverb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2464-1217-4180-A49C-DDF6E7EBF08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kstvak 9"/>
          <p:cNvSpPr/>
          <p:nvPr/>
        </p:nvSpPr>
        <p:spPr>
          <a:xfrm>
            <a:off x="468360" y="1341360"/>
            <a:ext cx="172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Lokale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overheid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3964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erlaten industriebedrijf: riskant terrei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Goede alarminstallat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nsen boven bedrijf won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Bewakingsdienst inhur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gen winkeldiefs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Technische maatregelen (camera’s, spiegels, diefstal poortj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eer personeel in de wink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Kleine bedrijven: geen geld voor diefstal prevent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Scho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ntispijbelbeleid (samenwerken met politie/gemee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46CB-AD61-459B-A794-B523414C441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Ovaal 5"/>
          <p:cNvSpPr/>
          <p:nvPr/>
        </p:nvSpPr>
        <p:spPr>
          <a:xfrm>
            <a:off x="0" y="907920"/>
            <a:ext cx="2664000" cy="122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kstvak 9"/>
          <p:cNvSpPr/>
          <p:nvPr/>
        </p:nvSpPr>
        <p:spPr>
          <a:xfrm>
            <a:off x="468360" y="1052640"/>
            <a:ext cx="17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edrijven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8360" y="263700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 wijken op elkaar letten: sociale contr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spectieronden burgerw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igen verantwoordelijkhei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stelen van je eigen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(Als baas:) zorgen voor goede sfeer om stelen te voorko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05AE-A59C-47D2-952B-4E49A4B26C7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al 5"/>
          <p:cNvSpPr/>
          <p:nvPr/>
        </p:nvSpPr>
        <p:spPr>
          <a:xfrm>
            <a:off x="0" y="1125360"/>
            <a:ext cx="2664000" cy="1224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kstvak 9"/>
          <p:cNvSpPr/>
          <p:nvPr/>
        </p:nvSpPr>
        <p:spPr>
          <a:xfrm>
            <a:off x="468360" y="134136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Burger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39640" y="2276640"/>
            <a:ext cx="8229600" cy="35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er sociale contro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conduc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Stadswach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akingsdiensten winkelcen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amera’s op str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politie op str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E75B-D426-4C53-AA3D-ECE017BD9F9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539640" y="21337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beteren woonomge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en huizen leeg laten staan. Ziet het er netjes uit wordt er minder vern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chnische maatregelen: afsluiten trappenhuis en galerij, verbeteren van slo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Meer voorzieningen voor jonge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DBE5-376D-4F10-A8F0-9E606A606EE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10: 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39640" y="184464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lt-bu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LT: Het ALTernat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euze: direct herstellen OF rechtzaak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herst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Jongeren tot 18 jaar (bijna de helft van de delictpleg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aakstraf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m daders af te schrik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één OvJ of recht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dus geen strafb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él rechter </a:t>
            </a:r>
            <a:r>
              <a:rPr b="0" lang="nl-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strafblad/ uitreksel justitiële documen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6F20-41B9-4201-A537-28BF2008C19B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kstvak 9"/>
          <p:cNvSpPr/>
          <p:nvPr/>
        </p:nvSpPr>
        <p:spPr>
          <a:xfrm>
            <a:off x="468360" y="134136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Arial"/>
              </a:rPr>
              <a:t>Welke preventieve maatregelen zijn er?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Tijdelijke aanduiding voor dianumm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276B-99BA-42BF-B1B2-34200D3633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55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RIMINALITE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cces met ler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324000" y="2349360"/>
            <a:ext cx="8064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5" descr="After_the_Criminal"/>
          <p:cNvPicPr/>
          <p:nvPr/>
        </p:nvPicPr>
        <p:blipFill>
          <a:blip r:embed="rId1"/>
          <a:stretch/>
        </p:blipFill>
        <p:spPr>
          <a:xfrm>
            <a:off x="2124000" y="3933720"/>
            <a:ext cx="465768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at voor wetboeken zijn 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nd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boek van strafrecht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boek van strafvo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genverkeers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Wet economische delic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Opiumw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ijdelijke aanduiding voor dianumm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E430-7D3B-4615-9837-406B6DEDEC7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6720" y="1268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Grondwet: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Wet waarin de belangrijkste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re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en </a:t>
            </a:r>
            <a:r>
              <a:rPr b="0" lang="nl-NL" sz="2200" spc="-1" strike="noStrike" u="sng">
                <a:solidFill>
                  <a:srgbClr val="000000"/>
                </a:solidFill>
                <a:uFillTx/>
                <a:latin typeface="Arial"/>
              </a:rPr>
              <a:t>plichten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 van alle inwoners in een land zijn vastgeleg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le andere wetten zijn hierop gebaseer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Wat staat er o.a. in de grondwet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gelmatige verkiezi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meningsuiting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Vrijheid van vereniging en verga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Machtenscheiding (triaspolit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ersvrijhe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1258920" y="333360"/>
            <a:ext cx="634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6732720" y="2349360"/>
            <a:ext cx="1847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96720" y="1484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Re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Algemeen kiesre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politieke partij op te richt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p gelijke behande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Recht om niet zomaar door de politie te worden opgepak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Plichten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belasting te betal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naar school te gaan. Leerplic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Arial"/>
              </a:rPr>
              <a:t>Plicht om je id bij te hebben</a:t>
            </a:r>
            <a:r>
              <a:rPr b="1" lang="nl-N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249200" y="773280"/>
            <a:ext cx="6347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 u="sng">
                <a:solidFill>
                  <a:srgbClr val="000000"/>
                </a:solidFill>
                <a:uFillTx/>
                <a:latin typeface="Arial"/>
              </a:rPr>
              <a:t>§1: regels en rechten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http://www.frankwatching.com/wordpress/wp-content/uploads/2009/04/grondwet-194x300.jpg"/>
          <p:cNvPicPr/>
          <p:nvPr/>
        </p:nvPicPr>
        <p:blipFill>
          <a:blip r:embed="rId1"/>
          <a:stretch/>
        </p:blipFill>
        <p:spPr>
          <a:xfrm>
            <a:off x="7162920" y="620640"/>
            <a:ext cx="14889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5T11:57:57Z</dcterms:created>
  <dc:creator>Stanislas College</dc:creator>
  <dc:description/>
  <dc:language>en-US</dc:language>
  <cp:lastModifiedBy>SD1</cp:lastModifiedBy>
  <dcterms:modified xsi:type="dcterms:W3CDTF">2013-07-08T13:46:09Z</dcterms:modified>
  <cp:revision>152</cp:revision>
  <dc:subject/>
  <dc:title>Dia 1</dc:title>
</cp:coreProperties>
</file>