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19.jpeg" ContentType="image/jpeg"/>
  <Override PartName="/ppt/media/image21.jpeg" ContentType="image/jpeg"/>
  <Override PartName="/ppt/media/image29.png" ContentType="image/png"/>
  <Override PartName="/ppt/media/image18.gif" ContentType="image/gif"/>
  <Override PartName="/ppt/media/image53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54.gif" ContentType="image/gif"/>
  <Override PartName="/ppt/media/image5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42.png" ContentType="image/png"/>
  <Override PartName="/ppt/media/image46.png" ContentType="image/png"/>
  <Override PartName="/ppt/media/image47.gif" ContentType="image/gif"/>
  <Override PartName="/ppt/media/image52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5.png" ContentType="image/png"/>
  <Override PartName="/ppt/media/image57.png" ContentType="image/png"/>
  <Override PartName="/ppt/media/image40.png" ContentType="image/png"/>
  <Override PartName="/ppt/media/image35.gif" ContentType="image/gif"/>
  <Override PartName="/ppt/media/image32.png" ContentType="image/png"/>
  <Override PartName="/ppt/media/image31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28.gif" ContentType="image/gif"/>
  <Override PartName="/ppt/media/image4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7.png" ContentType="image/png"/>
  <Override PartName="/ppt/media/image22.jpeg" ContentType="image/jpeg"/>
  <Override PartName="/ppt/media/image39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543B-B3BA-41E9-B818-8A6C7091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9E56-A54F-40C8-86A9-2D291B27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4A8-B896-4DA7-B934-0959EF6A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4EA-F651-4BFB-B031-156ECE6A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B11-1719-49B6-B6EB-6EEB68EE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0D92-51D2-4FFE-AD57-46647AA4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0C8-02D1-46F0-B93B-85C1EBD7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73E-1881-4919-8AA5-C8C42694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82D-D0CB-4282-8CA8-BA362D97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44F1-C78F-4A8E-9ECD-CD2103CC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D3CA-AAD6-497C-BF53-AA08B012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39F-9293-46AD-BF98-6121914E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0896-F9C2-4FAA-A69D-C91A8F9FD4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3156-2B2B-494E-B6D1-9F1E82E1C7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750960" y="285840"/>
            <a:ext cx="735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Criminaliteit en rechtssta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GIF_boef"/>
          <p:cNvPicPr/>
          <p:nvPr/>
        </p:nvPicPr>
        <p:blipFill>
          <a:blip r:embed="rId1"/>
          <a:stretch/>
        </p:blipFill>
        <p:spPr>
          <a:xfrm>
            <a:off x="2571840" y="3357720"/>
            <a:ext cx="2636640" cy="245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571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amenka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schappijleer 2 VMBO K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98100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boek van straf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(materieel strafrech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ten in Nederland staan hier in (buiten de grondwet d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de strafbare feiten zijn en welke straffen ervoor kunnen uitgesproken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fbare feiten omschr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als: moord, diefstal, oplichting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boek van strafvordering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formeel strafrech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t hoe strafbare feiten vervolgd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t de hele procedure van aanhouding t/m de strafoplegging door de rechter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twee wetboeken vormen de basis van het Nederlandse straf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EC78-3ABD-48F9-9480-0692FE32FC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es verdrag tot bescherming van de rechten van de mens (EV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rechtsregels binnen de 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1A88-33E3-4A36-8DCE-0C5A904257B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www.sdu.nl/Lists/Productlist/Attachments/5971/full_EVRMHW.jpg"/>
          <p:cNvPicPr/>
          <p:nvPr/>
        </p:nvPicPr>
        <p:blipFill>
          <a:blip r:embed="rId1"/>
          <a:stretch/>
        </p:blipFill>
        <p:spPr>
          <a:xfrm>
            <a:off x="2987640" y="3429000"/>
            <a:ext cx="21607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560" y="1341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riminaliteit 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ijdgebonden: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roeger was vreemdgaan strafbaar: sinds 1970 niet me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odslastering strafbaar: nu niet m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cken is nu WEL strafbaar, bestond vroeger ni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laatsgebonden: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egels verschillen per land en cultu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l: Euthanasie en abortus mag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in veel landen verbo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VS bijna iedereen een wapen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hier verbo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2916-0EF8-4516-B219-DF42CB31EB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enmerken van een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staat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Burgerrechte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overheid moet zich aan de wet houden; burgers hebben rech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Grondrechte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staan in de grondwet. De overheid mag geen wetten maken tégen de grondwet i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verheid zorgt voor rechtsha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having én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bescher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Parlementair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democrati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heeft altijd democratisch gekozen par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Scheidin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van machten: triaspoli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nafhankelijk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praak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rechter opereert onafhankelijk van de overhe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8970-0D98-4E37-B234-95022756656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48572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en land waarin bewoners en overheid rechten hebben en waar deze rechten zijn vastgelegd in wetten. Burgers worden beschermd tegen machtsmisbruik en willkeur van de over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deze taakverdeling voorkomen we machtsmisbrui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ierdoor heeft dus nooit één groep alle mach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116000" y="54936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525456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59280" y="518328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227640" y="5195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611280" y="3645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rgerrech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ermt worden tegen de over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szeker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weten wat je te wachten staat na het plegen van een de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s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niet anders behandelt worden dan a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05D6-5C47-4320-99DB-9EC8C47173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www.army-chaplaincy.be/images/assets/extracts/def1142004061/Aantasting%20burgerrechten.jpg"/>
          <p:cNvPicPr/>
          <p:nvPr/>
        </p:nvPicPr>
        <p:blipFill>
          <a:blip r:embed="rId1"/>
          <a:stretch/>
        </p:blipFill>
        <p:spPr>
          <a:xfrm>
            <a:off x="3564000" y="4221000"/>
            <a:ext cx="29178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shand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haven van de rechts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vb: staand houden als je zonder licht rij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spreken bij wildp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brekers arre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s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ke verdachte heeft re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lijk vermoeden van sch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antwoorden op v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2109-7CD4-44C4-9E22-7FC3B9AF73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Strafbaar gedrag: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je wetregels overtre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Criminalitei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: alle misdrijven die in de wet sta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misdrijf: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vertre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nieling, diefsta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braak, verkrachting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rood rij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afblad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geen strafb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ngeni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hecht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deplichtig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niet medeplich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aardere straf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minder zware str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riminee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overtreder/ of ni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6269-D7E0-4406-A899-DC6F4DBF81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stopPolitie"/>
          <p:cNvPicPr/>
          <p:nvPr/>
        </p:nvPicPr>
        <p:blipFill>
          <a:blip r:embed="rId1"/>
          <a:stretch/>
        </p:blipFill>
        <p:spPr>
          <a:xfrm>
            <a:off x="7559640" y="1214280"/>
            <a:ext cx="15843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09EA-611E-46BA-AFDF-BFD0D9C3DAC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57120" y="1571760"/>
            <a:ext cx="806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Materiele schade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aliteit kost miljarden euro’s per j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tv die uit je huis gehaald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fiets die gejat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trijding fraude ed kost veel 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 rekenen schade die ze lijden vaak door in de prijzen van hun produc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erheid en bedrijven lijden financiele schad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politie"/>
          <p:cNvPicPr/>
          <p:nvPr/>
        </p:nvPicPr>
        <p:blipFill>
          <a:blip r:embed="rId1"/>
          <a:stretch/>
        </p:blipFill>
        <p:spPr>
          <a:xfrm>
            <a:off x="6429240" y="2357280"/>
            <a:ext cx="2159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60D0-7597-41CE-8185-DE8553899F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57120" y="1571760"/>
            <a:ext cx="806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mmateriele schad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peloze nachten omdat er ooit is ingebro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g zijn op straat, wegens een overv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chtsgevoel van mensen wordt aangetas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rele verontwaardig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vinden het oneerlijk/onrechtvaardig als men zich niet aan de wet houd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vertrouwen (in bvb de overhei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vervaging, normen en waarden verand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politie"/>
          <p:cNvPicPr/>
          <p:nvPr/>
        </p:nvPicPr>
        <p:blipFill>
          <a:blip r:embed="rId1"/>
          <a:stretch/>
        </p:blipFill>
        <p:spPr>
          <a:xfrm>
            <a:off x="7164360" y="227664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E593-E453-4301-B851-664CAF68C9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0" y="198900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15620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0" y="4637160"/>
            <a:ext cx="4140360" cy="73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4"/>
          <a:srcRect l="1705" t="0" r="5168" b="0"/>
          <a:stretch/>
        </p:blipFill>
        <p:spPr>
          <a:xfrm>
            <a:off x="4427640" y="4653000"/>
            <a:ext cx="3960720" cy="56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us van Pieter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on: rechtvoorjou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3: Ons beeld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6D83-E0B5-474A-B0E2-C0831ECE69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879336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3: Ons beeld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F988-4D10-446A-9766-23BE85A015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642960" y="1143000"/>
            <a:ext cx="72867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F645-4660-4662-BB15-03534312EF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500120" y="1785960"/>
            <a:ext cx="72392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kenmerken van een crimineel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: uiterlijk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: Lagere maatschappelijke posi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: - vaker door mannen dan door vrouw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slechte opvoeding leidt vaker tot crimineel gedr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epsgedrag: als je vrienden het doen..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Spijbelaars/zonder dipl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politie"/>
          <p:cNvPicPr/>
          <p:nvPr/>
        </p:nvPicPr>
        <p:blipFill>
          <a:blip r:embed="rId1"/>
          <a:stretch/>
        </p:blipFill>
        <p:spPr>
          <a:xfrm>
            <a:off x="395280" y="3933720"/>
            <a:ext cx="15192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D078-2DCC-4E9F-90B3-8FC511AB05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politie"/>
          <p:cNvPicPr/>
          <p:nvPr/>
        </p:nvPicPr>
        <p:blipFill>
          <a:blip r:embed="rId1"/>
          <a:stretch/>
        </p:blipFill>
        <p:spPr>
          <a:xfrm>
            <a:off x="7905600" y="57168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182520" y="1928880"/>
            <a:ext cx="89614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A8FD-C59A-49A4-81CD-12FE0F9847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politie"/>
          <p:cNvPicPr/>
          <p:nvPr/>
        </p:nvPicPr>
        <p:blipFill>
          <a:blip r:embed="rId1"/>
          <a:stretch/>
        </p:blipFill>
        <p:spPr>
          <a:xfrm>
            <a:off x="7905600" y="64296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117360" y="1785960"/>
            <a:ext cx="9026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F2C4-68C4-4828-936D-0EE79F5D749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7" descr="politie"/>
          <p:cNvPicPr/>
          <p:nvPr/>
        </p:nvPicPr>
        <p:blipFill>
          <a:blip r:embed="rId1"/>
          <a:stretch/>
        </p:blipFill>
        <p:spPr>
          <a:xfrm>
            <a:off x="7905600" y="64296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84872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B9C0-3A41-43D4-A135-0820C95A0B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50920" y="191628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Maatschappelijke oorza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26920" y="3645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In een grote stad gebeurd het vak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900000" y="263700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ociale controle is minder ge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pakkans is daardoor kleiner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826920" y="22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ormen en waarden zijn minder stre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395280" y="4724280"/>
            <a:ext cx="828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Bindingstheorie van Hirschi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aliteit een combinatie van individuele en maatschappelijke oorzaken. Niemand is alleen meer goed, iedereen kan misdadiger zijn. Ligt aan de bindingen die je hebt: vrienden, band met familie, werk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26920" y="40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cohol en drugs gebruik toegenom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politie"/>
          <p:cNvPicPr/>
          <p:nvPr/>
        </p:nvPicPr>
        <p:blipFill>
          <a:blip r:embed="rId1"/>
          <a:stretch/>
        </p:blipFill>
        <p:spPr>
          <a:xfrm>
            <a:off x="6732720" y="1557360"/>
            <a:ext cx="12380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173F-E13D-45B9-9519-AB7EA71A969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75009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4920" y="981000"/>
            <a:ext cx="84978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verjaringstermijn is de periode waarna de verdachte in een strafzaak niet meer kunt worden vervolg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termijn van verjaring hangt af van het soort strafbaar feit dat u heeft gepleeg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tredingen: na 3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geldboete, hechtenis, of gevangenisstraf van 3 jaar of minder kan worden opgelegd: na 6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tijdelijke gevangenisstraf van meer dan 3 jaar kan worden opgelegd: na 12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gevangenisstraf van meer dan 10 jaar kan worden opgelegd: na 20 ja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verjaring bij levenslange gevangenisstr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5B29-F1BE-4704-A0CF-E7A50EEB27E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3D97-8AB0-492A-99EF-625760236C3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42920" y="1500120"/>
            <a:ext cx="90010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0AC0-B08F-4B0A-9069-558F4C6771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237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10364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882E-C624-4F72-8927-14384A69F26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2349360"/>
            <a:ext cx="849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politie kan een aantal dingen do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900000" y="43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900000" y="5589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oeken naar bewijsmateriaal. Huiszoekingsbevel nodig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4" descr="politie"/>
          <p:cNvPicPr/>
          <p:nvPr/>
        </p:nvPicPr>
        <p:blipFill>
          <a:blip r:embed="rId1"/>
          <a:stretch/>
        </p:blipFill>
        <p:spPr>
          <a:xfrm>
            <a:off x="7286760" y="642960"/>
            <a:ext cx="1493640" cy="187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6C07-0E5B-41D1-A745-D64B0A9488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ikk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9"/>
          <p:cNvGraphicFramePr/>
          <p:nvPr/>
        </p:nvGraphicFramePr>
        <p:xfrm>
          <a:off x="6286680" y="1285920"/>
          <a:ext cx="2577960" cy="14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1285920"/>
                    <a:ext cx="2577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E64A-1704-4168-AFA4-23D32DAEB2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12"/>
          <p:cNvGraphicFramePr/>
          <p:nvPr/>
        </p:nvGraphicFramePr>
        <p:xfrm>
          <a:off x="1332000" y="3141720"/>
          <a:ext cx="6048360" cy="267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141720"/>
                    <a:ext cx="604836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84AB-DF9D-4753-9CD5-90C5A4D65C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95200" y="500040"/>
            <a:ext cx="88488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31CC-361A-48DD-BFE7-53B5DC25A9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77882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D83B-D019-41B9-8C14-6BCB1FED1C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8629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4FC6-840B-4006-882B-010174B09A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A8AD-A973-46FD-9BD5-3BF8F050F2F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CF06-0324-48BD-96E7-DEACD9330D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857680" y="1143000"/>
            <a:ext cx="43574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B490-2B4F-4838-A730-2BAE2403AEE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24000" y="2205000"/>
            <a:ext cx="8280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J leest 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rechter, de OvJ en de advocaat gaan Pieter nu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. Bvb of hij wel eens eerder met de politie te maken heeft geh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judge"/>
          <p:cNvPicPr/>
          <p:nvPr/>
        </p:nvPicPr>
        <p:blipFill>
          <a:blip r:embed="rId1"/>
          <a:stretch/>
        </p:blipFill>
        <p:spPr>
          <a:xfrm>
            <a:off x="6804000" y="907920"/>
            <a:ext cx="1857240" cy="1609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C4D1-75A1-4FEB-BF61-CB3E5890D3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4102200" cy="230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3816360" cy="117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4249800" cy="1012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BF5A-2C89-41F8-BA38-9C73CAB2C7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206064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5.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6. De advocaat neemt het dan op voor Pieter en vraagt om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7. Pieter mag als verdachte zelf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hebben en spijt betui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8. De rechter spreekt he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nnis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uit: Hij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jail"/>
          <p:cNvPicPr/>
          <p:nvPr/>
        </p:nvPicPr>
        <p:blipFill>
          <a:blip r:embed="rId3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285E-40DA-47AD-93E1-DDC7E07770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45B4-B210-42A5-AC76-E80F7A02E4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84360" y="2060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Taken van de officier van justiti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n uitvoeren van opgelegde vonnis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dat veroordeelden hun straf uitzit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 geven aan opsporingsonderzoek/ opsporingstaa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lgen van strafbare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rechter brengen van verda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klagen van verdach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jail"/>
          <p:cNvPicPr/>
          <p:nvPr/>
        </p:nvPicPr>
        <p:blipFill>
          <a:blip r:embed="rId3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B5AF-92B7-463C-8E8F-3FF2202866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judge"/>
          <p:cNvPicPr/>
          <p:nvPr/>
        </p:nvPicPr>
        <p:blipFill>
          <a:blip r:embed="rId1"/>
          <a:stretch/>
        </p:blipFill>
        <p:spPr>
          <a:xfrm>
            <a:off x="3429000" y="1428840"/>
            <a:ext cx="2730600" cy="2367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4352760" cy="2581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5500800" y="3857760"/>
            <a:ext cx="3400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7EE4-C252-4316-97F6-269F087155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194616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68360" y="3357720"/>
            <a:ext cx="799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: zoals gevangenisstraf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468360" y="386064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: zoals rijbewijs inleveren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95280" y="4365720"/>
            <a:ext cx="799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BS (ter Beschikking stelling aan de staat), agressietrain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police"/>
          <p:cNvPicPr/>
          <p:nvPr/>
        </p:nvPicPr>
        <p:blipFill>
          <a:blip r:embed="rId1"/>
          <a:stretch/>
        </p:blipFill>
        <p:spPr>
          <a:xfrm>
            <a:off x="6659640" y="76500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8802-D3DE-4DDA-8288-4142AE9B19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23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Waarom straffen we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British_police"/>
          <p:cNvPicPr/>
          <p:nvPr/>
        </p:nvPicPr>
        <p:blipFill>
          <a:blip r:embed="rId1"/>
          <a:stretch/>
        </p:blipFill>
        <p:spPr>
          <a:xfrm>
            <a:off x="7500960" y="428760"/>
            <a:ext cx="1371600" cy="13237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2"/>
          <p:cNvSpPr/>
          <p:nvPr/>
        </p:nvSpPr>
        <p:spPr>
          <a:xfrm>
            <a:off x="1311120" y="2800440"/>
            <a:ext cx="448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468360" y="2852640"/>
            <a:ext cx="79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fschikk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nsen moeten niet crimineel willen 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Resocialisatie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edrag verbeteren, zodat criminelen terug kunnen in de samenlev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iliger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elen zitten in de gevangenis, dus is het daarbuiten veilig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Wraak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lachtoffers en familiedaarvoor wilden vergelding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itel 1"/>
          <p:cNvSpPr/>
          <p:nvPr/>
        </p:nvSpPr>
        <p:spPr>
          <a:xfrm>
            <a:off x="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1B2B-3D1D-4202-B90E-244FF1298C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50920" y="407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ak- en leerstraffe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ternatieve straffen: helpen in de winkel waar je hebt gestolen, dronken iemand aangereden: gehandicapte slachtoffers help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324000" y="2708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enger straffe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affen hoger maken, hogere boetes, langere gevangenisstraf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250920" y="357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k-op-stukbeleid: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ader sneller pakken én bere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530064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Preventie: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oorkomen dat er criminaliteit plaats heeft. Meer politie op straat, meer camera’s bij winkels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ffen helpt niet voldoende: 4 oploss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D3C9-CCF9-4F0A-B1D2-4B233FDA4E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91598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F50C-0E87-48E6-930D-B61A7EC8AC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5215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pressie/ repressieve maatregelen:</a:t>
            </a: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nada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isdrijven zijn gepleegd, actie onder nemen (straffen, opsporen).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Achteraf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reventie/ preventieve maatregelen: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te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at criminaliteit gebeurd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moord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roofov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084F-F95D-46B1-9DC2-532971F417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politie"/>
          <p:cNvPicPr/>
          <p:nvPr/>
        </p:nvPicPr>
        <p:blipFill>
          <a:blip r:embed="rId1"/>
          <a:stretch/>
        </p:blipFill>
        <p:spPr>
          <a:xfrm>
            <a:off x="7086600" y="3789360"/>
            <a:ext cx="1811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1303-DF7C-487E-909E-49F8D5FED8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1840" cy="237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029120" cy="230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4032000" cy="855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3456000" cy="671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por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ngeni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uwe wetg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6AFA-EB0E-41FB-B444-6049F956E2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politie"/>
          <p:cNvPicPr/>
          <p:nvPr/>
        </p:nvPicPr>
        <p:blipFill>
          <a:blip r:embed="rId1"/>
          <a:stretch/>
        </p:blipFill>
        <p:spPr>
          <a:xfrm>
            <a:off x="5435640" y="2781360"/>
            <a:ext cx="22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psporingsbeleid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opsporen van criminalit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vormen verdienen aanda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id om pakkans te verh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manier waarop overheid misdrijven wil be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Bvb snelrecht/ lik-op-stuk beleid (zelfde dag opgepak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oor de rech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144A-E818-4D89-9560-13935FE026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politie"/>
          <p:cNvPicPr/>
          <p:nvPr/>
        </p:nvPicPr>
        <p:blipFill>
          <a:blip r:embed="rId1"/>
          <a:stretch/>
        </p:blipFill>
        <p:spPr>
          <a:xfrm>
            <a:off x="7093080" y="191628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640080" indent="-27432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Veelvoorkomendecriminaliteit: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misdrijven die relatief vaak voorkomen: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winkeldiefstal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zakkenrollen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voetbal vandalisme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vernielin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Worden bestraft met taakstraf en geldboe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Meer met preventieve maatregelen aanpakk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Zware criminaliteit: 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verkrachting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moord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roofoverv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E8AC-50A6-4F9F-8AD4-225AD1DEB5B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politie"/>
          <p:cNvPicPr/>
          <p:nvPr/>
        </p:nvPicPr>
        <p:blipFill>
          <a:blip r:embed="rId1"/>
          <a:stretch/>
        </p:blipFill>
        <p:spPr>
          <a:xfrm>
            <a:off x="7236000" y="335772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64200" indent="-2844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0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Verborgen criminaliteit:</a:t>
            </a:r>
            <a:br>
              <a:rPr sz="2100"/>
            </a:b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- belastingfraude       - onterechte uitkering</a:t>
            </a:r>
            <a:br>
              <a:rPr sz="1700"/>
            </a:b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- internetcriminalite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0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Wordt extra onder de loep genom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Georganiseerde misda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rouwenhandel   - Ontvoering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ornografie          - He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Fraude                  - gokk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aak internationale ben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Bestreden door streng optred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Meer politieagenten, gevangeniscell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olitie en justitie mogen telefoons en computers afluister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chters geven hogere straff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83F8-3D6B-4C5F-A4AD-003C072E79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politie"/>
          <p:cNvPicPr/>
          <p:nvPr/>
        </p:nvPicPr>
        <p:blipFill>
          <a:blip r:embed="rId1"/>
          <a:stretch/>
        </p:blipFill>
        <p:spPr>
          <a:xfrm>
            <a:off x="7236000" y="335772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752040" indent="-322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52040" indent="-3222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terreurbestrijd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aanslagen (denk aan New-York, London, Madri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Strengere controles op vliegveld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Niet alleen daders strafbaar </a:t>
            </a:r>
            <a:r>
              <a:rPr b="0" lang="nl-N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Ook als jee van plan bent of lid terroristische groe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Zelfs als je het toejuicht kan je voor de rechter kom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Politie arresteert al, als je, je verdacht gedraag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Dit is: verruiming van de bevoegdhed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0E94-9D76-49C6-8568-7C65592FC1E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9" descr="politie"/>
          <p:cNvPicPr/>
          <p:nvPr/>
        </p:nvPicPr>
        <p:blipFill>
          <a:blip r:embed="rId1"/>
          <a:stretch/>
        </p:blipFill>
        <p:spPr>
          <a:xfrm>
            <a:off x="7451640" y="1125360"/>
            <a:ext cx="13334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3. Gevangeni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cellen bouwen bij cellen tek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dan 1 gevange per c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verschot: gevangenis ‘verhuren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4. Nieuwe wetg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boeken aanpa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 moet effectief zijn (moet werken, effect oplev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 moet wenselijk zijn (samenleving moet accept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t het bij de normen en waarden van de samenl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1D54-3B74-4AA5-A8C0-58E7A9B04F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politie"/>
          <p:cNvPicPr/>
          <p:nvPr/>
        </p:nvPicPr>
        <p:blipFill>
          <a:blip r:embed="rId1"/>
          <a:stretch/>
        </p:blipFill>
        <p:spPr>
          <a:xfrm>
            <a:off x="7236000" y="1916280"/>
            <a:ext cx="1492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5. 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Criminaliteit voorkomen (h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6. 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criminaliteit terugdr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toezicht, meer contr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ler 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werkprojecten/ taak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aandacht voor onderwijs: niet spijbelen, schooluit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D4C6-FC71-454D-AD48-51722C5819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9" descr="politie"/>
          <p:cNvPicPr/>
          <p:nvPr/>
        </p:nvPicPr>
        <p:blipFill>
          <a:blip r:embed="rId1"/>
          <a:stretch/>
        </p:blipFill>
        <p:spPr>
          <a:xfrm>
            <a:off x="7236000" y="1916280"/>
            <a:ext cx="1492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inks/socialis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maatschappelijke aspec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v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 banenplannen voor jongeren/ wijkagenten inz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risten democra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belang gezin, school &amp; maatschapp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uders en leraren moeten kinderen respect/eerbied bijbre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echts/Liberal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repressieve aanpak: zwaarder stra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r bevoegdheden voor politie en justi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in strijd met burgerre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3D65-3784-42C2-A3D8-E86DEA21335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9" descr="politie"/>
          <p:cNvPicPr/>
          <p:nvPr/>
        </p:nvPicPr>
        <p:blipFill>
          <a:blip r:embed="rId1"/>
          <a:stretch/>
        </p:blipFill>
        <p:spPr>
          <a:xfrm>
            <a:off x="7667640" y="1197000"/>
            <a:ext cx="9176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E7FD-F7C2-4289-BFE0-D13F554346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1214280" y="1285920"/>
            <a:ext cx="6828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F068-1C90-4212-BCA5-615B01D518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al 5"/>
          <p:cNvSpPr/>
          <p:nvPr/>
        </p:nvSpPr>
        <p:spPr>
          <a:xfrm>
            <a:off x="395280" y="2349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al 6"/>
          <p:cNvSpPr/>
          <p:nvPr/>
        </p:nvSpPr>
        <p:spPr>
          <a:xfrm>
            <a:off x="826920" y="450864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al 7"/>
          <p:cNvSpPr/>
          <p:nvPr/>
        </p:nvSpPr>
        <p:spPr>
          <a:xfrm>
            <a:off x="5867280" y="242100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al 8"/>
          <p:cNvSpPr/>
          <p:nvPr/>
        </p:nvSpPr>
        <p:spPr>
          <a:xfrm>
            <a:off x="5651640" y="422100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kstvak 9"/>
          <p:cNvSpPr/>
          <p:nvPr/>
        </p:nvSpPr>
        <p:spPr>
          <a:xfrm>
            <a:off x="755640" y="25653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kstvak 11"/>
          <p:cNvSpPr/>
          <p:nvPr/>
        </p:nvSpPr>
        <p:spPr>
          <a:xfrm>
            <a:off x="6156360" y="45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kstvak 12"/>
          <p:cNvSpPr/>
          <p:nvPr/>
        </p:nvSpPr>
        <p:spPr>
          <a:xfrm>
            <a:off x="1332000" y="472428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okal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kstvak 13"/>
          <p:cNvSpPr/>
          <p:nvPr/>
        </p:nvSpPr>
        <p:spPr>
          <a:xfrm>
            <a:off x="6372360" y="27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Gelijkbenige driehoek 14"/>
          <p:cNvSpPr/>
          <p:nvPr/>
        </p:nvSpPr>
        <p:spPr>
          <a:xfrm>
            <a:off x="3564000" y="2349360"/>
            <a:ext cx="2232000" cy="1943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kstvak 15"/>
          <p:cNvSpPr/>
          <p:nvPr/>
        </p:nvSpPr>
        <p:spPr>
          <a:xfrm>
            <a:off x="3851280" y="342900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reventie door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U-vormige pijl 16"/>
          <p:cNvSpPr/>
          <p:nvPr/>
        </p:nvSpPr>
        <p:spPr>
          <a:xfrm>
            <a:off x="5076720" y="2060640"/>
            <a:ext cx="885960" cy="877680"/>
          </a:xfrm>
          <a:custGeom>
            <a:avLst/>
            <a:gdLst/>
            <a:ahLst/>
            <a:rect l="l" t="t" r="r" b="b"/>
            <a:pathLst>
              <a:path w="885825" h="877888">
                <a:moveTo>
                  <a:pt x="0" y="877888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2013" y="0"/>
                </a:lnTo>
                <a:lnTo>
                  <a:pt x="392013" y="0"/>
                </a:lnTo>
                <a:arcTo wR="384076" hR="384076" stAng="-5400000" swAng="5400009"/>
                <a:lnTo>
                  <a:pt x="776089" y="438944"/>
                </a:lnTo>
                <a:lnTo>
                  <a:pt x="885825" y="438944"/>
                </a:lnTo>
                <a:lnTo>
                  <a:pt x="666353" y="658416"/>
                </a:lnTo>
                <a:lnTo>
                  <a:pt x="446881" y="438944"/>
                </a:lnTo>
                <a:lnTo>
                  <a:pt x="556617" y="438944"/>
                </a:lnTo>
                <a:lnTo>
                  <a:pt x="556617" y="384076"/>
                </a:lnTo>
                <a:lnTo>
                  <a:pt x="556617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U-vormige pijl 17"/>
          <p:cNvSpPr/>
          <p:nvPr/>
        </p:nvSpPr>
        <p:spPr>
          <a:xfrm rot="7020600">
            <a:off x="3528720" y="4474800"/>
            <a:ext cx="887400" cy="87804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3601" y="0"/>
                </a:lnTo>
                <a:lnTo>
                  <a:pt x="393601" y="0"/>
                </a:lnTo>
                <a:arcTo wR="384076" hR="384076" stAng="-5400000" swAng="5400009"/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4076"/>
                </a:lnTo>
                <a:lnTo>
                  <a:pt x="558205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U-vormige pijl 18"/>
          <p:cNvSpPr/>
          <p:nvPr/>
        </p:nvSpPr>
        <p:spPr>
          <a:xfrm rot="16389000">
            <a:off x="4807440" y="4248720"/>
            <a:ext cx="885600" cy="877680"/>
          </a:xfrm>
          <a:custGeom>
            <a:avLst/>
            <a:gdLst/>
            <a:ahLst/>
            <a:rect l="l" t="t" r="r" b="b"/>
            <a:pathLst>
              <a:path w="885825" h="877887">
                <a:moveTo>
                  <a:pt x="0" y="877887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2014" y="0"/>
                </a:lnTo>
                <a:lnTo>
                  <a:pt x="392014" y="0"/>
                </a:lnTo>
                <a:arcTo wR="384076" hR="384076" stAng="-5400000" swAng="5400009"/>
                <a:lnTo>
                  <a:pt x="776089" y="438944"/>
                </a:lnTo>
                <a:lnTo>
                  <a:pt x="885825" y="438944"/>
                </a:lnTo>
                <a:lnTo>
                  <a:pt x="666353" y="658415"/>
                </a:lnTo>
                <a:lnTo>
                  <a:pt x="446882" y="438944"/>
                </a:lnTo>
                <a:lnTo>
                  <a:pt x="556617" y="438944"/>
                </a:lnTo>
                <a:lnTo>
                  <a:pt x="556617" y="384076"/>
                </a:lnTo>
                <a:lnTo>
                  <a:pt x="556617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U-vormige pijl 19"/>
          <p:cNvSpPr/>
          <p:nvPr/>
        </p:nvSpPr>
        <p:spPr>
          <a:xfrm rot="13525200">
            <a:off x="3058560" y="2420640"/>
            <a:ext cx="887400" cy="87768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8650"/>
                </a:lnTo>
                <a:lnTo>
                  <a:pt x="0" y="388650"/>
                </a:lnTo>
                <a:arcTo wR="388650" hR="388650" stAng="10800000" swAng="5400009"/>
                <a:lnTo>
                  <a:pt x="389027" y="0"/>
                </a:lnTo>
                <a:lnTo>
                  <a:pt x="389027" y="0"/>
                </a:lnTo>
                <a:arcTo wR="388650" hR="388650" stAng="-5400000" swAng="5400009"/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8650"/>
                </a:lnTo>
                <a:lnTo>
                  <a:pt x="558205" y="388650"/>
                </a:lnTo>
                <a:arcTo wR="169178" hR="169178" stAng="0" swAng="-5400000"/>
                <a:lnTo>
                  <a:pt x="388650" y="219472"/>
                </a:lnTo>
                <a:lnTo>
                  <a:pt x="388650" y="219472"/>
                </a:lnTo>
                <a:arcTo wR="169178" hR="169178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A061-8CA4-41EC-BC94-556542A552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032360" cy="2303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4572000" y="206064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179280" y="4437000"/>
            <a:ext cx="80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ieter wordt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opgepak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door de politie. Hij moet mee naar het bureau. Daar wordt besloten dat hij voor de rechter moet komen. Enkele weken voor de rechtszitting krijgt Pieter een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. Dat is de oproep om voor de rechter te verschijnen.Pieter moet niet voor d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8360" y="2349000"/>
            <a:ext cx="822960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goede huisv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b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lichting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wijs verbeteren: antispijbelbe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uders erbij be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1D3B-A164-4106-B7CD-3A15C0EF362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kstvak 9"/>
          <p:cNvSpPr/>
          <p:nvPr/>
        </p:nvSpPr>
        <p:spPr>
          <a:xfrm>
            <a:off x="468360" y="1341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8360" y="2637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urgemeester toestemming vragen om preventief te fouil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meester kan voetbalwedstrijd verbi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 raad kan iets strafbar stellen (blowverb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F00F-B759-4A96-B3A4-E0667C451C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9"/>
          <p:cNvSpPr/>
          <p:nvPr/>
        </p:nvSpPr>
        <p:spPr>
          <a:xfrm>
            <a:off x="468360" y="1341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okal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964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aten industriebedrijf: riskant terrei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larminstallat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boven bedrijf wo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akingsdienst inhu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winkeldiefs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chnische maatregelen (camera’s, spiegels, diefstal poortj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personeel in de wink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bedrijven: geen geld voor diefstal prevent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o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pijbelbeleid (samenwerken met politie/gemee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ED9D-9F20-48E5-AD0E-B1DD041497E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al 5"/>
          <p:cNvSpPr/>
          <p:nvPr/>
        </p:nvSpPr>
        <p:spPr>
          <a:xfrm>
            <a:off x="0" y="907920"/>
            <a:ext cx="266400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kstvak 9"/>
          <p:cNvSpPr/>
          <p:nvPr/>
        </p:nvSpPr>
        <p:spPr>
          <a:xfrm>
            <a:off x="468360" y="1052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2637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wijken op elkaar letten: sociale cont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ieronden burgerw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verantwoordelijk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stelen van je eigen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baas:) zorgen voor goede sfeer om ste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86D2-BE16-4092-B475-897ED73DCA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kstvak 9"/>
          <p:cNvSpPr/>
          <p:nvPr/>
        </p:nvSpPr>
        <p:spPr>
          <a:xfrm>
            <a:off x="468360" y="134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3964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sociale contro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ondu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dsw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akingsdiensten winkel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mera’s op s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politie op s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CE15-C105-4049-9CBD-EF12A6F735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21337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eteren woonomge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uizen leeg laten staan. Ziet het er netjes uit wordt er minder vern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chnische maatregelen: afsluiten trappenhuis en galerij, verbeteren van sl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voorzieningen voor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CC75-3715-43B4-B9C0-9C7ED0B8B4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39640" y="184464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lt-bu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LT: Het ALTerna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ze: direct herstellen OF rechtzaak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ongeren tot 18 jaar (bijna de helft van de delictple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straf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daders af te schri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één OvJ of recht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us geen strafb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él recht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strafblad/ uitreksel justitiële documen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68E6-7CEC-4C0C-A39D-CE905B433B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A09D-6ACC-4BCD-A2E5-04E15EEEF13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5" descr="After_the_Criminal"/>
          <p:cNvPicPr/>
          <p:nvPr/>
        </p:nvPicPr>
        <p:blipFill>
          <a:blip r:embed="rId1"/>
          <a:stretch/>
        </p:blipFill>
        <p:spPr>
          <a:xfrm>
            <a:off x="2124000" y="3933720"/>
            <a:ext cx="46576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t voor wetboeken zijn 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nd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boek van strafre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boek van strafv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genverkeer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 economische deli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pium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F340-3804-48D3-8906-2B91512C7B1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672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andere wetten zijn hierop gebaseer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meningsui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tenscheiding (triaspoli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58920" y="33336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6732720" y="2349360"/>
            <a:ext cx="1847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li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belasting te beta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naar school te gaan. Leerp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je id bij te hebb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249200" y="773280"/>
            <a:ext cx="634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7162920" y="620640"/>
            <a:ext cx="1488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SD1</cp:lastModifiedBy>
  <dcterms:modified xsi:type="dcterms:W3CDTF">2013-07-08T13:46:09Z</dcterms:modified>
  <cp:revision>152</cp:revision>
  <dc:subject/>
  <dc:title>Dia 1</dc:title>
</cp:coreProperties>
</file>