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0.png" ContentType="image/png"/>
  <Override PartName="/ppt/media/image32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31.jpeg" ContentType="image/jpeg"/>
  <Override PartName="/ppt/media/image41.png" ContentType="image/png"/>
  <Override PartName="/ppt/media/image37.png" ContentType="image/png"/>
  <Override PartName="/ppt/media/image44.jpeg" ContentType="image/jpeg"/>
  <Override PartName="/ppt/media/image4.png" ContentType="image/png"/>
  <Override PartName="/ppt/media/image34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6.png" ContentType="image/png"/>
  <Override PartName="/ppt/media/image29.jpeg" ContentType="image/jpeg"/>
  <Override PartName="/ppt/media/image52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EBA-A53B-4E09-A68D-DEDD16A8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F95-6868-453E-94A8-C31E5E48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707-B8BD-4D20-906E-A574A666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5EF-0B03-4569-B500-1653EDDB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F54-1CDA-46E2-BB0F-11533C6E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754-5DC5-4456-BCBC-98AF246D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CB2-695F-498F-9DE4-655C6BEE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BD7-2D79-4429-8283-FDD4CB73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1D9-4256-44E3-9E0F-89ADC96A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E18-D333-4285-8DEA-FE97C931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E6F0-976A-4FFF-BD02-03DC5934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87B-1987-46F6-A3DF-86F1B795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9F8E-3669-4723-A20E-B6420415AB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45.jpeg"/><Relationship Id="rId7" Type="http://schemas.openxmlformats.org/officeDocument/2006/relationships/image" Target="../media/image21.pn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FD48-384E-43C6-BD79-83A30F067E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vatting Politiek m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xamen_vak_succes_met_maatschappijleer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CC23-FA29-4285-BD5E-F05E60C8B9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ijsttrekker"/>
          <p:cNvPicPr/>
          <p:nvPr/>
        </p:nvPicPr>
        <p:blipFill>
          <a:blip r:embed="rId1"/>
          <a:srcRect l="12929" t="0" r="11185" b="0"/>
          <a:stretch/>
        </p:blipFill>
        <p:spPr>
          <a:xfrm>
            <a:off x="108000" y="1773360"/>
            <a:ext cx="3816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13C8-BBD5-4EE5-8F97-633327D61C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ozen kunnen worden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van de Tweede Kame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ndere volksvertegen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rdigende lichamen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iesbaar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ers van 18 jaa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 met Nederlands paspoor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bben het recht om te 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ieskompas"/>
          <p:cNvPicPr/>
          <p:nvPr/>
        </p:nvPicPr>
        <p:blipFill>
          <a:blip r:embed="rId1"/>
          <a:stretch/>
        </p:blipFill>
        <p:spPr>
          <a:xfrm>
            <a:off x="5148360" y="2249640"/>
            <a:ext cx="3887640" cy="2425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14200" y="274680"/>
            <a:ext cx="892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D5A7-45E4-4ECB-92C1-53D89067AD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195640" y="162864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9280" y="1268280"/>
            <a:ext cx="5832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Lijsttrekker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hoogst geplaatste persoon op de kandidatenlijst van een politieke partij bij verkiezingen.  De belangrijkste persoon van de partij in de verkiezingsstrij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Zwevende kiezers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ep kiezers die bij verkiezingen niet steeds op dezelfde politieke partij stem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eursstemmen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 op een persoon (niet op een partij) waardoor die misschien wel in de tweedekamer komt, ondanks dat die laag op de lijst staat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stomwijzer_1"/>
          <p:cNvPicPr/>
          <p:nvPr/>
        </p:nvPicPr>
        <p:blipFill>
          <a:blip r:embed="rId1"/>
          <a:stretch/>
        </p:blipFill>
        <p:spPr>
          <a:xfrm>
            <a:off x="6227640" y="1484280"/>
            <a:ext cx="2667240" cy="4032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5C13-63D4-4EF4-A29B-C70068F506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Evenredige vertegenwoordiging: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 zetels worden gelijk verdeld op baisis van alle geldig uitgebrachte stemm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 geldi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/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= 50.000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28472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211640" cy="249732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 flipV="1">
            <a:off x="4859280" y="522900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DC4B-9775-4449-BC5E-22952F8ADF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340000" y="249228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835280" y="587700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rst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492360" y="4221000"/>
            <a:ext cx="201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n-Gener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012000" y="3429000"/>
            <a:ext cx="10792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916360" y="335772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ng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7093080" y="4149720"/>
            <a:ext cx="18000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svertegenwoordig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556000" y="508464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6588000" y="2060640"/>
            <a:ext cx="23050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tssecrtariss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258920" y="3716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r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364000" y="5084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ra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932360" y="1628640"/>
            <a:ext cx="1152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7451640" y="2997360"/>
            <a:ext cx="863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7524720" y="6021360"/>
            <a:ext cx="57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468360" y="2637000"/>
            <a:ext cx="136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4932360" y="2708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. 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5292720" y="609300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395280" y="4581360"/>
            <a:ext cx="19447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78A0-9F62-4E9D-8B44-58B92527C7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"/>
          <p:cNvGrpSpPr/>
          <p:nvPr/>
        </p:nvGrpSpPr>
        <p:grpSpPr>
          <a:xfrm>
            <a:off x="971640" y="1268280"/>
            <a:ext cx="6948360" cy="2239920"/>
            <a:chOff x="971640" y="1268280"/>
            <a:chExt cx="6948360" cy="2239920"/>
          </a:xfrm>
        </p:grpSpPr>
        <p:sp>
          <p:nvSpPr>
            <p:cNvPr id="121" name="Text Box 3"/>
            <p:cNvSpPr/>
            <p:nvPr/>
          </p:nvSpPr>
          <p:spPr>
            <a:xfrm>
              <a:off x="1979640" y="1915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ee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"/>
            <p:cNvSpPr/>
            <p:nvPr/>
          </p:nvSpPr>
          <p:spPr>
            <a:xfrm>
              <a:off x="4284720" y="191592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rs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"/>
            <p:cNvSpPr/>
            <p:nvPr/>
          </p:nvSpPr>
          <p:spPr>
            <a:xfrm>
              <a:off x="971640" y="1268280"/>
              <a:ext cx="6948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arlement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(ookwel: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aten-Generaal of Volksvertegenwoordiging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1979640" y="2563560"/>
              <a:ext cx="792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5508720" y="2563560"/>
              <a:ext cx="576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197964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428472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241128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594036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3708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4716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 flipH="1">
              <a:off x="3563640" y="169992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4500360" y="169992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1116000" y="4076640"/>
            <a:ext cx="6516720" cy="2581560"/>
            <a:chOff x="1116000" y="4076640"/>
            <a:chExt cx="6516720" cy="2581560"/>
          </a:xfrm>
        </p:grpSpPr>
        <p:sp>
          <p:nvSpPr>
            <p:cNvPr id="135" name="Text Box 17"/>
            <p:cNvSpPr/>
            <p:nvPr/>
          </p:nvSpPr>
          <p:spPr>
            <a:xfrm>
              <a:off x="5076720" y="4076640"/>
              <a:ext cx="1079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bine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5148360" y="4797360"/>
              <a:ext cx="2484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Staatssecretariss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9"/>
            <p:cNvSpPr/>
            <p:nvPr/>
          </p:nvSpPr>
          <p:spPr>
            <a:xfrm>
              <a:off x="1189080" y="4797360"/>
              <a:ext cx="13669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0"/>
            <p:cNvSpPr/>
            <p:nvPr/>
          </p:nvSpPr>
          <p:spPr>
            <a:xfrm>
              <a:off x="3132000" y="4797360"/>
              <a:ext cx="1295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1"/>
            <p:cNvSpPr/>
            <p:nvPr/>
          </p:nvSpPr>
          <p:spPr>
            <a:xfrm>
              <a:off x="1116000" y="4076640"/>
              <a:ext cx="144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ering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2"/>
            <p:cNvSpPr/>
            <p:nvPr/>
          </p:nvSpPr>
          <p:spPr>
            <a:xfrm>
              <a:off x="2916360" y="407664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raa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3"/>
            <p:cNvSpPr/>
            <p:nvPr/>
          </p:nvSpPr>
          <p:spPr>
            <a:xfrm>
              <a:off x="3348000" y="58057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mier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ider kabinet (minister president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4"/>
            <p:cNvSpPr/>
            <p:nvPr/>
          </p:nvSpPr>
          <p:spPr>
            <a:xfrm>
              <a:off x="3348000" y="62899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ie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pecialiseerde beleidsterreinen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5"/>
            <p:cNvSpPr/>
            <p:nvPr/>
          </p:nvSpPr>
          <p:spPr>
            <a:xfrm>
              <a:off x="4213080" y="5300640"/>
              <a:ext cx="1224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g. 1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>
              <a:off x="241308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2413080" y="4508640"/>
              <a:ext cx="71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8"/>
            <p:cNvSpPr/>
            <p:nvPr/>
          </p:nvSpPr>
          <p:spPr>
            <a:xfrm>
              <a:off x="529272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 flipH="1">
              <a:off x="4500720" y="4508640"/>
              <a:ext cx="79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0"/>
            <p:cNvSpPr/>
            <p:nvPr/>
          </p:nvSpPr>
          <p:spPr>
            <a:xfrm>
              <a:off x="378144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44290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 flipH="1">
              <a:off x="5005080" y="5013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4573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5005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5"/>
            <p:cNvSpPr/>
            <p:nvPr/>
          </p:nvSpPr>
          <p:spPr>
            <a:xfrm>
              <a:off x="3132000" y="5229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3132000" y="5948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3132000" y="645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38"/>
          <p:cNvSpPr/>
          <p:nvPr/>
        </p:nvSpPr>
        <p:spPr>
          <a:xfrm>
            <a:off x="826920" y="3789360"/>
            <a:ext cx="709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82CC-540C-4650-B6BC-012EBD02EB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schema politiek systeem antwoorden"/>
          <p:cNvPicPr/>
          <p:nvPr/>
        </p:nvPicPr>
        <p:blipFill>
          <a:blip r:embed="rId1"/>
          <a:srcRect l="0" t="0" r="0" b="14868"/>
          <a:stretch/>
        </p:blipFill>
        <p:spPr>
          <a:xfrm>
            <a:off x="2340000" y="1341360"/>
            <a:ext cx="5310000" cy="5516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8A14-8FA0-4594-BA66-6C0EC28C76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dekamer verkiezingen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dan de kabinets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atie van ministers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amen globaal eens zijn over het toekomstig 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de meerderheid van de zetels hebben (de helft + 1 = 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F174-3540-409F-9B45-362C169486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oe gaat de kabinetsformat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adering  m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  Konin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ce-president Raad van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zitters 1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ractievoorz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ze onderzoekt welke partijen misschien samen ku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t partijen compromissen slu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samen met coalitiepartijen het regeerakkoord 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ekt geschikte ministers en staatssecretari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meestal afkomstig van de grootste regeringspartij en wordt meestal minister presi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ministers en staatssecretar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5. Foto op het bor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971640" y="476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www.elsevier.nl/upload/045be808-d989-459c-86a2-b85ff68a04f1_bordesrutte.jpg"/>
          <p:cNvPicPr/>
          <p:nvPr/>
        </p:nvPicPr>
        <p:blipFill>
          <a:blip r:embed="rId1"/>
          <a:stretch/>
        </p:blipFill>
        <p:spPr>
          <a:xfrm>
            <a:off x="179280" y="1413000"/>
            <a:ext cx="868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4F09-0BF2-4246-BC49-C5FD5A3ADA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arlementaire democ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9640" y="6237360"/>
            <a:ext cx="756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oets november 2009                  Hele boek!!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65_montesquieu"/>
          <p:cNvPicPr/>
          <p:nvPr/>
        </p:nvPicPr>
        <p:blipFill>
          <a:blip r:embed="rId1"/>
          <a:stretch/>
        </p:blipFill>
        <p:spPr>
          <a:xfrm>
            <a:off x="1692360" y="2708280"/>
            <a:ext cx="5933880" cy="329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question_mark_3d"/>
          <p:cNvPicPr/>
          <p:nvPr/>
        </p:nvPicPr>
        <p:blipFill>
          <a:blip r:embed="rId2"/>
          <a:stretch/>
        </p:blipFill>
        <p:spPr>
          <a:xfrm rot="1550400">
            <a:off x="4140360" y="2060640"/>
            <a:ext cx="267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rcRect l="17344" t="21284" r="6249" b="17687"/>
          <a:stretch/>
        </p:blipFill>
        <p:spPr>
          <a:xfrm>
            <a:off x="468360" y="1052640"/>
            <a:ext cx="81262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rcRect l="16606" t="18332" r="3661" b="22613"/>
          <a:stretch/>
        </p:blipFill>
        <p:spPr>
          <a:xfrm>
            <a:off x="324000" y="981000"/>
            <a:ext cx="85532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97164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47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(nieuwe) regering noteert de belangrijkste plannen voor kome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jaar i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erakko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www.elsevier.nl/upload/c6bcec6d-de90-4dce-8bec-190ae10054d0_verhagenruttewilders.jpg"/>
          <p:cNvPicPr/>
          <p:nvPr/>
        </p:nvPicPr>
        <p:blipFill>
          <a:blip r:embed="rId1"/>
          <a:stretch/>
        </p:blipFill>
        <p:spPr>
          <a:xfrm>
            <a:off x="2124000" y="2997360"/>
            <a:ext cx="464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95280" y="126828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regerings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logo vvd"/>
          <p:cNvPicPr/>
          <p:nvPr/>
        </p:nvPicPr>
        <p:blipFill>
          <a:blip r:embed="rId1"/>
          <a:stretch/>
        </p:blipFill>
        <p:spPr>
          <a:xfrm>
            <a:off x="4572000" y="1628640"/>
            <a:ext cx="700200" cy="865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logo cda"/>
          <p:cNvPicPr/>
          <p:nvPr/>
        </p:nvPicPr>
        <p:blipFill>
          <a:blip r:embed="rId2"/>
          <a:stretch/>
        </p:blipFill>
        <p:spPr>
          <a:xfrm>
            <a:off x="2411280" y="17733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logo CU"/>
          <p:cNvPicPr/>
          <p:nvPr/>
        </p:nvPicPr>
        <p:blipFill>
          <a:blip r:embed="rId3"/>
          <a:stretch/>
        </p:blipFill>
        <p:spPr>
          <a:xfrm>
            <a:off x="5796000" y="3716280"/>
            <a:ext cx="2303280" cy="638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logo d66"/>
          <p:cNvPicPr/>
          <p:nvPr/>
        </p:nvPicPr>
        <p:blipFill>
          <a:blip r:embed="rId4"/>
          <a:stretch/>
        </p:blipFill>
        <p:spPr>
          <a:xfrm>
            <a:off x="5508720" y="4653000"/>
            <a:ext cx="863640" cy="63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LOGO groen links"/>
          <p:cNvPicPr/>
          <p:nvPr/>
        </p:nvPicPr>
        <p:blipFill>
          <a:blip r:embed="rId5"/>
          <a:srcRect l="0" t="21404" r="0" b="0"/>
          <a:stretch/>
        </p:blipFill>
        <p:spPr>
          <a:xfrm>
            <a:off x="2411280" y="3716280"/>
            <a:ext cx="1441440" cy="523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LOGO pvda"/>
          <p:cNvPicPr/>
          <p:nvPr/>
        </p:nvPicPr>
        <p:blipFill>
          <a:blip r:embed="rId6"/>
          <a:stretch/>
        </p:blipFill>
        <p:spPr>
          <a:xfrm>
            <a:off x="1332000" y="4005360"/>
            <a:ext cx="662040" cy="79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logo pvv"/>
          <p:cNvPicPr/>
          <p:nvPr/>
        </p:nvPicPr>
        <p:blipFill>
          <a:blip r:embed="rId7"/>
          <a:srcRect l="0" t="17829" r="0" b="19982"/>
          <a:stretch/>
        </p:blipFill>
        <p:spPr>
          <a:xfrm>
            <a:off x="2268360" y="4508640"/>
            <a:ext cx="1835280" cy="606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logo sgp"/>
          <p:cNvPicPr/>
          <p:nvPr/>
        </p:nvPicPr>
        <p:blipFill>
          <a:blip r:embed="rId8"/>
          <a:srcRect l="16553" t="0" r="16723" b="11262"/>
          <a:stretch/>
        </p:blipFill>
        <p:spPr>
          <a:xfrm>
            <a:off x="8244000" y="4581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LOGO sp"/>
          <p:cNvPicPr/>
          <p:nvPr/>
        </p:nvPicPr>
        <p:blipFill>
          <a:blip r:embed="rId9"/>
          <a:stretch/>
        </p:blipFill>
        <p:spPr>
          <a:xfrm>
            <a:off x="6875640" y="4653000"/>
            <a:ext cx="863280" cy="477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logo pvvd"/>
          <p:cNvPicPr/>
          <p:nvPr/>
        </p:nvPicPr>
        <p:blipFill>
          <a:blip r:embed="rId10"/>
          <a:stretch/>
        </p:blipFill>
        <p:spPr>
          <a:xfrm>
            <a:off x="4356000" y="3716280"/>
            <a:ext cx="825480" cy="9349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F4BB-8E43-47A7-92A3-A4B5858004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de konin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 handtekening onder alle w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t de troonrede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t met de minister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genwoordigt ons land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t ná de verkiezingen met het vormen van de nieuwe reg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schend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2006-09-20%20-%20Koningin%20Beatrix%20-%20troonrede%202006"/>
          <p:cNvPicPr/>
          <p:nvPr/>
        </p:nvPicPr>
        <p:blipFill>
          <a:blip r:embed="rId1"/>
          <a:srcRect l="8960" t="0" r="10939" b="5207"/>
          <a:stretch/>
        </p:blipFill>
        <p:spPr>
          <a:xfrm>
            <a:off x="5940360" y="1268280"/>
            <a:ext cx="2952720" cy="50292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44C9-B08B-4EC2-8648-9CF391FF93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24360" y="141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oor hun beleidsterrein (portefeu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merleden dienen mo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wantrouwen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fs"/>
          <p:cNvPicPr/>
          <p:nvPr/>
        </p:nvPicPr>
        <p:blipFill>
          <a:blip r:embed="rId1"/>
          <a:srcRect l="12929" t="0" r="9545" b="14848"/>
          <a:stretch/>
        </p:blipFill>
        <p:spPr>
          <a:xfrm>
            <a:off x="5219640" y="2781360"/>
            <a:ext cx="3672000" cy="25257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5DC0-F14A-4DE4-A8BD-CDA075C086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65_montesquieu"/>
          <p:cNvPicPr/>
          <p:nvPr/>
        </p:nvPicPr>
        <p:blipFill>
          <a:blip r:embed="rId1"/>
          <a:stretch/>
        </p:blipFill>
        <p:spPr>
          <a:xfrm>
            <a:off x="395280" y="1268280"/>
            <a:ext cx="86043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2F21-B188-4DCF-A4BF-F192558A82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tembiljet"/>
          <p:cNvPicPr/>
          <p:nvPr/>
        </p:nvPicPr>
        <p:blipFill>
          <a:blip r:embed="rId1"/>
          <a:stretch/>
        </p:blipFill>
        <p:spPr>
          <a:xfrm>
            <a:off x="1908000" y="3429000"/>
            <a:ext cx="4535640" cy="151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324000" y="1268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ste beleidsterreinen (programma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omen op voor het algemeen bela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50920" y="501336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ressiegroep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nke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e beleidsterrei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zic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erkiesb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eert de politiek te beïnvlo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BD7C-18D6-4AC5-9645-3469A3E168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alitiereger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ring die uit meerdere partijen besta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rings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 én i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de meerderheid ze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regering + stelt ding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7BFD-416A-4698-9432-393B945254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het Par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etgev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emrecht bij wetsontwer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udgetre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rijksbegroting wel of niet goedk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iti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wetsontwerp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end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 meerderheid veranderingen aanbrengen in wetsvoo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roler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ragenrech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elke dinsdag vragen stellen a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tie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voorbeeld een motie van wantrouwen aannemen of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 belangrijk onderwerp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arlementaire Enquê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uden, onderzoekscommissie vormen, onder ede laten getu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j0124651.wmf (126222 bytes)"/>
          <p:cNvPicPr/>
          <p:nvPr/>
        </p:nvPicPr>
        <p:blipFill>
          <a:blip r:embed="rId1"/>
          <a:stretch/>
        </p:blipFill>
        <p:spPr>
          <a:xfrm>
            <a:off x="6516720" y="620640"/>
            <a:ext cx="2305080" cy="1594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FD96-EBA8-4414-90AE-3B8888DAF0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t maken van keuzes zodat een land, een provincie of een gemeente kan worden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vloe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worden van politiek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oek indienen (bvb bij gemeentera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bena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luiten bij act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schrift schrijven (rech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rgelijke ongehoorzaamheid (kerk zet geen asielzoekers 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F654-8E90-4643-84B2-733E93EA6D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24360" y="1268280"/>
            <a:ext cx="97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: debateren. Daarna geeft voltallige Tweede Kamer het oordeel over he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heid Tweede Kamer voo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(bijna altijd; “j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Wet komt in de Staatsco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staatscourant"/>
          <p:cNvPicPr/>
          <p:nvPr/>
        </p:nvPicPr>
        <p:blipFill>
          <a:blip r:embed="rId1"/>
          <a:stretch/>
        </p:blipFill>
        <p:spPr>
          <a:xfrm>
            <a:off x="4219560" y="5661000"/>
            <a:ext cx="4924440" cy="933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6E92-1BF5-41EB-B34E-DAF20AE38C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decentraliseerde eenheid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jk beslit grote lijnen, gedetailleerde invull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aan lagere overheden overge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2637000"/>
            <a:ext cx="324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een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niet alles centraal gere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fstem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lokale zeggenscha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716360" y="2708280"/>
            <a:ext cx="3492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a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kale bevoegdheden zijn beperk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é veel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verscheiden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2514-16A4-40AF-8102-5BE2BB8240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meente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liggen dichter bij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mmingspl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baar ver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n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ort en onderwijsvoorzie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ca vergun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8078-722D-45FC-AB86-73C2F06694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college van B&amp;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llege van Burgemeester en Weth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 het beleid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en benoemd door de gemeente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ra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mt beslu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 het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kozen door de bevol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burgemees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oorzitter van de gemeenteraad en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benoemd door de reg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6D44-DEAC-405A-BE1E-ABDAE0CCBD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vinc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ken liggen b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lijke o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water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77BD-AD82-4D92-AEC5-35B46042F0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dental Provinciale Staten hangt af van aantal inwoners van de provin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ovinciale Staten kiezen de leden va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deputeerde Sta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agelijks bes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514C-E3F7-4DAA-BE41-6DBA12BAD5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5"/>
          <p:cNvGrpSpPr/>
          <p:nvPr/>
        </p:nvGrpSpPr>
        <p:grpSpPr>
          <a:xfrm>
            <a:off x="179280" y="1773360"/>
            <a:ext cx="8675640" cy="3288240"/>
            <a:chOff x="179280" y="1773360"/>
            <a:chExt cx="8675640" cy="3288240"/>
          </a:xfrm>
        </p:grpSpPr>
        <p:sp>
          <p:nvSpPr>
            <p:cNvPr id="238" name="Text Box 4"/>
            <p:cNvSpPr/>
            <p:nvPr/>
          </p:nvSpPr>
          <p:spPr>
            <a:xfrm>
              <a:off x="2195280" y="3141720"/>
              <a:ext cx="2160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rgemeest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212220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meenteraad (9 tot 45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"/>
            <p:cNvSpPr/>
            <p:nvPr/>
          </p:nvSpPr>
          <p:spPr>
            <a:xfrm>
              <a:off x="457020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Wethouders (2-9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284292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B en W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17928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349092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727056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727056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35622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565128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572292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176184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6"/>
            <p:cNvSpPr/>
            <p:nvPr/>
          </p:nvSpPr>
          <p:spPr>
            <a:xfrm flipH="1">
              <a:off x="709092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 flipV="1">
              <a:off x="55069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0"/>
            <p:cNvSpPr/>
            <p:nvPr/>
          </p:nvSpPr>
          <p:spPr>
            <a:xfrm>
              <a:off x="2050920" y="4724280"/>
              <a:ext cx="680400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ekozen door de bevolk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7905-7999-4E9C-B0B9-9CA9A481B5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256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 flipV="1">
            <a:off x="28432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3"/>
          <p:cNvSpPr/>
          <p:nvPr/>
        </p:nvSpPr>
        <p:spPr>
          <a:xfrm flipV="1">
            <a:off x="428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4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5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22C4-5955-4027-8DDB-309D9B9DF0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: Europese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munteenheid (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concurrentie i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l ecnomische be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europe%20flag"/>
          <p:cNvPicPr/>
          <p:nvPr/>
        </p:nvPicPr>
        <p:blipFill>
          <a:blip r:embed="rId1"/>
          <a:stretch/>
        </p:blipFill>
        <p:spPr>
          <a:xfrm>
            <a:off x="4500720" y="2205000"/>
            <a:ext cx="4321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784F-B678-475C-A85B-62A86D1083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427280" y="155736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U: Europese Unie: na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nationale soevereiniteit: De Nederlandse regering kan niet alles zelf besl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democratisch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se burger hebben minder invloed op besluiten van de EU (dan van onze nationale re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werkgelegen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EU%20vla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7860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1EF3-D8CB-4E8B-BE97-B260958256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ctatuu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uba (Fidel Castro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e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1 persoon/groep/familie/partij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olksvertegenwoordi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tairen aan de m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oversgestelde van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geldt 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met basis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raude bij verkiez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heime/vrije verkiez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en gelijke rech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lijke rechten voor iede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onderdru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recht op 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ens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ers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iet je mening ui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rijheid van menings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nipulatie/indoctrinati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directe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nderda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ooit een rechtsstaa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ers niet onafhank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rias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Heerst veel ang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leven in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E9E0-5655-442B-A02D-AE0E5A1D35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drie instellingen die samen het bestuur van de Europese Unie vorm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se Commi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524D-0415-44C6-B5E0-07A489E6CD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ropese Commissie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 het 'dagelijks bestuur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itiatief tot voorstellen voor wetgeving en maatregelen op Europees 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voor uitvoering van de w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0637-BFF8-4281-9011-33A34A3794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voor dat wetten democratisch tot stand k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iseert of beslist over de wetsvoorstel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ist over de toetreding van nieuwe lan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 over de Europese Commiss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EU%20vlag"/>
          <p:cNvPicPr/>
          <p:nvPr/>
        </p:nvPicPr>
        <p:blipFill>
          <a:blip r:embed="rId1"/>
          <a:stretch/>
        </p:blipFill>
        <p:spPr>
          <a:xfrm>
            <a:off x="7126200" y="541188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ED78-4B5C-4953-A5F9-8A55EDEA0F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inisters van de afzonderlijke lidstaten nemen de uiteindelijke beslissing over de wetgeving in de U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gen met regeringsleiders (euro-to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uisteren naar voorstellen van de Commissie en het advies van het Europees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EU%20vlag"/>
          <p:cNvPicPr/>
          <p:nvPr/>
        </p:nvPicPr>
        <p:blipFill>
          <a:blip r:embed="rId1"/>
          <a:stretch/>
        </p:blipFill>
        <p:spPr>
          <a:xfrm>
            <a:off x="6804000" y="515772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D936-4596-4882-A4A6-D1ECE06317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eden van de E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4" descr=""/>
          <p:cNvPicPr/>
          <p:nvPr/>
        </p:nvPicPr>
        <p:blipFill>
          <a:blip r:embed="rId1"/>
          <a:srcRect l="16032" t="25589" r="21208" b="36162"/>
          <a:stretch/>
        </p:blipFill>
        <p:spPr>
          <a:xfrm>
            <a:off x="0" y="2060640"/>
            <a:ext cx="8820000" cy="40323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1AAF-304F-4807-903C-BB7382B20D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EU%20vlag"/>
          <p:cNvPicPr/>
          <p:nvPr/>
        </p:nvPicPr>
        <p:blipFill>
          <a:blip r:embed="rId1"/>
          <a:stretch/>
        </p:blipFill>
        <p:spPr>
          <a:xfrm>
            <a:off x="6877080" y="5229360"/>
            <a:ext cx="2017800" cy="1446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2"/>
          <a:srcRect l="15301" t="22439" r="24154" b="7683"/>
          <a:stretch/>
        </p:blipFill>
        <p:spPr>
          <a:xfrm>
            <a:off x="1187280" y="1413000"/>
            <a:ext cx="6048720" cy="52354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2188-A10B-4DCF-B3BE-007D9B6D19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enigde Naties (V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 alle landen van de wereld zijn er lid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: komende generaties behoeden voor 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ternationale vrede en veiligheid te 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bij natuurrampen, oorlog, hongersnood en arm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pect bevorderen van mensen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g V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Vlag van de Verenigde Naties"/>
          <p:cNvPicPr/>
          <p:nvPr/>
        </p:nvPicPr>
        <p:blipFill>
          <a:blip r:embed="rId1"/>
          <a:stretch/>
        </p:blipFill>
        <p:spPr>
          <a:xfrm>
            <a:off x="6667560" y="521028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F853-5708-4509-90C5-7093F745080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tuur van de Verenigde Naties (V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zes bestuursorganen die de werkzaamheden van de organisatie aanstur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Algemene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conomische en Sociale 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Internationaal Gere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Secretariaat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raterus-gener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Trustschapsraad (tegenwoordig inactie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Veiligheids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6667560" y="335772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AEB5-15C8-427A-BAF8-6A6FFA35CB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september tot december bespreken ze de problemen in de wer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 komt er een resolutie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is een soort niet bindende 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unnen voorstellen om een land te boyc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edestroepen: ze kunnen militairen sturen naar een gebied. (zoals de Nederlandse Blauwhel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1476360" y="494172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10828987"/>
          <p:cNvPicPr/>
          <p:nvPr/>
        </p:nvPicPr>
        <p:blipFill>
          <a:blip r:embed="rId2"/>
          <a:stretch/>
        </p:blipFill>
        <p:spPr>
          <a:xfrm>
            <a:off x="5724360" y="4941720"/>
            <a:ext cx="2381400" cy="1657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veel knelpunten i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vinden veel mensen niet interessant: de afstand is groot tussen kiezers en poli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hebben wij gekozen: zij zouden meer macht moeten hebben dan de reg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spartijen maken regeerakkoord, parlement heeft weinig te vertellen: meerderheid is toch wel vo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C341-5949-4AAF-8B03-1D6D791060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BB3C-07AB-452F-881B-3E9DC1E717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1052640"/>
            <a:ext cx="8280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Alle 18+ inwoners met NL paspoort kunnen d.m.v. algemeen kiesrecht invloed uitoefenen op de 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Aantal grondrechten is gewaarborgd om in vrijheid invloed te kunnen uitoefen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urgers moeten hun eigen leven kunnen inri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neemt soms een besluit tegen de wil van de NL-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mige problemen zijn nou eenmaal moeilijk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zijn té ingewikkeld daarom weinig vertrouwen in de politiek (bureauctat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s houden aan de regels op Europees niveau, ookal niet mee 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9B17-7BEA-4AAD-800B-5301DC50F0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ferendum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zers stemmen direct over een bepaald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ionale kandidaatstell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didaten voor politieke partijen moeten uit de verschillende regio’s ko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reguler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aken worden steeds meer uitgevoerd door gemeente en provincie in plaats van landelij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863D-EDD7-4B3E-8FDA-782889E6D8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het nemen van een besluit/het maken van een wet moet altijd eerst een reden zijn. Er zijn 5 fasen waarin de besluiten genomen worden binne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BFC2-0610-48A8-ACA1-9CF518738B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28760" y="157176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2674-A6CE-4985-BC2D-7C15BEF8EA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kstvak 5"/>
          <p:cNvSpPr/>
          <p:nvPr/>
        </p:nvSpPr>
        <p:spPr>
          <a:xfrm>
            <a:off x="42876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1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kstvak 6"/>
          <p:cNvSpPr/>
          <p:nvPr/>
        </p:nvSpPr>
        <p:spPr>
          <a:xfrm>
            <a:off x="1071720" y="4071960"/>
            <a:ext cx="6991200" cy="4597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5: Terugkoppeling: </a:t>
            </a: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werkt de maatregel/wet? Evalueren.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kstvak 7"/>
          <p:cNvSpPr/>
          <p:nvPr/>
        </p:nvSpPr>
        <p:spPr>
          <a:xfrm>
            <a:off x="721512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4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Uit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kstvak 8"/>
          <p:cNvSpPr/>
          <p:nvPr/>
        </p:nvSpPr>
        <p:spPr>
          <a:xfrm>
            <a:off x="4643280" y="2857680"/>
            <a:ext cx="225756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3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2428920" y="2857680"/>
            <a:ext cx="18907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2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zet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Rechte verbindingslijn met pijl 11"/>
          <p:cNvCxnSpPr>
            <a:stCxn id="349" idx="3"/>
            <a:endCxn id="353" idx="1"/>
          </p:cNvCxnSpPr>
          <p:nvPr/>
        </p:nvCxnSpPr>
        <p:spPr>
          <a:xfrm>
            <a:off x="1928520" y="32734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Rechte verbindingslijn met pijl 15"/>
          <p:cNvCxnSpPr>
            <a:stCxn id="352" idx="3"/>
            <a:endCxn id="351" idx="1"/>
          </p:cNvCxnSpPr>
          <p:nvPr/>
        </p:nvCxnSpPr>
        <p:spPr>
          <a:xfrm>
            <a:off x="6900480" y="3273480"/>
            <a:ext cx="3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Rechte verbindingslijn met pijl 20"/>
          <p:cNvCxnSpPr>
            <a:stCxn id="353" idx="3"/>
            <a:endCxn id="352" idx="1"/>
          </p:cNvCxnSpPr>
          <p:nvPr/>
        </p:nvCxnSpPr>
        <p:spPr>
          <a:xfrm>
            <a:off x="4319280" y="3273480"/>
            <a:ext cx="324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Gebogen verbindingslijn 22"/>
          <p:cNvCxnSpPr>
            <a:stCxn id="351" idx="2"/>
            <a:endCxn id="350" idx="3"/>
          </p:cNvCxnSpPr>
          <p:nvPr/>
        </p:nvCxnSpPr>
        <p:spPr>
          <a:xfrm flipH="1" rot="16200000">
            <a:off x="7706520" y="3946320"/>
            <a:ext cx="614880" cy="97560"/>
          </a:xfrm>
          <a:prstGeom prst="bentConnector4">
            <a:avLst>
              <a:gd name="adj1" fmla="val 31165"/>
              <a:gd name="adj2" fmla="val 100222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58" name="Vorm 25"/>
          <p:cNvCxnSpPr>
            <a:endCxn id="350" idx="1"/>
          </p:cNvCxnSpPr>
          <p:nvPr/>
        </p:nvCxnSpPr>
        <p:spPr>
          <a:xfrm rot="5400000">
            <a:off x="813240" y="3972600"/>
            <a:ext cx="587880" cy="72000"/>
          </a:xfrm>
          <a:prstGeom prst="bentConnector4">
            <a:avLst>
              <a:gd name="adj1" fmla="val 30330"/>
              <a:gd name="adj2" fmla="val 41959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59" name="Rechte verbindingslijn 28"/>
          <p:cNvSpPr/>
          <p:nvPr/>
        </p:nvSpPr>
        <p:spPr>
          <a:xfrm>
            <a:off x="2143080" y="250020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kstvak 29"/>
          <p:cNvSpPr/>
          <p:nvPr/>
        </p:nvSpPr>
        <p:spPr>
          <a:xfrm>
            <a:off x="857160" y="2143080"/>
            <a:ext cx="80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oortwachters: kijken of het probleem belangrijk genoeg is om op de politieke agenda te komen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kstvak 30"/>
          <p:cNvSpPr/>
          <p:nvPr/>
        </p:nvSpPr>
        <p:spPr>
          <a:xfrm>
            <a:off x="500040" y="4643280"/>
            <a:ext cx="157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en van wensen, verlangens en behoeft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31"/>
          <p:cNvSpPr/>
          <p:nvPr/>
        </p:nvSpPr>
        <p:spPr>
          <a:xfrm>
            <a:off x="7215120" y="471492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wordt uitgevoerd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kstvak 32"/>
          <p:cNvSpPr/>
          <p:nvPr/>
        </p:nvSpPr>
        <p:spPr>
          <a:xfrm>
            <a:off x="5000760" y="4714920"/>
            <a:ext cx="157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lopig) besluit wordt genomen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kstvak 33"/>
          <p:cNvSpPr/>
          <p:nvPr/>
        </p:nvSpPr>
        <p:spPr>
          <a:xfrm>
            <a:off x="2500200" y="4714920"/>
            <a:ext cx="20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ioriteit bekijken,  onderzoeken wat mogelijke oplossingen zij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kstvak 34"/>
          <p:cNvSpPr/>
          <p:nvPr/>
        </p:nvSpPr>
        <p:spPr>
          <a:xfrm>
            <a:off x="428760" y="5780160"/>
            <a:ext cx="178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r wordt actie gevoerd omdat er te veel tussen uren zijn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35"/>
          <p:cNvSpPr/>
          <p:nvPr/>
        </p:nvSpPr>
        <p:spPr>
          <a:xfrm>
            <a:off x="2428920" y="5857920"/>
            <a:ext cx="257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Vroeger/later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Zaterdag ook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tc…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kstvak 36"/>
          <p:cNvSpPr/>
          <p:nvPr/>
        </p:nvSpPr>
        <p:spPr>
          <a:xfrm>
            <a:off x="5072040" y="578016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 beste oplossin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Wat vindt het parlement?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kstvak 37"/>
          <p:cNvSpPr/>
          <p:nvPr/>
        </p:nvSpPr>
        <p:spPr>
          <a:xfrm>
            <a:off x="7072200" y="578628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Scholen moeten huiswerkbegeleid uren instell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kstvak 38"/>
          <p:cNvSpPr/>
          <p:nvPr/>
        </p:nvSpPr>
        <p:spPr>
          <a:xfrm>
            <a:off x="0" y="57862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e hebben er invloed op de politi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sieg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en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011F-7A77-4D38-9DF8-8BF3D8B880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dia vervult 5 func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formatieve fun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formatie geven over bepaalde gebeurtenissen en besluiten die genom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genda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urnalisten zien problemen die onder de bevolking speelt en brengt dit onder d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entaar- en meningsvorm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levert kritiek op de 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troler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houdt de politiek in de g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preekbuis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lking kan zelf via media hun mening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46CF-20CD-4D05-B952-C2D287E086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760" y="85716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kunnen burgers 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: door hun stem hun mening laten ho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ekrecht: tijdens hoorzittingen in de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, Gemeenteraad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een politieke parti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een politieke partij opricht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artij voor naatenliefde, vrijheid en diversiteit/pedopartij: Gesprek  met Pnvd voorzitter    Artikel over 'pedopartij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zoek/klacht/bezwaarschrift indie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ia inschakelen (spreekbuisfunct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pressiegro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monstr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tionale Ombudsman inschakelen: www.nationaleombudsman.nl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3405-193B-428B-91DC-4E00B402B8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groep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 hebben bepaalde belangen en proberen darom invloed uit te oefenen op de besluiten van de politic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stuk z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angen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men op voor een bepaalde groep uit de samenleving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B: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tiëntenverenigingen, consumentenbond, winkeliersvereniging, vakbonden, L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ten zich (soms voor korte tijd) in voor een duidelijk probleem. Verschillende mensen kunnen hierin deelnem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organisaties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eenpeace, amnesty international,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C299-A4EB-43D4-9161-F28F991D53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oe krijgt een Pressiegroep mac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de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arisma van de le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tting hebben in het bes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A907-4EA0-4C77-B22D-731C3CA9FD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7694640" cy="10951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1908000" y="274680"/>
            <a:ext cx="59770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-396720" y="1125360"/>
            <a:ext cx="36734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ijkheid/ gelijkwaardig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5435640" y="2997360"/>
            <a:ext cx="3708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ssieve overheid/ 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771640" y="1989000"/>
            <a:ext cx="31687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d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stenliefde (elkaar helpen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chten veel waarde aan het gezi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istelijke normen en waar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kstvak 11"/>
          <p:cNvSpPr/>
          <p:nvPr/>
        </p:nvSpPr>
        <p:spPr>
          <a:xfrm>
            <a:off x="3203640" y="5732640"/>
            <a:ext cx="22320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08000" y="333360"/>
            <a:ext cx="921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565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E10B-A3F5-4F1F-AAD8-958F7BF8AA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"/>
          <p:cNvPicPr/>
          <p:nvPr/>
        </p:nvPicPr>
        <p:blipFill>
          <a:blip r:embed="rId1"/>
          <a:srcRect l="7494" t="0" r="0" b="0"/>
          <a:stretch/>
        </p:blipFill>
        <p:spPr>
          <a:xfrm>
            <a:off x="4140360" y="1484280"/>
            <a:ext cx="4752720" cy="3618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C2FD-E2BA-49B9-B5FF-7C5FBEE94B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1476360" y="1557360"/>
            <a:ext cx="5670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wikkeling van het individu staat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op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dividu is verantwoordelijk vo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richten van zijn lev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heidsbemoeienis moet hierbij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imaal zij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3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2600" y="274680"/>
            <a:ext cx="86821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CB0A-EF62-447B-9F54-4077070FDF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sme / Sociaal-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eerlijke samenleving met gelijke k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3276720" y="5157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045C-68FC-4985-B4FF-A8B73BB74D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ss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itieke opvattinge gebasseerd op geloofsovertu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tmeesterschap: als mens goed voor de aarde z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ide verantwoordelijkheid: ‘zorgzame samenlev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 middenveld: overheid aanvullende rol, de rest overlaten aan bvb welzijnsinstellingen en schoolbestu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348000" y="515772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276720" y="494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1BA9-5BDD-4E09-B39D-BFC97BA5D88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8137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baseerd op progr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uitgang, toenemend, vooruitgaand, zich uitbrei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links/sociaal-democratische den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tradi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ijns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dat "in ongeschonden toestand bewaren" bete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rechtse/liberale en Christen=democratisch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85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hthoek 3"/>
          <p:cNvSpPr/>
          <p:nvPr/>
        </p:nvSpPr>
        <p:spPr>
          <a:xfrm>
            <a:off x="611280" y="1197000"/>
            <a:ext cx="7129440" cy="566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6" descr="Bestand:Pol-landschap-2010.gif"/>
          <p:cNvPicPr/>
          <p:nvPr/>
        </p:nvPicPr>
        <p:blipFill>
          <a:blip r:embed="rId1"/>
          <a:stretch/>
        </p:blipFill>
        <p:spPr>
          <a:xfrm>
            <a:off x="125892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684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1A39-5AFC-4296-A2F9-A689ABFF33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284360" y="126828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539640" y="1268280"/>
            <a:ext cx="3816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uliere eigendom is niet toegest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2"/>
          <p:cNvGrpSpPr/>
          <p:nvPr/>
        </p:nvGrpSpPr>
        <p:grpSpPr>
          <a:xfrm>
            <a:off x="826920" y="5300640"/>
            <a:ext cx="7745760" cy="1362240"/>
            <a:chOff x="826920" y="5300640"/>
            <a:chExt cx="7745760" cy="1362240"/>
          </a:xfrm>
        </p:grpSpPr>
        <p:pic>
          <p:nvPicPr>
            <p:cNvPr id="426" name="Picture 8" descr=""/>
            <p:cNvPicPr/>
            <p:nvPr/>
          </p:nvPicPr>
          <p:blipFill>
            <a:blip r:embed="rId1"/>
            <a:stretch/>
          </p:blipFill>
          <p:spPr>
            <a:xfrm>
              <a:off x="826920" y="5300640"/>
              <a:ext cx="7745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11"/>
            <p:cNvSpPr/>
            <p:nvPr/>
          </p:nvSpPr>
          <p:spPr>
            <a:xfrm>
              <a:off x="3708360" y="544500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essionalism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B18E-B8D6-4616-B111-C9F1F2F75D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432" name="Line 5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0" y="2637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521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er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97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673272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133200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8028000" y="2708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c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392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endemocr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3" descr="logo vvd"/>
          <p:cNvPicPr/>
          <p:nvPr/>
        </p:nvPicPr>
        <p:blipFill>
          <a:blip r:embed="rId2"/>
          <a:stretch/>
        </p:blipFill>
        <p:spPr>
          <a:xfrm>
            <a:off x="5651640" y="3284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4" descr="logo cda"/>
          <p:cNvPicPr/>
          <p:nvPr/>
        </p:nvPicPr>
        <p:blipFill>
          <a:blip r:embed="rId3"/>
          <a:stretch/>
        </p:blipFill>
        <p:spPr>
          <a:xfrm>
            <a:off x="4643280" y="3284640"/>
            <a:ext cx="720720" cy="345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5" descr="logo CU"/>
          <p:cNvPicPr/>
          <p:nvPr/>
        </p:nvPicPr>
        <p:blipFill>
          <a:blip r:embed="rId4"/>
          <a:stretch/>
        </p:blipFill>
        <p:spPr>
          <a:xfrm>
            <a:off x="3564000" y="4076640"/>
            <a:ext cx="1152360" cy="319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6" descr="logo d66"/>
          <p:cNvPicPr/>
          <p:nvPr/>
        </p:nvPicPr>
        <p:blipFill>
          <a:blip r:embed="rId5"/>
          <a:stretch/>
        </p:blipFill>
        <p:spPr>
          <a:xfrm>
            <a:off x="3564000" y="328464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7" descr="LOGO groen links"/>
          <p:cNvPicPr/>
          <p:nvPr/>
        </p:nvPicPr>
        <p:blipFill>
          <a:blip r:embed="rId6"/>
          <a:stretch/>
        </p:blipFill>
        <p:spPr>
          <a:xfrm>
            <a:off x="900000" y="3933720"/>
            <a:ext cx="792360" cy="366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8" descr="LOGO pvda"/>
          <p:cNvPicPr/>
          <p:nvPr/>
        </p:nvPicPr>
        <p:blipFill>
          <a:blip r:embed="rId7"/>
          <a:stretch/>
        </p:blipFill>
        <p:spPr>
          <a:xfrm>
            <a:off x="2916360" y="3789360"/>
            <a:ext cx="420480" cy="503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9" descr="logo pvv"/>
          <p:cNvPicPr/>
          <p:nvPr/>
        </p:nvPicPr>
        <p:blipFill>
          <a:blip r:embed="rId8"/>
          <a:srcRect l="0" t="17834" r="0" b="20000"/>
          <a:stretch/>
        </p:blipFill>
        <p:spPr>
          <a:xfrm>
            <a:off x="7020000" y="328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0" descr="logo sgp"/>
          <p:cNvPicPr/>
          <p:nvPr/>
        </p:nvPicPr>
        <p:blipFill>
          <a:blip r:embed="rId9"/>
          <a:stretch/>
        </p:blipFill>
        <p:spPr>
          <a:xfrm>
            <a:off x="6300720" y="3284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1" descr="LOGO sp"/>
          <p:cNvPicPr/>
          <p:nvPr/>
        </p:nvPicPr>
        <p:blipFill>
          <a:blip r:embed="rId10"/>
          <a:stretch/>
        </p:blipFill>
        <p:spPr>
          <a:xfrm>
            <a:off x="468360" y="3357720"/>
            <a:ext cx="574560" cy="317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logo pvvd"/>
          <p:cNvPicPr/>
          <p:nvPr/>
        </p:nvPicPr>
        <p:blipFill>
          <a:blip r:embed="rId11"/>
          <a:stretch/>
        </p:blipFill>
        <p:spPr>
          <a:xfrm>
            <a:off x="1835280" y="3357720"/>
            <a:ext cx="635040" cy="718920"/>
          </a:xfrm>
          <a:prstGeom prst="rect">
            <a:avLst/>
          </a:prstGeom>
          <a:ln w="0">
            <a:noFill/>
          </a:ln>
        </p:spPr>
      </p:pic>
      <p:sp>
        <p:nvSpPr>
          <p:cNvPr id="450" name="Line 23"/>
          <p:cNvSpPr/>
          <p:nvPr/>
        </p:nvSpPr>
        <p:spPr>
          <a:xfrm>
            <a:off x="17928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4"/>
          <p:cNvSpPr/>
          <p:nvPr/>
        </p:nvSpPr>
        <p:spPr>
          <a:xfrm>
            <a:off x="169236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5"/>
          <p:cNvSpPr/>
          <p:nvPr/>
        </p:nvSpPr>
        <p:spPr>
          <a:xfrm>
            <a:off x="241128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6"/>
          <p:cNvSpPr/>
          <p:nvPr/>
        </p:nvSpPr>
        <p:spPr>
          <a:xfrm>
            <a:off x="4284720" y="2637000"/>
            <a:ext cx="0" cy="5760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7"/>
          <p:cNvSpPr/>
          <p:nvPr/>
        </p:nvSpPr>
        <p:spPr>
          <a:xfrm>
            <a:off x="6227640" y="299736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8"/>
          <p:cNvSpPr/>
          <p:nvPr/>
        </p:nvSpPr>
        <p:spPr>
          <a:xfrm>
            <a:off x="702000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9"/>
          <p:cNvSpPr/>
          <p:nvPr/>
        </p:nvSpPr>
        <p:spPr>
          <a:xfrm>
            <a:off x="622764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0"/>
          <p:cNvSpPr/>
          <p:nvPr/>
        </p:nvSpPr>
        <p:spPr>
          <a:xfrm>
            <a:off x="702000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1"/>
          <p:cNvSpPr/>
          <p:nvPr/>
        </p:nvSpPr>
        <p:spPr>
          <a:xfrm>
            <a:off x="8964720" y="3068640"/>
            <a:ext cx="1404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2"/>
          <p:cNvSpPr/>
          <p:nvPr/>
        </p:nvSpPr>
        <p:spPr>
          <a:xfrm>
            <a:off x="3059280" y="206064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3"/>
          <p:cNvSpPr/>
          <p:nvPr/>
        </p:nvSpPr>
        <p:spPr>
          <a:xfrm>
            <a:off x="3419640" y="1773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4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1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4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4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4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4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4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4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2000" fill="hold"/>
                                        <p:tgtEl>
                                          <p:spTgt spid="4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20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 op volgorde van aantal zetel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rcRect l="34848" t="41424" r="28535" b="39383"/>
          <a:stretch/>
        </p:blipFill>
        <p:spPr>
          <a:xfrm>
            <a:off x="611280" y="2781360"/>
            <a:ext cx="8070840" cy="33843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2"/>
          <a:srcRect l="20081" t="8858" r="64564" b="88193"/>
          <a:stretch/>
        </p:blipFill>
        <p:spPr>
          <a:xfrm>
            <a:off x="7451640" y="3573360"/>
            <a:ext cx="1260720" cy="193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53678" t="50936" r="40420" b="39383"/>
          <a:stretch/>
        </p:blipFill>
        <p:spPr>
          <a:xfrm>
            <a:off x="611280" y="4076640"/>
            <a:ext cx="988920" cy="12970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"/>
          <p:cNvPicPr/>
          <p:nvPr/>
        </p:nvPicPr>
        <p:blipFill>
          <a:blip r:embed="rId2"/>
          <a:srcRect l="65424" t="41251" r="28535" b="49895"/>
          <a:stretch/>
        </p:blipFill>
        <p:spPr>
          <a:xfrm>
            <a:off x="611280" y="2852640"/>
            <a:ext cx="1008000" cy="1182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"/>
          <p:cNvPicPr/>
          <p:nvPr/>
        </p:nvPicPr>
        <p:blipFill>
          <a:blip r:embed="rId3"/>
          <a:srcRect l="41137" t="41424" r="52370" b="49242"/>
          <a:stretch/>
        </p:blipFill>
        <p:spPr>
          <a:xfrm>
            <a:off x="611280" y="5445000"/>
            <a:ext cx="1008000" cy="1158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4"/>
          <a:srcRect l="47633" t="41424" r="45871" b="49242"/>
          <a:stretch/>
        </p:blipFill>
        <p:spPr>
          <a:xfrm>
            <a:off x="611280" y="1700280"/>
            <a:ext cx="1008000" cy="11602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5"/>
          <a:srcRect l="20081" t="8858" r="64564" b="88193"/>
          <a:stretch/>
        </p:blipFill>
        <p:spPr>
          <a:xfrm>
            <a:off x="684360" y="3500280"/>
            <a:ext cx="900000" cy="139680"/>
          </a:xfrm>
          <a:prstGeom prst="rect">
            <a:avLst/>
          </a:prstGeom>
          <a:ln w="0">
            <a:noFill/>
          </a:ln>
        </p:spPr>
      </p:pic>
      <p:sp>
        <p:nvSpPr>
          <p:cNvPr id="473" name="Tekstvak 10"/>
          <p:cNvSpPr/>
          <p:nvPr/>
        </p:nvSpPr>
        <p:spPr>
          <a:xfrm>
            <a:off x="1619280" y="17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eest links. Komt op voor belangen arme mensen. Goede uitkeringen! Rijken meer belasting betalen. Goedkope gezondheidszorg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kstvak 11"/>
          <p:cNvSpPr/>
          <p:nvPr/>
        </p:nvSpPr>
        <p:spPr>
          <a:xfrm>
            <a:off x="1692360" y="2997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milieu. Ongelijkheid tussen mensen tegengaan. Gratis kinderopvang/ meer vrouwen werken. Schone energie gebruiken. Kraamverlof voor vaders. Geen koningshuis meer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kstvak 12"/>
          <p:cNvSpPr/>
          <p:nvPr/>
        </p:nvSpPr>
        <p:spPr>
          <a:xfrm>
            <a:off x="1692360" y="4221000"/>
            <a:ext cx="74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belangen van dieren. Rechten van het dier opnemen in grondwet. Dierenmishandeling streng straffen. Einde aan dierproeven. Verbod gebruik dieren in reclame/fil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kstvak 13"/>
          <p:cNvSpPr/>
          <p:nvPr/>
        </p:nvSpPr>
        <p:spPr>
          <a:xfrm>
            <a:off x="1692360" y="5516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verheid zorgt  vooral voorvoldoende werkgelegenheid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oor ziekte, handicap of ouderdom niet werken: overheid geeft uitkering! Tot 27 jaar werk/leerplicht. Geld aan bedrijven voor langdurig werklozen. Discriminatie bij bedrijf = boete!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6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093080" y="342900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Mid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rcRect l="41276" t="50936" r="52821" b="39471"/>
          <a:stretch/>
        </p:blipFill>
        <p:spPr>
          <a:xfrm>
            <a:off x="468360" y="2060640"/>
            <a:ext cx="946080" cy="1230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rcRect l="34848" t="50851" r="58798" b="39556"/>
          <a:stretch/>
        </p:blipFill>
        <p:spPr>
          <a:xfrm>
            <a:off x="468360" y="3357720"/>
            <a:ext cx="1017720" cy="1230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3"/>
          <a:srcRect l="34848" t="41424" r="58866" b="49980"/>
          <a:stretch/>
        </p:blipFill>
        <p:spPr>
          <a:xfrm>
            <a:off x="395280" y="4724280"/>
            <a:ext cx="1008000" cy="1103400"/>
          </a:xfrm>
          <a:prstGeom prst="rect">
            <a:avLst/>
          </a:prstGeom>
          <a:ln w="0">
            <a:noFill/>
          </a:ln>
        </p:spPr>
      </p:pic>
      <p:sp>
        <p:nvSpPr>
          <p:cNvPr id="482" name="Tekstvak 8"/>
          <p:cNvSpPr/>
          <p:nvPr/>
        </p:nvSpPr>
        <p:spPr>
          <a:xfrm>
            <a:off x="1619280" y="342900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rotestants/christelijk. Hulp aan vluchtelingen in ons land. Geen abortus en euthanasie. God beslist. Zuinig zijn op de aarde (is van god), kinderbijslag aan gezin met kinderen. Alcohol en drugsgebruik streng aanpakk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kstvak 9"/>
          <p:cNvSpPr/>
          <p:nvPr/>
        </p:nvSpPr>
        <p:spPr>
          <a:xfrm>
            <a:off x="1619280" y="2060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mocratie vernieuwen. Meer macht voor burgers. Meer geld voor onderwijs. Soepel ontslagrecht. Kiezen burgemeester en minister president. Gevangenisstraf = taakstraf. Meer eu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kstvak 10"/>
          <p:cNvSpPr/>
          <p:nvPr/>
        </p:nvSpPr>
        <p:spPr>
          <a:xfrm>
            <a:off x="1547640" y="486900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hristelijke partij. Mensen moeten voor elkaar zorgen. In noodgevallen helpt de overheid. Overheid niet bemoeien met opvoeding kinderen. Maatschappelijke stage jongeren verplicht. Altijd hulp geven aan ontwikkelingsland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rcRect l="47250" t="51021" r="46845" b="39383"/>
          <a:stretch/>
        </p:blipFill>
        <p:spPr>
          <a:xfrm>
            <a:off x="611280" y="3500280"/>
            <a:ext cx="1152360" cy="1498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2"/>
          <a:srcRect l="59583" t="41339" r="33921" b="49806"/>
          <a:stretch/>
        </p:blipFill>
        <p:spPr>
          <a:xfrm>
            <a:off x="539640" y="5084640"/>
            <a:ext cx="1266840" cy="13827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"/>
          <p:cNvPicPr/>
          <p:nvPr/>
        </p:nvPicPr>
        <p:blipFill>
          <a:blip r:embed="rId3"/>
          <a:srcRect l="53610" t="41251" r="40488" b="49895"/>
          <a:stretch/>
        </p:blipFill>
        <p:spPr>
          <a:xfrm>
            <a:off x="611280" y="2060640"/>
            <a:ext cx="1152360" cy="1382760"/>
          </a:xfrm>
          <a:prstGeom prst="rect">
            <a:avLst/>
          </a:prstGeom>
          <a:ln w="0">
            <a:noFill/>
          </a:ln>
        </p:spPr>
      </p:pic>
      <p:sp>
        <p:nvSpPr>
          <p:cNvPr id="490" name="Tekstvak 7"/>
          <p:cNvSpPr/>
          <p:nvPr/>
        </p:nvSpPr>
        <p:spPr>
          <a:xfrm>
            <a:off x="1943280" y="213372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rijheid belangrijkst! Meer wegen aanleggen ivm files, werkgevers vrijheid geven (zoals makkelijk ontslaan). Meer geld voor politi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kstvak 8"/>
          <p:cNvSpPr/>
          <p:nvPr/>
        </p:nvSpPr>
        <p:spPr>
          <a:xfrm>
            <a:off x="1943280" y="35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ereformeerde partij. Regeren volgens de bijbel. Mensen beschermen, verder niet mee bemoeien. Abortus en euthanasie en homohuwelijk verboden. Moord = doodstraf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kstvak 9"/>
          <p:cNvSpPr/>
          <p:nvPr/>
        </p:nvSpPr>
        <p:spPr>
          <a:xfrm>
            <a:off x="1943280" y="515772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arde uitspraken over Islam. Mensen zelf verantwoordelijke voor hun gedrag, iedereen aanpassen aan regels van dit land. Ook ander geloof/cultuur. Zo niet: Hoge straf. Na 3 geweldsmisdrijven: levenslang. Weinig immigranten toela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680" y="33300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6D31-4C36-49DF-9EF2-A1270E97D7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e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IDEOLOGIE: ontstaan door dezelfde ideologiën/stro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-ISSUEPARTIJEN: gericht op 1 aspect in de samenleving. (Pv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ESTPARTIJEN: ontstaan uit onvrede met bestaande politiek. (L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DEMOCRATISCHE parijen: zoals fascisitische partijen. Komen niet vaak voor in parle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4C4D-2F6F-4468-A334-966BAB6601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ncties va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efunctie: het partijen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rmatiefunctie: informeren over standp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ticipatiefunctie: burgers stimuleren actief aan politiek te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lectiefunctie: mensen die in de politiek willen, kijken bij welke partij ze willen 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B905-A217-441D-8868-C2A2B64A45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hthoek 4"/>
          <p:cNvSpPr/>
          <p:nvPr/>
        </p:nvSpPr>
        <p:spPr>
          <a:xfrm>
            <a:off x="1692360" y="1916280"/>
            <a:ext cx="638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Een maatschappelijk proble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ciaal problee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veel mensen hebben er mee te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schillende mening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is niet snel op te lossen omdat er vaak zoveel verschillende meningen over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verheid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overheid moet erbij betrokken zijn om dit probleem te kunnen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andacht van de medi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probleem moet de aandacht van de media krij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79C6-5D17-4195-AD9D-42971247E1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4691-0BB2-4354-A9FD-4229565E55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macht is officieel vastgelegd in wetten en regels (gez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: de burgemeester verbied een boetbalwedstrij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t die niet officieel is vastgelegd (inv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‘regels’ die binnen je vriendengroep g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47640" y="404640"/>
            <a:ext cx="84963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B0AA-D03D-4922-8867-81C2A9DDA3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chtsmiddel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acht te kunnen hebben, bestaan er machtmid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unctie/beroep (politie als hij een bekeuring ge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/vaardigheden (dokter weet welke medicijnen je nodig h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zien (de paus vraagt gelovigen iets wel of niet te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tuigingskracht (politici zijn vaak getraind om mensen te overtu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 (de overheid beslist wat ze doen met die miljarden euro’s die z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al (de klas weigert massaal een proefwerk te ma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ld (een rechter veroordeeld de moordenaar tot levensl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A77D-A692-43C1-BC76-8453696AC8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Normen: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dragsregels, v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achtingen over wat normaal is, manier van handelen waar mensen zich aan kunnen of moeten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arden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arden zijn dingen en denkbeelden waar we waarde aan hechten. Aspecten die we belangrijk vind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de: 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: niet s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80C3-A606-4DEE-AD36-1355D7FBFC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pagand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doelbewust eenzijdige informatie geven, om meningen te beinvlo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nipul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et opzet feiten weglaten of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doctrin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tdurend opdringen van bepaalde meningen (met behulp van zeer intensieve psychologische middeltjes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001C-042A-43D6-8F06-06C6BA036D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kunnen rechtstreeks meepraten en beslisse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stemmen op vertegenwoordigers die hun belangen behartigen in de politieke besluitvorm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hebben de meeste landen in de werel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3041-53BC-4441-AD6C-332365CB6B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58672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Stereotyper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eld van een bepaalde bevolkingsgroep dat met de werkelijkheid weinig of niets te maken heef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Afrikanen in rieten rokjes met botjes in hun neus en dikke 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derlanders op klo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Vooroordeel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ooroordeel is een mening over iemand of een groep mensen die niet op feiten is gebasee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'alle duitsers hebben bierbuiken, 'Belgen zijn dom', 'Nederlanders zijn krenterig' of 'dikke mensen zijn gezell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Discriminati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mensen op basis van deze vooroordelen worden achtergesteld, is er sprake van discriminat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10809"/>
          <p:cNvPicPr/>
          <p:nvPr/>
        </p:nvPicPr>
        <p:blipFill>
          <a:blip r:embed="rId1"/>
          <a:stretch/>
        </p:blipFill>
        <p:spPr>
          <a:xfrm>
            <a:off x="7451640" y="1052640"/>
            <a:ext cx="1438200" cy="2666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121581"/>
          <p:cNvPicPr/>
          <p:nvPr/>
        </p:nvPicPr>
        <p:blipFill>
          <a:blip r:embed="rId2"/>
          <a:srcRect l="9962" t="2883" r="10174" b="4043"/>
          <a:stretch/>
        </p:blipFill>
        <p:spPr>
          <a:xfrm>
            <a:off x="6300720" y="39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jdelijke aanduiding voor dianumm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76C5-7FFF-44E9-A5A7-DC48DF537C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428760" y="642960"/>
          <a:ext cx="8334360" cy="5962680"/>
        </p:xfrm>
        <a:graphic>
          <a:graphicData uri="http://schemas.openxmlformats.org/drawingml/2006/table">
            <a:tbl>
              <a:tblPr/>
              <a:tblGrid>
                <a:gridCol w="1836720"/>
                <a:gridCol w="630000"/>
                <a:gridCol w="3043440"/>
                <a:gridCol w="630000"/>
                <a:gridCol w="2194200"/>
              </a:tblGrid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N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VANG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EF/SUBJECTIEF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eiten/Meningen [Meerdere kanten]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OUWBARE BRONN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BS, Wikipedia, edu-sites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EVE WAARNEM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erdraai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send voor jezelf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NDA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enzijd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IEKA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CTR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rvaring, Waard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wingend/Langdur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RIM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eotyper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oroordel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Analyseschem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is het proble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economische invalshoek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en, belangentegenstellingen, belangengroepen, maatschappelijke posities, gemeenschappelijke belangen, ongelijkheid, economische bel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-culturel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aarden, normen, culturen, plurifor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litiek-juridisch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politieke agenda, machtsmiddelen, actiegroepen, politieke parti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anderings- en vergelijkend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hoe in het verleden? Andere landen? Andere cultu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lossin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tandpunten partijen, ove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igen men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ubjectieve bronnen of objectieve bro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9D9D-9C10-4776-8D99-6689249912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0636-0B13-49AC-8E82-F199FC302B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sw_einde"/>
          <p:cNvPicPr/>
          <p:nvPr/>
        </p:nvPicPr>
        <p:blipFill>
          <a:blip r:embed="rId1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4ADE-0D60-47D3-8AAB-777BF1D285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d waarin iedereen rechten heeft en waar deze rechten zijn vastgelegd in w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splitsing voorkomen we machtsmis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443700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59280" y="450864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227640" y="4430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 flipH="1">
            <a:off x="169200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644364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11-09-26T10:03:01Z</dcterms:modified>
  <cp:revision>129</cp:revision>
  <dc:subject/>
  <dc:title>Dia 1</dc:title>
</cp:coreProperties>
</file>