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11.jpeg" ContentType="image/jpeg"/>
  <Override PartName="/ppt/media/image21.png" ContentType="image/png"/>
  <Override PartName="/ppt/media/image19.png" ContentType="image/png"/>
  <Override PartName="/ppt/media/image20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23.jpeg" ContentType="image/jpeg"/>
  <Override PartName="/ppt/media/image12.png" ContentType="image/png"/>
  <Override PartName="/ppt/media/image49.png" ContentType="image/pn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33.png" ContentType="image/png"/>
  <Override PartName="/ppt/media/image27.png" ContentType="image/png"/>
  <Override PartName="/ppt/media/image30.png" ContentType="image/png"/>
  <Override PartName="/ppt/media/image32.png" ContentType="image/png"/>
  <Override PartName="/ppt/media/image40.png" ContentType="image/png"/>
  <Override PartName="/ppt/media/image8.jpeg" ContentType="image/jpeg"/>
  <Override PartName="/ppt/media/image38.png" ContentType="image/png"/>
  <Override PartName="/ppt/media/image31.jpeg" ContentType="image/jpeg"/>
  <Override PartName="/ppt/media/image41.png" ContentType="image/png"/>
  <Override PartName="/ppt/media/image37.png" ContentType="image/png"/>
  <Override PartName="/ppt/media/image44.jpeg" ContentType="image/jpeg"/>
  <Override PartName="/ppt/media/image4.png" ContentType="image/png"/>
  <Override PartName="/ppt/media/image34.png" ContentType="image/png"/>
  <Override PartName="/ppt/media/image46.jpeg" ContentType="image/jpeg"/>
  <Override PartName="/ppt/media/image43.png" ContentType="image/png"/>
  <Override PartName="/ppt/media/image47.jpeg" ContentType="image/jpeg"/>
  <Override PartName="/ppt/media/image35.png" ContentType="image/png"/>
  <Override PartName="/ppt/media/image5.jpeg" ContentType="image/jpeg"/>
  <Override PartName="/ppt/media/image45.jpeg" ContentType="image/jpeg"/>
  <Override PartName="/ppt/media/image50.jpeg" ContentType="image/jpeg"/>
  <Override PartName="/ppt/media/image13.png" ContentType="image/png"/>
  <Override PartName="/ppt/media/image9.jpeg" ContentType="image/jpeg"/>
  <Override PartName="/ppt/media/image48.png" ContentType="image/png"/>
  <Override PartName="/ppt/media/image7.jpeg" ContentType="image/jpeg"/>
  <Override PartName="/ppt/media/image18.png" ContentType="image/png"/>
  <Override PartName="/ppt/media/image28.jpeg" ContentType="image/jpeg"/>
  <Override PartName="/ppt/media/image51.jpeg" ContentType="image/jpeg"/>
  <Override PartName="/ppt/media/image6.png" ContentType="image/png"/>
  <Override PartName="/ppt/media/image29.jpeg" ContentType="image/jpeg"/>
  <Override PartName="/ppt/media/image52.jpeg" ContentType="image/jpeg"/>
  <Override PartName="/ppt/media/image26.jpeg" ContentType="image/jpeg"/>
  <Override PartName="/ppt/media/image4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A57C-BADB-4B79-A732-67F799FA4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84C1-8541-4DF3-8947-37F8048DB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311D-7B64-4B27-9B35-7D2FDA5C3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19A3-9F27-411A-A992-3CDDBDF32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390F-190E-4218-A75B-209F57B56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C6CF-700E-46E0-9836-5541ECC52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8C34-AD9F-4FF5-A182-79A507006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3F0A-5805-4E11-ADE1-7A8C7CE61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2998-2295-4CF1-BC39-3BEAD5E92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FDC5-979A-42B2-B56D-A3FA026E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2D21-42BF-4654-9B49-3DA402BD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8BC4-BB77-4295-9935-78C2B4CD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56641-C1C9-4E49-8395-9989E582150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jpeg"/><Relationship Id="rId6" Type="http://schemas.openxmlformats.org/officeDocument/2006/relationships/image" Target="../media/image21.pn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45.jpeg"/><Relationship Id="rId7" Type="http://schemas.openxmlformats.org/officeDocument/2006/relationships/image" Target="../media/image21.png"/><Relationship Id="rId8" Type="http://schemas.openxmlformats.org/officeDocument/2006/relationships/image" Target="../media/image46.jpeg"/><Relationship Id="rId9" Type="http://schemas.openxmlformats.org/officeDocument/2006/relationships/image" Target="../media/image47.jpe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8.png"/><Relationship Id="rId3" Type="http://schemas.openxmlformats.org/officeDocument/2006/relationships/image" Target="../media/image48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8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8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802FC-BD44-4595-AC84-C3D1AED4443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amenvatting Politiek m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examen_vak_succes_met_maatschappijleer"/>
          <p:cNvPicPr/>
          <p:nvPr/>
        </p:nvPicPr>
        <p:blipFill>
          <a:blip r:embed="rId1"/>
          <a:stretch/>
        </p:blipFill>
        <p:spPr>
          <a:xfrm>
            <a:off x="1116000" y="1773360"/>
            <a:ext cx="7128000" cy="42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A3280-0543-44B8-9B7A-2CBD5778DEE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2: Nederland is een rechtsstaat en een democrat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24000" y="1484280"/>
            <a:ext cx="67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s per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4 jaar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stemmen v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weede ka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ovinciale St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meentera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s per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5 jaar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stemmen v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uropees Par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lijsttrekker"/>
          <p:cNvPicPr/>
          <p:nvPr/>
        </p:nvPicPr>
        <p:blipFill>
          <a:blip r:embed="rId1"/>
          <a:srcRect l="12929" t="0" r="11185" b="0"/>
          <a:stretch/>
        </p:blipFill>
        <p:spPr>
          <a:xfrm>
            <a:off x="108000" y="1773360"/>
            <a:ext cx="381636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05C3A-6031-4E86-9C1B-DFB10999096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525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assief kiesrech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kozen kunnen worden als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id van de Tweede Kamer 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andere volksvertegen-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ordigende lichamen: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kiesbaar ste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ctief kiesrec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derlanders van 18 jaar 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uder met Nederlands paspoor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bben het recht om te stem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kieskompas"/>
          <p:cNvPicPr/>
          <p:nvPr/>
        </p:nvPicPr>
        <p:blipFill>
          <a:blip r:embed="rId1"/>
          <a:stretch/>
        </p:blipFill>
        <p:spPr>
          <a:xfrm>
            <a:off x="5148360" y="2249640"/>
            <a:ext cx="3887640" cy="24256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214200" y="274680"/>
            <a:ext cx="8929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2: Nederland is een rechtsstaat en een democratie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E2284-658C-48C9-BCDE-63C19C6C43B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2195640" y="1628640"/>
            <a:ext cx="6769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179280" y="1268280"/>
            <a:ext cx="5832720" cy="49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Lijsttrekker: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hoogst geplaatste persoon op de kandidatenlijst van een politieke partij bij verkiezingen.  De belangrijkste persoon van de partij in de verkiezingsstrijd.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Zwevende kiezers: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roep kiezers die bij verkiezingen niet steeds op dezelfde politieke partij stemt. 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Voorkeursstemmen: 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emmen op een persoon (niet op een partij) waardoor die misschien wel in de tweedekamer komt, ondanks dat die laag op de lijst staat.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9" descr="stomwijzer_1"/>
          <p:cNvPicPr/>
          <p:nvPr/>
        </p:nvPicPr>
        <p:blipFill>
          <a:blip r:embed="rId1"/>
          <a:stretch/>
        </p:blipFill>
        <p:spPr>
          <a:xfrm>
            <a:off x="6227640" y="1484280"/>
            <a:ext cx="2667240" cy="40323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2: Nederland is een rechtsstaat en een democrat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7EBE6-B60B-490A-87EA-07D6271248A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755280" y="1052280"/>
            <a:ext cx="838836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Evenredige vertegenwoordiging: 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lle zetels worden gelijk verdeld op baisis van alle geldig uitgebrachte stemmen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Kiesdel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- Aantal geldig uitgebrachte stemmen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150 zete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oorbeeld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7.500.000 geldi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uitgebrachte stemm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an is de kiesdeler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7.500.000/15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= 50.000 stemm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oor 1 zetel nodig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4284720" y="61657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 zetel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4788000" y="3716280"/>
            <a:ext cx="4211640" cy="2497320"/>
          </a:xfrm>
          <a:prstGeom prst="rect">
            <a:avLst/>
          </a:prstGeom>
          <a:ln w="0">
            <a:noFill/>
          </a:ln>
        </p:spPr>
      </p:pic>
      <p:sp>
        <p:nvSpPr>
          <p:cNvPr id="97" name="Line 6"/>
          <p:cNvSpPr/>
          <p:nvPr/>
        </p:nvSpPr>
        <p:spPr>
          <a:xfrm flipV="1">
            <a:off x="4859280" y="5229000"/>
            <a:ext cx="28908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213840" y="-36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2: Nederland is een rechtsstaat en een democrat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D8A6-D102-4D62-ACAB-E0CCC2FFEDA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357120" y="357120"/>
            <a:ext cx="8497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§3: kabinet en regering / §4:Het Parlement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2340000" y="2492280"/>
            <a:ext cx="1800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eede kame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835280" y="5877000"/>
            <a:ext cx="180000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rste kame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547640" y="1628640"/>
            <a:ext cx="1800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lemen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3492360" y="4221000"/>
            <a:ext cx="2016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n-Generaal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6012000" y="3429000"/>
            <a:ext cx="107928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bine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2916360" y="3357720"/>
            <a:ext cx="122400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ningi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7093080" y="4149720"/>
            <a:ext cx="180000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ksvertegenwoordiging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2556000" y="5084640"/>
            <a:ext cx="180000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ster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6588000" y="2060640"/>
            <a:ext cx="230508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atssecrtariss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1258920" y="3716280"/>
            <a:ext cx="122400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ering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5364000" y="5084640"/>
            <a:ext cx="1800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sterraad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4932360" y="1628640"/>
            <a:ext cx="1152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mie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7451640" y="2997360"/>
            <a:ext cx="86364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7524720" y="6021360"/>
            <a:ext cx="576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468360" y="2637000"/>
            <a:ext cx="1368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sterie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8"/>
          <p:cNvSpPr/>
          <p:nvPr/>
        </p:nvSpPr>
        <p:spPr>
          <a:xfrm>
            <a:off x="4932360" y="2708280"/>
            <a:ext cx="122400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g. 15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9"/>
          <p:cNvSpPr/>
          <p:nvPr/>
        </p:nvSpPr>
        <p:spPr>
          <a:xfrm>
            <a:off x="5292720" y="6093000"/>
            <a:ext cx="1800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gekoz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0"/>
          <p:cNvSpPr/>
          <p:nvPr/>
        </p:nvSpPr>
        <p:spPr>
          <a:xfrm>
            <a:off x="395280" y="4581360"/>
            <a:ext cx="194472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rect gekoz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3CB64-CED6-4540-BF4E-300FE714678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2"/>
          <p:cNvGrpSpPr/>
          <p:nvPr/>
        </p:nvGrpSpPr>
        <p:grpSpPr>
          <a:xfrm>
            <a:off x="971640" y="1268280"/>
            <a:ext cx="6948360" cy="2239920"/>
            <a:chOff x="971640" y="1268280"/>
            <a:chExt cx="6948360" cy="2239920"/>
          </a:xfrm>
        </p:grpSpPr>
        <p:sp>
          <p:nvSpPr>
            <p:cNvPr id="121" name="Text Box 3"/>
            <p:cNvSpPr/>
            <p:nvPr/>
          </p:nvSpPr>
          <p:spPr>
            <a:xfrm>
              <a:off x="1979640" y="1915920"/>
              <a:ext cx="194472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weed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amer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4"/>
            <p:cNvSpPr/>
            <p:nvPr/>
          </p:nvSpPr>
          <p:spPr>
            <a:xfrm>
              <a:off x="4284720" y="1915920"/>
              <a:ext cx="180000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erst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amer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5"/>
            <p:cNvSpPr/>
            <p:nvPr/>
          </p:nvSpPr>
          <p:spPr>
            <a:xfrm>
              <a:off x="971640" y="1268280"/>
              <a:ext cx="694836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000000"/>
                  </a:solidFill>
                  <a:latin typeface="Arial"/>
                </a:rPr>
                <a:t>Parlement </a:t>
              </a: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(ookwel:</a:t>
              </a:r>
              <a:r>
                <a:rPr b="1" lang="nl-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Staten-Generaal of Volksvertegenwoordiging)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6"/>
            <p:cNvSpPr/>
            <p:nvPr/>
          </p:nvSpPr>
          <p:spPr>
            <a:xfrm>
              <a:off x="1979640" y="2563560"/>
              <a:ext cx="79200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7"/>
            <p:cNvSpPr/>
            <p:nvPr/>
          </p:nvSpPr>
          <p:spPr>
            <a:xfrm>
              <a:off x="5508720" y="2563560"/>
              <a:ext cx="57600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8"/>
            <p:cNvSpPr/>
            <p:nvPr/>
          </p:nvSpPr>
          <p:spPr>
            <a:xfrm>
              <a:off x="1979640" y="3139920"/>
              <a:ext cx="194472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rect gekoze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9"/>
            <p:cNvSpPr/>
            <p:nvPr/>
          </p:nvSpPr>
          <p:spPr>
            <a:xfrm>
              <a:off x="4284720" y="3139920"/>
              <a:ext cx="194472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irect gekoze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0"/>
            <p:cNvSpPr/>
            <p:nvPr/>
          </p:nvSpPr>
          <p:spPr>
            <a:xfrm>
              <a:off x="2411280" y="23475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1"/>
            <p:cNvSpPr/>
            <p:nvPr/>
          </p:nvSpPr>
          <p:spPr>
            <a:xfrm>
              <a:off x="5940360" y="23475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2"/>
            <p:cNvSpPr/>
            <p:nvPr/>
          </p:nvSpPr>
          <p:spPr>
            <a:xfrm>
              <a:off x="3708360" y="234756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13"/>
            <p:cNvSpPr/>
            <p:nvPr/>
          </p:nvSpPr>
          <p:spPr>
            <a:xfrm>
              <a:off x="4716360" y="234756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4"/>
            <p:cNvSpPr/>
            <p:nvPr/>
          </p:nvSpPr>
          <p:spPr>
            <a:xfrm flipH="1">
              <a:off x="3563640" y="1699920"/>
              <a:ext cx="21564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5"/>
            <p:cNvSpPr/>
            <p:nvPr/>
          </p:nvSpPr>
          <p:spPr>
            <a:xfrm>
              <a:off x="4500360" y="1699920"/>
              <a:ext cx="21600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16"/>
          <p:cNvGrpSpPr/>
          <p:nvPr/>
        </p:nvGrpSpPr>
        <p:grpSpPr>
          <a:xfrm>
            <a:off x="1116000" y="4076640"/>
            <a:ext cx="6516720" cy="2581560"/>
            <a:chOff x="1116000" y="4076640"/>
            <a:chExt cx="6516720" cy="2581560"/>
          </a:xfrm>
        </p:grpSpPr>
        <p:sp>
          <p:nvSpPr>
            <p:cNvPr id="135" name="Text Box 17"/>
            <p:cNvSpPr/>
            <p:nvPr/>
          </p:nvSpPr>
          <p:spPr>
            <a:xfrm>
              <a:off x="5076720" y="4076640"/>
              <a:ext cx="107964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abinet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18"/>
            <p:cNvSpPr/>
            <p:nvPr/>
          </p:nvSpPr>
          <p:spPr>
            <a:xfrm>
              <a:off x="5148360" y="4797360"/>
              <a:ext cx="248436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000000"/>
                  </a:solidFill>
                  <a:latin typeface="Arial"/>
                </a:rPr>
                <a:t>Staatssecretarisse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19"/>
            <p:cNvSpPr/>
            <p:nvPr/>
          </p:nvSpPr>
          <p:spPr>
            <a:xfrm>
              <a:off x="1189080" y="4797360"/>
              <a:ext cx="136692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000000"/>
                  </a:solidFill>
                  <a:latin typeface="Arial"/>
                </a:rPr>
                <a:t>Koningi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20"/>
            <p:cNvSpPr/>
            <p:nvPr/>
          </p:nvSpPr>
          <p:spPr>
            <a:xfrm>
              <a:off x="3132000" y="4797360"/>
              <a:ext cx="129564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nisters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21"/>
            <p:cNvSpPr/>
            <p:nvPr/>
          </p:nvSpPr>
          <p:spPr>
            <a:xfrm>
              <a:off x="1116000" y="4076640"/>
              <a:ext cx="144000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gering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22"/>
            <p:cNvSpPr/>
            <p:nvPr/>
          </p:nvSpPr>
          <p:spPr>
            <a:xfrm>
              <a:off x="2916360" y="4076640"/>
              <a:ext cx="180000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nisterraad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23"/>
            <p:cNvSpPr/>
            <p:nvPr/>
          </p:nvSpPr>
          <p:spPr>
            <a:xfrm>
              <a:off x="3348000" y="5805720"/>
              <a:ext cx="428472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emier: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eider kabinet (minister president)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24"/>
            <p:cNvSpPr/>
            <p:nvPr/>
          </p:nvSpPr>
          <p:spPr>
            <a:xfrm>
              <a:off x="3348000" y="6289920"/>
              <a:ext cx="428472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nisteries: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especialiseerde beleidsterreinen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25"/>
            <p:cNvSpPr/>
            <p:nvPr/>
          </p:nvSpPr>
          <p:spPr>
            <a:xfrm>
              <a:off x="4213080" y="5300640"/>
              <a:ext cx="122400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ng. 15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6"/>
            <p:cNvSpPr/>
            <p:nvPr/>
          </p:nvSpPr>
          <p:spPr>
            <a:xfrm>
              <a:off x="2413080" y="45086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2413080" y="4508640"/>
              <a:ext cx="71892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8"/>
            <p:cNvSpPr/>
            <p:nvPr/>
          </p:nvSpPr>
          <p:spPr>
            <a:xfrm>
              <a:off x="5292720" y="45086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9"/>
            <p:cNvSpPr/>
            <p:nvPr/>
          </p:nvSpPr>
          <p:spPr>
            <a:xfrm flipH="1">
              <a:off x="4500720" y="4508640"/>
              <a:ext cx="792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30"/>
            <p:cNvSpPr/>
            <p:nvPr/>
          </p:nvSpPr>
          <p:spPr>
            <a:xfrm>
              <a:off x="3781440" y="45086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31"/>
            <p:cNvSpPr/>
            <p:nvPr/>
          </p:nvSpPr>
          <p:spPr>
            <a:xfrm>
              <a:off x="4429080" y="50133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32"/>
            <p:cNvSpPr/>
            <p:nvPr/>
          </p:nvSpPr>
          <p:spPr>
            <a:xfrm flipH="1">
              <a:off x="5005080" y="501336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33"/>
            <p:cNvSpPr/>
            <p:nvPr/>
          </p:nvSpPr>
          <p:spPr>
            <a:xfrm>
              <a:off x="4573440" y="50133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34"/>
            <p:cNvSpPr/>
            <p:nvPr/>
          </p:nvSpPr>
          <p:spPr>
            <a:xfrm>
              <a:off x="5005440" y="50133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35"/>
            <p:cNvSpPr/>
            <p:nvPr/>
          </p:nvSpPr>
          <p:spPr>
            <a:xfrm>
              <a:off x="3132000" y="5229360"/>
              <a:ext cx="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36"/>
            <p:cNvSpPr/>
            <p:nvPr/>
          </p:nvSpPr>
          <p:spPr>
            <a:xfrm>
              <a:off x="3132000" y="594864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37"/>
            <p:cNvSpPr/>
            <p:nvPr/>
          </p:nvSpPr>
          <p:spPr>
            <a:xfrm>
              <a:off x="3132000" y="645336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Line 38"/>
          <p:cNvSpPr/>
          <p:nvPr/>
        </p:nvSpPr>
        <p:spPr>
          <a:xfrm>
            <a:off x="826920" y="3789360"/>
            <a:ext cx="7093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357120" y="357120"/>
            <a:ext cx="8497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§3: kabinet en regering / §4:Het Parlement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29CEF-810C-4027-80F6-52F63C72BBC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schema politiek systeem antwoorden"/>
          <p:cNvPicPr/>
          <p:nvPr/>
        </p:nvPicPr>
        <p:blipFill>
          <a:blip r:embed="rId1"/>
          <a:srcRect l="0" t="0" r="0" b="14868"/>
          <a:stretch/>
        </p:blipFill>
        <p:spPr>
          <a:xfrm>
            <a:off x="2340000" y="1341360"/>
            <a:ext cx="5310000" cy="551664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2"/>
          <p:cNvSpPr/>
          <p:nvPr/>
        </p:nvSpPr>
        <p:spPr>
          <a:xfrm>
            <a:off x="357120" y="357120"/>
            <a:ext cx="8497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§3: kabinet en regering / §4:Het Parlement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77C64-CD25-4199-B982-D4D1D14B313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250920" y="1268280"/>
            <a:ext cx="8447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Tweedekamer verkiezingen </a:t>
            </a:r>
            <a:r>
              <a:rPr b="1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dan de kabinetsform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ormatie van ministers d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samen globaal eens zijn over het toekomstig bel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amen de meerderheid van de zetels hebben (de helft + 1 = 7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971640" y="260280"/>
            <a:ext cx="702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</a:rPr>
              <a:t>§3: Kabinet en regering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2A031-1499-4851-8C32-D863B796923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50920" y="1268280"/>
            <a:ext cx="8447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Hoe gaat de kabinetsformati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gadering  met: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   Koning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ice-president Raad van 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zitters 1</a:t>
            </a:r>
            <a:r>
              <a:rPr b="0" lang="nl-NL" sz="2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en 2</a:t>
            </a:r>
            <a:r>
              <a:rPr b="0" lang="nl-NL" sz="2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Kam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ractievoorzit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oningin benoemt informateur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ze onderzoekt welke partijen misschien samen kunn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aat partijen compromissen slui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elt samen met coalitiepartijen het regeerakkoord o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oningin benoemt formateur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ekt geschikte ministers en staatssecretarisse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s meestal afkomstig van de grootste regeringspartij en wordt meestal minister presid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oningin benoemt ministers en staatssecretariss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5. Foto op het bor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971640" y="260280"/>
            <a:ext cx="702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</a:rPr>
              <a:t>§3: Kabinet en regering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3"/>
          <p:cNvSpPr/>
          <p:nvPr/>
        </p:nvSpPr>
        <p:spPr>
          <a:xfrm>
            <a:off x="971640" y="476280"/>
            <a:ext cx="702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</a:rPr>
              <a:t>§3: Kabinet en regering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http://www.elsevier.nl/upload/045be808-d989-459c-86a2-b85ff68a04f1_bordesrutte.jpg"/>
          <p:cNvPicPr/>
          <p:nvPr/>
        </p:nvPicPr>
        <p:blipFill>
          <a:blip r:embed="rId1"/>
          <a:stretch/>
        </p:blipFill>
        <p:spPr>
          <a:xfrm>
            <a:off x="179280" y="1413000"/>
            <a:ext cx="8685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5A714-EFC0-4024-B9C0-486ABA8705A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parlementaire democrat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539640" y="6237360"/>
            <a:ext cx="7561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Toets november 2009                  Hele boek!!!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65_montesquieu"/>
          <p:cNvPicPr/>
          <p:nvPr/>
        </p:nvPicPr>
        <p:blipFill>
          <a:blip r:embed="rId1"/>
          <a:stretch/>
        </p:blipFill>
        <p:spPr>
          <a:xfrm>
            <a:off x="1692360" y="2708280"/>
            <a:ext cx="5933880" cy="3295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question_mark_3d"/>
          <p:cNvPicPr/>
          <p:nvPr/>
        </p:nvPicPr>
        <p:blipFill>
          <a:blip r:embed="rId2"/>
          <a:stretch/>
        </p:blipFill>
        <p:spPr>
          <a:xfrm rot="1550400">
            <a:off x="4140360" y="2060640"/>
            <a:ext cx="267624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"/>
          <p:cNvPicPr/>
          <p:nvPr/>
        </p:nvPicPr>
        <p:blipFill>
          <a:blip r:embed="rId2"/>
          <a:srcRect l="17344" t="21284" r="6249" b="17687"/>
          <a:stretch/>
        </p:blipFill>
        <p:spPr>
          <a:xfrm>
            <a:off x="468360" y="1052640"/>
            <a:ext cx="8126280" cy="48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" descr=""/>
          <p:cNvPicPr/>
          <p:nvPr/>
        </p:nvPicPr>
        <p:blipFill>
          <a:blip r:embed="rId2"/>
          <a:srcRect l="16606" t="18332" r="3661" b="22613"/>
          <a:stretch/>
        </p:blipFill>
        <p:spPr>
          <a:xfrm>
            <a:off x="324000" y="981000"/>
            <a:ext cx="855324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971640" y="260280"/>
            <a:ext cx="7020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</a:rPr>
              <a:t>§3: Kabinet en regering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547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(nieuwe) regering noteert de belangrijkste plannen voor komende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 jaar in een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regeerakkoor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6" descr="http://www.elsevier.nl/upload/c6bcec6d-de90-4dce-8bec-190ae10054d0_verhagenruttewilders.jpg"/>
          <p:cNvPicPr/>
          <p:nvPr/>
        </p:nvPicPr>
        <p:blipFill>
          <a:blip r:embed="rId1"/>
          <a:stretch/>
        </p:blipFill>
        <p:spPr>
          <a:xfrm>
            <a:off x="2124000" y="2997360"/>
            <a:ext cx="4643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2195280" y="1268280"/>
            <a:ext cx="694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Huidige regeringspartij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Huidige oppositiepartij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logo vvd"/>
          <p:cNvPicPr/>
          <p:nvPr/>
        </p:nvPicPr>
        <p:blipFill>
          <a:blip r:embed="rId1"/>
          <a:stretch/>
        </p:blipFill>
        <p:spPr>
          <a:xfrm>
            <a:off x="4572000" y="1628640"/>
            <a:ext cx="700200" cy="8654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logo cda"/>
          <p:cNvPicPr/>
          <p:nvPr/>
        </p:nvPicPr>
        <p:blipFill>
          <a:blip r:embed="rId2"/>
          <a:stretch/>
        </p:blipFill>
        <p:spPr>
          <a:xfrm>
            <a:off x="2411280" y="1773360"/>
            <a:ext cx="1511280" cy="7254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logo CU"/>
          <p:cNvPicPr/>
          <p:nvPr/>
        </p:nvPicPr>
        <p:blipFill>
          <a:blip r:embed="rId3"/>
          <a:stretch/>
        </p:blipFill>
        <p:spPr>
          <a:xfrm>
            <a:off x="5796000" y="3716280"/>
            <a:ext cx="2303280" cy="638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logo d66"/>
          <p:cNvPicPr/>
          <p:nvPr/>
        </p:nvPicPr>
        <p:blipFill>
          <a:blip r:embed="rId4"/>
          <a:stretch/>
        </p:blipFill>
        <p:spPr>
          <a:xfrm>
            <a:off x="5508720" y="4653000"/>
            <a:ext cx="863640" cy="638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LOGO groen links"/>
          <p:cNvPicPr/>
          <p:nvPr/>
        </p:nvPicPr>
        <p:blipFill>
          <a:blip r:embed="rId5"/>
          <a:srcRect l="0" t="21404" r="0" b="0"/>
          <a:stretch/>
        </p:blipFill>
        <p:spPr>
          <a:xfrm>
            <a:off x="2411280" y="3716280"/>
            <a:ext cx="1441440" cy="5238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LOGO pvda"/>
          <p:cNvPicPr/>
          <p:nvPr/>
        </p:nvPicPr>
        <p:blipFill>
          <a:blip r:embed="rId6"/>
          <a:stretch/>
        </p:blipFill>
        <p:spPr>
          <a:xfrm>
            <a:off x="1332000" y="4005360"/>
            <a:ext cx="662040" cy="792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logo pvv"/>
          <p:cNvPicPr/>
          <p:nvPr/>
        </p:nvPicPr>
        <p:blipFill>
          <a:blip r:embed="rId7"/>
          <a:srcRect l="0" t="17829" r="0" b="19982"/>
          <a:stretch/>
        </p:blipFill>
        <p:spPr>
          <a:xfrm>
            <a:off x="2268360" y="4508640"/>
            <a:ext cx="1835280" cy="6062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1" descr="logo sgp"/>
          <p:cNvPicPr/>
          <p:nvPr/>
        </p:nvPicPr>
        <p:blipFill>
          <a:blip r:embed="rId8"/>
          <a:srcRect l="16553" t="0" r="16723" b="11262"/>
          <a:stretch/>
        </p:blipFill>
        <p:spPr>
          <a:xfrm>
            <a:off x="8244000" y="458136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2" descr="LOGO sp"/>
          <p:cNvPicPr/>
          <p:nvPr/>
        </p:nvPicPr>
        <p:blipFill>
          <a:blip r:embed="rId9"/>
          <a:stretch/>
        </p:blipFill>
        <p:spPr>
          <a:xfrm>
            <a:off x="6875640" y="4653000"/>
            <a:ext cx="863280" cy="4777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3" descr="logo pvvd"/>
          <p:cNvPicPr/>
          <p:nvPr/>
        </p:nvPicPr>
        <p:blipFill>
          <a:blip r:embed="rId10"/>
          <a:stretch/>
        </p:blipFill>
        <p:spPr>
          <a:xfrm>
            <a:off x="4356000" y="3716280"/>
            <a:ext cx="825480" cy="93492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§3: Kabinet en reger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0D3DD-474C-40CB-9D9F-205A9AC1A49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78920" y="1267920"/>
            <a:ext cx="5761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at doet de koning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t handtekening onder alle we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est de troonrede v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legt met de minister pres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tegenwoordigt ons land in het buiten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lpt ná de verkiezingen met het vormen van de nieuwe reg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schendb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7" descr="2006-09-20%20-%20Koningin%20Beatrix%20-%20troonrede%202006"/>
          <p:cNvPicPr/>
          <p:nvPr/>
        </p:nvPicPr>
        <p:blipFill>
          <a:blip r:embed="rId1"/>
          <a:srcRect l="8960" t="0" r="10939" b="5207"/>
          <a:stretch/>
        </p:blipFill>
        <p:spPr>
          <a:xfrm>
            <a:off x="5940360" y="1268280"/>
            <a:ext cx="2952720" cy="50292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971640" y="260280"/>
            <a:ext cx="702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</a:rPr>
              <a:t>§3: Kabinet en regering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06D14-735E-493D-8C83-E33A8CEF859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-324360" y="1413000"/>
            <a:ext cx="882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lvl="1" marL="842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2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Ministers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zijn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politiek verantwoordelijk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voor hun beleidsterrein (portefeuil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2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ken zij een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rnstige fou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-3884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tr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-3884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amerleden dienen motie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 wantrouwen i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aangenomen = ook aftred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tie van wantrouwen tegen hele kabinetsbeleid = kabinets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7" descr="fs"/>
          <p:cNvPicPr/>
          <p:nvPr/>
        </p:nvPicPr>
        <p:blipFill>
          <a:blip r:embed="rId1"/>
          <a:srcRect l="12929" t="0" r="9545" b="14848"/>
          <a:stretch/>
        </p:blipFill>
        <p:spPr>
          <a:xfrm>
            <a:off x="5219640" y="2781360"/>
            <a:ext cx="3672000" cy="252576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3"/>
          <p:cNvSpPr/>
          <p:nvPr/>
        </p:nvSpPr>
        <p:spPr>
          <a:xfrm>
            <a:off x="971640" y="260280"/>
            <a:ext cx="702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</a:rPr>
              <a:t>§3: Kabinet en regering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7109-557C-407E-A888-C8C3B7B2FDE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611280" y="26028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4: Het Parlement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3" descr="65_montesquieu"/>
          <p:cNvPicPr/>
          <p:nvPr/>
        </p:nvPicPr>
        <p:blipFill>
          <a:blip r:embed="rId1"/>
          <a:stretch/>
        </p:blipFill>
        <p:spPr>
          <a:xfrm>
            <a:off x="395280" y="1268280"/>
            <a:ext cx="8604360" cy="47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D89E3-FE14-402D-8007-43E5A2D70D2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stembiljet"/>
          <p:cNvPicPr/>
          <p:nvPr/>
        </p:nvPicPr>
        <p:blipFill>
          <a:blip r:embed="rId1"/>
          <a:stretch/>
        </p:blipFill>
        <p:spPr>
          <a:xfrm>
            <a:off x="1908000" y="3429000"/>
            <a:ext cx="4535640" cy="151128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5"/>
          <p:cNvSpPr/>
          <p:nvPr/>
        </p:nvSpPr>
        <p:spPr>
          <a:xfrm>
            <a:off x="324000" y="1268280"/>
            <a:ext cx="8569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en politieke partij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eft ideeën over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ll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belangrijkste beleidsterreinen (programma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elt kandidaten bij verkiezing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 komen op voor het algemeen bela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50920" y="5013360"/>
            <a:ext cx="8893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en pressiegroep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eft ideeën over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nkel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belangrijke beleidsterrein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elt zich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NIE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verkiesbaar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obeert de politiek te beïnvloed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611280" y="26028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4: Het Parlement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0BF2C-C6D5-4441-9E21-F2D78F69B7F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68000" y="1700280"/>
            <a:ext cx="838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Coalitieregering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gering die uit meerdere partijen besta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Regeringspartij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eft leden In het parlement én in de reg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(de meerderheid zelf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Oppositiepartij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eft leden in het par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et op regering + stelt dingen v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611280" y="26028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4: Het Parlement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47F3D-7057-4C25-B150-971D1C50C57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8820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at doet het Parle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etgevende taa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Stemrecht bij wetsontwer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udgetrecht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= rijksbegroting wel of niet goedkeu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nitiatief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= wetsontwerp indie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mendemen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= bij meerderheid veranderingen aanbrengen in wetsvoorst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Controlerende taa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Vragenrech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= elke dinsdag vragen stellen aan min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Moties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= bijvoorbeeld een motie van wantrouwen aannemen of indie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uden van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nterpellati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ver belangrijk onderwerp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poeddeb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Parlementaire Enquêt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houden, onderzoekscommissie vormen, onder ede laten getuig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3" descr="j0124651.wmf (126222 bytes)"/>
          <p:cNvPicPr/>
          <p:nvPr/>
        </p:nvPicPr>
        <p:blipFill>
          <a:blip r:embed="rId1"/>
          <a:stretch/>
        </p:blipFill>
        <p:spPr>
          <a:xfrm>
            <a:off x="6516720" y="620640"/>
            <a:ext cx="2305080" cy="159408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5"/>
          <p:cNvSpPr/>
          <p:nvPr/>
        </p:nvSpPr>
        <p:spPr>
          <a:xfrm>
            <a:off x="611280" y="26028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4: Het Parlement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6D19E-0AA6-44F4-AEDE-E3FC6068034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6346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§1: politiek, staat en dicta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7640" y="1267920"/>
            <a:ext cx="87850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980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olitiek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het maken van keuzes zodat een land, een provincie of een gemeente kan worden bestuu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Invloed do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em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id worden van politieke parti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act opnemen met polit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zoek indienen (bvb bij gemeentera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dia benad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sluiten bij actiegro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zwaarschrift schrijven (rech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urgelijke ongehoorzaamheid (kerk zet geen asielzoekers u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8450C-8684-4C7D-B1F3-044F6AA718D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-324360" y="1268280"/>
            <a:ext cx="972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9705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n wetsontwerp naar w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ring maakt wetsontwerp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ndt ontwerp naar Tweede Kamer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ractiespecialisten bekijken het, kunnen punten wijzigen, stellen vragen aan de minister: debateren. Daarna geeft voltallige Tweede Kamer het oordeel over het wetsontwerp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derheid Tweede Kamer voor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gaat naar Eerste kamer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g géén wijzigingen meer aannemen, bekijkt het nog eens goed, zegt: “ja” of “nee” (bijna altijd; “j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 Betreffende minister + koningin zetten handtekening onder de w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 Wet komt in de Staatscour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7" descr="staatscourant"/>
          <p:cNvPicPr/>
          <p:nvPr/>
        </p:nvPicPr>
        <p:blipFill>
          <a:blip r:embed="rId1"/>
          <a:stretch/>
        </p:blipFill>
        <p:spPr>
          <a:xfrm>
            <a:off x="4219560" y="5661000"/>
            <a:ext cx="4924440" cy="93348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4: Het Par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7488D-E278-4645-B667-F3254E9EF25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5: Gemeente en provinc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55280" y="1413000"/>
            <a:ext cx="7705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Gedecentraliseerde eenheidssta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jk beslit grote lijnen, gedetailleerde invulling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rdt aan lagere overheden overgela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1042920" y="2637000"/>
            <a:ext cx="324000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Voordelen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een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centrale stur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r niet alles centraal geregel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ere afstemm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lokale zeggenschap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4716360" y="2708280"/>
            <a:ext cx="3492720" cy="281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Nadelen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okale bevoegdheden zijn beperkt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é veel centrale stur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 veel verscheidenheid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0E629-45E9-4646-8809-D5279AEBF5D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2268000" y="1600200"/>
            <a:ext cx="64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me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jaar stemmen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gemeentera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n liggen dichter bij hu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temmingsplan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k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enbaar vervo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oner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ort en onderwijsvoorzien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reca vergunn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5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AFFB9-59A4-4433-A451-D1C698584F5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611280" y="1600200"/>
            <a:ext cx="80755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et college van B&amp;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llege van Burgemeester en Wethoud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ert het beleid 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rden benoemd door de gemeentera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meenteraa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emt besluit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ert het college van B&amp;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rdt gekozen door de bevol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e burgemeeste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 voorzitter van de gemeenteraad en College van B&amp;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rdt benoemd door de rege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5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EECB2-5899-4E06-9EA1-E8E4CDCACC5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2268000" y="1600200"/>
            <a:ext cx="64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Provinc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aar stemmen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provinciale st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aken liggen bij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uimtelijke ord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k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ilie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oezicht op gemee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oezicht op waterbeh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5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BD587-9BCD-4ACB-B252-B1C8BEE05D1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2268000" y="1600200"/>
            <a:ext cx="64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dental Provinciale Staten hangt af van aantal inwoners van de provinc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Provinciale Staten kiezen de leden van de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Gedeputeerde Staten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dagelijks bestuu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5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7210-23AF-4F09-8243-1D76B2A3395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5"/>
          <p:cNvGrpSpPr/>
          <p:nvPr/>
        </p:nvGrpSpPr>
        <p:grpSpPr>
          <a:xfrm>
            <a:off x="179280" y="1773360"/>
            <a:ext cx="8675640" cy="3288240"/>
            <a:chOff x="179280" y="1773360"/>
            <a:chExt cx="8675640" cy="3288240"/>
          </a:xfrm>
        </p:grpSpPr>
        <p:sp>
          <p:nvSpPr>
            <p:cNvPr id="238" name="Text Box 4"/>
            <p:cNvSpPr/>
            <p:nvPr/>
          </p:nvSpPr>
          <p:spPr>
            <a:xfrm>
              <a:off x="2195280" y="3141720"/>
              <a:ext cx="216072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Burgemeester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5"/>
            <p:cNvSpPr/>
            <p:nvPr/>
          </p:nvSpPr>
          <p:spPr>
            <a:xfrm>
              <a:off x="2122200" y="4005360"/>
              <a:ext cx="673272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Gemeenteraad (9 tot 45 leden)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6"/>
            <p:cNvSpPr/>
            <p:nvPr/>
          </p:nvSpPr>
          <p:spPr>
            <a:xfrm>
              <a:off x="4570200" y="3141720"/>
              <a:ext cx="244944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Wethouders (2-9)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7"/>
            <p:cNvSpPr/>
            <p:nvPr/>
          </p:nvSpPr>
          <p:spPr>
            <a:xfrm>
              <a:off x="2842920" y="2205000"/>
              <a:ext cx="388944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College van B en W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179280" y="3141720"/>
              <a:ext cx="1584360" cy="58068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Benoemd door regering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3490920" y="1773360"/>
              <a:ext cx="2160360" cy="33732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Dagelijks bestuur: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10"/>
            <p:cNvSpPr/>
            <p:nvPr/>
          </p:nvSpPr>
          <p:spPr>
            <a:xfrm>
              <a:off x="7270560" y="2708280"/>
              <a:ext cx="1584360" cy="58068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Benoemd door GR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1"/>
            <p:cNvSpPr/>
            <p:nvPr/>
          </p:nvSpPr>
          <p:spPr>
            <a:xfrm>
              <a:off x="7270560" y="3357720"/>
              <a:ext cx="1584360" cy="33732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Géén lid GR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12"/>
            <p:cNvSpPr/>
            <p:nvPr/>
          </p:nvSpPr>
          <p:spPr>
            <a:xfrm>
              <a:off x="3562200" y="2637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13"/>
            <p:cNvSpPr/>
            <p:nvPr/>
          </p:nvSpPr>
          <p:spPr>
            <a:xfrm>
              <a:off x="5651280" y="2637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14"/>
            <p:cNvSpPr/>
            <p:nvPr/>
          </p:nvSpPr>
          <p:spPr>
            <a:xfrm>
              <a:off x="5722920" y="35733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5"/>
            <p:cNvSpPr/>
            <p:nvPr/>
          </p:nvSpPr>
          <p:spPr>
            <a:xfrm>
              <a:off x="1761840" y="34290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16"/>
            <p:cNvSpPr/>
            <p:nvPr/>
          </p:nvSpPr>
          <p:spPr>
            <a:xfrm flipH="1">
              <a:off x="7090920" y="33577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24"/>
            <p:cNvSpPr/>
            <p:nvPr/>
          </p:nvSpPr>
          <p:spPr>
            <a:xfrm flipV="1">
              <a:off x="5506920" y="44370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30"/>
            <p:cNvSpPr/>
            <p:nvPr/>
          </p:nvSpPr>
          <p:spPr>
            <a:xfrm>
              <a:off x="2050920" y="4724280"/>
              <a:ext cx="6804000" cy="33732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Gekozen door de bevolking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5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41FA-35D7-46BC-9A6E-ACDC6450705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3"/>
          <p:cNvGrpSpPr/>
          <p:nvPr/>
        </p:nvGrpSpPr>
        <p:grpSpPr>
          <a:xfrm>
            <a:off x="468360" y="1773360"/>
            <a:ext cx="8675640" cy="2600280"/>
            <a:chOff x="468360" y="1773360"/>
            <a:chExt cx="8675640" cy="2600280"/>
          </a:xfrm>
        </p:grpSpPr>
        <p:sp>
          <p:nvSpPr>
            <p:cNvPr id="256" name="Text Box 4"/>
            <p:cNvSpPr/>
            <p:nvPr/>
          </p:nvSpPr>
          <p:spPr>
            <a:xfrm>
              <a:off x="2484360" y="3141720"/>
              <a:ext cx="2160720" cy="64260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Commissaris van de Koningi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5"/>
            <p:cNvSpPr/>
            <p:nvPr/>
          </p:nvSpPr>
          <p:spPr>
            <a:xfrm>
              <a:off x="2411280" y="4005360"/>
              <a:ext cx="673272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Provinciale Staten (39 tot 83 leden)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6"/>
            <p:cNvSpPr/>
            <p:nvPr/>
          </p:nvSpPr>
          <p:spPr>
            <a:xfrm>
              <a:off x="4859280" y="3141720"/>
              <a:ext cx="244944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Gedeputeerden (6-8)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7"/>
            <p:cNvSpPr/>
            <p:nvPr/>
          </p:nvSpPr>
          <p:spPr>
            <a:xfrm>
              <a:off x="3132000" y="2205000"/>
              <a:ext cx="388944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College van Gedeputeerde State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8"/>
            <p:cNvSpPr/>
            <p:nvPr/>
          </p:nvSpPr>
          <p:spPr>
            <a:xfrm>
              <a:off x="468360" y="3141720"/>
              <a:ext cx="1584360" cy="58068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Benoemd door regering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9"/>
            <p:cNvSpPr/>
            <p:nvPr/>
          </p:nvSpPr>
          <p:spPr>
            <a:xfrm>
              <a:off x="3780000" y="1773360"/>
              <a:ext cx="2160360" cy="33732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Dagelijks bestuur: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10"/>
            <p:cNvSpPr/>
            <p:nvPr/>
          </p:nvSpPr>
          <p:spPr>
            <a:xfrm>
              <a:off x="7559640" y="2708280"/>
              <a:ext cx="1584360" cy="58068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Benoemd door PS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1"/>
            <p:cNvSpPr/>
            <p:nvPr/>
          </p:nvSpPr>
          <p:spPr>
            <a:xfrm>
              <a:off x="7559640" y="3357720"/>
              <a:ext cx="1584360" cy="33732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Géén lid PS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12"/>
            <p:cNvSpPr/>
            <p:nvPr/>
          </p:nvSpPr>
          <p:spPr>
            <a:xfrm>
              <a:off x="3851280" y="2637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13"/>
            <p:cNvSpPr/>
            <p:nvPr/>
          </p:nvSpPr>
          <p:spPr>
            <a:xfrm>
              <a:off x="5940360" y="2637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14"/>
            <p:cNvSpPr/>
            <p:nvPr/>
          </p:nvSpPr>
          <p:spPr>
            <a:xfrm>
              <a:off x="6012000" y="35733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15"/>
            <p:cNvSpPr/>
            <p:nvPr/>
          </p:nvSpPr>
          <p:spPr>
            <a:xfrm>
              <a:off x="2050920" y="34290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16"/>
            <p:cNvSpPr/>
            <p:nvPr/>
          </p:nvSpPr>
          <p:spPr>
            <a:xfrm flipH="1">
              <a:off x="7380000" y="33577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Text Box 17"/>
          <p:cNvSpPr/>
          <p:nvPr/>
        </p:nvSpPr>
        <p:spPr>
          <a:xfrm>
            <a:off x="7920000" y="4724280"/>
            <a:ext cx="1224000" cy="5202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5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colleg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8"/>
          <p:cNvSpPr/>
          <p:nvPr/>
        </p:nvSpPr>
        <p:spPr>
          <a:xfrm>
            <a:off x="5219640" y="4724280"/>
            <a:ext cx="1224000" cy="5202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3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colleg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9"/>
          <p:cNvSpPr/>
          <p:nvPr/>
        </p:nvSpPr>
        <p:spPr>
          <a:xfrm>
            <a:off x="6588000" y="4724280"/>
            <a:ext cx="1224000" cy="5202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4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colleg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0"/>
          <p:cNvSpPr/>
          <p:nvPr/>
        </p:nvSpPr>
        <p:spPr>
          <a:xfrm>
            <a:off x="3708360" y="4724280"/>
            <a:ext cx="1224000" cy="52020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2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ppositi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1"/>
          <p:cNvSpPr/>
          <p:nvPr/>
        </p:nvSpPr>
        <p:spPr>
          <a:xfrm>
            <a:off x="2268360" y="4724280"/>
            <a:ext cx="1224000" cy="52020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1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ppositi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22"/>
          <p:cNvSpPr/>
          <p:nvPr/>
        </p:nvSpPr>
        <p:spPr>
          <a:xfrm flipV="1">
            <a:off x="284328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3"/>
          <p:cNvSpPr/>
          <p:nvPr/>
        </p:nvSpPr>
        <p:spPr>
          <a:xfrm flipV="1">
            <a:off x="428472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4"/>
          <p:cNvSpPr/>
          <p:nvPr/>
        </p:nvSpPr>
        <p:spPr>
          <a:xfrm flipV="1">
            <a:off x="579600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5"/>
          <p:cNvSpPr/>
          <p:nvPr/>
        </p:nvSpPr>
        <p:spPr>
          <a:xfrm flipV="1">
            <a:off x="716436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6"/>
          <p:cNvSpPr/>
          <p:nvPr/>
        </p:nvSpPr>
        <p:spPr>
          <a:xfrm flipV="1">
            <a:off x="853272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5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85238-A506-422E-96CD-BE179D59070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23640" y="1600200"/>
            <a:ext cx="43923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U: Europese U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igen munteenheid (€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t voor vre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r concurrentie in euro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al ecnomische bel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s per 5 jaar gekoz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Nederland en Euro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5" descr="europe%20flag"/>
          <p:cNvPicPr/>
          <p:nvPr/>
        </p:nvPicPr>
        <p:blipFill>
          <a:blip r:embed="rId1"/>
          <a:stretch/>
        </p:blipFill>
        <p:spPr>
          <a:xfrm>
            <a:off x="4500720" y="2205000"/>
            <a:ext cx="432108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4751F-C6B1-467B-BDCC-29CB7AC8AB3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4427280" y="1557360"/>
            <a:ext cx="43923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U: Europese Unie: nad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lies nationale soevereiniteit: De Nederlandse regering kan niet alles zelf besli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inig democratisch karak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derlandse burger hebben minder invloed op besluiten van de EU (dan van onze nationale reger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lies werkgelegen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5" descr="EU%20vlag"/>
          <p:cNvPicPr/>
          <p:nvPr/>
        </p:nvPicPr>
        <p:blipFill>
          <a:blip r:embed="rId1"/>
          <a:stretch/>
        </p:blipFill>
        <p:spPr>
          <a:xfrm>
            <a:off x="250920" y="1844640"/>
            <a:ext cx="3889440" cy="278604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3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Nederland en Europa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89D3-5969-4B74-A2F5-0FD6349FC0A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ictatuur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emocr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Cuba (Fidel Castro)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Neder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1 persoon/groep/familie/partij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Volksvertegenwoordiging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litairen aan de mach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Tegenoversgestelde van democrati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rondwet geldt nie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rondwet met basisrec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Fraude bij verkiezing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eheime/vrije verkiez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een gelijke recht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elijke rechten voor iede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Burgers onderdruk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Burgers recht op vrijhei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Censuu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Persvrij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Niet je mening uit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Vrijheid van meningsu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Manipulatie/indoctrinatie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Indirecte democr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Onderdan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bur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Nooit een rechtsstaa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rechtsst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Rechters niet onafhankelijk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trias poli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Heerst veel angs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leven in vrij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68360" y="333000"/>
            <a:ext cx="6346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§1: politiek, staat en dicta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1DA3E-D1AE-4536-B4FF-D48162FFBFF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1187280" y="1557360"/>
            <a:ext cx="76327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r zijn drie instellingen die samen het bestuur van de Europese Unie vorme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uropese Commiss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uropees Parl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aad van Minist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6" descr="EU%20vlag"/>
          <p:cNvPicPr/>
          <p:nvPr/>
        </p:nvPicPr>
        <p:blipFill>
          <a:blip r:embed="rId1"/>
          <a:stretch/>
        </p:blipFill>
        <p:spPr>
          <a:xfrm>
            <a:off x="6227640" y="4581360"/>
            <a:ext cx="2162160" cy="154944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Nederland en Europa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7BCBF-D4BA-499C-9E49-AA88EB1B883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1187280" y="1557360"/>
            <a:ext cx="76327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uropese Commissie: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  het 'dagelijks bestuur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 initiatief tot voorstellen voor wetgeving en maatregelen op Europees nivea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 zorgt voor uitvoering van de we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4" descr="EU%20vlag"/>
          <p:cNvPicPr/>
          <p:nvPr/>
        </p:nvPicPr>
        <p:blipFill>
          <a:blip r:embed="rId1"/>
          <a:stretch/>
        </p:blipFill>
        <p:spPr>
          <a:xfrm>
            <a:off x="6227640" y="4581360"/>
            <a:ext cx="2162160" cy="154944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Nederland en Europa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0D720-76C7-496C-8B64-B8D2014B8FB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611280" y="1557360"/>
            <a:ext cx="76327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Het Europees Parlemen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s per 5 jaar gekoz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t ervoor dat wetten democratisch tot stand kom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dviseert of beslist over de wetsvoorstell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slist over de toetreding van nieuwe land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ntrole over de Europese Commissi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4" descr="EU%20vlag"/>
          <p:cNvPicPr/>
          <p:nvPr/>
        </p:nvPicPr>
        <p:blipFill>
          <a:blip r:embed="rId1"/>
          <a:stretch/>
        </p:blipFill>
        <p:spPr>
          <a:xfrm>
            <a:off x="7126200" y="5411880"/>
            <a:ext cx="2017800" cy="144612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Nederland en Europa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190BE-7FAE-4EBF-8A91-BA8097E46F4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611280" y="1557360"/>
            <a:ext cx="76327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Raad van Minist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ministers van de afzonderlijke lidstaten nemen de uiteindelijke beslissing over de wetgeving in de Uni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verleggen met regeringsleiders (euro-top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uisteren naar voorstellen van de Commissie en het advies van het Europees Parle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4" descr="EU%20vlag"/>
          <p:cNvPicPr/>
          <p:nvPr/>
        </p:nvPicPr>
        <p:blipFill>
          <a:blip r:embed="rId1"/>
          <a:stretch/>
        </p:blipFill>
        <p:spPr>
          <a:xfrm>
            <a:off x="6804000" y="5157720"/>
            <a:ext cx="2017800" cy="144612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Nederland en Europa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59462-105B-486B-93FA-D74918BF503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611280" y="1557360"/>
            <a:ext cx="76327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Leden van de EU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74" descr=""/>
          <p:cNvPicPr/>
          <p:nvPr/>
        </p:nvPicPr>
        <p:blipFill>
          <a:blip r:embed="rId1"/>
          <a:srcRect l="16032" t="25589" r="21208" b="36162"/>
          <a:stretch/>
        </p:blipFill>
        <p:spPr>
          <a:xfrm>
            <a:off x="0" y="2060640"/>
            <a:ext cx="8820000" cy="40323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Nederland en Europa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96A28-84E7-46DD-8F51-10B6EB4E9E6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4" descr="EU%20vlag"/>
          <p:cNvPicPr/>
          <p:nvPr/>
        </p:nvPicPr>
        <p:blipFill>
          <a:blip r:embed="rId1"/>
          <a:stretch/>
        </p:blipFill>
        <p:spPr>
          <a:xfrm>
            <a:off x="6877080" y="5229360"/>
            <a:ext cx="2017800" cy="144612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6" descr=""/>
          <p:cNvPicPr/>
          <p:nvPr/>
        </p:nvPicPr>
        <p:blipFill>
          <a:blip r:embed="rId2"/>
          <a:srcRect l="15301" t="22439" r="24154" b="7683"/>
          <a:stretch/>
        </p:blipFill>
        <p:spPr>
          <a:xfrm>
            <a:off x="1187280" y="1413000"/>
            <a:ext cx="6048720" cy="523548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3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Nederland en Europa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3EC09-E02C-43C3-96A7-28B868BC824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79214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Verenigde Naties (V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jna alle landen van de wereld zijn er lid v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el: komende generaties behoeden voor oor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 internationale vrede en veiligheid te handh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men werken bij natuurrampen, oorlog, hongersnood en armo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spect bevorderen van mensenrec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lag V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6" descr="Vlag van de Verenigde Naties"/>
          <p:cNvPicPr/>
          <p:nvPr/>
        </p:nvPicPr>
        <p:blipFill>
          <a:blip r:embed="rId1"/>
          <a:stretch/>
        </p:blipFill>
        <p:spPr>
          <a:xfrm>
            <a:off x="6667560" y="5210280"/>
            <a:ext cx="2476440" cy="164772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Nederland en Europa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E060B-7E3B-4CBD-BA60-AB4225A74F1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79214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Bestuur van de Verenigde Naties (V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r zijn zes bestuursorganen die de werkzaamheden van de organisatie aansturen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e Algemene Vergad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Economische en Sociale Ra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Internationaal Gerechtsh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het Secretariaat (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ecraterus-genera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Trustschapsraad (tegenwoordig inactief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e Veiligheidsra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4" descr="Vlag van de Verenigde Naties"/>
          <p:cNvPicPr/>
          <p:nvPr/>
        </p:nvPicPr>
        <p:blipFill>
          <a:blip r:embed="rId1"/>
          <a:stretch/>
        </p:blipFill>
        <p:spPr>
          <a:xfrm>
            <a:off x="6667560" y="3357720"/>
            <a:ext cx="2476440" cy="164772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Nederland en Europa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CE4E2-6141-42E6-9536-2741C692753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79214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 september tot december bespreken ze de problemen in de wer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ms komt er een resolutie.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t is een soort niet bindende wetge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 kunnen voorstellen om een land te boyco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redestroepen: ze kunnen militairen sturen naar een gebied. (zoals de Nederlandse Blauwhelm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4" descr="Vlag van de Verenigde Naties"/>
          <p:cNvPicPr/>
          <p:nvPr/>
        </p:nvPicPr>
        <p:blipFill>
          <a:blip r:embed="rId1"/>
          <a:stretch/>
        </p:blipFill>
        <p:spPr>
          <a:xfrm>
            <a:off x="1476360" y="4941720"/>
            <a:ext cx="2476440" cy="16480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6" descr="10828987"/>
          <p:cNvPicPr/>
          <p:nvPr/>
        </p:nvPicPr>
        <p:blipFill>
          <a:blip r:embed="rId2"/>
          <a:stretch/>
        </p:blipFill>
        <p:spPr>
          <a:xfrm>
            <a:off x="5724360" y="4941720"/>
            <a:ext cx="2381400" cy="165744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Nederland en Europa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7:Knelpunten in d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zijn veel knelpunten in de politie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litiek vinden veel mensen niet interessant: de afstand is groot tussen kiezers en polit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lement hebben wij gekozen: zij zouden meer macht moeten hebben dan de reg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geringspartijen maken regeerakkoord, parlement heeft weinig te vertellen: meerderheid is toch wel vo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79AFA-C5CD-45D3-B812-19091EA8BAA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CFB47-FE21-445E-BDC8-C656BBF4C84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979280" y="1600200"/>
            <a:ext cx="67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0" y="1052640"/>
            <a:ext cx="828036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2 Basiselementen voor democrati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. Alle 18+ inwoners met NL paspoort kunnen d.m.v. algemeen kiesrecht invloed uitoefenen op de besluitvorm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 Aantal grondrechten is gewaarborgd om in vrijheid invloed te kunnen uitoefenen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er is enkel sprake van democratie als er ook een rechtsstaat is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lijkhei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alle burgers hebben gelijke rechten. Er mag niet worden gediscrimineerd.</a:t>
            </a:r>
            <a:br>
              <a:rPr sz="2400"/>
            </a:b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rijhei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burgers moeten hun eigen leven kunnen inricht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468360" y="333360"/>
            <a:ext cx="8389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2: Nederland is een rechtsstaat en democrati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7:Knelpunten in d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lement neemt soms een besluit tegen de wil van de NL-bevol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ommige problemen zijn nou eenmaal moeilijk op te lo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gels zijn té ingewikkeld daarom weinig vertrouwen in de politiek (bureauctati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oms houden aan de regels op Europees niveau, ookal niet mee e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54B01-9521-43AE-B746-13F282681D3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7:Knelpunten in d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2876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Referendum: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iezers stemmen direct over een bepaald onderwer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Regionale kandidaatstelling: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andidaten voor politieke partijen moeten uit de verschillende regio’s kom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eregulering: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taken worden steeds meer uitgevoerd door gemeente en provincie in plaats van landelij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93A58-D9CE-4D5C-887D-486CDF27E63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8: Politieke besluitvor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elsel van politieke besluitvorm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 het nemen van een besluit/het maken van een wet moet altijd eerst een reden zijn. Er zijn 5 fasen waarin de besluiten genomen worden binnen de politie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59D89-F806-481D-9179-6BC989463B9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8: Politieke besluitvor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28760" y="157176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elsel van politieke besluitvorm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5EFAD-589F-4E23-9D47-DF3725F6B23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kstvak 5"/>
          <p:cNvSpPr/>
          <p:nvPr/>
        </p:nvSpPr>
        <p:spPr>
          <a:xfrm>
            <a:off x="428760" y="2857680"/>
            <a:ext cx="1500120" cy="82548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Fase 1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Invoer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kstvak 6"/>
          <p:cNvSpPr/>
          <p:nvPr/>
        </p:nvSpPr>
        <p:spPr>
          <a:xfrm>
            <a:off x="1071720" y="4071960"/>
            <a:ext cx="6991200" cy="45972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Fase 5: Terugkoppeling: </a:t>
            </a:r>
            <a:r>
              <a:rPr b="0" i="1" lang="nl-NL" sz="1500" spc="-1" strike="noStrike">
                <a:solidFill>
                  <a:srgbClr val="000000"/>
                </a:solidFill>
                <a:latin typeface="Arial"/>
              </a:rPr>
              <a:t>werkt de maatregel/wet? Evalueren.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kstvak 7"/>
          <p:cNvSpPr/>
          <p:nvPr/>
        </p:nvSpPr>
        <p:spPr>
          <a:xfrm>
            <a:off x="7215120" y="2857680"/>
            <a:ext cx="1500120" cy="82548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Fase 4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Uitvoer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kstvak 8"/>
          <p:cNvSpPr/>
          <p:nvPr/>
        </p:nvSpPr>
        <p:spPr>
          <a:xfrm>
            <a:off x="4643280" y="2857680"/>
            <a:ext cx="2257560" cy="82548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Fase 3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esluitvorm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kstvak 9"/>
          <p:cNvSpPr/>
          <p:nvPr/>
        </p:nvSpPr>
        <p:spPr>
          <a:xfrm>
            <a:off x="2428920" y="2857680"/>
            <a:ext cx="1890720" cy="82548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Fase 2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mzett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4" name="Rechte verbindingslijn met pijl 11"/>
          <p:cNvCxnSpPr>
            <a:stCxn id="349" idx="3"/>
            <a:endCxn id="353" idx="1"/>
          </p:cNvCxnSpPr>
          <p:nvPr/>
        </p:nvCxnSpPr>
        <p:spPr>
          <a:xfrm>
            <a:off x="1928520" y="3273480"/>
            <a:ext cx="500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5" name="Rechte verbindingslijn met pijl 15"/>
          <p:cNvCxnSpPr>
            <a:stCxn id="352" idx="3"/>
            <a:endCxn id="351" idx="1"/>
          </p:cNvCxnSpPr>
          <p:nvPr/>
        </p:nvCxnSpPr>
        <p:spPr>
          <a:xfrm>
            <a:off x="6900480" y="3273480"/>
            <a:ext cx="3150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6" name="Rechte verbindingslijn met pijl 20"/>
          <p:cNvCxnSpPr>
            <a:stCxn id="353" idx="3"/>
            <a:endCxn id="352" idx="1"/>
          </p:cNvCxnSpPr>
          <p:nvPr/>
        </p:nvCxnSpPr>
        <p:spPr>
          <a:xfrm>
            <a:off x="4319280" y="3273480"/>
            <a:ext cx="3243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7" name="Gebogen verbindingslijn 22"/>
          <p:cNvCxnSpPr>
            <a:stCxn id="351" idx="2"/>
            <a:endCxn id="350" idx="3"/>
          </p:cNvCxnSpPr>
          <p:nvPr/>
        </p:nvCxnSpPr>
        <p:spPr>
          <a:xfrm flipH="1" rot="16200000">
            <a:off x="7706520" y="3946320"/>
            <a:ext cx="614880" cy="97560"/>
          </a:xfrm>
          <a:prstGeom prst="bentConnector4">
            <a:avLst>
              <a:gd name="adj1" fmla="val 31165"/>
              <a:gd name="adj2" fmla="val 1002222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358" name="Vorm 25"/>
          <p:cNvCxnSpPr>
            <a:endCxn id="350" idx="1"/>
          </p:cNvCxnSpPr>
          <p:nvPr/>
        </p:nvCxnSpPr>
        <p:spPr>
          <a:xfrm rot="5400000">
            <a:off x="813240" y="3972600"/>
            <a:ext cx="587880" cy="72000"/>
          </a:xfrm>
          <a:prstGeom prst="bentConnector4">
            <a:avLst>
              <a:gd name="adj1" fmla="val 30330"/>
              <a:gd name="adj2" fmla="val 419597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359" name="Rechte verbindingslijn 28"/>
          <p:cNvSpPr/>
          <p:nvPr/>
        </p:nvSpPr>
        <p:spPr>
          <a:xfrm>
            <a:off x="2143080" y="2500200"/>
            <a:ext cx="0" cy="14288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kstvak 29"/>
          <p:cNvSpPr/>
          <p:nvPr/>
        </p:nvSpPr>
        <p:spPr>
          <a:xfrm>
            <a:off x="857160" y="2143080"/>
            <a:ext cx="807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poortwachters: kijken of het probleem belangrijk genoeg is om op de politieke agenda te komen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kstvak 30"/>
          <p:cNvSpPr/>
          <p:nvPr/>
        </p:nvSpPr>
        <p:spPr>
          <a:xfrm>
            <a:off x="500040" y="4643280"/>
            <a:ext cx="157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Uiten van wensen, verlangens en behoeften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kstvak 31"/>
          <p:cNvSpPr/>
          <p:nvPr/>
        </p:nvSpPr>
        <p:spPr>
          <a:xfrm>
            <a:off x="7215120" y="4714920"/>
            <a:ext cx="157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esluit wordt uitgevoerd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kstvak 32"/>
          <p:cNvSpPr/>
          <p:nvPr/>
        </p:nvSpPr>
        <p:spPr>
          <a:xfrm>
            <a:off x="5000760" y="4714920"/>
            <a:ext cx="1571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(Voorlopig) besluit wordt genomen.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kstvak 33"/>
          <p:cNvSpPr/>
          <p:nvPr/>
        </p:nvSpPr>
        <p:spPr>
          <a:xfrm>
            <a:off x="2500200" y="4714920"/>
            <a:ext cx="2000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rioriteit bekijken,  onderzoeken wat mogelijke oplossingen zijn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kstvak 34"/>
          <p:cNvSpPr/>
          <p:nvPr/>
        </p:nvSpPr>
        <p:spPr>
          <a:xfrm>
            <a:off x="428760" y="5780160"/>
            <a:ext cx="1785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Er wordt actie gevoerd omdat er te veel tussen uren zijn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kstvak 35"/>
          <p:cNvSpPr/>
          <p:nvPr/>
        </p:nvSpPr>
        <p:spPr>
          <a:xfrm>
            <a:off x="2428920" y="5857920"/>
            <a:ext cx="2571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Meer huiswerkuren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Vroeger/later naar school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Zaterdag ook naar school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Etc…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kstvak 36"/>
          <p:cNvSpPr/>
          <p:nvPr/>
        </p:nvSpPr>
        <p:spPr>
          <a:xfrm>
            <a:off x="5072040" y="5780160"/>
            <a:ext cx="2071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Meer huiswerkuren beste oplossing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Wat vindt het parlement?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kstvak 37"/>
          <p:cNvSpPr/>
          <p:nvPr/>
        </p:nvSpPr>
        <p:spPr>
          <a:xfrm>
            <a:off x="7072200" y="5786280"/>
            <a:ext cx="1785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Scholen moeten huiswerkbegeleid uren instellen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kstvak 38"/>
          <p:cNvSpPr/>
          <p:nvPr/>
        </p:nvSpPr>
        <p:spPr>
          <a:xfrm>
            <a:off x="0" y="578628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500" spc="-1" strike="noStrike">
                <a:solidFill>
                  <a:srgbClr val="000000"/>
                </a:solidFill>
                <a:latin typeface="Arial"/>
              </a:rPr>
              <a:t>VB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§9: Burgers, de media en pressiegroepen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Wie hebben er invloed op de politie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ur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essiegroe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langengroe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ctiegroe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B7DCE-266B-4F6E-B10C-5F3AD23FE2A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§9: Burgers, de media en pressiegroepen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Media vervult 5 func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Informatieve functi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informatie geven over bepaalde gebeurtenissen en besluiten die genomen wo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gendafunctie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journalisten zien problemen die onder de bevolking speelt en brengt dit onder de aanda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Commentaar- en meningsvormende functie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dia levert kritiek op de politi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Controlerende functie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dia houdt de politiek in de g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Spreekbuisfunctie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olking kan zelf via media hun mening g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44867-08A9-4621-B9D2-94F82402F7A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§9: Burgers, de media en pressiegroepen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28760" y="857160"/>
            <a:ext cx="857232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kunnen burgers do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emmen: door hun stem hun mening laten ho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preekrecht: tijdens hoorzittingen in de 2</a:t>
            </a:r>
            <a:r>
              <a:rPr b="0" lang="nl-NL" sz="2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Kamer, Gemeenteraad, e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id worden van een politieke parti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elf een politieke partij opricht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Partij voor naatenliefde, vrijheid en diversiteit/pedopartij: Gesprek  met Pnvd voorzitter    Artikel over 'pedopartij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ntact opnemen met politic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zoek/klacht/bezwaarschrift indien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dia inschakelen (spreekbuisfuncti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id worden van pressiegroe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monstre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ationale Ombudsman inschakelen: www.nationaleombudsman.nl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C2516-7C82-44F4-A7ED-1320453FD15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§9: Burgers, de media en pressiegroepen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ressiegroep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 hebben bepaalde belangen en proberen darom invloed uit te oefenen op de besluiten van de politici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ressie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nderstuk ze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Belangengroepen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omen op voor een bepaalde groep uit de samenleving.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B: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atiëntenverenigingen, consumentenbond, winkeliersvereniging, vakbonden, La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ctiegroepen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tten zich (soms voor korte tijd) in voor een duidelijk probleem. Verschillende mensen kunnen hierin deelnem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ctieorganisaties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eenpeace, amnesty international,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A66AC-DBC0-4A9F-A595-1BE46B9CC0E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§9: Burgers, de media en pressiegroepen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oe krijgt een Pressiegroep mach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n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ootte van de gro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gang tot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gang tot polit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harisma van de le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itting hebben in het bestu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8927B-A305-413F-B201-82B93CE6D05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9" descr=""/>
          <p:cNvPicPr/>
          <p:nvPr/>
        </p:nvPicPr>
        <p:blipFill>
          <a:blip r:embed="rId1"/>
          <a:stretch/>
        </p:blipFill>
        <p:spPr>
          <a:xfrm>
            <a:off x="684360" y="5589720"/>
            <a:ext cx="7694640" cy="109512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539640" y="6206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1908000" y="274680"/>
            <a:ext cx="597708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600" spc="-1" strike="noStrike" u="sng">
                <a:solidFill>
                  <a:srgbClr val="000000"/>
                </a:solidFill>
                <a:uFillTx/>
                <a:latin typeface="Arial"/>
              </a:rPr>
              <a:t>§10: politieke stromingen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-396720" y="1125360"/>
            <a:ext cx="367344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247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ks: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lijkheid/ gelijkwaardigheid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eve overheid/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rote rol voor de staat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omen op voor mensen met een zwakke positie in de samenleving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artijen met progressieve uitgangspunten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estal richting socialism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6"/>
          <p:cNvSpPr/>
          <p:nvPr/>
        </p:nvSpPr>
        <p:spPr>
          <a:xfrm>
            <a:off x="5435640" y="2997360"/>
            <a:ext cx="37083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247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hts: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rijheid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assieve overheid/ beperkte rol voor de staat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conomische vrijheid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artijen met conservatieve uitgangspunt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stal richting liberaa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2771640" y="1989000"/>
            <a:ext cx="3168720" cy="25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247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dden: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astenliefde (elkaar helpen)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chten veel waarde aan het gezi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perkte rol voor de staat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nservatieve uitgangspunt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hristelijke normen en waard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kstvak 11"/>
          <p:cNvSpPr/>
          <p:nvPr/>
        </p:nvSpPr>
        <p:spPr>
          <a:xfrm>
            <a:off x="3203640" y="5732640"/>
            <a:ext cx="223200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Midden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6720" y="148428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Grondwet: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Wet waarin de belangrijkst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</a:rPr>
              <a:t>rechte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en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</a:rPr>
              <a:t>plichte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van alle inwoners in een land zijn vastgeleg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le andere wetten zijn hierop gebaseer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Wat staat er o.a. in de grondwet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gemeen kiesre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gelmatige verkiezin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rijheid van meningsuit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rijheid van vereniging en vergade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chtenscheiding (triaspolitic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ersvrijh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m politieke partij op te rich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p gelijke behande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m niet zomaar door de politie te worden opgepak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108000" y="333360"/>
            <a:ext cx="9217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§2: Nederland is een rechtsstaat en democratie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http://www.frankwatching.com/wordpress/wp-content/uploads/2009/04/grondwet-194x300.jpg"/>
          <p:cNvPicPr/>
          <p:nvPr/>
        </p:nvPicPr>
        <p:blipFill>
          <a:blip r:embed="rId1"/>
          <a:stretch/>
        </p:blipFill>
        <p:spPr>
          <a:xfrm>
            <a:off x="6732720" y="2565360"/>
            <a:ext cx="1847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AD05D-2E4E-45D7-9BCA-58A1ACE4698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374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ristendemocrat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t tussen links en rechts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chten veel waarde aan het gezin en Christelijke normen en waarden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lo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bel schrijft voor hoe de mens zich dient te gedr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8" descr=""/>
          <p:cNvPicPr/>
          <p:nvPr/>
        </p:nvPicPr>
        <p:blipFill>
          <a:blip r:embed="rId1"/>
          <a:srcRect l="7494" t="0" r="0" b="0"/>
          <a:stretch/>
        </p:blipFill>
        <p:spPr>
          <a:xfrm>
            <a:off x="4140360" y="1484280"/>
            <a:ext cx="4752720" cy="36180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9" descr=""/>
          <p:cNvPicPr/>
          <p:nvPr/>
        </p:nvPicPr>
        <p:blipFill>
          <a:blip r:embed="rId2"/>
          <a:stretch/>
        </p:blipFill>
        <p:spPr>
          <a:xfrm>
            <a:off x="684360" y="5445000"/>
            <a:ext cx="7694640" cy="109548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0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27A3D-8BF6-4EF9-AEE4-8C8A4CC647C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9"/>
          <p:cNvSpPr/>
          <p:nvPr/>
        </p:nvSpPr>
        <p:spPr>
          <a:xfrm>
            <a:off x="1476360" y="1557360"/>
            <a:ext cx="567072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beral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rijheid als het ideaa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conomische vrij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vrij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ontwikkeling van het individu staat   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op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individu is verantwoordelijk voor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inrichten van zijn leven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heidsbemoeienis moet hierbij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nimaal zijn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12" descr=""/>
          <p:cNvPicPr/>
          <p:nvPr/>
        </p:nvPicPr>
        <p:blipFill>
          <a:blip r:embed="rId1"/>
          <a:stretch/>
        </p:blipFill>
        <p:spPr>
          <a:xfrm>
            <a:off x="539640" y="5400720"/>
            <a:ext cx="7640640" cy="145728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13"/>
          <p:cNvSpPr/>
          <p:nvPr/>
        </p:nvSpPr>
        <p:spPr>
          <a:xfrm>
            <a:off x="3132000" y="558972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itiek midd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42600" y="274680"/>
            <a:ext cx="868212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0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96A9B-D716-49EA-BBC4-7B64DEDBFBF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cialisme / Sociaal- democr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ijkheid de belangrijkste waa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staat moet  het verschil in economische macht, dus arm en rijk, voorko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een eerlijke samenleving met gelijke kan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el overheidsbemoeienis om sociale en maatschappelijke problemen op te loss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erke antipathie voor een (te) vrije mark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7" descr=""/>
          <p:cNvPicPr/>
          <p:nvPr/>
        </p:nvPicPr>
        <p:blipFill>
          <a:blip r:embed="rId1"/>
          <a:stretch/>
        </p:blipFill>
        <p:spPr>
          <a:xfrm>
            <a:off x="611280" y="4941720"/>
            <a:ext cx="7627680" cy="144792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8"/>
          <p:cNvSpPr/>
          <p:nvPr/>
        </p:nvSpPr>
        <p:spPr>
          <a:xfrm>
            <a:off x="3276720" y="5157720"/>
            <a:ext cx="18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itiek midd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0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382C8-7473-4744-BF52-DFD3C130AC2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essionalis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olitieke opvattinge gebasseerd op geloofsovertui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ntmeesterschap: als mens goed voor de aarde zor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spreide verantwoordelijkheid: ‘zorgzame samenleving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schappelijk middenveld: overheid aanvullende rol, de rest overlaten aan bvb welzijnsinstellingen en schoolbestu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3" descr=""/>
          <p:cNvPicPr/>
          <p:nvPr/>
        </p:nvPicPr>
        <p:blipFill>
          <a:blip r:embed="rId1"/>
          <a:stretch/>
        </p:blipFill>
        <p:spPr>
          <a:xfrm>
            <a:off x="611280" y="4941720"/>
            <a:ext cx="7627680" cy="144792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4"/>
          <p:cNvSpPr/>
          <p:nvPr/>
        </p:nvSpPr>
        <p:spPr>
          <a:xfrm>
            <a:off x="3348000" y="5157720"/>
            <a:ext cx="18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litiek midden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0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6"/>
          <p:cNvSpPr/>
          <p:nvPr/>
        </p:nvSpPr>
        <p:spPr>
          <a:xfrm>
            <a:off x="3276720" y="494172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fessionalisme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00341-A71F-4641-B985-8BB9830778C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755640" y="1267920"/>
            <a:ext cx="81374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rogressief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 een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politieke strom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gebaseerd op progress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uitgang, toenemend, vooruitgaand, zich uitbreide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ort meestal bij de links/sociaal-democratische denkwij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Conservatief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 een politieke stroming die zich grondves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de traditi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tijnse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conservar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, dat "in ongeschonden toestand bewaren" betek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inig verandering, het oude in takt willen hou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ort meestal bij de rechtse/liberale en Christen=democratische vis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title"/>
          </p:nvPr>
        </p:nvSpPr>
        <p:spPr>
          <a:xfrm>
            <a:off x="250560" y="274680"/>
            <a:ext cx="698508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0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hthoek 3"/>
          <p:cNvSpPr/>
          <p:nvPr/>
        </p:nvSpPr>
        <p:spPr>
          <a:xfrm>
            <a:off x="611280" y="1197000"/>
            <a:ext cx="7129440" cy="5661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6" descr="Bestand:Pol-landschap-2010.gif"/>
          <p:cNvPicPr/>
          <p:nvPr/>
        </p:nvPicPr>
        <p:blipFill>
          <a:blip r:embed="rId1"/>
          <a:stretch/>
        </p:blipFill>
        <p:spPr>
          <a:xfrm>
            <a:off x="125892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8"/>
          <p:cNvSpPr/>
          <p:nvPr/>
        </p:nvSpPr>
        <p:spPr>
          <a:xfrm>
            <a:off x="684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0: Politieke stromingen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EAA36-5902-42E5-B8BF-F2AE5775859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4284360" y="1268280"/>
            <a:ext cx="47530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Fascism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eft zeer nationalistische en autoritaire beginsel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ert zich tegen vrijheid, gelijkheid en toleran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elen bedreigd door maatschappelijke veranderingen en ‘vreemde groepen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ering eigen natie en vo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gressieve rassenl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6"/>
          <p:cNvSpPr/>
          <p:nvPr/>
        </p:nvSpPr>
        <p:spPr>
          <a:xfrm>
            <a:off x="539640" y="1268280"/>
            <a:ext cx="3816360" cy="55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Communisme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extreme vorm van socialisme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ijkheid staat centraal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oductiefactoren beheerd door de staat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articuliere eigendom is niet toegestaan.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0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12"/>
          <p:cNvGrpSpPr/>
          <p:nvPr/>
        </p:nvGrpSpPr>
        <p:grpSpPr>
          <a:xfrm>
            <a:off x="826920" y="5300640"/>
            <a:ext cx="7745760" cy="1362240"/>
            <a:chOff x="826920" y="5300640"/>
            <a:chExt cx="7745760" cy="1362240"/>
          </a:xfrm>
        </p:grpSpPr>
        <p:pic>
          <p:nvPicPr>
            <p:cNvPr id="426" name="Picture 8" descr=""/>
            <p:cNvPicPr/>
            <p:nvPr/>
          </p:nvPicPr>
          <p:blipFill>
            <a:blip r:embed="rId1"/>
            <a:stretch/>
          </p:blipFill>
          <p:spPr>
            <a:xfrm>
              <a:off x="826920" y="5300640"/>
              <a:ext cx="7745760" cy="13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Text Box 11"/>
            <p:cNvSpPr/>
            <p:nvPr/>
          </p:nvSpPr>
          <p:spPr>
            <a:xfrm>
              <a:off x="3708360" y="5445000"/>
              <a:ext cx="194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nfessionalisme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85978-8301-4B4E-8F1C-FE5B0FF8914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4" descr=""/>
          <p:cNvPicPr/>
          <p:nvPr/>
        </p:nvPicPr>
        <p:blipFill>
          <a:blip r:embed="rId1"/>
          <a:stretch/>
        </p:blipFill>
        <p:spPr>
          <a:xfrm>
            <a:off x="0" y="-674640"/>
            <a:ext cx="9144000" cy="7532640"/>
          </a:xfrm>
          <a:prstGeom prst="rect">
            <a:avLst/>
          </a:prstGeom>
          <a:ln w="0">
            <a:noFill/>
          </a:ln>
        </p:spPr>
      </p:pic>
      <p:sp>
        <p:nvSpPr>
          <p:cNvPr id="432" name="Line 5"/>
          <p:cNvSpPr/>
          <p:nvPr/>
        </p:nvSpPr>
        <p:spPr>
          <a:xfrm>
            <a:off x="0" y="3213000"/>
            <a:ext cx="9144000" cy="0"/>
          </a:xfrm>
          <a:prstGeom prst="line">
            <a:avLst/>
          </a:prstGeom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6"/>
          <p:cNvSpPr/>
          <p:nvPr/>
        </p:nvSpPr>
        <p:spPr>
          <a:xfrm>
            <a:off x="0" y="263700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munism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7"/>
          <p:cNvSpPr/>
          <p:nvPr/>
        </p:nvSpPr>
        <p:spPr>
          <a:xfrm>
            <a:off x="5219640" y="170028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beralism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8"/>
          <p:cNvSpPr/>
          <p:nvPr/>
        </p:nvSpPr>
        <p:spPr>
          <a:xfrm>
            <a:off x="1979640" y="170028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ialism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9"/>
          <p:cNvSpPr/>
          <p:nvPr/>
        </p:nvSpPr>
        <p:spPr>
          <a:xfrm>
            <a:off x="6732720" y="2205000"/>
            <a:ext cx="18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ht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0"/>
          <p:cNvSpPr/>
          <p:nvPr/>
        </p:nvSpPr>
        <p:spPr>
          <a:xfrm>
            <a:off x="1332000" y="2205000"/>
            <a:ext cx="18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k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1"/>
          <p:cNvSpPr/>
          <p:nvPr/>
        </p:nvSpPr>
        <p:spPr>
          <a:xfrm>
            <a:off x="8028000" y="270828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scism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2"/>
          <p:cNvSpPr/>
          <p:nvPr/>
        </p:nvSpPr>
        <p:spPr>
          <a:xfrm>
            <a:off x="3924360" y="2276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ristendemocrati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13" descr="logo vvd"/>
          <p:cNvPicPr/>
          <p:nvPr/>
        </p:nvPicPr>
        <p:blipFill>
          <a:blip r:embed="rId2"/>
          <a:stretch/>
        </p:blipFill>
        <p:spPr>
          <a:xfrm>
            <a:off x="5651640" y="3284640"/>
            <a:ext cx="466560" cy="57600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14" descr="logo cda"/>
          <p:cNvPicPr/>
          <p:nvPr/>
        </p:nvPicPr>
        <p:blipFill>
          <a:blip r:embed="rId3"/>
          <a:stretch/>
        </p:blipFill>
        <p:spPr>
          <a:xfrm>
            <a:off x="4643280" y="3284640"/>
            <a:ext cx="720720" cy="345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15" descr="logo CU"/>
          <p:cNvPicPr/>
          <p:nvPr/>
        </p:nvPicPr>
        <p:blipFill>
          <a:blip r:embed="rId4"/>
          <a:stretch/>
        </p:blipFill>
        <p:spPr>
          <a:xfrm>
            <a:off x="3564000" y="4076640"/>
            <a:ext cx="1152360" cy="3193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16" descr="logo d66"/>
          <p:cNvPicPr/>
          <p:nvPr/>
        </p:nvPicPr>
        <p:blipFill>
          <a:blip r:embed="rId5"/>
          <a:stretch/>
        </p:blipFill>
        <p:spPr>
          <a:xfrm>
            <a:off x="3564000" y="3284640"/>
            <a:ext cx="720720" cy="53316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17" descr="LOGO groen links"/>
          <p:cNvPicPr/>
          <p:nvPr/>
        </p:nvPicPr>
        <p:blipFill>
          <a:blip r:embed="rId6"/>
          <a:stretch/>
        </p:blipFill>
        <p:spPr>
          <a:xfrm>
            <a:off x="900000" y="3933720"/>
            <a:ext cx="792360" cy="36684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8" descr="LOGO pvda"/>
          <p:cNvPicPr/>
          <p:nvPr/>
        </p:nvPicPr>
        <p:blipFill>
          <a:blip r:embed="rId7"/>
          <a:stretch/>
        </p:blipFill>
        <p:spPr>
          <a:xfrm>
            <a:off x="2916360" y="3789360"/>
            <a:ext cx="420480" cy="50328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9" descr="logo pvv"/>
          <p:cNvPicPr/>
          <p:nvPr/>
        </p:nvPicPr>
        <p:blipFill>
          <a:blip r:embed="rId8"/>
          <a:srcRect l="0" t="17834" r="0" b="20000"/>
          <a:stretch/>
        </p:blipFill>
        <p:spPr>
          <a:xfrm>
            <a:off x="7020000" y="3284640"/>
            <a:ext cx="936720" cy="30960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20" descr="logo sgp"/>
          <p:cNvPicPr/>
          <p:nvPr/>
        </p:nvPicPr>
        <p:blipFill>
          <a:blip r:embed="rId9"/>
          <a:stretch/>
        </p:blipFill>
        <p:spPr>
          <a:xfrm>
            <a:off x="6300720" y="3284640"/>
            <a:ext cx="576360" cy="43344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21" descr="LOGO sp"/>
          <p:cNvPicPr/>
          <p:nvPr/>
        </p:nvPicPr>
        <p:blipFill>
          <a:blip r:embed="rId10"/>
          <a:stretch/>
        </p:blipFill>
        <p:spPr>
          <a:xfrm>
            <a:off x="468360" y="3357720"/>
            <a:ext cx="574560" cy="3175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22" descr="logo pvvd"/>
          <p:cNvPicPr/>
          <p:nvPr/>
        </p:nvPicPr>
        <p:blipFill>
          <a:blip r:embed="rId11"/>
          <a:stretch/>
        </p:blipFill>
        <p:spPr>
          <a:xfrm>
            <a:off x="1835280" y="3357720"/>
            <a:ext cx="635040" cy="718920"/>
          </a:xfrm>
          <a:prstGeom prst="rect">
            <a:avLst/>
          </a:prstGeom>
          <a:ln w="0">
            <a:noFill/>
          </a:ln>
        </p:spPr>
      </p:pic>
      <p:sp>
        <p:nvSpPr>
          <p:cNvPr id="450" name="Line 23"/>
          <p:cNvSpPr/>
          <p:nvPr/>
        </p:nvSpPr>
        <p:spPr>
          <a:xfrm>
            <a:off x="179280" y="3068640"/>
            <a:ext cx="0" cy="14436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24"/>
          <p:cNvSpPr/>
          <p:nvPr/>
        </p:nvSpPr>
        <p:spPr>
          <a:xfrm>
            <a:off x="1692360" y="2565360"/>
            <a:ext cx="0" cy="64944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25"/>
          <p:cNvSpPr/>
          <p:nvPr/>
        </p:nvSpPr>
        <p:spPr>
          <a:xfrm>
            <a:off x="2411280" y="2133720"/>
            <a:ext cx="0" cy="107928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26"/>
          <p:cNvSpPr/>
          <p:nvPr/>
        </p:nvSpPr>
        <p:spPr>
          <a:xfrm>
            <a:off x="4284720" y="2637000"/>
            <a:ext cx="0" cy="57600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27"/>
          <p:cNvSpPr/>
          <p:nvPr/>
        </p:nvSpPr>
        <p:spPr>
          <a:xfrm>
            <a:off x="6227640" y="2997360"/>
            <a:ext cx="0" cy="14436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28"/>
          <p:cNvSpPr/>
          <p:nvPr/>
        </p:nvSpPr>
        <p:spPr>
          <a:xfrm>
            <a:off x="7020000" y="3068640"/>
            <a:ext cx="0" cy="14436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29"/>
          <p:cNvSpPr/>
          <p:nvPr/>
        </p:nvSpPr>
        <p:spPr>
          <a:xfrm>
            <a:off x="6227640" y="2133720"/>
            <a:ext cx="0" cy="107928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30"/>
          <p:cNvSpPr/>
          <p:nvPr/>
        </p:nvSpPr>
        <p:spPr>
          <a:xfrm>
            <a:off x="7020000" y="2565360"/>
            <a:ext cx="0" cy="64944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31"/>
          <p:cNvSpPr/>
          <p:nvPr/>
        </p:nvSpPr>
        <p:spPr>
          <a:xfrm>
            <a:off x="8964720" y="3068640"/>
            <a:ext cx="14040" cy="14436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32"/>
          <p:cNvSpPr/>
          <p:nvPr/>
        </p:nvSpPr>
        <p:spPr>
          <a:xfrm>
            <a:off x="3059280" y="2060640"/>
            <a:ext cx="18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itiek midd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33"/>
          <p:cNvSpPr/>
          <p:nvPr/>
        </p:nvSpPr>
        <p:spPr>
          <a:xfrm>
            <a:off x="3419640" y="1773360"/>
            <a:ext cx="194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fessionalisme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7" dur="2000" fill="hold"/>
                                        <p:tgtEl>
                                          <p:spTgt spid="4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7" dur="1000" fill="hold"/>
                                        <p:tgtEl>
                                          <p:spTgt spid="4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7" dur="2000" fill="hold"/>
                                        <p:tgtEl>
                                          <p:spTgt spid="4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7" dur="2000" fill="hold"/>
                                        <p:tgtEl>
                                          <p:spTgt spid="4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7" dur="2000" fill="hold"/>
                                        <p:tgtEl>
                                          <p:spTgt spid="4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7" dur="2000" fill="hold"/>
                                        <p:tgtEl>
                                          <p:spTgt spid="4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7" dur="2000" fill="hold"/>
                                        <p:tgtEl>
                                          <p:spTgt spid="4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7" dur="2000" fill="hold"/>
                                        <p:tgtEl>
                                          <p:spTgt spid="4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7" dur="2000" fill="hold"/>
                                        <p:tgtEl>
                                          <p:spTgt spid="4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7" dur="2000" fill="hold"/>
                                        <p:tgtEl>
                                          <p:spTgt spid="4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tijen in de 2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kamer op volgorde van aantal zetel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2" descr=""/>
          <p:cNvPicPr/>
          <p:nvPr/>
        </p:nvPicPr>
        <p:blipFill>
          <a:blip r:embed="rId1"/>
          <a:srcRect l="34848" t="41424" r="28535" b="39383"/>
          <a:stretch/>
        </p:blipFill>
        <p:spPr>
          <a:xfrm>
            <a:off x="611280" y="2781360"/>
            <a:ext cx="8070840" cy="338436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2" descr=""/>
          <p:cNvPicPr/>
          <p:nvPr/>
        </p:nvPicPr>
        <p:blipFill>
          <a:blip r:embed="rId2"/>
          <a:srcRect l="20081" t="8858" r="64564" b="88193"/>
          <a:stretch/>
        </p:blipFill>
        <p:spPr>
          <a:xfrm>
            <a:off x="7451640" y="3573360"/>
            <a:ext cx="1260720" cy="193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2"/>
          <p:cNvSpPr/>
          <p:nvPr/>
        </p:nvSpPr>
        <p:spPr>
          <a:xfrm>
            <a:off x="571680" y="274680"/>
            <a:ext cx="8572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1: linkse en rechtse partijen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53964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tijen in de 2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kamer: lin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2" descr=""/>
          <p:cNvPicPr/>
          <p:nvPr/>
        </p:nvPicPr>
        <p:blipFill>
          <a:blip r:embed="rId1"/>
          <a:srcRect l="53678" t="50936" r="40420" b="39383"/>
          <a:stretch/>
        </p:blipFill>
        <p:spPr>
          <a:xfrm>
            <a:off x="611280" y="4076640"/>
            <a:ext cx="988920" cy="129708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2" descr=""/>
          <p:cNvPicPr/>
          <p:nvPr/>
        </p:nvPicPr>
        <p:blipFill>
          <a:blip r:embed="rId2"/>
          <a:srcRect l="65424" t="41251" r="28535" b="49895"/>
          <a:stretch/>
        </p:blipFill>
        <p:spPr>
          <a:xfrm>
            <a:off x="611280" y="2852640"/>
            <a:ext cx="1008000" cy="11829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2" descr=""/>
          <p:cNvPicPr/>
          <p:nvPr/>
        </p:nvPicPr>
        <p:blipFill>
          <a:blip r:embed="rId3"/>
          <a:srcRect l="41137" t="41424" r="52370" b="49242"/>
          <a:stretch/>
        </p:blipFill>
        <p:spPr>
          <a:xfrm>
            <a:off x="611280" y="5445000"/>
            <a:ext cx="1008000" cy="115884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2" descr=""/>
          <p:cNvPicPr/>
          <p:nvPr/>
        </p:nvPicPr>
        <p:blipFill>
          <a:blip r:embed="rId4"/>
          <a:srcRect l="47633" t="41424" r="45871" b="49242"/>
          <a:stretch/>
        </p:blipFill>
        <p:spPr>
          <a:xfrm>
            <a:off x="611280" y="1700280"/>
            <a:ext cx="1008000" cy="116028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2" descr=""/>
          <p:cNvPicPr/>
          <p:nvPr/>
        </p:nvPicPr>
        <p:blipFill>
          <a:blip r:embed="rId5"/>
          <a:srcRect l="20081" t="8858" r="64564" b="88193"/>
          <a:stretch/>
        </p:blipFill>
        <p:spPr>
          <a:xfrm>
            <a:off x="684360" y="3500280"/>
            <a:ext cx="900000" cy="139680"/>
          </a:xfrm>
          <a:prstGeom prst="rect">
            <a:avLst/>
          </a:prstGeom>
          <a:ln w="0">
            <a:noFill/>
          </a:ln>
        </p:spPr>
      </p:pic>
      <p:sp>
        <p:nvSpPr>
          <p:cNvPr id="473" name="Tekstvak 10"/>
          <p:cNvSpPr/>
          <p:nvPr/>
        </p:nvSpPr>
        <p:spPr>
          <a:xfrm>
            <a:off x="1619280" y="1773360"/>
            <a:ext cx="72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Meest links. Komt op voor belangen arme mensen. Goede uitkeringen! Rijken meer belasting betalen. Goedkope gezondheidszorg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kstvak 11"/>
          <p:cNvSpPr/>
          <p:nvPr/>
        </p:nvSpPr>
        <p:spPr>
          <a:xfrm>
            <a:off x="1692360" y="2997360"/>
            <a:ext cx="72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Komt op voor milieu. Ongelijkheid tussen mensen tegengaan. Gratis kinderopvang/ meer vrouwen werken. Schone energie gebruiken. Kraamverlof voor vaders. Geen koningshuis meer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kstvak 12"/>
          <p:cNvSpPr/>
          <p:nvPr/>
        </p:nvSpPr>
        <p:spPr>
          <a:xfrm>
            <a:off x="1692360" y="4221000"/>
            <a:ext cx="745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Komt op voor belangen van dieren. Rechten van het dier opnemen in grondwet. Dierenmishandeling streng straffen. Einde aan dierproeven. Verbod gebruik dieren in reclame/film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kstvak 13"/>
          <p:cNvSpPr/>
          <p:nvPr/>
        </p:nvSpPr>
        <p:spPr>
          <a:xfrm>
            <a:off x="1692360" y="5516640"/>
            <a:ext cx="720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Overheid zorgt  vooral voorvoldoende werkgelegenheid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Door ziekte, handicap of ouderdom niet werken: overheid geeft uitkering! Tot 27 jaar werk/leerplicht. Geld aan bedrijven voor langdurig werklozen. Discriminatie bij bedrijf = boete!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2"/>
          <p:cNvSpPr/>
          <p:nvPr/>
        </p:nvSpPr>
        <p:spPr>
          <a:xfrm>
            <a:off x="571680" y="274680"/>
            <a:ext cx="8572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1: linkse en rechtse partijen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96720" y="148428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Rechten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gemeen kiesre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m politieke partij op te rich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p gelijke behande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m niet zomaar door de politie te worden opgepak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Plichten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icht om belasting te betal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icht om naar school te gaan. Leerpli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icht om je id bij te hebben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0" y="476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§2: Nederland is een rechtsstaat en democratie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http://www.frankwatching.com/wordpress/wp-content/uploads/2009/04/grondwet-194x300.jpg"/>
          <p:cNvPicPr/>
          <p:nvPr/>
        </p:nvPicPr>
        <p:blipFill>
          <a:blip r:embed="rId1"/>
          <a:stretch/>
        </p:blipFill>
        <p:spPr>
          <a:xfrm>
            <a:off x="7093080" y="3429000"/>
            <a:ext cx="14889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tijen in de 2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kamer: Mid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2" descr=""/>
          <p:cNvPicPr/>
          <p:nvPr/>
        </p:nvPicPr>
        <p:blipFill>
          <a:blip r:embed="rId1"/>
          <a:srcRect l="41276" t="50936" r="52821" b="39471"/>
          <a:stretch/>
        </p:blipFill>
        <p:spPr>
          <a:xfrm>
            <a:off x="468360" y="2060640"/>
            <a:ext cx="946080" cy="123012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2" descr=""/>
          <p:cNvPicPr/>
          <p:nvPr/>
        </p:nvPicPr>
        <p:blipFill>
          <a:blip r:embed="rId2"/>
          <a:srcRect l="34848" t="50851" r="58798" b="39556"/>
          <a:stretch/>
        </p:blipFill>
        <p:spPr>
          <a:xfrm>
            <a:off x="468360" y="3357720"/>
            <a:ext cx="1017720" cy="12301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2" descr=""/>
          <p:cNvPicPr/>
          <p:nvPr/>
        </p:nvPicPr>
        <p:blipFill>
          <a:blip r:embed="rId3"/>
          <a:srcRect l="34848" t="41424" r="58866" b="49980"/>
          <a:stretch/>
        </p:blipFill>
        <p:spPr>
          <a:xfrm>
            <a:off x="395280" y="4724280"/>
            <a:ext cx="1008000" cy="1103400"/>
          </a:xfrm>
          <a:prstGeom prst="rect">
            <a:avLst/>
          </a:prstGeom>
          <a:ln w="0">
            <a:noFill/>
          </a:ln>
        </p:spPr>
      </p:pic>
      <p:sp>
        <p:nvSpPr>
          <p:cNvPr id="482" name="Tekstvak 8"/>
          <p:cNvSpPr/>
          <p:nvPr/>
        </p:nvSpPr>
        <p:spPr>
          <a:xfrm>
            <a:off x="1619280" y="3429000"/>
            <a:ext cx="720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Protestants/christelijk. Hulp aan vluchtelingen in ons land. Geen abortus en euthanasie. God beslist. Zuinig zijn op de aarde (is van god), kinderbijslag aan gezin met kinderen. Alcohol en drugsgebruik streng aanpakken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kstvak 9"/>
          <p:cNvSpPr/>
          <p:nvPr/>
        </p:nvSpPr>
        <p:spPr>
          <a:xfrm>
            <a:off x="1619280" y="2060640"/>
            <a:ext cx="720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Democratie vernieuwen. Meer macht voor burgers. Meer geld voor onderwijs. Soepel ontslagrecht. Kiezen burgemeester en minister president. Gevangenisstraf = taakstraf. Meer eu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kstvak 10"/>
          <p:cNvSpPr/>
          <p:nvPr/>
        </p:nvSpPr>
        <p:spPr>
          <a:xfrm>
            <a:off x="1547640" y="4869000"/>
            <a:ext cx="720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Christelijke partij. Mensen moeten voor elkaar zorgen. In noodgevallen helpt de overheid. Overheid niet bemoeien met opvoeding kinderen. Maatschappelijke stage jongeren verplicht. Altijd hulp geven aan ontwikkelingslanden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1: linkse en rechtse partije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tijen in de 2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kamer: Rec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2" descr=""/>
          <p:cNvPicPr/>
          <p:nvPr/>
        </p:nvPicPr>
        <p:blipFill>
          <a:blip r:embed="rId1"/>
          <a:srcRect l="47250" t="51021" r="46845" b="39383"/>
          <a:stretch/>
        </p:blipFill>
        <p:spPr>
          <a:xfrm>
            <a:off x="611280" y="3500280"/>
            <a:ext cx="1152360" cy="149868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" descr=""/>
          <p:cNvPicPr/>
          <p:nvPr/>
        </p:nvPicPr>
        <p:blipFill>
          <a:blip r:embed="rId2"/>
          <a:srcRect l="59583" t="41339" r="33921" b="49806"/>
          <a:stretch/>
        </p:blipFill>
        <p:spPr>
          <a:xfrm>
            <a:off x="539640" y="5084640"/>
            <a:ext cx="1266840" cy="138276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2" descr=""/>
          <p:cNvPicPr/>
          <p:nvPr/>
        </p:nvPicPr>
        <p:blipFill>
          <a:blip r:embed="rId3"/>
          <a:srcRect l="53610" t="41251" r="40488" b="49895"/>
          <a:stretch/>
        </p:blipFill>
        <p:spPr>
          <a:xfrm>
            <a:off x="611280" y="2060640"/>
            <a:ext cx="1152360" cy="1382760"/>
          </a:xfrm>
          <a:prstGeom prst="rect">
            <a:avLst/>
          </a:prstGeom>
          <a:ln w="0">
            <a:noFill/>
          </a:ln>
        </p:spPr>
      </p:pic>
      <p:sp>
        <p:nvSpPr>
          <p:cNvPr id="490" name="Tekstvak 7"/>
          <p:cNvSpPr/>
          <p:nvPr/>
        </p:nvSpPr>
        <p:spPr>
          <a:xfrm>
            <a:off x="1943280" y="2133720"/>
            <a:ext cx="72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Vrijheid belangrijkst! Meer wegen aanleggen ivm files, werkgevers vrijheid geven (zoals makkelijk ontslaan). Meer geld voor politie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kstvak 8"/>
          <p:cNvSpPr/>
          <p:nvPr/>
        </p:nvSpPr>
        <p:spPr>
          <a:xfrm>
            <a:off x="1943280" y="3573360"/>
            <a:ext cx="72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Gereformeerde partij. Regeren volgens de bijbel. Mensen beschermen, verder niet mee bemoeien. Abortus en euthanasie en homohuwelijk verboden. Moord = doodstraf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kstvak 9"/>
          <p:cNvSpPr/>
          <p:nvPr/>
        </p:nvSpPr>
        <p:spPr>
          <a:xfrm>
            <a:off x="1943280" y="5157720"/>
            <a:ext cx="720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Harde uitspraken over Islam. Mensen zelf verantwoordelijke voor hun gedrag, iedereen aanpassen aan regels van dit land. Ook ander geloof/cultuur. Zo niet: Hoge straf. Na 3 geweldsmisdrijven: levenslang. Weinig immigranten toelaten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71680" y="33300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1: linkse en rechtse partije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E1FC5-B81B-4AC8-8C71-6D5D2B7F3F1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71680" y="27432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1: linkse en rechtse partije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orten Partij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basis van IDEOLOGIE: ontstaan door dezelfde ideologiën/strom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E-ISSUEPARTIJEN: gericht op 1 aspect in de samenleving. (Pvd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OTESTPARTIJEN: ontstaan uit onvrede met bestaande politiek. (LP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-DEMOCRATISCHE parijen: zoals fascisitische partijen. Komen niet vaak voor in parlemen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30019-B6D6-434B-B971-50EFD51969C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84360" y="148428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uncties van partij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tegratiefunctie: het partijenprogram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formatiefunctie: informeren over standpu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articipatiefunctie: burgers stimuleren actief aan politiek te do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electiefunctie: mensen die in de politiek willen, kijken bij welke partij ze willen 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2"/>
          <p:cNvSpPr/>
          <p:nvPr/>
        </p:nvSpPr>
        <p:spPr>
          <a:xfrm>
            <a:off x="571680" y="274680"/>
            <a:ext cx="8572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1: linkse en rechtse partijen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03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E8E31-F4CD-4131-A82F-702DEDD16FE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hthoek 4"/>
          <p:cNvSpPr/>
          <p:nvPr/>
        </p:nvSpPr>
        <p:spPr>
          <a:xfrm>
            <a:off x="1692360" y="1916280"/>
            <a:ext cx="638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 u="sng">
                <a:solidFill>
                  <a:srgbClr val="bbe0e3"/>
                </a:solidFill>
                <a:uFillTx/>
                <a:latin typeface="Arial"/>
              </a:rPr>
              <a:t>Analyse maatschappelijk vraagstuk</a:t>
            </a:r>
            <a:endParaRPr b="0" i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Analyse maatschappelijke vraagstukk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35712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Een maatschappelijk proble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3320" indent="-483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Sociaal probleem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 veel mensen hebben er mee te m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3320" indent="-483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Verschillende mening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 het is niet snel op te lossen omdat er vaak zoveel verschillende meningen over z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3320" indent="-483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Overheid: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overheid moet erbij betrokken zijn om dit probleem te kunnen oplos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3320" indent="-483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Aandacht van de medi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 het probleem moet de aandacht van de media krijg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ijdelijke aanduiding voor dianummer 3"/>
          <p:cNvSpPr/>
          <p:nvPr/>
        </p:nvSpPr>
        <p:spPr>
          <a:xfrm>
            <a:off x="6500880" y="621504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E5D12-466C-4ECC-B199-13275104CB0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D3285-2BE5-4549-9FEF-597B0DAE761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899640" y="1341360"/>
            <a:ext cx="72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Formele mach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ze macht is officieel vastgelegd in wetten en regels (geza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beeld: de burgemeester verbied een boetbalwedstrij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Informele mach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t die niet officieel is vastgelegd (invlo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b: ‘regels’ die binnen je vriendengroep gel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3"/>
          <p:cNvSpPr/>
          <p:nvPr/>
        </p:nvSpPr>
        <p:spPr>
          <a:xfrm>
            <a:off x="647640" y="404640"/>
            <a:ext cx="849636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400" spc="-1" strike="noStrike" u="sng">
                <a:solidFill>
                  <a:srgbClr val="bbe0e3"/>
                </a:solidFill>
                <a:uFillTx/>
                <a:latin typeface="Arial"/>
              </a:rPr>
              <a:t>Analyse maatschappelijk vraagstuk</a:t>
            </a: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9BD5D-4731-4339-BCC7-0DD7EA6CB45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Machtsmiddelen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m macht te kunnen hebben, bestaan er machtmiddel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unctie/beroep (politie als hij een bekeuring geef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nnis/vaardigheden (dokter weet welke medicijnen je nodig heb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zien (de paus vraagt gelovigen iets wel of niet te do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tuigingskracht (politici zijn vaak getraind om mensen te overtuig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d (de overheid beslist wat ze doen met die miljarden euro’s die ze heb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tal (de klas weigert massaal een proefwerk te mak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weld (een rechter veroordeeld de moordenaar tot levensla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95280" y="333360"/>
            <a:ext cx="8496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 u="sng">
                <a:solidFill>
                  <a:srgbClr val="bbe0e3"/>
                </a:solidFill>
                <a:uFillTx/>
                <a:latin typeface="Arial"/>
              </a:rPr>
              <a:t>Analyse maatschappelijk vraagstuk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C8976-F40B-411B-AFFD-01F98B41235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Normen: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dragsregels, v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wachtingen over wat normaal is, manier van handelen waar mensen zich aan kunnen of moeten hou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Waarden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aarden zijn dingen en denkbeelden waar we waarde aan hechten. Aspecten die we belangrijk vinde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arde: eerlijk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rm: niet st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3"/>
          <p:cNvSpPr/>
          <p:nvPr/>
        </p:nvSpPr>
        <p:spPr>
          <a:xfrm>
            <a:off x="395280" y="333360"/>
            <a:ext cx="8496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 u="sng">
                <a:solidFill>
                  <a:srgbClr val="bbe0e3"/>
                </a:solidFill>
                <a:uFillTx/>
                <a:latin typeface="Arial"/>
              </a:rPr>
              <a:t>Analyse maatschappelijk vraagstuk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FD03B-A479-4A40-A8F6-7780BB9B625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914400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Propaganda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doelbewust eenzijdige informatie geven, om meningen te beinvlo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Manipulatie: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met opzet feiten weglaten of verand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Indoctrinatie: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voortdurend opdringen van bepaalde meningen (met behulp van zeer intensieve psychologische middeltjes)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4"/>
          <p:cNvSpPr/>
          <p:nvPr/>
        </p:nvSpPr>
        <p:spPr>
          <a:xfrm>
            <a:off x="395280" y="333360"/>
            <a:ext cx="8496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 u="sng">
                <a:solidFill>
                  <a:srgbClr val="bbe0e3"/>
                </a:solidFill>
                <a:uFillTx/>
                <a:latin typeface="Arial"/>
              </a:rPr>
              <a:t>Analyse maatschappelijk vraagstuk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A1C33-CF9C-407B-A927-1658775A48E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324000" y="1125360"/>
            <a:ext cx="882000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irecte democratie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urgers kunnen rechtstreeks meepraten en beslissen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leen bij weinig inwoner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ms via referendum: volksstemming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Indirecte democratie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ia een volksvertegenwoordiging.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urgers stemmen op vertegenwoordigers die hun belangen behartigen in de politieke besluitvorming.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ze hebben de meeste landen in de wereld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468360" y="333360"/>
            <a:ext cx="8389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2: Nederland is een rechtsstaat en democrati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34E13-4E7D-4766-BB26-C3F8795AF7F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586728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Stereotypering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eld van een bepaalde bevolkingsgroep dat met de werkelijkheid weinig of niets te maken heeft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B: Afrikanen in rieten rokjes met botjes in hun neus en dikke lip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ederlanders op klom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Vooroordeel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 vooroordeel is een mening over iemand of een groep mensen die niet op feiten is gebaseer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B: 'alle duitsers hebben bierbuiken, 'Belgen zijn dom', 'Nederlanders zijn krenterig' of 'dikke mensen zijn gezellig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Discriminatie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s mensen op basis van deze vooroordelen worden achtergesteld, is er sprake van discriminati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395280" y="333360"/>
            <a:ext cx="8496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 u="sng">
                <a:solidFill>
                  <a:srgbClr val="bbe0e3"/>
                </a:solidFill>
                <a:uFillTx/>
                <a:latin typeface="Arial"/>
              </a:rPr>
              <a:t>Analyse maatschappelijk vraagstuk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5" descr="10809"/>
          <p:cNvPicPr/>
          <p:nvPr/>
        </p:nvPicPr>
        <p:blipFill>
          <a:blip r:embed="rId1"/>
          <a:stretch/>
        </p:blipFill>
        <p:spPr>
          <a:xfrm>
            <a:off x="7451640" y="1052640"/>
            <a:ext cx="1438200" cy="26668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7" descr="121581"/>
          <p:cNvPicPr/>
          <p:nvPr/>
        </p:nvPicPr>
        <p:blipFill>
          <a:blip r:embed="rId2"/>
          <a:srcRect l="9962" t="2883" r="10174" b="4043"/>
          <a:stretch/>
        </p:blipFill>
        <p:spPr>
          <a:xfrm>
            <a:off x="6300720" y="3933720"/>
            <a:ext cx="23050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ijdelijke aanduiding voor dianumm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EF619-1756-4B45-A776-023391C3CE1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428760" y="642960"/>
          <a:ext cx="8334360" cy="5962680"/>
        </p:xfrm>
        <a:graphic>
          <a:graphicData uri="http://schemas.openxmlformats.org/drawingml/2006/table">
            <a:tbl>
              <a:tblPr/>
              <a:tblGrid>
                <a:gridCol w="1836720"/>
                <a:gridCol w="630000"/>
                <a:gridCol w="3043440"/>
                <a:gridCol w="630000"/>
                <a:gridCol w="2194200"/>
              </a:tblGrid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ENDER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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RMATIE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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TVANGER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284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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2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JECTIEF/SUBJECTIEF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Feiten/Meningen [Meerdere kanten]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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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ROUWBARE BRONNEN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CBS, Wikipedia, edu-sites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2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IPULATIE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ECTIEVE WAARNEMING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284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Verdraaien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Passend voor jezelf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PAGANDA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Eenzijdig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ERENTIEKADER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282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OCTRINATIE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Ervaring, Waarden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Dwingend/Langdurig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CRIMINATIE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reotypering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oroordelen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Analyse maatschappelijke vraagstukk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35712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Analyseschema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 is het proble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Sociaaleconomische invalshoek: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langen, belangentegenstellingen, belangengroepen, maatschappelijke posities, gemeenschappelijke belangen, ongelijkheid, economische bela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Sociaal-culturele invalshoek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waarden, normen, culturen, pluriform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Politiek-juridische invalshoek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politieke agenda, machtsmiddelen, actiegroepen, politieke partij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Veranderings- en vergelijkende invalshoek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hoe in het verleden? Andere landen? Andere cultur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Oplossing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standpunten partijen, over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Eigen mening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subjectieve bronnen of objectieve bron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ijdelijke aanduiding voor dianummer 3"/>
          <p:cNvSpPr/>
          <p:nvPr/>
        </p:nvSpPr>
        <p:spPr>
          <a:xfrm>
            <a:off x="6500880" y="621504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59491-8DF9-4837-B929-26FE9787BB1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24F40-7EE8-481D-82ED-13C38CA8B04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5" descr="sw_einde"/>
          <p:cNvPicPr/>
          <p:nvPr/>
        </p:nvPicPr>
        <p:blipFill>
          <a:blip r:embed="rId1"/>
          <a:stretch/>
        </p:blipFill>
        <p:spPr>
          <a:xfrm>
            <a:off x="2195640" y="476280"/>
            <a:ext cx="387504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7370F-5561-48D1-9E7D-CD27229E749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1052280"/>
            <a:ext cx="91440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Rechtsstaat: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 land waarin iedereen rechten heeft en waar deze rechten zijn vastgelegd in wet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Triaspolitica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(machtenscheid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deze splitsing voorkomen we machtsmisbrui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ierdoor heeft dus nooit één groep alle mach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etgevendmacht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Uitvoerendemacht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echterlijkemac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324000" y="4437000"/>
            <a:ext cx="1944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e en 2e kamer beslissen over de wetsvoorstell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3059280" y="4508640"/>
            <a:ext cx="22334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nisters (en ambtenaren zoals de politie) voeren de wet ui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6227640" y="4430880"/>
            <a:ext cx="22320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rechters oordelen in specifieke situaties of er volgens de wet is gehandeld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7"/>
          <p:cNvSpPr/>
          <p:nvPr/>
        </p:nvSpPr>
        <p:spPr>
          <a:xfrm flipH="1">
            <a:off x="1692000" y="3573360"/>
            <a:ext cx="1150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8"/>
          <p:cNvSpPr/>
          <p:nvPr/>
        </p:nvSpPr>
        <p:spPr>
          <a:xfrm>
            <a:off x="4356000" y="3573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9"/>
          <p:cNvSpPr/>
          <p:nvPr/>
        </p:nvSpPr>
        <p:spPr>
          <a:xfrm>
            <a:off x="6443640" y="3573360"/>
            <a:ext cx="792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0"/>
          <p:cNvSpPr/>
          <p:nvPr/>
        </p:nvSpPr>
        <p:spPr>
          <a:xfrm>
            <a:off x="611280" y="357336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468360" y="333360"/>
            <a:ext cx="8389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2: Nederland is een rechtsstaat en democrati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Absent</cp:lastModifiedBy>
  <dcterms:modified xsi:type="dcterms:W3CDTF">2011-09-26T10:03:01Z</dcterms:modified>
  <cp:revision>129</cp:revision>
  <dc:subject/>
  <dc:title>Dia 1</dc:title>
</cp:coreProperties>
</file>