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02EE-12C2-4249-A9CC-EE75B68A3AA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B2FA-2314-4A82-A323-308267B43E0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B95-5742-4F6A-A093-A6F01FAD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F932-89B5-4694-892D-2242860E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202-0DDB-4D80-8B04-54B89E25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D3A-B01D-47AA-A866-68465D80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078D-E030-4CCD-BDA1-7AAAFFF2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355-4BD9-4BE1-978D-8FACA747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E43-CE0B-41A7-96C5-A18BA7F9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B2D-B010-4AAA-A1CC-549D9663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630-B24D-4A6E-9962-38154636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022-00BD-4FD3-9DFE-2B8C3C80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E79-7004-40B0-898F-406BBDB8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77F-94DB-4F5F-9839-0D5E5EE3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1965-E855-4F52-A11B-8A805E270E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27BF-5105-45B9-9E7F-14B295CB84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1: Communicatie en mass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2: De gedrukt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3: Radio, Televisie en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4: Technologisch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5: Functies van d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6: De overheid en de gedrukt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7: Overheidsregels voor omroepen en z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8: Nieu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9: De macht van d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39640" y="40464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k: Massamed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ische samenvatting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4A68-D1D5-4B3C-8A1F-97D33C0347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6271" t="31127" r="6253" b="30487"/>
          <a:stretch/>
        </p:blipFill>
        <p:spPr>
          <a:xfrm>
            <a:off x="0" y="2421000"/>
            <a:ext cx="918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DDD8-D725-4F5C-9624-73E8F19081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rcRect l="4795" t="34080" r="19906" b="18671"/>
          <a:stretch/>
        </p:blipFill>
        <p:spPr>
          <a:xfrm>
            <a:off x="468360" y="1628640"/>
            <a:ext cx="8262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D37C-0E7B-4548-91FA-A77673EE68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3: Radio, televisie en interne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1332000" y="1341360"/>
            <a:ext cx="5327640" cy="3988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ier soorten televisie en radiozender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0" y="1916280"/>
            <a:ext cx="2016000" cy="1923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nl-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nl-NL" sz="2000" spc="-1" strike="noStrike">
                <a:solidFill>
                  <a:srgbClr val="ffffff"/>
                </a:solidFill>
                <a:latin typeface="Calibri"/>
              </a:rPr>
              <a:t> Publieke omroepen</a:t>
            </a:r>
            <a:r>
              <a:rPr b="1" lang="nl-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Opgericht 192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Zendtijd= zuil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1951 eerste tv uitzen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050920" y="1916280"/>
            <a:ext cx="2293920" cy="2228400"/>
          </a:xfrm>
          <a:prstGeom prst="rect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2. Commerciële zender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Hoofddoel = winst (willen geld verdienen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1989 </a:t>
            </a: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eerste tv uitzen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356000" y="1916280"/>
            <a:ext cx="2252880" cy="375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 Regionale en lokalen zenders en omroep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Verdienen geld met recla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Krijgen subsidies van gemeentes op provinc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Lokale en regionale zenders brengen vooral plaatselijk nieuw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659640" y="1916280"/>
            <a:ext cx="2252520" cy="43628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4. internationale zenders en omroep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Ze richten zich op internationale zenders. Zoals CNN en Discovery channel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De Wereldomroep is een bijzondere Nederlandse publieke omroep. Die wereldwijd nieuws uitzen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9AC1-8158-4BF6-8564-FF07511B43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rcRect l="22511" t="22269" r="21378" b="10797"/>
          <a:stretch/>
        </p:blipFill>
        <p:spPr>
          <a:xfrm>
            <a:off x="826920" y="0"/>
            <a:ext cx="756144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2342-DAE5-4A84-A6FD-EA0A05EC9D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214200" y="907920"/>
            <a:ext cx="8534520" cy="432144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ternet 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ontstond door de internationale politiek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In de jaren 90 was het “gebruiksvriendelijk”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Dankzij internet heb je toegang tot verschillende massamedia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de interne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ervult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deze functies van de media: informatie, meningsvorming, amusement, en onderwijs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1676-99E6-4316-B90C-C689BBEE41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rcRect l="32850" t="22269" r="33931" b="9813"/>
          <a:stretch/>
        </p:blipFill>
        <p:spPr>
          <a:xfrm>
            <a:off x="2411280" y="0"/>
            <a:ext cx="44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287B-0ABF-43BF-8CAC-A2D33764F4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inhoud 4"/>
          <p:cNvSpPr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4: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echnologische Ontwikkeling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257480"/>
            <a:ext cx="8893080" cy="8031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Technologie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heeft te maken met de ontwikkeling van nieuwe apparaten.  De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technologie 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zorgt ervoor dat de wereld kleiner en goedkoper wordt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2349360"/>
            <a:ext cx="4643280" cy="450864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Gevolgen voor de gedrukte media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technologische ontwikkeling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heeft gevolgen voor media.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Betere/Snellere Communicatie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Koppeling kranten/ tijdschriften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Door die koppeling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meer interactieve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mogelijkheden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Snelheid van communicatie veel groter, d.m.v bijv. mailen van nieuwsberichten.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Nieuwsberichten worden digitaal opgeslagen in computersystemen, zodat mensen het kunnen lezen in archief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716360" y="2565360"/>
            <a:ext cx="2664000" cy="374328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Cambria"/>
              </a:rPr>
              <a:t>Gevolgen voor Radio en TV</a:t>
            </a:r>
            <a:br>
              <a:rPr sz="1800"/>
            </a:br>
            <a:r>
              <a:rPr b="1" i="1" lang="nl-NL" sz="18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Meer kranten en digitale tv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t interactieve en crossmedia mogelijkheden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r kanalen en Digitale TV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r interactieve crossmedia mogelijkhe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488360" y="2492280"/>
            <a:ext cx="1655640" cy="366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bd4b4"/>
              </a:gs>
            </a:gsLst>
            <a:lin ang="54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Gevolgen van Intern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De wereld wordt steeds kleine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Er is toename van persoonlijke en onpersoonlijke contact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De gevaren en verleidingen nemen to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Vorm 12"/>
          <p:cNvCxnSpPr>
            <a:stCxn id="149" idx="2"/>
          </p:cNvCxnSpPr>
          <p:nvPr/>
        </p:nvCxnSpPr>
        <p:spPr>
          <a:xfrm rot="5400000">
            <a:off x="3337560" y="917640"/>
            <a:ext cx="216720" cy="2502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4" name="Gebogen verbindingslijn 14"/>
          <p:cNvCxnSpPr>
            <a:stCxn id="149" idx="2"/>
            <a:endCxn id="151" idx="0"/>
          </p:cNvCxnSpPr>
          <p:nvPr/>
        </p:nvCxnSpPr>
        <p:spPr>
          <a:xfrm flipH="1" rot="16200000">
            <a:off x="5119560" y="1637280"/>
            <a:ext cx="505440" cy="1351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5" name="Gebogen verbindingslijn 16"/>
          <p:cNvCxnSpPr>
            <a:stCxn id="149" idx="2"/>
            <a:endCxn id="152" idx="0"/>
          </p:cNvCxnSpPr>
          <p:nvPr/>
        </p:nvCxnSpPr>
        <p:spPr>
          <a:xfrm flipH="1" rot="16200000">
            <a:off x="6290280" y="466920"/>
            <a:ext cx="432360" cy="3618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8486-67E4-4D15-BF2B-00F9FAF0AC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inhoud 4"/>
          <p:cNvSpPr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4: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echnologische Ontwikkeling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50920" y="1989000"/>
            <a:ext cx="2808360" cy="388800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Cambria"/>
              </a:rPr>
              <a:t>Crossmedia en Interactie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Kranten en tijdschriften hebben bijv. ook een eigen website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Crossmedia.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Websites van bekende massamedia zorgen voor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Interactie. 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Bijv. chatblogs enz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276720" y="1916280"/>
            <a:ext cx="2274840" cy="314316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Concurrentie</a:t>
            </a:r>
            <a:br>
              <a:rPr sz="2000"/>
            </a:b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Door de vele technische mogelijkheden is er tussen kranten, tijdschriften, omroepen en zenders steeds meer concurrenti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724360" y="1844640"/>
            <a:ext cx="2941920" cy="501336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Gevaren en Verleidi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 heeft ook gevaren; zo kunnen hackers bijvoorbeeld je hotmail hacken en je email lezen.</a:t>
            </a:r>
            <a:br>
              <a:rPr sz="2000"/>
            </a:b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 media houden hun doelgroep  goed in de gat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Je hebt naast gevaren ook verleidingen; zoals bijvoorbeeld veel kopen op webshops, zo kunnen mensen in schulden rak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Gebogen verbindingslijn 11"/>
          <p:cNvCxnSpPr>
            <a:stCxn id="158" idx="2"/>
            <a:endCxn id="159" idx="0"/>
          </p:cNvCxnSpPr>
          <p:nvPr/>
        </p:nvCxnSpPr>
        <p:spPr>
          <a:xfrm rot="5400000">
            <a:off x="2628360" y="252000"/>
            <a:ext cx="764280" cy="271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3" name="Vorm 13"/>
          <p:cNvCxnSpPr>
            <a:endCxn id="160" idx="0"/>
          </p:cNvCxnSpPr>
          <p:nvPr/>
        </p:nvCxnSpPr>
        <p:spPr>
          <a:xfrm>
            <a:off x="3058920" y="1628280"/>
            <a:ext cx="1354680" cy="288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4" name="Vorm 15"/>
          <p:cNvCxnSpPr>
            <a:endCxn id="161" idx="0"/>
          </p:cNvCxnSpPr>
          <p:nvPr/>
        </p:nvCxnSpPr>
        <p:spPr>
          <a:xfrm>
            <a:off x="3058920" y="1628640"/>
            <a:ext cx="4135680" cy="216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hthoek 3"/>
          <p:cNvSpPr/>
          <p:nvPr/>
        </p:nvSpPr>
        <p:spPr>
          <a:xfrm>
            <a:off x="468360" y="907920"/>
            <a:ext cx="792000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0" spc="-1" strike="noStrike">
                <a:solidFill>
                  <a:srgbClr val="000000"/>
                </a:solidFill>
                <a:latin typeface="Arial"/>
              </a:rPr>
              <a:t>Paragraaf 5</a:t>
            </a:r>
            <a:endParaRPr b="0" i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4"/>
          <p:cNvSpPr/>
          <p:nvPr/>
        </p:nvSpPr>
        <p:spPr>
          <a:xfrm>
            <a:off x="971640" y="3860640"/>
            <a:ext cx="684036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500" spc="-1" strike="noStrike">
                <a:solidFill>
                  <a:srgbClr val="000000"/>
                </a:solidFill>
                <a:latin typeface="Arial"/>
              </a:rPr>
              <a:t>Functies van de media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480D-730E-4DE2-9E2D-4126F81766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419040" y="1938240"/>
            <a:ext cx="3143160" cy="116676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alibri"/>
              </a:rPr>
              <a:t>Functies voor het individu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t is de massamedia in het dagelijks lev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5435640" y="2060640"/>
            <a:ext cx="3435480" cy="27385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alibri"/>
              </a:rPr>
              <a:t>Maatschappelijke funct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et ontwikkelen en voortbestaan van de hele samenlev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mocratische besluitvorm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. Cultuuroverdrach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. vrijetijdsbested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333440" y="709560"/>
            <a:ext cx="5614920" cy="57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Functies van de samenleving (5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4"/>
          <p:cNvCxnSpPr/>
          <p:nvPr/>
        </p:nvCxnSpPr>
        <p:spPr>
          <a:xfrm flipH="1">
            <a:off x="1866600" y="1390680"/>
            <a:ext cx="38160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AutoShape 5"/>
          <p:cNvCxnSpPr/>
          <p:nvPr/>
        </p:nvCxnSpPr>
        <p:spPr>
          <a:xfrm>
            <a:off x="4304880" y="1390680"/>
            <a:ext cx="322020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AutoShape 6"/>
          <p:cNvSpPr/>
          <p:nvPr/>
        </p:nvSpPr>
        <p:spPr>
          <a:xfrm>
            <a:off x="324000" y="4437000"/>
            <a:ext cx="3743280" cy="4320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. Informatie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Journ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24000" y="3213000"/>
            <a:ext cx="4968720" cy="4320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. Onderwijs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les via radio en tv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324000" y="3789360"/>
            <a:ext cx="2735280" cy="50328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. Meningsvorming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324000" y="5013360"/>
            <a:ext cx="6796080" cy="62064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4. Amusemen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Ingezonden brieven opiniërende func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324000" y="5805360"/>
            <a:ext cx="3636720" cy="4939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. Informatie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Journ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6D67-5760-4475-B7C2-FD97D266A6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2"/>
          <p:cNvSpPr txBox="1"/>
          <p:nvPr/>
        </p:nvSpPr>
        <p:spPr>
          <a:xfrm>
            <a:off x="539640" y="333360"/>
            <a:ext cx="784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43634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H1: Communicatie en massamedia </a:t>
            </a:r>
            <a:endParaRPr b="0" i="1" lang="en-US" sz="2400" spc="1" strike="noStrike">
              <a:ln w="9360">
                <a:solidFill>
                  <a:srgbClr val="943634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9640" y="2276640"/>
            <a:ext cx="2425680" cy="572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mmunicatievorm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2987640" y="2205000"/>
            <a:ext cx="1568520" cy="692280"/>
          </a:xfrm>
          <a:prstGeom prst="rightArrow">
            <a:avLst>
              <a:gd name="adj1" fmla="val 50000"/>
              <a:gd name="adj2" fmla="val 522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500720" y="1844640"/>
            <a:ext cx="4327200" cy="1567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recte en indirecte communic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bale en non-verbale communicaties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zijdige en meerzijdige communic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77800" y="3835440"/>
            <a:ext cx="2409840" cy="480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ssa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2987640" y="3716280"/>
            <a:ext cx="1568520" cy="693720"/>
          </a:xfrm>
          <a:prstGeom prst="rightArrow">
            <a:avLst>
              <a:gd name="adj1" fmla="val 50000"/>
              <a:gd name="adj2" fmla="val 521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572000" y="3357720"/>
            <a:ext cx="4248000" cy="286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5 Kenmerk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formatie openbaar, meestal bereikbaa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enrichtingsverke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oniem publiek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persoonlijk contac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directe feedback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hthoek 1"/>
          <p:cNvSpPr/>
          <p:nvPr/>
        </p:nvSpPr>
        <p:spPr>
          <a:xfrm>
            <a:off x="971640" y="907920"/>
            <a:ext cx="216036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uitgangspu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hthoek 2"/>
          <p:cNvSpPr/>
          <p:nvPr/>
        </p:nvSpPr>
        <p:spPr>
          <a:xfrm>
            <a:off x="5867280" y="981000"/>
            <a:ext cx="2017800" cy="1871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rijheid van meninguiting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IJL-RECHTS 3"/>
          <p:cNvSpPr/>
          <p:nvPr/>
        </p:nvSpPr>
        <p:spPr>
          <a:xfrm>
            <a:off x="4067280" y="1628640"/>
            <a:ext cx="1081080" cy="7207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hthoek 4"/>
          <p:cNvSpPr/>
          <p:nvPr/>
        </p:nvSpPr>
        <p:spPr>
          <a:xfrm>
            <a:off x="2627280" y="4437000"/>
            <a:ext cx="4176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cherming pluriform aanbo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hoek 1"/>
          <p:cNvSpPr/>
          <p:nvPr/>
        </p:nvSpPr>
        <p:spPr>
          <a:xfrm>
            <a:off x="2050920" y="476280"/>
            <a:ext cx="4176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rijheid van meningsuiting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hoek 2"/>
          <p:cNvSpPr/>
          <p:nvPr/>
        </p:nvSpPr>
        <p:spPr>
          <a:xfrm>
            <a:off x="971640" y="2565360"/>
            <a:ext cx="2016000" cy="1008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hoek 3"/>
          <p:cNvSpPr/>
          <p:nvPr/>
        </p:nvSpPr>
        <p:spPr>
          <a:xfrm>
            <a:off x="6012000" y="2565360"/>
            <a:ext cx="1584360" cy="1079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ranten mogen bijna all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IJL-RECHTS 4"/>
          <p:cNvSpPr/>
          <p:nvPr/>
        </p:nvSpPr>
        <p:spPr>
          <a:xfrm>
            <a:off x="3780000" y="2781360"/>
            <a:ext cx="977760" cy="555480"/>
          </a:xfrm>
          <a:prstGeom prst="rightArrow">
            <a:avLst>
              <a:gd name="adj1" fmla="val 50000"/>
              <a:gd name="adj2" fmla="val 5006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5"/>
          <p:cNvSpPr/>
          <p:nvPr/>
        </p:nvSpPr>
        <p:spPr>
          <a:xfrm>
            <a:off x="900000" y="5373720"/>
            <a:ext cx="1584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rondwe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hoek 6"/>
          <p:cNvSpPr/>
          <p:nvPr/>
        </p:nvSpPr>
        <p:spPr>
          <a:xfrm>
            <a:off x="3924360" y="5373720"/>
            <a:ext cx="1511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asisregel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hthoek 7"/>
          <p:cNvSpPr/>
          <p:nvPr/>
        </p:nvSpPr>
        <p:spPr>
          <a:xfrm>
            <a:off x="7020000" y="5373720"/>
            <a:ext cx="1512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ederlandse bevolk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IJL-RECHTS 8"/>
          <p:cNvSpPr/>
          <p:nvPr/>
        </p:nvSpPr>
        <p:spPr>
          <a:xfrm>
            <a:off x="2700360" y="5589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IJL-RECHTS 9"/>
          <p:cNvSpPr/>
          <p:nvPr/>
        </p:nvSpPr>
        <p:spPr>
          <a:xfrm>
            <a:off x="5796000" y="5661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hthoek 1"/>
          <p:cNvSpPr/>
          <p:nvPr/>
        </p:nvSpPr>
        <p:spPr>
          <a:xfrm>
            <a:off x="395280" y="189000"/>
            <a:ext cx="26431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t alles m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bogen verbindingslijn 3"/>
          <p:cNvCxnSpPr/>
          <p:nvPr/>
        </p:nvCxnSpPr>
        <p:spPr>
          <a:xfrm>
            <a:off x="395280" y="1700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93" name="Rechthoek 4"/>
          <p:cNvSpPr/>
          <p:nvPr/>
        </p:nvSpPr>
        <p:spPr>
          <a:xfrm>
            <a:off x="1908000" y="2349360"/>
            <a:ext cx="1800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iscriminer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hthoek 5"/>
          <p:cNvSpPr/>
          <p:nvPr/>
        </p:nvSpPr>
        <p:spPr>
          <a:xfrm>
            <a:off x="2411280" y="4149720"/>
            <a:ext cx="1944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nwaarheden verspreid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6"/>
          <p:cNvSpPr/>
          <p:nvPr/>
        </p:nvSpPr>
        <p:spPr>
          <a:xfrm>
            <a:off x="3203640" y="5732640"/>
            <a:ext cx="18730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pruiende uitspraken do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hthoek 7"/>
          <p:cNvSpPr/>
          <p:nvPr/>
        </p:nvSpPr>
        <p:spPr>
          <a:xfrm>
            <a:off x="2286000" y="2967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·        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hthoek 1"/>
          <p:cNvSpPr/>
          <p:nvPr/>
        </p:nvSpPr>
        <p:spPr>
          <a:xfrm>
            <a:off x="684360" y="333360"/>
            <a:ext cx="2735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inig persvrijheid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IJL-OMLAAG 3"/>
          <p:cNvSpPr/>
          <p:nvPr/>
        </p:nvSpPr>
        <p:spPr>
          <a:xfrm>
            <a:off x="1835280" y="1773360"/>
            <a:ext cx="485640" cy="977760"/>
          </a:xfrm>
          <a:prstGeom prst="downArrow">
            <a:avLst>
              <a:gd name="adj1" fmla="val 50000"/>
              <a:gd name="adj2" fmla="val 498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hthoek 4"/>
          <p:cNvSpPr/>
          <p:nvPr/>
        </p:nvSpPr>
        <p:spPr>
          <a:xfrm>
            <a:off x="539640" y="4292640"/>
            <a:ext cx="165600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chthebb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IJL-RECHTS 5"/>
          <p:cNvSpPr/>
          <p:nvPr/>
        </p:nvSpPr>
        <p:spPr>
          <a:xfrm>
            <a:off x="2484360" y="4581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hoek 6"/>
          <p:cNvSpPr/>
          <p:nvPr/>
        </p:nvSpPr>
        <p:spPr>
          <a:xfrm>
            <a:off x="3708360" y="4365720"/>
            <a:ext cx="1727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palen alles, 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IJL-RECHTS 7"/>
          <p:cNvSpPr/>
          <p:nvPr/>
        </p:nvSpPr>
        <p:spPr>
          <a:xfrm>
            <a:off x="5724360" y="4581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8"/>
          <p:cNvSpPr/>
          <p:nvPr/>
        </p:nvSpPr>
        <p:spPr>
          <a:xfrm>
            <a:off x="7020000" y="4365720"/>
            <a:ext cx="1584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hthoek 1"/>
          <p:cNvSpPr/>
          <p:nvPr/>
        </p:nvSpPr>
        <p:spPr>
          <a:xfrm>
            <a:off x="1116000" y="404640"/>
            <a:ext cx="309564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luriformit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2"/>
          <p:cNvSpPr/>
          <p:nvPr/>
        </p:nvSpPr>
        <p:spPr>
          <a:xfrm>
            <a:off x="755640" y="1989000"/>
            <a:ext cx="2376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erschillende programma’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Gebogen verbindingslijn 4"/>
          <p:cNvCxnSpPr/>
          <p:nvPr/>
        </p:nvCxnSpPr>
        <p:spPr>
          <a:xfrm>
            <a:off x="3276720" y="2924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07" name="Rechthoek 5"/>
          <p:cNvSpPr/>
          <p:nvPr/>
        </p:nvSpPr>
        <p:spPr>
          <a:xfrm>
            <a:off x="4716360" y="3213000"/>
            <a:ext cx="208764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end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hoek 6"/>
          <p:cNvSpPr/>
          <p:nvPr/>
        </p:nvSpPr>
        <p:spPr>
          <a:xfrm>
            <a:off x="826920" y="4508640"/>
            <a:ext cx="2232360" cy="93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atschappelijke groep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Gebogen verbindingslijn 8"/>
          <p:cNvCxnSpPr/>
          <p:nvPr/>
        </p:nvCxnSpPr>
        <p:spPr>
          <a:xfrm>
            <a:off x="3276720" y="5516640"/>
            <a:ext cx="915120" cy="915120"/>
          </a:xfrm>
          <a:prstGeom prst="bentConnector3">
            <a:avLst>
              <a:gd name="adj1" fmla="val 42817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10" name="Rechthoek 11"/>
          <p:cNvSpPr/>
          <p:nvPr/>
        </p:nvSpPr>
        <p:spPr>
          <a:xfrm>
            <a:off x="4859280" y="5516640"/>
            <a:ext cx="2016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tem laten ho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hthoek 3"/>
          <p:cNvSpPr/>
          <p:nvPr/>
        </p:nvSpPr>
        <p:spPr>
          <a:xfrm>
            <a:off x="611280" y="2924280"/>
            <a:ext cx="1296720" cy="14414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uitgeverij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IJL-RECHTS 4"/>
          <p:cNvSpPr/>
          <p:nvPr/>
        </p:nvSpPr>
        <p:spPr>
          <a:xfrm>
            <a:off x="2268360" y="350028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hthoek 5"/>
          <p:cNvSpPr/>
          <p:nvPr/>
        </p:nvSpPr>
        <p:spPr>
          <a:xfrm>
            <a:off x="3564000" y="2997360"/>
            <a:ext cx="1368360" cy="15112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erdere kranten-tijdschrif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hthoek 6"/>
          <p:cNvSpPr/>
          <p:nvPr/>
        </p:nvSpPr>
        <p:spPr>
          <a:xfrm>
            <a:off x="6588000" y="2852640"/>
            <a:ext cx="1440000" cy="15130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13 uitgeverijen ov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IJL-RECHTS 7"/>
          <p:cNvSpPr/>
          <p:nvPr/>
        </p:nvSpPr>
        <p:spPr>
          <a:xfrm>
            <a:off x="5292720" y="350028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A926-EFCC-402C-8D44-5F206800A7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rcRect l="9962" t="16363" r="16949" b="12766"/>
          <a:stretch/>
        </p:blipFill>
        <p:spPr>
          <a:xfrm>
            <a:off x="0" y="189000"/>
            <a:ext cx="9171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hoek 4"/>
          <p:cNvSpPr/>
          <p:nvPr/>
        </p:nvSpPr>
        <p:spPr>
          <a:xfrm>
            <a:off x="1763640" y="3860640"/>
            <a:ext cx="6048360" cy="201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500" spc="-1" strike="noStrike">
                <a:solidFill>
                  <a:srgbClr val="000000"/>
                </a:solidFill>
                <a:latin typeface="Arial"/>
              </a:rPr>
              <a:t>De overheid en de gedrukte media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5"/>
          <p:cNvSpPr/>
          <p:nvPr/>
        </p:nvSpPr>
        <p:spPr>
          <a:xfrm>
            <a:off x="539640" y="476280"/>
            <a:ext cx="7848720" cy="237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0" spc="-1" strike="noStrike">
                <a:solidFill>
                  <a:srgbClr val="000000"/>
                </a:solidFill>
                <a:latin typeface="Arial"/>
              </a:rPr>
              <a:t>Paragraaf 6</a:t>
            </a:r>
            <a:endParaRPr b="0" i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hthoek 4"/>
          <p:cNvSpPr/>
          <p:nvPr/>
        </p:nvSpPr>
        <p:spPr>
          <a:xfrm>
            <a:off x="2987640" y="333360"/>
            <a:ext cx="3168720" cy="86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s van massamedi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5"/>
          <p:cNvSpPr/>
          <p:nvPr/>
        </p:nvSpPr>
        <p:spPr>
          <a:xfrm>
            <a:off x="324000" y="1628640"/>
            <a:ext cx="2879640" cy="792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s voor individ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6"/>
          <p:cNvSpPr/>
          <p:nvPr/>
        </p:nvSpPr>
        <p:spPr>
          <a:xfrm>
            <a:off x="5508720" y="1628640"/>
            <a:ext cx="3384360" cy="792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atschappelijke funct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hthoek 7"/>
          <p:cNvSpPr/>
          <p:nvPr/>
        </p:nvSpPr>
        <p:spPr>
          <a:xfrm>
            <a:off x="179280" y="3429000"/>
            <a:ext cx="2376720" cy="230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Inform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Onderwij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Meningsvorm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Amuse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Recla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hthoek 11"/>
          <p:cNvSpPr/>
          <p:nvPr/>
        </p:nvSpPr>
        <p:spPr>
          <a:xfrm>
            <a:off x="2843280" y="3429000"/>
            <a:ext cx="3744720" cy="237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Democratische besluitvorm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Cultuur overdrach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Vrijetijds beste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hoek 12"/>
          <p:cNvSpPr/>
          <p:nvPr/>
        </p:nvSpPr>
        <p:spPr>
          <a:xfrm>
            <a:off x="6767640" y="3429000"/>
            <a:ext cx="2376360" cy="230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olitike agend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ontrole- of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akho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luriformitei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IJL-RECHTS 13"/>
          <p:cNvSpPr/>
          <p:nvPr/>
        </p:nvSpPr>
        <p:spPr>
          <a:xfrm rot="8079000">
            <a:off x="1790280" y="896760"/>
            <a:ext cx="979200" cy="484200"/>
          </a:xfrm>
          <a:prstGeom prst="rightArrow">
            <a:avLst>
              <a:gd name="adj1" fmla="val 50000"/>
              <a:gd name="adj2" fmla="val 5008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8124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IJL-RECHTS 14"/>
          <p:cNvSpPr/>
          <p:nvPr/>
        </p:nvSpPr>
        <p:spPr>
          <a:xfrm rot="2586600">
            <a:off x="6405120" y="8172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3614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IJL-RECHTS 15"/>
          <p:cNvSpPr/>
          <p:nvPr/>
        </p:nvSpPr>
        <p:spPr>
          <a:xfrm rot="5400000">
            <a:off x="997920" y="2682720"/>
            <a:ext cx="719280" cy="484200"/>
          </a:xfrm>
          <a:prstGeom prst="right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08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IJL-RECHTS 16"/>
          <p:cNvSpPr/>
          <p:nvPr/>
        </p:nvSpPr>
        <p:spPr>
          <a:xfrm rot="5400000">
            <a:off x="7894800" y="2697840"/>
            <a:ext cx="750960" cy="485640"/>
          </a:xfrm>
          <a:prstGeom prst="rightArrow">
            <a:avLst>
              <a:gd name="adj1" fmla="val 50000"/>
              <a:gd name="adj2" fmla="val 4989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08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IJL-RECHTS 17"/>
          <p:cNvSpPr/>
          <p:nvPr/>
        </p:nvSpPr>
        <p:spPr>
          <a:xfrm rot="7663800">
            <a:off x="5460480" y="2737800"/>
            <a:ext cx="860400" cy="485640"/>
          </a:xfrm>
          <a:prstGeom prst="rightArrow">
            <a:avLst>
              <a:gd name="adj1" fmla="val 50000"/>
              <a:gd name="adj2" fmla="val 4987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8538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hthoek 3"/>
          <p:cNvSpPr/>
          <p:nvPr/>
        </p:nvSpPr>
        <p:spPr>
          <a:xfrm>
            <a:off x="324000" y="260280"/>
            <a:ext cx="6480000" cy="1440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Onderwijs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radio en TV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leerzame 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ternet en cd-roms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ursussen en less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hthoek 4"/>
          <p:cNvSpPr/>
          <p:nvPr/>
        </p:nvSpPr>
        <p:spPr>
          <a:xfrm>
            <a:off x="250920" y="2133720"/>
            <a:ext cx="6553080" cy="17269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eningsvorming</a:t>
            </a: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talkshows en discussie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ranten en opinietijdschrift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gezonden brieven en commentaar van reda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eningsvormende functie/ opiniërende functie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hthoek 5"/>
          <p:cNvSpPr/>
          <p:nvPr/>
        </p:nvSpPr>
        <p:spPr>
          <a:xfrm>
            <a:off x="250920" y="4149720"/>
            <a:ext cx="7850160" cy="25639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395280" y="4160160"/>
            <a:ext cx="87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  <a:ea typeface="Calibri"/>
              </a:rPr>
              <a:t>Amusemen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radio en TV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radio= muziek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                 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TV= ruim 50% amusement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- quiz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Soap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Spor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Komed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Fil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Comerciele zenders 80% amuse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IJL-RECHTS 7"/>
          <p:cNvSpPr/>
          <p:nvPr/>
        </p:nvSpPr>
        <p:spPr>
          <a:xfrm>
            <a:off x="3635280" y="4797360"/>
            <a:ext cx="649440" cy="484200"/>
          </a:xfrm>
          <a:prstGeom prst="rightArrow">
            <a:avLst>
              <a:gd name="adj1" fmla="val 50000"/>
              <a:gd name="adj2" fmla="val 5014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IJL-RECHTS 8"/>
          <p:cNvSpPr/>
          <p:nvPr/>
        </p:nvSpPr>
        <p:spPr>
          <a:xfrm>
            <a:off x="2124000" y="422100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E9EB-D7CA-4D0E-91B5-43D9B1908C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9224" t="39985" r="3661" b="51161"/>
          <a:stretch/>
        </p:blipFill>
        <p:spPr>
          <a:xfrm>
            <a:off x="0" y="1700280"/>
            <a:ext cx="914400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9224" t="39985" r="42790" b="51161"/>
          <a:stretch/>
        </p:blipFill>
        <p:spPr>
          <a:xfrm>
            <a:off x="468360" y="3716280"/>
            <a:ext cx="8319960" cy="11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rcRect l="45776" t="39985" r="3661" b="51161"/>
          <a:stretch/>
        </p:blipFill>
        <p:spPr>
          <a:xfrm>
            <a:off x="468360" y="4869000"/>
            <a:ext cx="82198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hthoek 4"/>
          <p:cNvSpPr/>
          <p:nvPr/>
        </p:nvSpPr>
        <p:spPr>
          <a:xfrm>
            <a:off x="1332000" y="1197000"/>
            <a:ext cx="6553080" cy="381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Reclam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TV en posters             grappi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feervo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litse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ringt binn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ranten en tijdschriften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dvertent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ebsite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         bann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IJL-RECHTS 5"/>
          <p:cNvSpPr/>
          <p:nvPr/>
        </p:nvSpPr>
        <p:spPr>
          <a:xfrm>
            <a:off x="4932360" y="134136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IJL-RECHTS 7"/>
          <p:cNvSpPr/>
          <p:nvPr/>
        </p:nvSpPr>
        <p:spPr>
          <a:xfrm>
            <a:off x="2627280" y="3789360"/>
            <a:ext cx="2305080" cy="484200"/>
          </a:xfrm>
          <a:prstGeom prst="rightArrow">
            <a:avLst>
              <a:gd name="adj1" fmla="val 50000"/>
              <a:gd name="adj2" fmla="val 50052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RECHTS 8"/>
          <p:cNvSpPr/>
          <p:nvPr/>
        </p:nvSpPr>
        <p:spPr>
          <a:xfrm>
            <a:off x="4211640" y="314172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hthoek 3"/>
          <p:cNvSpPr/>
          <p:nvPr/>
        </p:nvSpPr>
        <p:spPr>
          <a:xfrm>
            <a:off x="250920" y="189000"/>
            <a:ext cx="6553080" cy="17272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Cultuur overdracht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doorgeven van kennis en cultuu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ijvoorbeeld: Koninginnedag en sinterkla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ocialiserende fun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4"/>
          <p:cNvSpPr/>
          <p:nvPr/>
        </p:nvSpPr>
        <p:spPr>
          <a:xfrm>
            <a:off x="250920" y="2133720"/>
            <a:ext cx="6553080" cy="1439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Vrijetijdsbesteding   </a:t>
            </a: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sinds jaren 5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ssamedia speelt hier op in, zoals amusement 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5"/>
          <p:cNvSpPr/>
          <p:nvPr/>
        </p:nvSpPr>
        <p:spPr>
          <a:xfrm>
            <a:off x="179280" y="3645000"/>
            <a:ext cx="8785440" cy="2952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Politieke agenda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dat zeg je als politici zich met een kwestie gaan bemoei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Controle- of waakhonden functie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zo noemen we het volgen en controleren van politic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Pluriformiteit: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dat het belangrijk is voor de democratie dat er veel verschillende massamedia zij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IJL-RECHTS 6"/>
          <p:cNvSpPr/>
          <p:nvPr/>
        </p:nvSpPr>
        <p:spPr>
          <a:xfrm>
            <a:off x="2411280" y="3716280"/>
            <a:ext cx="648000" cy="486000"/>
          </a:xfrm>
          <a:prstGeom prst="rightArrow">
            <a:avLst>
              <a:gd name="adj1" fmla="val 50000"/>
              <a:gd name="adj2" fmla="val 49852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IJL-RECHTS 7"/>
          <p:cNvSpPr/>
          <p:nvPr/>
        </p:nvSpPr>
        <p:spPr>
          <a:xfrm>
            <a:off x="4572000" y="458136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IJL-RECHTS 8"/>
          <p:cNvSpPr/>
          <p:nvPr/>
        </p:nvSpPr>
        <p:spPr>
          <a:xfrm>
            <a:off x="2124000" y="544500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66DE-A1B1-4F70-A85E-95EBFFACFA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" descr=""/>
          <p:cNvPicPr/>
          <p:nvPr/>
        </p:nvPicPr>
        <p:blipFill>
          <a:blip r:embed="rId2"/>
          <a:srcRect l="22888" t="23627" r="17314" b="10423"/>
          <a:stretch/>
        </p:blipFill>
        <p:spPr>
          <a:xfrm>
            <a:off x="250920" y="-20520"/>
            <a:ext cx="83167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10A0-3A23-43EB-AF44-9FD984A6B5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" descr=""/>
          <p:cNvPicPr/>
          <p:nvPr/>
        </p:nvPicPr>
        <p:blipFill>
          <a:blip r:embed="rId2"/>
          <a:srcRect l="13653" t="37032" r="10305" b="28519"/>
          <a:stretch/>
        </p:blipFill>
        <p:spPr>
          <a:xfrm>
            <a:off x="244440" y="1916280"/>
            <a:ext cx="889956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93A8-9E45-4D8B-BC09-FA887DEFA9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rcRect l="19559" t="25221" r="20640" b="15719"/>
          <a:stretch/>
        </p:blipFill>
        <p:spPr>
          <a:xfrm>
            <a:off x="395280" y="260280"/>
            <a:ext cx="80694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9AF1-BEA8-4A43-8A0E-F1C4E81982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1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rcRect l="9224" t="26206" r="12520" b="32456"/>
          <a:stretch/>
        </p:blipFill>
        <p:spPr>
          <a:xfrm>
            <a:off x="0" y="1773360"/>
            <a:ext cx="92678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24A5-FBDF-46E9-8A58-B1168013F5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" descr=""/>
          <p:cNvPicPr/>
          <p:nvPr/>
        </p:nvPicPr>
        <p:blipFill>
          <a:blip r:embed="rId2"/>
          <a:srcRect l="12915" t="30143" r="2923" b="20640"/>
          <a:stretch/>
        </p:blipFill>
        <p:spPr>
          <a:xfrm>
            <a:off x="-49320" y="1773360"/>
            <a:ext cx="9193320" cy="4032000"/>
          </a:xfrm>
          <a:prstGeom prst="rect">
            <a:avLst/>
          </a:prstGeom>
          <a:ln w="0">
            <a:noFill/>
          </a:ln>
        </p:spPr>
      </p:pic>
      <p:sp>
        <p:nvSpPr>
          <p:cNvPr id="266" name="Tekstvak 5"/>
          <p:cNvSpPr/>
          <p:nvPr/>
        </p:nvSpPr>
        <p:spPr>
          <a:xfrm>
            <a:off x="250920" y="119700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450D-418F-47D6-B166-110EF21C84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5"/>
          <p:cNvSpPr/>
          <p:nvPr/>
        </p:nvSpPr>
        <p:spPr>
          <a:xfrm>
            <a:off x="0" y="0"/>
            <a:ext cx="857268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2"/>
          <a:srcRect l="9962" t="22269" r="21378" b="9173"/>
          <a:stretch/>
        </p:blipFill>
        <p:spPr>
          <a:xfrm>
            <a:off x="0" y="476280"/>
            <a:ext cx="85201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64DF-880D-4685-A42A-A5EE8143C2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3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rcRect l="15868" t="33095" r="10305" b="24582"/>
          <a:stretch/>
        </p:blipFill>
        <p:spPr>
          <a:xfrm>
            <a:off x="0" y="2133720"/>
            <a:ext cx="91440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7F89-F9F7-4930-881E-8E62A9C9CA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7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rcRect l="7009" t="25221" r="8829" b="12766"/>
          <a:stretch/>
        </p:blipFill>
        <p:spPr>
          <a:xfrm>
            <a:off x="0" y="1197000"/>
            <a:ext cx="9121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786B-CB3A-4D16-A577-BB65A12EE8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611280" y="2060640"/>
            <a:ext cx="2913120" cy="720720"/>
          </a:xfrm>
          <a:prstGeom prst="bracePair">
            <a:avLst>
              <a:gd name="adj" fmla="val 8333"/>
            </a:avLst>
          </a:pr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Informatie Overbre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668840" y="906480"/>
            <a:ext cx="2351160" cy="5778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Zender en Ontvang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4643280" y="1824120"/>
            <a:ext cx="2376720" cy="66816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Verstuurd via een mediu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4643280" y="2852640"/>
            <a:ext cx="2376720" cy="7207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Encoderen en Decoder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Rechte verbindingslijn met pijl 14"/>
          <p:cNvCxnSpPr>
            <a:stCxn id="65" idx="3"/>
            <a:endCxn id="66" idx="1"/>
          </p:cNvCxnSpPr>
          <p:nvPr/>
        </p:nvCxnSpPr>
        <p:spPr>
          <a:xfrm flipV="1">
            <a:off x="3524040" y="1195200"/>
            <a:ext cx="1145160" cy="12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Rechte verbindingslijn met pijl 16"/>
          <p:cNvCxnSpPr>
            <a:stCxn id="65" idx="3"/>
            <a:endCxn id="67" idx="1"/>
          </p:cNvCxnSpPr>
          <p:nvPr/>
        </p:nvCxnSpPr>
        <p:spPr>
          <a:xfrm flipV="1">
            <a:off x="3524400" y="2158560"/>
            <a:ext cx="111960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Rechte verbindingslijn met pijl 18"/>
          <p:cNvCxnSpPr>
            <a:stCxn id="65" idx="3"/>
            <a:endCxn id="68" idx="1"/>
          </p:cNvCxnSpPr>
          <p:nvPr/>
        </p:nvCxnSpPr>
        <p:spPr>
          <a:xfrm>
            <a:off x="3524400" y="2421000"/>
            <a:ext cx="111960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AutoShape 35"/>
          <p:cNvSpPr/>
          <p:nvPr/>
        </p:nvSpPr>
        <p:spPr>
          <a:xfrm>
            <a:off x="4140360" y="3860640"/>
            <a:ext cx="3692520" cy="235116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Century Gothic"/>
              </a:rPr>
              <a:t>Encoderen: </a:t>
            </a: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via een medium versprei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Century Gothic"/>
              </a:rPr>
              <a:t>Decoderen: </a:t>
            </a: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De ontvanger krijgt het produc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Rechte verbindingslijn met pijl 41"/>
          <p:cNvCxnSpPr>
            <a:stCxn id="68" idx="2"/>
            <a:endCxn id="72" idx="0"/>
          </p:cNvCxnSpPr>
          <p:nvPr/>
        </p:nvCxnSpPr>
        <p:spPr>
          <a:xfrm>
            <a:off x="5832360" y="3573360"/>
            <a:ext cx="1548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kstvak 7"/>
          <p:cNvSpPr/>
          <p:nvPr/>
        </p:nvSpPr>
        <p:spPr>
          <a:xfrm>
            <a:off x="684360" y="2708280"/>
            <a:ext cx="3747960" cy="45972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onen/instell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kstvak 8"/>
          <p:cNvSpPr/>
          <p:nvPr/>
        </p:nvSpPr>
        <p:spPr>
          <a:xfrm>
            <a:off x="755640" y="3860640"/>
            <a:ext cx="3747960" cy="45972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e gaan zelf op zoe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kstvak 9"/>
          <p:cNvSpPr/>
          <p:nvPr/>
        </p:nvSpPr>
        <p:spPr>
          <a:xfrm>
            <a:off x="755640" y="5300640"/>
            <a:ext cx="374796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bureau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kstvak 37"/>
          <p:cNvSpPr/>
          <p:nvPr/>
        </p:nvSpPr>
        <p:spPr>
          <a:xfrm>
            <a:off x="684360" y="571680"/>
            <a:ext cx="7888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Rechte verbindingslijn met pijl 15"/>
          <p:cNvCxnSpPr/>
          <p:nvPr/>
        </p:nvCxnSpPr>
        <p:spPr>
          <a:xfrm>
            <a:off x="4500720" y="5444640"/>
            <a:ext cx="35892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84" name="Tekstvak 19"/>
          <p:cNvSpPr/>
          <p:nvPr/>
        </p:nvSpPr>
        <p:spPr>
          <a:xfrm>
            <a:off x="5038560" y="4869000"/>
            <a:ext cx="410544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eau dat nieuwsberichten verzameld en uitgeeft aan kranten/radi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kstvak 20"/>
          <p:cNvSpPr/>
          <p:nvPr/>
        </p:nvSpPr>
        <p:spPr>
          <a:xfrm>
            <a:off x="324000" y="1844640"/>
            <a:ext cx="522108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ournalisten krijgen informatie va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Rechte verbindingslijn met pijl 25"/>
          <p:cNvCxnSpPr/>
          <p:nvPr/>
        </p:nvCxnSpPr>
        <p:spPr>
          <a:xfrm flipH="1">
            <a:off x="1855440" y="428400"/>
            <a:ext cx="2160" cy="214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87" name="Vorm 36"/>
          <p:cNvCxnSpPr>
            <a:endCxn id="280" idx="1"/>
          </p:cNvCxnSpPr>
          <p:nvPr/>
        </p:nvCxnSpPr>
        <p:spPr>
          <a:xfrm flipH="1" rot="16200000">
            <a:off x="-476280" y="2860200"/>
            <a:ext cx="1959480" cy="5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8" name="Vorm 39"/>
          <p:cNvCxnSpPr>
            <a:endCxn id="281" idx="1"/>
          </p:cNvCxnSpPr>
          <p:nvPr/>
        </p:nvCxnSpPr>
        <p:spPr>
          <a:xfrm flipH="1" rot="16200000">
            <a:off x="-1196280" y="3580200"/>
            <a:ext cx="3399480" cy="5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9" name="Vorm 42"/>
          <p:cNvCxnSpPr>
            <a:endCxn id="279" idx="1"/>
          </p:cNvCxnSpPr>
          <p:nvPr/>
        </p:nvCxnSpPr>
        <p:spPr>
          <a:xfrm flipH="1" rot="16200000">
            <a:off x="64440" y="2319840"/>
            <a:ext cx="807120" cy="43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kstvak 24"/>
          <p:cNvSpPr/>
          <p:nvPr/>
        </p:nvSpPr>
        <p:spPr>
          <a:xfrm>
            <a:off x="1187280" y="1341360"/>
            <a:ext cx="727236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komt er in de kranten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komt er in het journaal?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uws wordt gekozen door 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kstvak 30"/>
          <p:cNvSpPr/>
          <p:nvPr/>
        </p:nvSpPr>
        <p:spPr>
          <a:xfrm>
            <a:off x="1908000" y="2781360"/>
            <a:ext cx="350064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actualit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kstvak 32"/>
          <p:cNvSpPr/>
          <p:nvPr/>
        </p:nvSpPr>
        <p:spPr>
          <a:xfrm>
            <a:off x="1908000" y="5373720"/>
            <a:ext cx="59770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eigen identiteit van krant,omgroep of zend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kstvak 33"/>
          <p:cNvSpPr/>
          <p:nvPr/>
        </p:nvSpPr>
        <p:spPr>
          <a:xfrm>
            <a:off x="1908000" y="4724280"/>
            <a:ext cx="597708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speciale belangstelling van doelgroe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kstvak 34"/>
          <p:cNvSpPr/>
          <p:nvPr/>
        </p:nvSpPr>
        <p:spPr>
          <a:xfrm>
            <a:off x="1908000" y="4076640"/>
            <a:ext cx="5904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nabijheid van een nieuwsf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kstvak 35"/>
          <p:cNvSpPr/>
          <p:nvPr/>
        </p:nvSpPr>
        <p:spPr>
          <a:xfrm>
            <a:off x="1908000" y="3429000"/>
            <a:ext cx="5904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et bijzonder van de gebeurten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kstvak 37"/>
          <p:cNvSpPr/>
          <p:nvPr/>
        </p:nvSpPr>
        <p:spPr>
          <a:xfrm>
            <a:off x="1116000" y="571680"/>
            <a:ext cx="7456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Vorm 26"/>
          <p:cNvCxnSpPr>
            <a:endCxn id="291" idx="1"/>
          </p:cNvCxnSpPr>
          <p:nvPr/>
        </p:nvCxnSpPr>
        <p:spPr>
          <a:xfrm flipH="1" rot="16200000">
            <a:off x="1023840" y="2080800"/>
            <a:ext cx="977040" cy="792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8" name="Vorm 29"/>
          <p:cNvCxnSpPr>
            <a:endCxn id="295" idx="1"/>
          </p:cNvCxnSpPr>
          <p:nvPr/>
        </p:nvCxnSpPr>
        <p:spPr>
          <a:xfrm flipH="1" rot="16200000">
            <a:off x="676800" y="2427480"/>
            <a:ext cx="1670760" cy="792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9" name="Vorm 36"/>
          <p:cNvCxnSpPr>
            <a:stCxn id="290" idx="1"/>
            <a:endCxn id="294" idx="1"/>
          </p:cNvCxnSpPr>
          <p:nvPr/>
        </p:nvCxnSpPr>
        <p:spPr>
          <a:xfrm flipH="1" flipV="1" rot="10800000">
            <a:off x="1186920" y="1940400"/>
            <a:ext cx="721440" cy="236772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0" name="Gebogen verbindingslijn 41"/>
          <p:cNvCxnSpPr>
            <a:stCxn id="290" idx="1"/>
            <a:endCxn id="293" idx="1"/>
          </p:cNvCxnSpPr>
          <p:nvPr/>
        </p:nvCxnSpPr>
        <p:spPr>
          <a:xfrm flipH="1" flipV="1" rot="10800000">
            <a:off x="1186920" y="1941120"/>
            <a:ext cx="721440" cy="301536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1" name="Gebogen verbindingslijn 44"/>
          <p:cNvCxnSpPr>
            <a:stCxn id="290" idx="1"/>
            <a:endCxn id="292" idx="1"/>
          </p:cNvCxnSpPr>
          <p:nvPr/>
        </p:nvCxnSpPr>
        <p:spPr>
          <a:xfrm flipH="1" flipV="1" rot="10800000">
            <a:off x="1186920" y="1940400"/>
            <a:ext cx="721440" cy="384732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kstvak 4"/>
          <p:cNvSpPr/>
          <p:nvPr/>
        </p:nvSpPr>
        <p:spPr>
          <a:xfrm>
            <a:off x="2363760" y="1125360"/>
            <a:ext cx="22716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ijzondere beri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5"/>
          <p:cNvSpPr/>
          <p:nvPr/>
        </p:nvSpPr>
        <p:spPr>
          <a:xfrm>
            <a:off x="5292720" y="1125360"/>
            <a:ext cx="21510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nverwachte beri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Rechte verbindingslijn met pijl 7"/>
          <p:cNvCxnSpPr/>
          <p:nvPr/>
        </p:nvCxnSpPr>
        <p:spPr>
          <a:xfrm>
            <a:off x="3792600" y="1839960"/>
            <a:ext cx="71496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305" name="Rechte verbindingslijn met pijl 9"/>
          <p:cNvCxnSpPr/>
          <p:nvPr/>
        </p:nvCxnSpPr>
        <p:spPr>
          <a:xfrm flipH="1">
            <a:off x="5363640" y="1839960"/>
            <a:ext cx="92952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06" name="Tekstvak 10"/>
          <p:cNvSpPr/>
          <p:nvPr/>
        </p:nvSpPr>
        <p:spPr>
          <a:xfrm>
            <a:off x="3772080" y="3191040"/>
            <a:ext cx="25714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uwsgierige lez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Rechte verbindingslijn met pijl 12"/>
          <p:cNvCxnSpPr/>
          <p:nvPr/>
        </p:nvCxnSpPr>
        <p:spPr>
          <a:xfrm flipH="1">
            <a:off x="4995000" y="3983040"/>
            <a:ext cx="1080" cy="427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08" name="Tekstvak 13"/>
          <p:cNvSpPr/>
          <p:nvPr/>
        </p:nvSpPr>
        <p:spPr>
          <a:xfrm>
            <a:off x="3792600" y="4411800"/>
            <a:ext cx="242892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ordt goed beke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2"/>
          <p:cNvSpPr/>
          <p:nvPr/>
        </p:nvSpPr>
        <p:spPr>
          <a:xfrm>
            <a:off x="971640" y="404640"/>
            <a:ext cx="7456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kstvak 16"/>
          <p:cNvSpPr/>
          <p:nvPr/>
        </p:nvSpPr>
        <p:spPr>
          <a:xfrm>
            <a:off x="1979640" y="1341360"/>
            <a:ext cx="66960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ulpmiddelen om zo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bjectief mogelijk te zij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Rechte verbindingslijn met pijl 20"/>
          <p:cNvCxnSpPr/>
          <p:nvPr/>
        </p:nvCxnSpPr>
        <p:spPr>
          <a:xfrm flipH="1">
            <a:off x="1834920" y="2133360"/>
            <a:ext cx="194400" cy="1680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12" name="Tekstvak 21"/>
          <p:cNvSpPr/>
          <p:nvPr/>
        </p:nvSpPr>
        <p:spPr>
          <a:xfrm>
            <a:off x="971640" y="3860640"/>
            <a:ext cx="149868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bjectie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Rechte verbindingslijn met pijl 23"/>
          <p:cNvCxnSpPr/>
          <p:nvPr/>
        </p:nvCxnSpPr>
        <p:spPr>
          <a:xfrm flipH="1">
            <a:off x="1618560" y="4292280"/>
            <a:ext cx="7380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14" name="Tekstvak 24"/>
          <p:cNvSpPr/>
          <p:nvPr/>
        </p:nvSpPr>
        <p:spPr>
          <a:xfrm>
            <a:off x="468360" y="4653000"/>
            <a:ext cx="23572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onder mening,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kstvak 27"/>
          <p:cNvSpPr/>
          <p:nvPr/>
        </p:nvSpPr>
        <p:spPr>
          <a:xfrm>
            <a:off x="4356000" y="2565360"/>
            <a:ext cx="424836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akt een scheiding tussen feiten en men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kstvak 28"/>
          <p:cNvSpPr/>
          <p:nvPr/>
        </p:nvSpPr>
        <p:spPr>
          <a:xfrm>
            <a:off x="4427640" y="3645000"/>
            <a:ext cx="417672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iest passende woorden en beel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kstvak 29"/>
          <p:cNvSpPr/>
          <p:nvPr/>
        </p:nvSpPr>
        <p:spPr>
          <a:xfrm>
            <a:off x="4427640" y="4724280"/>
            <a:ext cx="4248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ast hoor en wederhoor to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kstvak 30"/>
          <p:cNvSpPr/>
          <p:nvPr/>
        </p:nvSpPr>
        <p:spPr>
          <a:xfrm>
            <a:off x="4427640" y="5445000"/>
            <a:ext cx="4248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ebruikt meerdere bron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Vorm 32"/>
          <p:cNvCxnSpPr>
            <a:stCxn id="310" idx="2"/>
            <a:endCxn id="315" idx="1"/>
          </p:cNvCxnSpPr>
          <p:nvPr/>
        </p:nvCxnSpPr>
        <p:spPr>
          <a:xfrm rot="5400000">
            <a:off x="4453560" y="2106360"/>
            <a:ext cx="775440" cy="972360"/>
          </a:xfrm>
          <a:prstGeom prst="bentConnector4">
            <a:avLst>
              <a:gd name="adj1" fmla="val 23176"/>
              <a:gd name="adj2" fmla="val 12348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0" name="Vorm 34"/>
          <p:cNvCxnSpPr>
            <a:endCxn id="316" idx="1"/>
          </p:cNvCxnSpPr>
          <p:nvPr/>
        </p:nvCxnSpPr>
        <p:spPr>
          <a:xfrm flipH="1" rot="16200000">
            <a:off x="3607560" y="3240360"/>
            <a:ext cx="135324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1" name="Vorm 36"/>
          <p:cNvCxnSpPr>
            <a:endCxn id="317" idx="1"/>
          </p:cNvCxnSpPr>
          <p:nvPr/>
        </p:nvCxnSpPr>
        <p:spPr>
          <a:xfrm flipH="1" rot="16200000">
            <a:off x="3160080" y="3688200"/>
            <a:ext cx="224856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2" name="Vorm 38"/>
          <p:cNvCxnSpPr>
            <a:endCxn id="318" idx="1"/>
          </p:cNvCxnSpPr>
          <p:nvPr/>
        </p:nvCxnSpPr>
        <p:spPr>
          <a:xfrm flipH="1" rot="16200000">
            <a:off x="2800440" y="4047840"/>
            <a:ext cx="296784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23" name="Tekstvak 39"/>
          <p:cNvSpPr/>
          <p:nvPr/>
        </p:nvSpPr>
        <p:spPr>
          <a:xfrm>
            <a:off x="1116000" y="476280"/>
            <a:ext cx="7456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DA96-CF8A-4023-96B3-D8978187FC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692280"/>
            <a:ext cx="5977080" cy="1881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3"/>
          <a:srcRect l="37467" t="29921" r="38634" b="64641"/>
          <a:stretch/>
        </p:blipFill>
        <p:spPr>
          <a:xfrm>
            <a:off x="1476360" y="4149720"/>
            <a:ext cx="5904000" cy="1008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" descr=""/>
          <p:cNvPicPr/>
          <p:nvPr/>
        </p:nvPicPr>
        <p:blipFill>
          <a:blip r:embed="rId4"/>
          <a:srcRect l="20083" t="39606" r="59812" b="54035"/>
          <a:stretch/>
        </p:blipFill>
        <p:spPr>
          <a:xfrm>
            <a:off x="1619280" y="2781360"/>
            <a:ext cx="4248000" cy="1008000"/>
          </a:xfrm>
          <a:prstGeom prst="rect">
            <a:avLst/>
          </a:prstGeom>
          <a:ln w="0">
            <a:noFill/>
          </a:ln>
        </p:spPr>
      </p:pic>
      <p:cxnSp>
        <p:nvCxnSpPr>
          <p:cNvPr id="329" name="Gekromde verbindingslijn 7"/>
          <p:cNvCxnSpPr/>
          <p:nvPr/>
        </p:nvCxnSpPr>
        <p:spPr>
          <a:xfrm>
            <a:off x="755640" y="2492280"/>
            <a:ext cx="915120" cy="915120"/>
          </a:xfrm>
          <a:prstGeom prst="curvedConnector5">
            <a:avLst>
              <a:gd name="adj1" fmla="val 49980"/>
              <a:gd name="adj2" fmla="val 4998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Gekromde verbindingslijn 9"/>
          <p:cNvCxnSpPr/>
          <p:nvPr/>
        </p:nvCxnSpPr>
        <p:spPr>
          <a:xfrm flipH="1" rot="16200000">
            <a:off x="-73440" y="3393000"/>
            <a:ext cx="2304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8D20-C17D-47C5-ABEB-91F406728F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836640"/>
            <a:ext cx="3662280" cy="1152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3"/>
          <a:srcRect l="11811" t="29532" r="15838" b="28145"/>
          <a:stretch/>
        </p:blipFill>
        <p:spPr>
          <a:xfrm>
            <a:off x="395280" y="2133720"/>
            <a:ext cx="8534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4412-395E-4CCD-A472-4E76A10340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836640"/>
            <a:ext cx="3662280" cy="1152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" descr=""/>
          <p:cNvPicPr/>
          <p:nvPr/>
        </p:nvPicPr>
        <p:blipFill>
          <a:blip r:embed="rId3"/>
          <a:srcRect l="12177" t="39154" r="54582" b="21624"/>
          <a:stretch/>
        </p:blipFill>
        <p:spPr>
          <a:xfrm>
            <a:off x="152280" y="2276640"/>
            <a:ext cx="49960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6F78-E1FF-4C0D-8B51-2E371257CF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28524" t="21314" r="33296" b="15044"/>
          <a:stretch/>
        </p:blipFill>
        <p:spPr>
          <a:xfrm>
            <a:off x="1403280" y="0"/>
            <a:ext cx="5472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33AA-B9CA-4B96-8E47-9568D4DBB9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2"/>
          <a:srcRect l="7747" t="23253" r="16211" b="9813"/>
          <a:stretch/>
        </p:blipFill>
        <p:spPr>
          <a:xfrm>
            <a:off x="179280" y="404640"/>
            <a:ext cx="8726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0BD3-43D0-4B7C-A0E4-CEC08EA8F1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2"/>
          <a:srcRect l="11438" t="24237" r="19906" b="15719"/>
          <a:stretch/>
        </p:blipFill>
        <p:spPr>
          <a:xfrm>
            <a:off x="0" y="549360"/>
            <a:ext cx="87822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C4F5-C2FF-4FB9-8F9E-604D4A8C50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rcRect l="6441" t="31299" r="15303" b="18499"/>
          <a:stretch/>
        </p:blipFill>
        <p:spPr>
          <a:xfrm>
            <a:off x="0" y="907920"/>
            <a:ext cx="9279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EF11-8580-4271-8099-0B655C4375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"/>
          <p:cNvSpPr/>
          <p:nvPr/>
        </p:nvSpPr>
        <p:spPr>
          <a:xfrm>
            <a:off x="2771640" y="404640"/>
            <a:ext cx="3381480" cy="1070280"/>
          </a:xfrm>
          <a:prstGeom prst="bracePair">
            <a:avLst>
              <a:gd name="adj" fmla="val 8333"/>
            </a:avLst>
          </a:pr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Communicatievorm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258920" y="2205000"/>
            <a:ext cx="1728720" cy="11527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Directe en Indirect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935440" y="2190600"/>
            <a:ext cx="2247840" cy="116388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Verbale en non-verbal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4802040" y="2289240"/>
            <a:ext cx="2649600" cy="9954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Eenzijdige en Meerzijdig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1258920" y="3573360"/>
            <a:ext cx="1873080" cy="136836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Directe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: Elkaar zien, Face-to-facecontac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403280" y="5157720"/>
            <a:ext cx="1760760" cy="130824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Indirecte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: Via telefoon of compu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3276720" y="3645000"/>
            <a:ext cx="1942920" cy="1350720"/>
          </a:xfrm>
          <a:prstGeom prst="bracePair">
            <a:avLst>
              <a:gd name="adj" fmla="val 0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Verbale: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Vertellen wat we belev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3348000" y="5084640"/>
            <a:ext cx="2016000" cy="177336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Non-verbale: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Muziek, schilderijen en lichaamst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5288040" y="3716280"/>
            <a:ext cx="2597040" cy="122544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Eenzijdige: 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Zender geeft informatie aan ontvang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5364000" y="5482440"/>
            <a:ext cx="2592720" cy="97020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Meerzijdige: 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Iedereen is zender en ontvang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Rechte verbindingslijn met pijl 15"/>
          <p:cNvCxnSpPr>
            <a:stCxn id="80" idx="2"/>
          </p:cNvCxnSpPr>
          <p:nvPr/>
        </p:nvCxnSpPr>
        <p:spPr>
          <a:xfrm flipH="1">
            <a:off x="2123640" y="1474920"/>
            <a:ext cx="2339280" cy="66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Rechte verbindingslijn met pijl 17"/>
          <p:cNvCxnSpPr>
            <a:stCxn id="80" idx="2"/>
          </p:cNvCxnSpPr>
          <p:nvPr/>
        </p:nvCxnSpPr>
        <p:spPr>
          <a:xfrm>
            <a:off x="4461480" y="1474560"/>
            <a:ext cx="3960" cy="74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Rechte verbindingslijn met pijl 19"/>
          <p:cNvCxnSpPr>
            <a:stCxn id="80" idx="2"/>
            <a:endCxn id="83" idx="0"/>
          </p:cNvCxnSpPr>
          <p:nvPr/>
        </p:nvCxnSpPr>
        <p:spPr>
          <a:xfrm>
            <a:off x="4462560" y="1474920"/>
            <a:ext cx="1666080" cy="8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Rechte verbindingslijn met pijl 21"/>
          <p:cNvCxnSpPr>
            <a:stCxn id="81" idx="2"/>
            <a:endCxn id="84" idx="0"/>
          </p:cNvCxnSpPr>
          <p:nvPr/>
        </p:nvCxnSpPr>
        <p:spPr>
          <a:xfrm>
            <a:off x="2122920" y="3357360"/>
            <a:ext cx="72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Rechte verbindingslijn met pijl 23"/>
          <p:cNvCxnSpPr>
            <a:stCxn id="82" idx="2"/>
          </p:cNvCxnSpPr>
          <p:nvPr/>
        </p:nvCxnSpPr>
        <p:spPr>
          <a:xfrm>
            <a:off x="4059360" y="3354120"/>
            <a:ext cx="226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Rechte verbindingslijn met pijl 25"/>
          <p:cNvCxnSpPr>
            <a:stCxn id="83" idx="2"/>
            <a:endCxn id="88" idx="0"/>
          </p:cNvCxnSpPr>
          <p:nvPr/>
        </p:nvCxnSpPr>
        <p:spPr>
          <a:xfrm>
            <a:off x="6127920" y="3284280"/>
            <a:ext cx="4593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Rechte verbindingslijn met pijl 27"/>
          <p:cNvCxnSpPr>
            <a:stCxn id="84" idx="2"/>
            <a:endCxn id="85" idx="0"/>
          </p:cNvCxnSpPr>
          <p:nvPr/>
        </p:nvCxnSpPr>
        <p:spPr>
          <a:xfrm>
            <a:off x="2195640" y="4941720"/>
            <a:ext cx="878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Rechte verbindingslijn met pijl 29"/>
          <p:cNvCxnSpPr>
            <a:stCxn id="86" idx="2"/>
            <a:endCxn id="87" idx="0"/>
          </p:cNvCxnSpPr>
          <p:nvPr/>
        </p:nvCxnSpPr>
        <p:spPr>
          <a:xfrm>
            <a:off x="4248000" y="4995360"/>
            <a:ext cx="10872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Rechte verbindingslijn met pijl 31"/>
          <p:cNvCxnSpPr>
            <a:endCxn id="89" idx="0"/>
          </p:cNvCxnSpPr>
          <p:nvPr/>
        </p:nvCxnSpPr>
        <p:spPr>
          <a:xfrm>
            <a:off x="6585480" y="4869000"/>
            <a:ext cx="7380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11A6-F7E6-4F40-8ACF-09EF34F91F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"/>
          <p:cNvPicPr/>
          <p:nvPr/>
        </p:nvPicPr>
        <p:blipFill>
          <a:blip r:embed="rId2"/>
          <a:srcRect l="5533" t="25221" r="3661" b="16703"/>
          <a:stretch/>
        </p:blipFill>
        <p:spPr>
          <a:xfrm>
            <a:off x="0" y="907920"/>
            <a:ext cx="93074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A8A9-DB11-4E9E-B974-09F8509074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13653" t="28174" r="19167" b="10797"/>
          <a:stretch/>
        </p:blipFill>
        <p:spPr>
          <a:xfrm>
            <a:off x="395280" y="1197000"/>
            <a:ext cx="83091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56B8-5E75-4A0D-A449-373150C587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411280" y="2492280"/>
            <a:ext cx="4392720" cy="505080"/>
          </a:xfrm>
          <a:prstGeom prst="rect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andelijk: binnen &amp; Buitenlan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411280" y="1773360"/>
            <a:ext cx="4392720" cy="50328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ionaal: vooral plaatselijk nieuw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411280" y="3213000"/>
            <a:ext cx="439272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pulaire kranten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3141720"/>
            <a:ext cx="1440000" cy="42840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rant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411280" y="4724280"/>
            <a:ext cx="3024360" cy="505080"/>
          </a:xfrm>
          <a:prstGeom prst="rect">
            <a:avLst/>
          </a:prstGeom>
          <a:gradFill rotWithShape="0">
            <a:gsLst>
              <a:gs pos="0">
                <a:srgbClr val="8064a2"/>
              </a:gs>
              <a:gs pos="100000">
                <a:srgbClr val="5e487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uis-aan-Huis bla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411280" y="3933720"/>
            <a:ext cx="4681800" cy="574920"/>
          </a:xfrm>
          <a:prstGeom prst="rect">
            <a:avLst/>
          </a:prstGeom>
          <a:gradFill rotWithShape="0">
            <a:gsLst>
              <a:gs pos="0">
                <a:srgbClr val="f79646"/>
              </a:gs>
              <a:gs pos="100000">
                <a:srgbClr val="df6a0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Kwaliteits kranten/ kader kranten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411280" y="5373720"/>
            <a:ext cx="3240360" cy="38088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74903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bbonnementskra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411280" y="5877000"/>
            <a:ext cx="1971720" cy="4381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ratis kra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Gebogen verbindingslijn 13"/>
          <p:cNvCxnSpPr>
            <a:stCxn id="110" idx="3"/>
            <a:endCxn id="108" idx="1"/>
          </p:cNvCxnSpPr>
          <p:nvPr/>
        </p:nvCxnSpPr>
        <p:spPr>
          <a:xfrm flipV="1">
            <a:off x="1835280" y="2023560"/>
            <a:ext cx="576360" cy="133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6" name="Gebogen verbindingslijn 15"/>
          <p:cNvCxnSpPr>
            <a:endCxn id="107" idx="1"/>
          </p:cNvCxnSpPr>
          <p:nvPr/>
        </p:nvCxnSpPr>
        <p:spPr>
          <a:xfrm>
            <a:off x="2124000" y="2636640"/>
            <a:ext cx="288000" cy="1083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7" name="Vorm 17"/>
          <p:cNvCxnSpPr>
            <a:endCxn id="109" idx="1"/>
          </p:cNvCxnSpPr>
          <p:nvPr/>
        </p:nvCxnSpPr>
        <p:spPr>
          <a:xfrm flipH="1" rot="16200000">
            <a:off x="1853280" y="2907000"/>
            <a:ext cx="82908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8" name="Vorm 20"/>
          <p:cNvCxnSpPr>
            <a:endCxn id="112" idx="1"/>
          </p:cNvCxnSpPr>
          <p:nvPr/>
        </p:nvCxnSpPr>
        <p:spPr>
          <a:xfrm flipH="1" rot="16200000">
            <a:off x="1475640" y="3285000"/>
            <a:ext cx="158472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9" name="Vorm 22"/>
          <p:cNvCxnSpPr>
            <a:endCxn id="111" idx="1"/>
          </p:cNvCxnSpPr>
          <p:nvPr/>
        </p:nvCxnSpPr>
        <p:spPr>
          <a:xfrm flipH="1" rot="16200000">
            <a:off x="1097640" y="3662640"/>
            <a:ext cx="234036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0" name="Vorm 24"/>
          <p:cNvCxnSpPr>
            <a:endCxn id="113" idx="1"/>
          </p:cNvCxnSpPr>
          <p:nvPr/>
        </p:nvCxnSpPr>
        <p:spPr>
          <a:xfrm flipH="1" rot="16200000">
            <a:off x="803880" y="3956400"/>
            <a:ext cx="292788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1" name="Vorm 26"/>
          <p:cNvCxnSpPr>
            <a:endCxn id="114" idx="1"/>
          </p:cNvCxnSpPr>
          <p:nvPr/>
        </p:nvCxnSpPr>
        <p:spPr>
          <a:xfrm flipH="1" rot="16200000">
            <a:off x="538200" y="4222440"/>
            <a:ext cx="345960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10-12-13T08:12:15Z</dcterms:modified>
  <cp:revision>149</cp:revision>
  <dc:subject/>
  <dc:title>Dia 1</dc:title>
</cp:coreProperties>
</file>