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DF2D-D52D-4CD8-9FCF-43D185A624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6BDE-497A-46FB-87C5-DEC6B8E0F38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79F5-E019-4BD4-A1E0-0BB647EA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07F-B43F-4D1B-8E55-B4658CB6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4F8-BDAE-4E64-AA87-6F8D9B50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E7B-8D27-4990-B19E-CC931A17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9A2-A238-4149-AFEE-E3CC0342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FEB-45D2-436F-BF3B-D2F3A21F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06B-42D2-482A-8071-D83EA720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2A0-EBA7-41E7-91FC-489D90A0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91F-438F-4022-8340-7A65860A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882-ACB3-4EA3-8F85-B4EB28E4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970-C3BF-4A88-A2EA-836A3D9E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E08-AC45-4E5D-9324-F8AB2E16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5A51-400D-4A23-8E3A-326373865D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A6AC-90E6-446D-90EA-93E0F0B572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1: Communicatie en 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: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3: Radio, Televisie en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4: Technologisch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5: Functies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6: De overheid en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7: Overheidsregels voor omroepen en z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8: Nieu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9: De macht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9640" y="4046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k: Massamed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sche samenvat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5600-CC6C-4124-A838-20FBE58756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6271" t="31127" r="6253" b="30487"/>
          <a:stretch/>
        </p:blipFill>
        <p:spPr>
          <a:xfrm>
            <a:off x="0" y="2421000"/>
            <a:ext cx="918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9129-BCA3-4EA1-ABCF-857A763181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795" t="34080" r="19906" b="18671"/>
          <a:stretch/>
        </p:blipFill>
        <p:spPr>
          <a:xfrm>
            <a:off x="468360" y="1628640"/>
            <a:ext cx="8262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060D-725A-4160-AD1A-6B646D22A2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3: Radio, televisie en intern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332000" y="1341360"/>
            <a:ext cx="5327640" cy="398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er soorten televisie en radiozender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0" y="1916280"/>
            <a:ext cx="2016000" cy="192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 Publieke omroepen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Opgericht 192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Zendtijd= zuil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1951 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050920" y="1916280"/>
            <a:ext cx="2293920" cy="222840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2. Commerciële zender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Hoofddoel = winst (willen geld verdien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1989 </a:t>
            </a: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356000" y="1916280"/>
            <a:ext cx="2252880" cy="375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 Regionale en lokalen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Verdienen geld met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Krijgen subsidies van gemeentes op provinc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Lokale en regionale zenders brengen vooral plaatselijk nieuw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659640" y="1916280"/>
            <a:ext cx="2252520" cy="43628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4. internationale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Ze richten zich op internationale zenders. Zoals CNN en Discovery channe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De Wereldomroep is een bijzondere Nederlandse publieke omroep. Die wereldwijd nieuws uitzen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D8BB-5FFD-4957-BE9D-EBC3DA6A21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22511" t="22269" r="21378" b="10797"/>
          <a:stretch/>
        </p:blipFill>
        <p:spPr>
          <a:xfrm>
            <a:off x="826920" y="0"/>
            <a:ext cx="756144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5FDB-3550-448F-AA86-995B3DFDA9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214200" y="907920"/>
            <a:ext cx="8534520" cy="4321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ternet 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ontstond door de internationale politiek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In de jaren 90 was het “gebruiksvriendelijk”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ankzij internet heb je toegang tot verschillende massamedia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e intern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ul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deze functies van de media: informatie, meningsvorming, amusement, en onderwijs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97EB-8AAA-4D87-AFAF-B46680A3E2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rcRect l="32850" t="22269" r="33931" b="9813"/>
          <a:stretch/>
        </p:blipFill>
        <p:spPr>
          <a:xfrm>
            <a:off x="2411280" y="0"/>
            <a:ext cx="44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1656-37F8-4468-BE13-17DED3F921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257480"/>
            <a:ext cx="8893080" cy="8031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heeft te maken met de ontwikkeling van nieuwe apparaten.  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zorgt ervoor dat de wereld kleiner en goedkoper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2349360"/>
            <a:ext cx="4643280" cy="450864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Gevolgen voor de gedrukte media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technologische ontwikkeling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heeft gevolgen voor 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Betere/Snellere Communica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Koppeling kranten/ tijdschriften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Door die koppeling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meer interactieve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mogelijkheden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Snelheid van communicatie veel groter, d.m.v bijv. mailen van nieuwsberichten.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Nieuwsberichten worden digitaal opgeslagen in computersystemen, zodat mensen het kunnen lezen in archie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716360" y="2565360"/>
            <a:ext cx="2664000" cy="374328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Gevolgen voor Radio en TV</a:t>
            </a:r>
            <a:br>
              <a:rPr sz="1800"/>
            </a:b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Meer krant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t interactieve en crossmedia mogelijkheden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kanal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interactieve crossmedia mogelijkhe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488360" y="2492280"/>
            <a:ext cx="1655640" cy="366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Gevolgen van Intern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wereld wordt steeds kleine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Er is toename van persoonlijke en onpersoonlijke contac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gevaren en verleidingen nemen to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Vorm 12"/>
          <p:cNvCxnSpPr>
            <a:stCxn id="149" idx="2"/>
          </p:cNvCxnSpPr>
          <p:nvPr/>
        </p:nvCxnSpPr>
        <p:spPr>
          <a:xfrm rot="5400000">
            <a:off x="3337560" y="917640"/>
            <a:ext cx="216720" cy="2502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Gebogen verbindingslijn 14"/>
          <p:cNvCxnSpPr>
            <a:stCxn id="149" idx="2"/>
            <a:endCxn id="151" idx="0"/>
          </p:cNvCxnSpPr>
          <p:nvPr/>
        </p:nvCxnSpPr>
        <p:spPr>
          <a:xfrm flipH="1" rot="16200000">
            <a:off x="5119560" y="1637280"/>
            <a:ext cx="505440" cy="1351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Gebogen verbindingslijn 16"/>
          <p:cNvCxnSpPr>
            <a:stCxn id="149" idx="2"/>
            <a:endCxn id="152" idx="0"/>
          </p:cNvCxnSpPr>
          <p:nvPr/>
        </p:nvCxnSpPr>
        <p:spPr>
          <a:xfrm flipH="1" rot="16200000">
            <a:off x="6290280" y="466920"/>
            <a:ext cx="432360" cy="361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C57-0755-4969-B296-2A4C82FC90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50920" y="1989000"/>
            <a:ext cx="2808360" cy="3888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mbria"/>
              </a:rPr>
              <a:t>Crossmedia en Interac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Kranten en tijdschriften hebben bijv. ook een eigen website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Cross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Websites van bekende massamedia 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Interactie.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Bijv. chatblogs enz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76720" y="1916280"/>
            <a:ext cx="2274840" cy="3143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Concurrentie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Door de vele technische mogelijkheden is er tussen kranten, tijdschriften, omroepen en zenders steeds meer concurren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724360" y="1844640"/>
            <a:ext cx="2941920" cy="501336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Gevaren en Verleid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heeft ook gevaren; zo kunnen hackers bijvoorbeeld je hotmail hacken en je email lezen.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media houden hun doelgroep  goed in de ga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Je hebt naast gevaren ook verleidingen; zoals bijvoorbeeld veel kopen op webshops, zo kunnen mensen in schulden rak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Gebogen verbindingslijn 11"/>
          <p:cNvCxnSpPr>
            <a:stCxn id="158" idx="2"/>
            <a:endCxn id="159" idx="0"/>
          </p:cNvCxnSpPr>
          <p:nvPr/>
        </p:nvCxnSpPr>
        <p:spPr>
          <a:xfrm rot="5400000">
            <a:off x="2628360" y="252000"/>
            <a:ext cx="764280" cy="271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" name="Vorm 13"/>
          <p:cNvCxnSpPr>
            <a:endCxn id="160" idx="0"/>
          </p:cNvCxnSpPr>
          <p:nvPr/>
        </p:nvCxnSpPr>
        <p:spPr>
          <a:xfrm>
            <a:off x="3058920" y="1628280"/>
            <a:ext cx="1354680" cy="28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4" name="Vorm 15"/>
          <p:cNvCxnSpPr>
            <a:endCxn id="161" idx="0"/>
          </p:cNvCxnSpPr>
          <p:nvPr/>
        </p:nvCxnSpPr>
        <p:spPr>
          <a:xfrm>
            <a:off x="3058920" y="1628640"/>
            <a:ext cx="4135680" cy="2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hthoek 3"/>
          <p:cNvSpPr/>
          <p:nvPr/>
        </p:nvSpPr>
        <p:spPr>
          <a:xfrm>
            <a:off x="468360" y="907920"/>
            <a:ext cx="792000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5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4"/>
          <p:cNvSpPr/>
          <p:nvPr/>
        </p:nvSpPr>
        <p:spPr>
          <a:xfrm>
            <a:off x="971640" y="3860640"/>
            <a:ext cx="684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Functies van d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7D13-EA92-4AFE-B042-B4A5658002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19040" y="1938240"/>
            <a:ext cx="3143160" cy="1166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Functies voor het individ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is de massamedia in het dagelijks 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5435640" y="2060640"/>
            <a:ext cx="3435480" cy="2738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Maatschappelijke funct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t ontwikkelen en voortbestaan van de hele samenlev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mocratische besluitvorm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Cultuuroverdrach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vrijetijdsbested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33440" y="709560"/>
            <a:ext cx="561492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uncties van de samenleving (5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4"/>
          <p:cNvCxnSpPr/>
          <p:nvPr/>
        </p:nvCxnSpPr>
        <p:spPr>
          <a:xfrm flipH="1">
            <a:off x="1866600" y="1390680"/>
            <a:ext cx="38160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5"/>
          <p:cNvCxnSpPr/>
          <p:nvPr/>
        </p:nvCxnSpPr>
        <p:spPr>
          <a:xfrm>
            <a:off x="4304880" y="1390680"/>
            <a:ext cx="322020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AutoShape 6"/>
          <p:cNvSpPr/>
          <p:nvPr/>
        </p:nvSpPr>
        <p:spPr>
          <a:xfrm>
            <a:off x="324000" y="4437000"/>
            <a:ext cx="374328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24000" y="3213000"/>
            <a:ext cx="496872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Onderwij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les via radio en t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324000" y="3789360"/>
            <a:ext cx="2735280" cy="5032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Meningsvorming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24000" y="5013360"/>
            <a:ext cx="6796080" cy="62064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4. Amusemen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Ingezonden brieven opiniërende func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24000" y="5805360"/>
            <a:ext cx="3636720" cy="4939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80A0-CF67-429C-9A89-4CFBA46946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539640" y="333360"/>
            <a:ext cx="78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43634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H1: Communicatie en massamedia </a:t>
            </a:r>
            <a:endParaRPr b="0" i="1" lang="en-US" sz="2400" spc="1" strike="noStrike">
              <a:ln w="9360">
                <a:solidFill>
                  <a:srgbClr val="943634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2276640"/>
            <a:ext cx="2425680" cy="57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mmunicatievorm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987640" y="2205000"/>
            <a:ext cx="1568520" cy="692280"/>
          </a:xfrm>
          <a:prstGeom prst="rightArrow">
            <a:avLst>
              <a:gd name="adj1" fmla="val 50000"/>
              <a:gd name="adj2" fmla="val 522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00720" y="1844640"/>
            <a:ext cx="4327200" cy="1567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recte en indirect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ale en non-verbale communicati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zijdige en meerzijdig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7800" y="3835440"/>
            <a:ext cx="2409840" cy="480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ssa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2987640" y="3716280"/>
            <a:ext cx="1568520" cy="693720"/>
          </a:xfrm>
          <a:prstGeom prst="rightArrow">
            <a:avLst>
              <a:gd name="adj1" fmla="val 50000"/>
              <a:gd name="adj2" fmla="val 521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0" y="3357720"/>
            <a:ext cx="4248000" cy="286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5 Kenmerk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formatie openbaar, meestal bereikbaa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enrichtingsverke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oniem publie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persoonlijk conta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directe feedbac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hoek 1"/>
          <p:cNvSpPr/>
          <p:nvPr/>
        </p:nvSpPr>
        <p:spPr>
          <a:xfrm>
            <a:off x="971640" y="907920"/>
            <a:ext cx="216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gangspu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hthoek 2"/>
          <p:cNvSpPr/>
          <p:nvPr/>
        </p:nvSpPr>
        <p:spPr>
          <a:xfrm>
            <a:off x="5867280" y="981000"/>
            <a:ext cx="2017800" cy="1871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uiting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IJL-RECHTS 3"/>
          <p:cNvSpPr/>
          <p:nvPr/>
        </p:nvSpPr>
        <p:spPr>
          <a:xfrm>
            <a:off x="4067280" y="1628640"/>
            <a:ext cx="108108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hthoek 4"/>
          <p:cNvSpPr/>
          <p:nvPr/>
        </p:nvSpPr>
        <p:spPr>
          <a:xfrm>
            <a:off x="2627280" y="443700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cherming pluriform aanbo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hoek 1"/>
          <p:cNvSpPr/>
          <p:nvPr/>
        </p:nvSpPr>
        <p:spPr>
          <a:xfrm>
            <a:off x="2050920" y="47628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suit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hoek 2"/>
          <p:cNvSpPr/>
          <p:nvPr/>
        </p:nvSpPr>
        <p:spPr>
          <a:xfrm>
            <a:off x="971640" y="2565360"/>
            <a:ext cx="2016000" cy="100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hoek 3"/>
          <p:cNvSpPr/>
          <p:nvPr/>
        </p:nvSpPr>
        <p:spPr>
          <a:xfrm>
            <a:off x="6012000" y="2565360"/>
            <a:ext cx="1584360" cy="107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ranten mogen bijna al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IJL-RECHTS 4"/>
          <p:cNvSpPr/>
          <p:nvPr/>
        </p:nvSpPr>
        <p:spPr>
          <a:xfrm>
            <a:off x="3780000" y="2781360"/>
            <a:ext cx="977760" cy="555480"/>
          </a:xfrm>
          <a:prstGeom prst="right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5"/>
          <p:cNvSpPr/>
          <p:nvPr/>
        </p:nvSpPr>
        <p:spPr>
          <a:xfrm>
            <a:off x="900000" y="5373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hoek 6"/>
          <p:cNvSpPr/>
          <p:nvPr/>
        </p:nvSpPr>
        <p:spPr>
          <a:xfrm>
            <a:off x="3924360" y="5373720"/>
            <a:ext cx="1511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asisregel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hoek 7"/>
          <p:cNvSpPr/>
          <p:nvPr/>
        </p:nvSpPr>
        <p:spPr>
          <a:xfrm>
            <a:off x="7020000" y="5373720"/>
            <a:ext cx="1512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ederlandse bevolk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JL-RECHTS 8"/>
          <p:cNvSpPr/>
          <p:nvPr/>
        </p:nvSpPr>
        <p:spPr>
          <a:xfrm>
            <a:off x="2700360" y="5589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JL-RECHTS 9"/>
          <p:cNvSpPr/>
          <p:nvPr/>
        </p:nvSpPr>
        <p:spPr>
          <a:xfrm>
            <a:off x="5796000" y="566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hthoek 1"/>
          <p:cNvSpPr/>
          <p:nvPr/>
        </p:nvSpPr>
        <p:spPr>
          <a:xfrm>
            <a:off x="395280" y="189000"/>
            <a:ext cx="26431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 alles m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bogen verbindingslijn 3"/>
          <p:cNvCxnSpPr/>
          <p:nvPr/>
        </p:nvCxnSpPr>
        <p:spPr>
          <a:xfrm>
            <a:off x="395280" y="1700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3" name="Rechthoek 4"/>
          <p:cNvSpPr/>
          <p:nvPr/>
        </p:nvSpPr>
        <p:spPr>
          <a:xfrm>
            <a:off x="1908000" y="2349360"/>
            <a:ext cx="1800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iscriminer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hthoek 5"/>
          <p:cNvSpPr/>
          <p:nvPr/>
        </p:nvSpPr>
        <p:spPr>
          <a:xfrm>
            <a:off x="2411280" y="4149720"/>
            <a:ext cx="1944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waarheden verspreid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6"/>
          <p:cNvSpPr/>
          <p:nvPr/>
        </p:nvSpPr>
        <p:spPr>
          <a:xfrm>
            <a:off x="3203640" y="5732640"/>
            <a:ext cx="18730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pruiende uitspraken do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hoek 7"/>
          <p:cNvSpPr/>
          <p:nvPr/>
        </p:nvSpPr>
        <p:spPr>
          <a:xfrm>
            <a:off x="2286000" y="2967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·        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hthoek 1"/>
          <p:cNvSpPr/>
          <p:nvPr/>
        </p:nvSpPr>
        <p:spPr>
          <a:xfrm>
            <a:off x="684360" y="333360"/>
            <a:ext cx="2735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inig persvrijheid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JL-OMLAAG 3"/>
          <p:cNvSpPr/>
          <p:nvPr/>
        </p:nvSpPr>
        <p:spPr>
          <a:xfrm>
            <a:off x="1835280" y="1773360"/>
            <a:ext cx="485640" cy="977760"/>
          </a:xfrm>
          <a:prstGeom prst="downArrow">
            <a:avLst>
              <a:gd name="adj1" fmla="val 50000"/>
              <a:gd name="adj2" fmla="val 498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hthoek 4"/>
          <p:cNvSpPr/>
          <p:nvPr/>
        </p:nvSpPr>
        <p:spPr>
          <a:xfrm>
            <a:off x="539640" y="4292640"/>
            <a:ext cx="165600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chthebb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IJL-RECHTS 5"/>
          <p:cNvSpPr/>
          <p:nvPr/>
        </p:nvSpPr>
        <p:spPr>
          <a:xfrm>
            <a:off x="248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hoek 6"/>
          <p:cNvSpPr/>
          <p:nvPr/>
        </p:nvSpPr>
        <p:spPr>
          <a:xfrm>
            <a:off x="3708360" y="4365720"/>
            <a:ext cx="1727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palen alles, 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IJL-RECHTS 7"/>
          <p:cNvSpPr/>
          <p:nvPr/>
        </p:nvSpPr>
        <p:spPr>
          <a:xfrm>
            <a:off x="572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8"/>
          <p:cNvSpPr/>
          <p:nvPr/>
        </p:nvSpPr>
        <p:spPr>
          <a:xfrm>
            <a:off x="7020000" y="4365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hthoek 1"/>
          <p:cNvSpPr/>
          <p:nvPr/>
        </p:nvSpPr>
        <p:spPr>
          <a:xfrm>
            <a:off x="1116000" y="404640"/>
            <a:ext cx="3095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2"/>
          <p:cNvSpPr/>
          <p:nvPr/>
        </p:nvSpPr>
        <p:spPr>
          <a:xfrm>
            <a:off x="755640" y="1989000"/>
            <a:ext cx="237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erschillende programma’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Gebogen verbindingslijn 4"/>
          <p:cNvCxnSpPr/>
          <p:nvPr/>
        </p:nvCxnSpPr>
        <p:spPr>
          <a:xfrm>
            <a:off x="3276720" y="2924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07" name="Rechthoek 5"/>
          <p:cNvSpPr/>
          <p:nvPr/>
        </p:nvSpPr>
        <p:spPr>
          <a:xfrm>
            <a:off x="4716360" y="3213000"/>
            <a:ext cx="2087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nd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hoek 6"/>
          <p:cNvSpPr/>
          <p:nvPr/>
        </p:nvSpPr>
        <p:spPr>
          <a:xfrm>
            <a:off x="826920" y="4508640"/>
            <a:ext cx="2232360" cy="93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tschappelijke groep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Gebogen verbindingslijn 8"/>
          <p:cNvCxnSpPr/>
          <p:nvPr/>
        </p:nvCxnSpPr>
        <p:spPr>
          <a:xfrm>
            <a:off x="3276720" y="5516640"/>
            <a:ext cx="915120" cy="915120"/>
          </a:xfrm>
          <a:prstGeom prst="bentConnector3">
            <a:avLst>
              <a:gd name="adj1" fmla="val 4281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Rechthoek 11"/>
          <p:cNvSpPr/>
          <p:nvPr/>
        </p:nvSpPr>
        <p:spPr>
          <a:xfrm>
            <a:off x="4859280" y="5516640"/>
            <a:ext cx="201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tem lat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hthoek 3"/>
          <p:cNvSpPr/>
          <p:nvPr/>
        </p:nvSpPr>
        <p:spPr>
          <a:xfrm>
            <a:off x="611280" y="2924280"/>
            <a:ext cx="1296720" cy="1441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geveri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IJL-RECHTS 4"/>
          <p:cNvSpPr/>
          <p:nvPr/>
        </p:nvSpPr>
        <p:spPr>
          <a:xfrm>
            <a:off x="2268360" y="350028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hthoek 5"/>
          <p:cNvSpPr/>
          <p:nvPr/>
        </p:nvSpPr>
        <p:spPr>
          <a:xfrm>
            <a:off x="3564000" y="2997360"/>
            <a:ext cx="1368360" cy="1511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erdere kranten-tijdschrif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hthoek 6"/>
          <p:cNvSpPr/>
          <p:nvPr/>
        </p:nvSpPr>
        <p:spPr>
          <a:xfrm>
            <a:off x="6588000" y="2852640"/>
            <a:ext cx="1440000" cy="15130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13 uitgeverijen ov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IJL-RECHTS 7"/>
          <p:cNvSpPr/>
          <p:nvPr/>
        </p:nvSpPr>
        <p:spPr>
          <a:xfrm>
            <a:off x="5292720" y="35002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DBDC-E466-4DE0-8782-EF8E22F1DB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rcRect l="9962" t="16363" r="16949" b="12766"/>
          <a:stretch/>
        </p:blipFill>
        <p:spPr>
          <a:xfrm>
            <a:off x="0" y="189000"/>
            <a:ext cx="9171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hoek 4"/>
          <p:cNvSpPr/>
          <p:nvPr/>
        </p:nvSpPr>
        <p:spPr>
          <a:xfrm>
            <a:off x="1763640" y="3860640"/>
            <a:ext cx="6048360" cy="20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De overheid en de gedrukt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5"/>
          <p:cNvSpPr/>
          <p:nvPr/>
        </p:nvSpPr>
        <p:spPr>
          <a:xfrm>
            <a:off x="539640" y="476280"/>
            <a:ext cx="7848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6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hthoek 4"/>
          <p:cNvSpPr/>
          <p:nvPr/>
        </p:nvSpPr>
        <p:spPr>
          <a:xfrm>
            <a:off x="2987640" y="333360"/>
            <a:ext cx="3168720" cy="86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an massamedi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5"/>
          <p:cNvSpPr/>
          <p:nvPr/>
        </p:nvSpPr>
        <p:spPr>
          <a:xfrm>
            <a:off x="324000" y="1628640"/>
            <a:ext cx="287964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oor individ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6"/>
          <p:cNvSpPr/>
          <p:nvPr/>
        </p:nvSpPr>
        <p:spPr>
          <a:xfrm>
            <a:off x="5508720" y="1628640"/>
            <a:ext cx="338436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tschappelijke func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hthoek 7"/>
          <p:cNvSpPr/>
          <p:nvPr/>
        </p:nvSpPr>
        <p:spPr>
          <a:xfrm>
            <a:off x="179280" y="3429000"/>
            <a:ext cx="237672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Inform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Onderwij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Menings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hthoek 11"/>
          <p:cNvSpPr/>
          <p:nvPr/>
        </p:nvSpPr>
        <p:spPr>
          <a:xfrm>
            <a:off x="2843280" y="3429000"/>
            <a:ext cx="3744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Democratische besluit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Cultuur overdrach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Vrijetijds beste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hoek 12"/>
          <p:cNvSpPr/>
          <p:nvPr/>
        </p:nvSpPr>
        <p:spPr>
          <a:xfrm>
            <a:off x="6767640" y="3429000"/>
            <a:ext cx="237636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ke agen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trole- of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akho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IJL-RECHTS 13"/>
          <p:cNvSpPr/>
          <p:nvPr/>
        </p:nvSpPr>
        <p:spPr>
          <a:xfrm rot="8079000">
            <a:off x="1790280" y="896760"/>
            <a:ext cx="979200" cy="48420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12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IJL-RECHTS 14"/>
          <p:cNvSpPr/>
          <p:nvPr/>
        </p:nvSpPr>
        <p:spPr>
          <a:xfrm rot="2586600">
            <a:off x="6405120" y="817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361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IJL-RECHTS 15"/>
          <p:cNvSpPr/>
          <p:nvPr/>
        </p:nvSpPr>
        <p:spPr>
          <a:xfrm rot="5400000">
            <a:off x="997920" y="2682720"/>
            <a:ext cx="719280" cy="48420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IJL-RECHTS 16"/>
          <p:cNvSpPr/>
          <p:nvPr/>
        </p:nvSpPr>
        <p:spPr>
          <a:xfrm rot="5400000">
            <a:off x="7894800" y="2697840"/>
            <a:ext cx="750960" cy="485640"/>
          </a:xfrm>
          <a:prstGeom prst="rightArrow">
            <a:avLst>
              <a:gd name="adj1" fmla="val 50000"/>
              <a:gd name="adj2" fmla="val 4989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JL-RECHTS 17"/>
          <p:cNvSpPr/>
          <p:nvPr/>
        </p:nvSpPr>
        <p:spPr>
          <a:xfrm rot="7663800">
            <a:off x="5460480" y="2737800"/>
            <a:ext cx="860400" cy="485640"/>
          </a:xfrm>
          <a:prstGeom prst="rightArrow">
            <a:avLst>
              <a:gd name="adj1" fmla="val 50000"/>
              <a:gd name="adj2" fmla="val 4987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538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hthoek 3"/>
          <p:cNvSpPr/>
          <p:nvPr/>
        </p:nvSpPr>
        <p:spPr>
          <a:xfrm>
            <a:off x="324000" y="260280"/>
            <a:ext cx="6480000" cy="1440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Onderwijs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radio en TV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leerzame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ternet en cd-roms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ursussen en les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hthoek 4"/>
          <p:cNvSpPr/>
          <p:nvPr/>
        </p:nvSpPr>
        <p:spPr>
          <a:xfrm>
            <a:off x="250920" y="2133720"/>
            <a:ext cx="6553080" cy="1726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eningsvorming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alkshows en discussie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opinietijdschrif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gezonden brieven en commentaar van reda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ningsvormende functie/ opiniërende functi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hthoek 5"/>
          <p:cNvSpPr/>
          <p:nvPr/>
        </p:nvSpPr>
        <p:spPr>
          <a:xfrm>
            <a:off x="250920" y="4149720"/>
            <a:ext cx="7850160" cy="2563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95280" y="4160160"/>
            <a:ext cx="87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Amusemen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radio en TV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radio= muziek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                 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TV= ruim 50% amusement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- quiz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oap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Komed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Comerciele zenders 80%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IJL-RECHTS 7"/>
          <p:cNvSpPr/>
          <p:nvPr/>
        </p:nvSpPr>
        <p:spPr>
          <a:xfrm>
            <a:off x="3635280" y="4797360"/>
            <a:ext cx="649440" cy="484200"/>
          </a:xfrm>
          <a:prstGeom prst="rightArrow">
            <a:avLst>
              <a:gd name="adj1" fmla="val 50000"/>
              <a:gd name="adj2" fmla="val 5014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IJL-RECHTS 8"/>
          <p:cNvSpPr/>
          <p:nvPr/>
        </p:nvSpPr>
        <p:spPr>
          <a:xfrm>
            <a:off x="2124000" y="4221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233-11A0-4131-87B5-AFFE115976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9224" t="39985" r="3661" b="51161"/>
          <a:stretch/>
        </p:blipFill>
        <p:spPr>
          <a:xfrm>
            <a:off x="0" y="170028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9224" t="39985" r="42790" b="51161"/>
          <a:stretch/>
        </p:blipFill>
        <p:spPr>
          <a:xfrm>
            <a:off x="468360" y="3716280"/>
            <a:ext cx="831996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rcRect l="45776" t="39985" r="3661" b="51161"/>
          <a:stretch/>
        </p:blipFill>
        <p:spPr>
          <a:xfrm>
            <a:off x="468360" y="4869000"/>
            <a:ext cx="82198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hthoek 4"/>
          <p:cNvSpPr/>
          <p:nvPr/>
        </p:nvSpPr>
        <p:spPr>
          <a:xfrm>
            <a:off x="1332000" y="1197000"/>
            <a:ext cx="6553080" cy="38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Reclam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V en posters             grappi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feerv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litse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ringt binn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tijdschriften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dverten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  bann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IJL-RECHTS 5"/>
          <p:cNvSpPr/>
          <p:nvPr/>
        </p:nvSpPr>
        <p:spPr>
          <a:xfrm>
            <a:off x="4932360" y="134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IJL-RECHTS 7"/>
          <p:cNvSpPr/>
          <p:nvPr/>
        </p:nvSpPr>
        <p:spPr>
          <a:xfrm>
            <a:off x="2627280" y="3789360"/>
            <a:ext cx="2305080" cy="484200"/>
          </a:xfrm>
          <a:prstGeom prst="rightArrow">
            <a:avLst>
              <a:gd name="adj1" fmla="val 50000"/>
              <a:gd name="adj2" fmla="val 500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RECHTS 8"/>
          <p:cNvSpPr/>
          <p:nvPr/>
        </p:nvSpPr>
        <p:spPr>
          <a:xfrm>
            <a:off x="4211640" y="314172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hthoek 3"/>
          <p:cNvSpPr/>
          <p:nvPr/>
        </p:nvSpPr>
        <p:spPr>
          <a:xfrm>
            <a:off x="250920" y="189000"/>
            <a:ext cx="6553080" cy="1727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ultuur overdracht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doorgeven van kennis en cultuu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ijvoorbeeld: Koninginnedag en sinterkla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ocialiserende 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4"/>
          <p:cNvSpPr/>
          <p:nvPr/>
        </p:nvSpPr>
        <p:spPr>
          <a:xfrm>
            <a:off x="250920" y="2133720"/>
            <a:ext cx="6553080" cy="143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rijetijdsbesteding   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sinds jaren 5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ssamedia speelt hier op in, zoals amusement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5"/>
          <p:cNvSpPr/>
          <p:nvPr/>
        </p:nvSpPr>
        <p:spPr>
          <a:xfrm>
            <a:off x="179280" y="3645000"/>
            <a:ext cx="8785440" cy="2952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olitieke agenda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dat zeg je als politici zich met een kwestie gaan bemoei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ontrole- of waakhonden functie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zo noemen we het volgen en controleren van politic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luriformiteit: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dat het belangrijk is voor de democratie dat er veel verschillende massamedia zij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IJL-RECHTS 6"/>
          <p:cNvSpPr/>
          <p:nvPr/>
        </p:nvSpPr>
        <p:spPr>
          <a:xfrm>
            <a:off x="2411280" y="3716280"/>
            <a:ext cx="648000" cy="486000"/>
          </a:xfrm>
          <a:prstGeom prst="rightArrow">
            <a:avLst>
              <a:gd name="adj1" fmla="val 50000"/>
              <a:gd name="adj2" fmla="val 498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IJL-RECHTS 7"/>
          <p:cNvSpPr/>
          <p:nvPr/>
        </p:nvSpPr>
        <p:spPr>
          <a:xfrm>
            <a:off x="4572000" y="458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IJL-RECHTS 8"/>
          <p:cNvSpPr/>
          <p:nvPr/>
        </p:nvSpPr>
        <p:spPr>
          <a:xfrm>
            <a:off x="2124000" y="5445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11D7-5618-451F-A90E-2ECFE00EC2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rcRect l="22888" t="23627" r="17314" b="10423"/>
          <a:stretch/>
        </p:blipFill>
        <p:spPr>
          <a:xfrm>
            <a:off x="250920" y="-20520"/>
            <a:ext cx="83167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F342-C0FC-49DD-BD50-C28BD269BB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2"/>
          <a:srcRect l="13653" t="37032" r="10305" b="28519"/>
          <a:stretch/>
        </p:blipFill>
        <p:spPr>
          <a:xfrm>
            <a:off x="244440" y="1916280"/>
            <a:ext cx="8899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F15D-4BE1-4B4B-8865-8AA132CE1F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rcRect l="19559" t="25221" r="20640" b="15719"/>
          <a:stretch/>
        </p:blipFill>
        <p:spPr>
          <a:xfrm>
            <a:off x="395280" y="260280"/>
            <a:ext cx="8069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6AE5-7367-430A-99A4-C841DF89F5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1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rcRect l="9224" t="26206" r="12520" b="32456"/>
          <a:stretch/>
        </p:blipFill>
        <p:spPr>
          <a:xfrm>
            <a:off x="0" y="1773360"/>
            <a:ext cx="92678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109D-04B3-4FD0-B23D-2D05D4EE83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" descr=""/>
          <p:cNvPicPr/>
          <p:nvPr/>
        </p:nvPicPr>
        <p:blipFill>
          <a:blip r:embed="rId2"/>
          <a:srcRect l="12915" t="30143" r="2923" b="20640"/>
          <a:stretch/>
        </p:blipFill>
        <p:spPr>
          <a:xfrm>
            <a:off x="-49320" y="1773360"/>
            <a:ext cx="9193320" cy="4032000"/>
          </a:xfrm>
          <a:prstGeom prst="rect">
            <a:avLst/>
          </a:prstGeom>
          <a:ln w="0">
            <a:noFill/>
          </a:ln>
        </p:spPr>
      </p:pic>
      <p:sp>
        <p:nvSpPr>
          <p:cNvPr id="266" name="Tekstvak 5"/>
          <p:cNvSpPr/>
          <p:nvPr/>
        </p:nvSpPr>
        <p:spPr>
          <a:xfrm>
            <a:off x="250920" y="119700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B7E9-DA21-406E-9D27-4C81ACC942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5"/>
          <p:cNvSpPr/>
          <p:nvPr/>
        </p:nvSpPr>
        <p:spPr>
          <a:xfrm>
            <a:off x="0" y="0"/>
            <a:ext cx="857268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rcRect l="9962" t="22269" r="21378" b="9173"/>
          <a:stretch/>
        </p:blipFill>
        <p:spPr>
          <a:xfrm>
            <a:off x="0" y="476280"/>
            <a:ext cx="8520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EF06-D55E-43FA-92E4-62DB820248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3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rcRect l="15868" t="33095" r="10305" b="24582"/>
          <a:stretch/>
        </p:blipFill>
        <p:spPr>
          <a:xfrm>
            <a:off x="0" y="213372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126C-AB10-404D-BED4-1FCA292BE0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rcRect l="7009" t="25221" r="8829" b="12766"/>
          <a:stretch/>
        </p:blipFill>
        <p:spPr>
          <a:xfrm>
            <a:off x="0" y="1197000"/>
            <a:ext cx="912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57D-A468-473D-B509-F69481F7CF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11280" y="2060640"/>
            <a:ext cx="2913120" cy="72072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Informatie Overbre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68840" y="906480"/>
            <a:ext cx="2351160" cy="5778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Zender en Ontvang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4643280" y="1824120"/>
            <a:ext cx="2376720" cy="668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Verstuurd via een mediu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643280" y="2852640"/>
            <a:ext cx="2376720" cy="720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Encoderen en Decoder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Rechte verbindingslijn met pijl 14"/>
          <p:cNvCxnSpPr>
            <a:stCxn id="65" idx="3"/>
            <a:endCxn id="66" idx="1"/>
          </p:cNvCxnSpPr>
          <p:nvPr/>
        </p:nvCxnSpPr>
        <p:spPr>
          <a:xfrm flipV="1">
            <a:off x="3524040" y="1195200"/>
            <a:ext cx="114516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Rechte verbindingslijn met pijl 16"/>
          <p:cNvCxnSpPr>
            <a:stCxn id="65" idx="3"/>
            <a:endCxn id="67" idx="1"/>
          </p:cNvCxnSpPr>
          <p:nvPr/>
        </p:nvCxnSpPr>
        <p:spPr>
          <a:xfrm flipV="1">
            <a:off x="3524400" y="2158560"/>
            <a:ext cx="111960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Rechte verbindingslijn met pijl 18"/>
          <p:cNvCxnSpPr>
            <a:stCxn id="65" idx="3"/>
            <a:endCxn id="68" idx="1"/>
          </p:cNvCxnSpPr>
          <p:nvPr/>
        </p:nvCxnSpPr>
        <p:spPr>
          <a:xfrm>
            <a:off x="3524400" y="2421000"/>
            <a:ext cx="111960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AutoShape 35"/>
          <p:cNvSpPr/>
          <p:nvPr/>
        </p:nvSpPr>
        <p:spPr>
          <a:xfrm>
            <a:off x="4140360" y="3860640"/>
            <a:ext cx="3692520" cy="2351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En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via een medium versprei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De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De ontvanger krijgt het produ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Rechte verbindingslijn met pijl 41"/>
          <p:cNvCxnSpPr>
            <a:stCxn id="68" idx="2"/>
            <a:endCxn id="72" idx="0"/>
          </p:cNvCxnSpPr>
          <p:nvPr/>
        </p:nvCxnSpPr>
        <p:spPr>
          <a:xfrm>
            <a:off x="5832360" y="3573360"/>
            <a:ext cx="154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kstvak 7"/>
          <p:cNvSpPr/>
          <p:nvPr/>
        </p:nvSpPr>
        <p:spPr>
          <a:xfrm>
            <a:off x="684360" y="2708280"/>
            <a:ext cx="3747960" cy="4597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onen/instell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kstvak 8"/>
          <p:cNvSpPr/>
          <p:nvPr/>
        </p:nvSpPr>
        <p:spPr>
          <a:xfrm>
            <a:off x="755640" y="3860640"/>
            <a:ext cx="3747960" cy="459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 gaan zelf op zoe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9"/>
          <p:cNvSpPr/>
          <p:nvPr/>
        </p:nvSpPr>
        <p:spPr>
          <a:xfrm>
            <a:off x="755640" y="5300640"/>
            <a:ext cx="37479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burea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kstvak 37"/>
          <p:cNvSpPr/>
          <p:nvPr/>
        </p:nvSpPr>
        <p:spPr>
          <a:xfrm>
            <a:off x="684360" y="571680"/>
            <a:ext cx="7888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Rechte verbindingslijn met pijl 15"/>
          <p:cNvCxnSpPr/>
          <p:nvPr/>
        </p:nvCxnSpPr>
        <p:spPr>
          <a:xfrm>
            <a:off x="4500720" y="5444640"/>
            <a:ext cx="3589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84" name="Tekstvak 19"/>
          <p:cNvSpPr/>
          <p:nvPr/>
        </p:nvSpPr>
        <p:spPr>
          <a:xfrm>
            <a:off x="5038560" y="4869000"/>
            <a:ext cx="410544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eau dat nieuwsberichten verzameld en uitgeeft aan kranten/radi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kstvak 20"/>
          <p:cNvSpPr/>
          <p:nvPr/>
        </p:nvSpPr>
        <p:spPr>
          <a:xfrm>
            <a:off x="324000" y="1844640"/>
            <a:ext cx="522108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ournalisten krijgen informatie va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Rechte verbindingslijn met pijl 25"/>
          <p:cNvCxnSpPr/>
          <p:nvPr/>
        </p:nvCxnSpPr>
        <p:spPr>
          <a:xfrm flipH="1">
            <a:off x="1855440" y="428400"/>
            <a:ext cx="21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87" name="Vorm 36"/>
          <p:cNvCxnSpPr>
            <a:endCxn id="280" idx="1"/>
          </p:cNvCxnSpPr>
          <p:nvPr/>
        </p:nvCxnSpPr>
        <p:spPr>
          <a:xfrm flipH="1" rot="16200000">
            <a:off x="-476280" y="2860200"/>
            <a:ext cx="195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8" name="Vorm 39"/>
          <p:cNvCxnSpPr>
            <a:endCxn id="281" idx="1"/>
          </p:cNvCxnSpPr>
          <p:nvPr/>
        </p:nvCxnSpPr>
        <p:spPr>
          <a:xfrm flipH="1" rot="16200000">
            <a:off x="-1196280" y="3580200"/>
            <a:ext cx="339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9" name="Vorm 42"/>
          <p:cNvCxnSpPr>
            <a:endCxn id="279" idx="1"/>
          </p:cNvCxnSpPr>
          <p:nvPr/>
        </p:nvCxnSpPr>
        <p:spPr>
          <a:xfrm flipH="1" rot="16200000">
            <a:off x="64440" y="2319840"/>
            <a:ext cx="80712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kstvak 24"/>
          <p:cNvSpPr/>
          <p:nvPr/>
        </p:nvSpPr>
        <p:spPr>
          <a:xfrm>
            <a:off x="1187280" y="1341360"/>
            <a:ext cx="727236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de krant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het journaal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 wordt gekozen door 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kstvak 30"/>
          <p:cNvSpPr/>
          <p:nvPr/>
        </p:nvSpPr>
        <p:spPr>
          <a:xfrm>
            <a:off x="1908000" y="2781360"/>
            <a:ext cx="350064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actual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kstvak 32"/>
          <p:cNvSpPr/>
          <p:nvPr/>
        </p:nvSpPr>
        <p:spPr>
          <a:xfrm>
            <a:off x="1908000" y="5373720"/>
            <a:ext cx="59770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eigen identiteit van krant,omgroep of zend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kstvak 33"/>
          <p:cNvSpPr/>
          <p:nvPr/>
        </p:nvSpPr>
        <p:spPr>
          <a:xfrm>
            <a:off x="1908000" y="4724280"/>
            <a:ext cx="59770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speciale belangstelling van doelgroe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kstvak 34"/>
          <p:cNvSpPr/>
          <p:nvPr/>
        </p:nvSpPr>
        <p:spPr>
          <a:xfrm>
            <a:off x="1908000" y="407664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nabijheid van een nieuwsf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kstvak 35"/>
          <p:cNvSpPr/>
          <p:nvPr/>
        </p:nvSpPr>
        <p:spPr>
          <a:xfrm>
            <a:off x="1908000" y="342900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et bijzonder van de gebeurten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kstvak 37"/>
          <p:cNvSpPr/>
          <p:nvPr/>
        </p:nvSpPr>
        <p:spPr>
          <a:xfrm>
            <a:off x="1116000" y="5716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Vorm 26"/>
          <p:cNvCxnSpPr>
            <a:endCxn id="291" idx="1"/>
          </p:cNvCxnSpPr>
          <p:nvPr/>
        </p:nvCxnSpPr>
        <p:spPr>
          <a:xfrm flipH="1" rot="16200000">
            <a:off x="1023840" y="2080800"/>
            <a:ext cx="97704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8" name="Vorm 29"/>
          <p:cNvCxnSpPr>
            <a:endCxn id="295" idx="1"/>
          </p:cNvCxnSpPr>
          <p:nvPr/>
        </p:nvCxnSpPr>
        <p:spPr>
          <a:xfrm flipH="1" rot="16200000">
            <a:off x="676800" y="2427480"/>
            <a:ext cx="167076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9" name="Vorm 36"/>
          <p:cNvCxnSpPr>
            <a:stCxn id="290" idx="1"/>
            <a:endCxn id="294" idx="1"/>
          </p:cNvCxnSpPr>
          <p:nvPr/>
        </p:nvCxnSpPr>
        <p:spPr>
          <a:xfrm flipH="1" flipV="1" rot="10800000">
            <a:off x="1186920" y="1940400"/>
            <a:ext cx="721440" cy="23677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0" name="Gebogen verbindingslijn 41"/>
          <p:cNvCxnSpPr>
            <a:stCxn id="290" idx="1"/>
            <a:endCxn id="293" idx="1"/>
          </p:cNvCxnSpPr>
          <p:nvPr/>
        </p:nvCxnSpPr>
        <p:spPr>
          <a:xfrm flipH="1" flipV="1" rot="10800000">
            <a:off x="1186920" y="1941120"/>
            <a:ext cx="721440" cy="301536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1" name="Gebogen verbindingslijn 44"/>
          <p:cNvCxnSpPr>
            <a:stCxn id="290" idx="1"/>
            <a:endCxn id="292" idx="1"/>
          </p:cNvCxnSpPr>
          <p:nvPr/>
        </p:nvCxnSpPr>
        <p:spPr>
          <a:xfrm flipH="1" flipV="1" rot="10800000">
            <a:off x="1186920" y="1940400"/>
            <a:ext cx="721440" cy="38473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kstvak 4"/>
          <p:cNvSpPr/>
          <p:nvPr/>
        </p:nvSpPr>
        <p:spPr>
          <a:xfrm>
            <a:off x="2363760" y="1125360"/>
            <a:ext cx="22716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zonder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5"/>
          <p:cNvSpPr/>
          <p:nvPr/>
        </p:nvSpPr>
        <p:spPr>
          <a:xfrm>
            <a:off x="5292720" y="1125360"/>
            <a:ext cx="2151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verwacht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Rechte verbindingslijn met pijl 7"/>
          <p:cNvCxnSpPr/>
          <p:nvPr/>
        </p:nvCxnSpPr>
        <p:spPr>
          <a:xfrm>
            <a:off x="3792600" y="1839960"/>
            <a:ext cx="71496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05" name="Rechte verbindingslijn met pijl 9"/>
          <p:cNvCxnSpPr/>
          <p:nvPr/>
        </p:nvCxnSpPr>
        <p:spPr>
          <a:xfrm flipH="1">
            <a:off x="5363640" y="1839960"/>
            <a:ext cx="9295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6" name="Tekstvak 10"/>
          <p:cNvSpPr/>
          <p:nvPr/>
        </p:nvSpPr>
        <p:spPr>
          <a:xfrm>
            <a:off x="3772080" y="3191040"/>
            <a:ext cx="25714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gierige lez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Rechte verbindingslijn met pijl 12"/>
          <p:cNvCxnSpPr/>
          <p:nvPr/>
        </p:nvCxnSpPr>
        <p:spPr>
          <a:xfrm flipH="1">
            <a:off x="4995000" y="3983040"/>
            <a:ext cx="1080" cy="427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8" name="Tekstvak 13"/>
          <p:cNvSpPr/>
          <p:nvPr/>
        </p:nvSpPr>
        <p:spPr>
          <a:xfrm>
            <a:off x="3792600" y="4411800"/>
            <a:ext cx="24289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ordt goed beke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2"/>
          <p:cNvSpPr/>
          <p:nvPr/>
        </p:nvSpPr>
        <p:spPr>
          <a:xfrm>
            <a:off x="971640" y="404640"/>
            <a:ext cx="7456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kstvak 16"/>
          <p:cNvSpPr/>
          <p:nvPr/>
        </p:nvSpPr>
        <p:spPr>
          <a:xfrm>
            <a:off x="1979640" y="1341360"/>
            <a:ext cx="6696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ulpmiddelen om zo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 mogelijk te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Rechte verbindingslijn met pijl 20"/>
          <p:cNvCxnSpPr/>
          <p:nvPr/>
        </p:nvCxnSpPr>
        <p:spPr>
          <a:xfrm flipH="1">
            <a:off x="1834920" y="2133360"/>
            <a:ext cx="194400" cy="1680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2" name="Tekstvak 21"/>
          <p:cNvSpPr/>
          <p:nvPr/>
        </p:nvSpPr>
        <p:spPr>
          <a:xfrm>
            <a:off x="971640" y="3860640"/>
            <a:ext cx="14986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Rechte verbindingslijn met pijl 23"/>
          <p:cNvCxnSpPr/>
          <p:nvPr/>
        </p:nvCxnSpPr>
        <p:spPr>
          <a:xfrm flipH="1">
            <a:off x="1618560" y="4292280"/>
            <a:ext cx="7380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4" name="Tekstvak 24"/>
          <p:cNvSpPr/>
          <p:nvPr/>
        </p:nvSpPr>
        <p:spPr>
          <a:xfrm>
            <a:off x="468360" y="4653000"/>
            <a:ext cx="23572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nder mening,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kstvak 27"/>
          <p:cNvSpPr/>
          <p:nvPr/>
        </p:nvSpPr>
        <p:spPr>
          <a:xfrm>
            <a:off x="4356000" y="2565360"/>
            <a:ext cx="424836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kt een scheiding tussen feiten en men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kstvak 28"/>
          <p:cNvSpPr/>
          <p:nvPr/>
        </p:nvSpPr>
        <p:spPr>
          <a:xfrm>
            <a:off x="4427640" y="3645000"/>
            <a:ext cx="41767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iest passende woorden en beel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kstvak 29"/>
          <p:cNvSpPr/>
          <p:nvPr/>
        </p:nvSpPr>
        <p:spPr>
          <a:xfrm>
            <a:off x="4427640" y="472428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ast hoor en wederhoor to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kstvak 30"/>
          <p:cNvSpPr/>
          <p:nvPr/>
        </p:nvSpPr>
        <p:spPr>
          <a:xfrm>
            <a:off x="4427640" y="544500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bruikt meerdere bron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Vorm 32"/>
          <p:cNvCxnSpPr>
            <a:stCxn id="310" idx="2"/>
            <a:endCxn id="315" idx="1"/>
          </p:cNvCxnSpPr>
          <p:nvPr/>
        </p:nvCxnSpPr>
        <p:spPr>
          <a:xfrm rot="5400000">
            <a:off x="4453560" y="2106360"/>
            <a:ext cx="775440" cy="972360"/>
          </a:xfrm>
          <a:prstGeom prst="bentConnector4">
            <a:avLst>
              <a:gd name="adj1" fmla="val 23176"/>
              <a:gd name="adj2" fmla="val 1234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0" name="Vorm 34"/>
          <p:cNvCxnSpPr>
            <a:endCxn id="316" idx="1"/>
          </p:cNvCxnSpPr>
          <p:nvPr/>
        </p:nvCxnSpPr>
        <p:spPr>
          <a:xfrm flipH="1" rot="16200000">
            <a:off x="3607560" y="3240360"/>
            <a:ext cx="13532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1" name="Vorm 36"/>
          <p:cNvCxnSpPr>
            <a:endCxn id="317" idx="1"/>
          </p:cNvCxnSpPr>
          <p:nvPr/>
        </p:nvCxnSpPr>
        <p:spPr>
          <a:xfrm flipH="1" rot="16200000">
            <a:off x="3160080" y="3688200"/>
            <a:ext cx="22485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2" name="Vorm 38"/>
          <p:cNvCxnSpPr>
            <a:endCxn id="318" idx="1"/>
          </p:cNvCxnSpPr>
          <p:nvPr/>
        </p:nvCxnSpPr>
        <p:spPr>
          <a:xfrm flipH="1" rot="16200000">
            <a:off x="2800440" y="4047840"/>
            <a:ext cx="29678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3" name="Tekstvak 39"/>
          <p:cNvSpPr/>
          <p:nvPr/>
        </p:nvSpPr>
        <p:spPr>
          <a:xfrm>
            <a:off x="1116000" y="4762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068-3B12-429C-92B6-1364944462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692280"/>
            <a:ext cx="5977080" cy="1881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3"/>
          <a:srcRect l="37467" t="29921" r="38634" b="64641"/>
          <a:stretch/>
        </p:blipFill>
        <p:spPr>
          <a:xfrm>
            <a:off x="1476360" y="4149720"/>
            <a:ext cx="590400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4"/>
          <a:srcRect l="20083" t="39606" r="59812" b="54035"/>
          <a:stretch/>
        </p:blipFill>
        <p:spPr>
          <a:xfrm>
            <a:off x="1619280" y="2781360"/>
            <a:ext cx="4248000" cy="1008000"/>
          </a:xfrm>
          <a:prstGeom prst="rect">
            <a:avLst/>
          </a:prstGeom>
          <a:ln w="0">
            <a:noFill/>
          </a:ln>
        </p:spPr>
      </p:pic>
      <p:cxnSp>
        <p:nvCxnSpPr>
          <p:cNvPr id="329" name="Gekromde verbindingslijn 7"/>
          <p:cNvCxnSpPr/>
          <p:nvPr/>
        </p:nvCxnSpPr>
        <p:spPr>
          <a:xfrm>
            <a:off x="755640" y="249228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Gekromde verbindingslijn 9"/>
          <p:cNvCxnSpPr/>
          <p:nvPr/>
        </p:nvCxnSpPr>
        <p:spPr>
          <a:xfrm flipH="1" rot="16200000">
            <a:off x="-73440" y="3393000"/>
            <a:ext cx="230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4184-8013-41F9-A221-2CB6BD05A1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rcRect l="11811" t="29532" r="15838" b="28145"/>
          <a:stretch/>
        </p:blipFill>
        <p:spPr>
          <a:xfrm>
            <a:off x="395280" y="2133720"/>
            <a:ext cx="8534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A23F-68BA-4498-ACA5-33CB222B22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3"/>
          <a:srcRect l="12177" t="39154" r="54582" b="21624"/>
          <a:stretch/>
        </p:blipFill>
        <p:spPr>
          <a:xfrm>
            <a:off x="152280" y="2276640"/>
            <a:ext cx="49960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0615-4EAF-4B31-A32B-A956E3FE1B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28524" t="21314" r="33296" b="15044"/>
          <a:stretch/>
        </p:blipFill>
        <p:spPr>
          <a:xfrm>
            <a:off x="1403280" y="0"/>
            <a:ext cx="5472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EA40-1E0E-4FDF-AF7E-0844E46BC9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rcRect l="7747" t="23253" r="16211" b="9813"/>
          <a:stretch/>
        </p:blipFill>
        <p:spPr>
          <a:xfrm>
            <a:off x="179280" y="404640"/>
            <a:ext cx="8726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0417-7447-4E07-BA75-6BAB0ED0D1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2"/>
          <a:srcRect l="11438" t="24237" r="19906" b="15719"/>
          <a:stretch/>
        </p:blipFill>
        <p:spPr>
          <a:xfrm>
            <a:off x="0" y="549360"/>
            <a:ext cx="8782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8FCD-AB2E-4713-A29B-F353F3F898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rcRect l="6441" t="31299" r="15303" b="18499"/>
          <a:stretch/>
        </p:blipFill>
        <p:spPr>
          <a:xfrm>
            <a:off x="0" y="907920"/>
            <a:ext cx="9279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8C1E-160C-4CB1-82E4-1ADC5F4A2E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"/>
          <p:cNvSpPr/>
          <p:nvPr/>
        </p:nvSpPr>
        <p:spPr>
          <a:xfrm>
            <a:off x="2771640" y="404640"/>
            <a:ext cx="3381480" cy="107028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Communicatievorm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258920" y="2205000"/>
            <a:ext cx="1728720" cy="1152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Directe en Indirect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935440" y="2190600"/>
            <a:ext cx="2247840" cy="11638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Verbale en non-verbal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802040" y="2289240"/>
            <a:ext cx="2649600" cy="9954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Eenzijdige en Meerzijdig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258920" y="3573360"/>
            <a:ext cx="1873080" cy="1368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Elkaar zien, Face-to-facecontac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403280" y="5157720"/>
            <a:ext cx="1760760" cy="13082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In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Via telefoon of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276720" y="3645000"/>
            <a:ext cx="1942920" cy="1350720"/>
          </a:xfrm>
          <a:prstGeom prst="bracePair">
            <a:avLst>
              <a:gd name="adj" fmla="val 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Vertellen wat we be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3348000" y="5084640"/>
            <a:ext cx="2016000" cy="1773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Non-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Muziek, schilderijen en lichaamst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288040" y="3716280"/>
            <a:ext cx="2597040" cy="12254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Een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Zender geeft informatie aa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5364000" y="5482440"/>
            <a:ext cx="2592720" cy="97020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Meer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Iedereen is zender e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Rechte verbindingslijn met pijl 15"/>
          <p:cNvCxnSpPr>
            <a:stCxn id="80" idx="2"/>
          </p:cNvCxnSpPr>
          <p:nvPr/>
        </p:nvCxnSpPr>
        <p:spPr>
          <a:xfrm flipH="1">
            <a:off x="2123640" y="1474920"/>
            <a:ext cx="233928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Rechte verbindingslijn met pijl 17"/>
          <p:cNvCxnSpPr>
            <a:stCxn id="80" idx="2"/>
          </p:cNvCxnSpPr>
          <p:nvPr/>
        </p:nvCxnSpPr>
        <p:spPr>
          <a:xfrm>
            <a:off x="4461480" y="1474560"/>
            <a:ext cx="396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Rechte verbindingslijn met pijl 19"/>
          <p:cNvCxnSpPr>
            <a:stCxn id="80" idx="2"/>
            <a:endCxn id="83" idx="0"/>
          </p:cNvCxnSpPr>
          <p:nvPr/>
        </p:nvCxnSpPr>
        <p:spPr>
          <a:xfrm>
            <a:off x="4462560" y="1474920"/>
            <a:ext cx="166608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Rechte verbindingslijn met pijl 21"/>
          <p:cNvCxnSpPr>
            <a:stCxn id="81" idx="2"/>
            <a:endCxn id="84" idx="0"/>
          </p:cNvCxnSpPr>
          <p:nvPr/>
        </p:nvCxnSpPr>
        <p:spPr>
          <a:xfrm>
            <a:off x="2122920" y="3357360"/>
            <a:ext cx="72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Rechte verbindingslijn met pijl 23"/>
          <p:cNvCxnSpPr>
            <a:stCxn id="82" idx="2"/>
          </p:cNvCxnSpPr>
          <p:nvPr/>
        </p:nvCxnSpPr>
        <p:spPr>
          <a:xfrm>
            <a:off x="4059360" y="3354120"/>
            <a:ext cx="226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Rechte verbindingslijn met pijl 25"/>
          <p:cNvCxnSpPr>
            <a:stCxn id="83" idx="2"/>
            <a:endCxn id="88" idx="0"/>
          </p:cNvCxnSpPr>
          <p:nvPr/>
        </p:nvCxnSpPr>
        <p:spPr>
          <a:xfrm>
            <a:off x="6127920" y="3284280"/>
            <a:ext cx="459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Rechte verbindingslijn met pijl 27"/>
          <p:cNvCxnSpPr>
            <a:stCxn id="84" idx="2"/>
            <a:endCxn id="85" idx="0"/>
          </p:cNvCxnSpPr>
          <p:nvPr/>
        </p:nvCxnSpPr>
        <p:spPr>
          <a:xfrm>
            <a:off x="2195640" y="4941720"/>
            <a:ext cx="878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Rechte verbindingslijn met pijl 29"/>
          <p:cNvCxnSpPr>
            <a:stCxn id="86" idx="2"/>
            <a:endCxn id="87" idx="0"/>
          </p:cNvCxnSpPr>
          <p:nvPr/>
        </p:nvCxnSpPr>
        <p:spPr>
          <a:xfrm>
            <a:off x="4248000" y="4995360"/>
            <a:ext cx="10872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Rechte verbindingslijn met pijl 31"/>
          <p:cNvCxnSpPr>
            <a:endCxn id="89" idx="0"/>
          </p:cNvCxnSpPr>
          <p:nvPr/>
        </p:nvCxnSpPr>
        <p:spPr>
          <a:xfrm>
            <a:off x="6585480" y="4869000"/>
            <a:ext cx="7380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BB88-05E5-46DF-BB70-974FCF0303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rcRect l="5533" t="25221" r="3661" b="16703"/>
          <a:stretch/>
        </p:blipFill>
        <p:spPr>
          <a:xfrm>
            <a:off x="0" y="907920"/>
            <a:ext cx="930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7BE4-539F-4887-9C75-7180361EC5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13653" t="28174" r="19167" b="10797"/>
          <a:stretch/>
        </p:blipFill>
        <p:spPr>
          <a:xfrm>
            <a:off x="395280" y="1197000"/>
            <a:ext cx="8309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63AF-971E-4825-A8D0-E69FD3F40A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411280" y="2492280"/>
            <a:ext cx="4392720" cy="505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andelijk: binnen &amp; Buitenl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411280" y="1773360"/>
            <a:ext cx="4392720" cy="503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ionaal: vooral plaatselijk nieuw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11280" y="3213000"/>
            <a:ext cx="4392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ire krante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3141720"/>
            <a:ext cx="1440000" cy="4284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rant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1280" y="4724280"/>
            <a:ext cx="3024360" cy="50508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5e487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uis-aan-Huis bla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11280" y="3933720"/>
            <a:ext cx="4681800" cy="57492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Kwaliteits kranten/ kader krante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11280" y="5373720"/>
            <a:ext cx="3240360" cy="38088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7490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bbonnements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11280" y="5877000"/>
            <a:ext cx="1971720" cy="4381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tis 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Gebogen verbindingslijn 13"/>
          <p:cNvCxnSpPr>
            <a:stCxn id="110" idx="3"/>
            <a:endCxn id="108" idx="1"/>
          </p:cNvCxnSpPr>
          <p:nvPr/>
        </p:nvCxnSpPr>
        <p:spPr>
          <a:xfrm flipV="1">
            <a:off x="1835280" y="2023560"/>
            <a:ext cx="576360" cy="13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6" name="Gebogen verbindingslijn 15"/>
          <p:cNvCxnSpPr>
            <a:endCxn id="107" idx="1"/>
          </p:cNvCxnSpPr>
          <p:nvPr/>
        </p:nvCxnSpPr>
        <p:spPr>
          <a:xfrm>
            <a:off x="2124000" y="2636640"/>
            <a:ext cx="288000" cy="108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Vorm 17"/>
          <p:cNvCxnSpPr>
            <a:endCxn id="109" idx="1"/>
          </p:cNvCxnSpPr>
          <p:nvPr/>
        </p:nvCxnSpPr>
        <p:spPr>
          <a:xfrm flipH="1" rot="16200000">
            <a:off x="1853280" y="2907000"/>
            <a:ext cx="8290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Vorm 20"/>
          <p:cNvCxnSpPr>
            <a:endCxn id="112" idx="1"/>
          </p:cNvCxnSpPr>
          <p:nvPr/>
        </p:nvCxnSpPr>
        <p:spPr>
          <a:xfrm flipH="1" rot="16200000">
            <a:off x="1475640" y="3285000"/>
            <a:ext cx="158472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Vorm 22"/>
          <p:cNvCxnSpPr>
            <a:endCxn id="111" idx="1"/>
          </p:cNvCxnSpPr>
          <p:nvPr/>
        </p:nvCxnSpPr>
        <p:spPr>
          <a:xfrm flipH="1" rot="16200000">
            <a:off x="1097640" y="3662640"/>
            <a:ext cx="23403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0" name="Vorm 24"/>
          <p:cNvCxnSpPr>
            <a:endCxn id="113" idx="1"/>
          </p:cNvCxnSpPr>
          <p:nvPr/>
        </p:nvCxnSpPr>
        <p:spPr>
          <a:xfrm flipH="1" rot="16200000">
            <a:off x="803880" y="3956400"/>
            <a:ext cx="29278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Vorm 26"/>
          <p:cNvCxnSpPr>
            <a:endCxn id="114" idx="1"/>
          </p:cNvCxnSpPr>
          <p:nvPr/>
        </p:nvCxnSpPr>
        <p:spPr>
          <a:xfrm flipH="1" rot="16200000">
            <a:off x="538200" y="4222440"/>
            <a:ext cx="345960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0-12-13T08:12:15Z</dcterms:modified>
  <cp:revision>149</cp:revision>
  <dc:subject/>
  <dc:title>Dia 1</dc:title>
</cp:coreProperties>
</file>