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88D-1387-4DC1-B8E2-E9087850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FAC-C2AB-4A89-88EC-765F574F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84A-2FCB-45A9-9F11-8E7FA58E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10E-153A-4B31-8E16-DDCDAF7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EB1-850F-4FED-B6E1-31C717FC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380-A418-4D4D-855B-DB8D905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4B6-13E4-4A9C-AA68-C71129A8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751-848D-4D8D-9ABA-C3322E9D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46A-7DBC-47A9-9C20-CBE41F67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9A4-5532-4374-A0A6-71FBE2D0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E10-B89A-4666-8119-1C1B8CEE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792-7664-4F35-94DC-C909829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996A-71F8-4E11-9D19-11C1F052BE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8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B1E-CC55-468F-8C7A-95E33C848E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925-6154-4BB4-9132-9982F18012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883-BF00-4019-8007-0EF15F89B3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582-A4C8-4B2D-949E-7586278E5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619-9383-4505-BE49-61035077F3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B6D-3E32-47B5-AC9C-5659AFE8F0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8D8-9B3A-4D64-BDA6-0D45044A0A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AEC-56C6-47A5-9CA1-1B8A6D215A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9D3-4C79-4CB7-93DE-AFBF4E6A69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92E-8358-4CC8-92B5-8892B8429B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FBD-1AC4-4E88-BB24-D56A38E25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9T10:36:38Z</dcterms:modified>
  <cp:revision>57</cp:revision>
  <dc:subject/>
  <dc:title>Dia 1</dc:title>
</cp:coreProperties>
</file>