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1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gif" ContentType="image/gif"/>
  <Override PartName="/ppt/media/image14.png" ContentType="image/png"/>
  <Override PartName="/ppt/media/image1.png" ContentType="image/png"/>
  <Override PartName="/ppt/media/image19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7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2D11-31AE-4112-B9D5-F3113688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97F-3EF4-4185-8A71-A2E78370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120-3F4C-4A95-9C71-4CBE0F8A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DEC-0C7A-4A8B-9338-94F5C14A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A31-BD0E-4EF9-9524-F6A249F8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CC38-0109-410A-8EEE-CF3401AA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BA24-0055-44BC-AFD1-93080125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8AD3-7506-45D8-961A-BF2D2349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183-3C23-489C-B940-07A76428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C8B-0C8C-499F-8FCE-A466963E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2BAB-B63F-4542-A198-F5708DD7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5540-7120-42EE-B780-8A4E3FC7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9834-3AE1-422C-B8B6-78BE4F86198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ji9zaYR-5YQ" TargetMode="External"/><Relationship Id="rId3" Type="http://schemas.openxmlformats.org/officeDocument/2006/relationships/hyperlink" Target="http://www.youtube.com/watch?v=ByA1bmvhGto" TargetMode="External"/><Relationship Id="rId4" Type="http://schemas.openxmlformats.org/officeDocument/2006/relationships/hyperlink" Target="http://web.teleblik.kennisnet.nl/tsr/player/vo/fid/1681230" TargetMode="External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720" y="333360"/>
            <a:ext cx="188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5977080" cy="5267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00360" y="1052640"/>
            <a:ext cx="24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6 t/m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C2C5-8D38-4306-8F4D-F4D89227D1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49360"/>
            <a:ext cx="8064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oe kom je weer aan we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lliciteren op Vac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werk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met vrienden, famil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itzend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entrum voor Werk 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komen (CW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279108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8D7-2D03-4356-93CC-8478D7A2E5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79930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discrimin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cht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168720" cy="248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2881080" cy="2382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aar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4960" y="3860640"/>
            <a:ext cx="263376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40000" y="4076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illustratie: Magda Rijs"/>
          <p:cNvPicPr/>
          <p:nvPr/>
        </p:nvPicPr>
        <p:blipFill>
          <a:blip r:embed="rId5"/>
          <a:stretch/>
        </p:blipFill>
        <p:spPr>
          <a:xfrm>
            <a:off x="5724360" y="3971880"/>
            <a:ext cx="2381400" cy="2886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35280" y="5805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eftijd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D8B-B9D4-4A7F-9069-E493B84871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349360"/>
            <a:ext cx="80643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t voordeel dat je ergens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 hebt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e baas wil lage lonen geven (en dus meer winst overhouden. Jij wil veel verdienen: tegengestelde belan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engroep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t op voor de belangen van een bepaalde gro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akbond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en op voor werknemers. Zorgen voor CAO’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ollectieve arbeidsovereenkomst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fspraken over lonen, vakantiedagen, pensioen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8419" t="0" r="6539" b="0"/>
          <a:stretch/>
        </p:blipFill>
        <p:spPr>
          <a:xfrm>
            <a:off x="5292720" y="404640"/>
            <a:ext cx="3598920" cy="25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419-E5E9-455E-A5A6-FAE5621336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s je ziek wordt. 2 jaar lang 70% van je loon krij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77E-4CD9-4950-91AA-6C5A06EB1D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98900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ijstan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als je geen verzekering krijgt, maar ook geen werk hebt of niet kan werken: bijst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44680"/>
            <a:ext cx="80643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sstaat = te duu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e veel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ensen hebben uitkering gekre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imuleren van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werk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bedrijven minder belasting, meer vrouwen in deel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443640" y="2492280"/>
            <a:ext cx="1789200" cy="178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783E-F1ED-4639-99C1-D7C7DAF206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6: De kwaliteit van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324000" y="1916280"/>
            <a:ext cx="80647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inhoud: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t voor werk doe je precie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, afwisselend, uitdagend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schillende ta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External Image"/>
          <p:cNvPicPr/>
          <p:nvPr/>
        </p:nvPicPr>
        <p:blipFill>
          <a:blip r:embed="rId2"/>
          <a:stretch/>
        </p:blipFill>
        <p:spPr>
          <a:xfrm>
            <a:off x="250920" y="4653000"/>
            <a:ext cx="1441440" cy="2060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0" y="5587920"/>
            <a:ext cx="806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e dingen in je arbeidscontra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veel loon, nwerktijden, vrijed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76360" y="4363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erhouding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 gaan de mensen met elkaar om op ‘t wer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e collega’s, aardige baa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je werkhouding goed? Netjes gekleed, kauwg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08000" y="3139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der welke omstandigheden werk i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nen, buiten, zwaar tillen, geestlijk zwaar, gevaarlijk?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bowet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taat in waar de werkgevers zich aan moeten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1413000"/>
            <a:ext cx="3311280" cy="1747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exibel contr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en vaste aanstelling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roepcontrac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,2 jaa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7CE-EE3C-4799-B0E0-230FBE9ACD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40000" y="3500280"/>
            <a:ext cx="4267080" cy="3124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476280"/>
            <a:ext cx="25621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4170-F82B-454D-9A6F-8E2AEC84BE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276640"/>
            <a:ext cx="8064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lle activiteiten die je doet, betaald of onbet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r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s doen waar je geld (loon) voor krij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263700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kke band plakk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Helpen met k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couting leid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Voetbal tr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dwe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Kapsa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èch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Metsel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5280-F308-46FF-A269-DAFD621F13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637000"/>
            <a:ext cx="8064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werken mens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m geld te verd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or sociale contac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e krijgt waardering,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ieuwe dingen leren, jezelf ontwikk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2536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9D2-EDF5-418F-873D-DE06E2D364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2637000"/>
            <a:ext cx="8064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die staan in een contract, arbeidsovereenkomst, z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veel bruto loon je ontvan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functie je hebt: wat ga je precies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werktijden heb je: flexibel of vast, hoe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l vrije dagen in een ja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79D8-AC26-4857-BA80-45C6BDFF45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3700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o loon: je loon met nog alles erbi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to loon: je loon als belasting en premies era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670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al je geen belasting, heb je geen arbeidscontract, dan werk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w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heb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en rech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0536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: Kees verdient 2000 Bruto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ar moet dan nog € 250,- aan belasting en premies vanaf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j krijgt dan 1750 euro op zijn rekening gestort.= nettel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62064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FC13-E508-4640-AC93-EB0195831B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2: Werk en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1773360"/>
            <a:ext cx="658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atschappelijke positi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e plaats die je in de samenleving inneemt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e ongelijkheid: macht en rijkdom = niet eerlijk verde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us heeft te maken m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22670" t="0" r="22904" b="0"/>
          <a:stretch/>
        </p:blipFill>
        <p:spPr>
          <a:xfrm>
            <a:off x="250920" y="2095560"/>
            <a:ext cx="2592360" cy="4762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06560" y="5157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nle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6560" y="465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nn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nodig hebt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06560" y="4149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ch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06560" y="609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verdient: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06560" y="566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kendhei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hebt: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40D-27C1-4512-9054-C4A394B2BC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3: Met werk kom je v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349360"/>
            <a:ext cx="84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jgen op de maatschappelijke ladder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mobi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3816360" cy="3130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0" y="3068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stijg je nu makkelijker dan vroe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407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nger op school (niet werken als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4941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er vervolgopleid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551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iefinanciering: overheid stimuleert 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7BA-3A9B-41A4-97FE-30A86F981B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349360"/>
            <a:ext cx="8064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chuld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eeds meer jongeren maken schuld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ongeren en schuld 3.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oorkom Schulden! 2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chulden, een discussie 25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877080" y="3357720"/>
            <a:ext cx="4886280" cy="27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3E9-480B-4FF8-AE8E-67C57FC858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756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onts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46160"/>
            <a:ext cx="80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tslag mag alleen met een goede re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 staande vo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zegterm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WORK"/>
          <p:cNvPicPr/>
          <p:nvPr/>
        </p:nvPicPr>
        <p:blipFill>
          <a:blip r:embed="rId2"/>
          <a:stretch/>
        </p:blipFill>
        <p:spPr>
          <a:xfrm>
            <a:off x="6156360" y="3284640"/>
            <a:ext cx="2987640" cy="2239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47640" y="2881440"/>
            <a:ext cx="734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gestolen h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dronken bent op je 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werk weigert te d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iemand mishandelt/intimid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640" y="5262480"/>
            <a:ext cx="532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als je zelf ontslag nee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niet goed function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het bedrijf failliet gaat/reorganis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68720" y="266544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EN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68720" y="498960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L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3213000"/>
            <a:ext cx="215640" cy="165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5202360"/>
            <a:ext cx="216000" cy="165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A8F4-AAC9-4D66-94B2-88FA8B019B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09-03-16T12:30:31Z</dcterms:modified>
  <cp:revision>96</cp:revision>
  <dc:subject/>
  <dc:title>Dia 1</dc:title>
</cp:coreProperties>
</file>