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EB7-9F60-46F7-906D-E8D1D9A0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E6A0-3C10-4762-94B5-5ED4F00C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CA6-6198-4E27-9901-AD0B8E05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C6DB-862A-478E-9BC5-249F45D1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768-2527-401F-A22B-A0235B09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009E-BDEE-4A69-9F53-F25B1000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006-F11D-4300-BC84-A8EA6B4C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BA2-82DD-4EA9-A228-78932AE4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F2B1-10CB-4FE5-A38C-0F9F172F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A6CC-E5FE-405B-9083-C7C0AA08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B924-948C-402F-ABE5-BB458797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39E3-998E-4785-9B94-475F3043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10F5-5519-4D8A-9F2E-B179A14D9B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8: verzorging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743200" y="1504800"/>
          <a:ext cx="4775040" cy="3848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504800"/>
                    <a:ext cx="4775040" cy="38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E990-EF4C-4B21-9746-790207A302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5280" y="1413000"/>
          <a:ext cx="8064360" cy="519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806436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F5E-4043-4279-8938-02D4D18BFF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484-28F7-4DE2-BECF-0C39F7EDE1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39640" y="274320"/>
            <a:ext cx="474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8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gentiende eeuw nachtwaker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rde handh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esche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oorzieningen waarin particulieren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zelf niet kunnen voorz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ijken zorgen voor zichz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rmen zijn afhankelijk van familie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de kerk en van ‘giften’ van rij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DDD-AC1A-4714-8699-CE21775C1C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14240" y="16002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zorgingsstaat ontst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gin 20e eeuw d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bewustwording van de kosten van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nemen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vloed van de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er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73800" y="3429000"/>
          <a:ext cx="3670200" cy="337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73800" y="3429000"/>
                    <a:ext cx="3670200" cy="33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195640" y="0"/>
            <a:ext cx="489744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84E5-CB19-4478-A2A6-5CE1A8934D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133720" y="137160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54: arm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6: sociale quaestie;parlementaire enqu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89: ontstaan arbeidsinspectie en kinderwetje   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van Van Houten (1874) effec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895/1914: industrialis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0: leerplicht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01: ongevallenwet (begin verzorging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43: commissie-Van R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2: werkloosheidsverzek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56: Algemene ouderdoms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5: algemene bijstan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67: wet op de </a:t>
            </a:r>
            <a:r>
              <a:rPr b="0" lang="nl-NL" sz="2300" spc="-1" strike="noStrike">
                <a:solidFill>
                  <a:srgbClr val="000000"/>
                </a:solidFill>
                <a:latin typeface="Arial"/>
              </a:rPr>
              <a:t>arbeidsongeschiktheidsverzeker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976: arbeidsongeschiktheids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50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4: van nachtswakersstaat tot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E41-DE52-4E9D-B3BE-D23A778BE1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5122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Sociale Zekerhe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 (sinds jaren 60) voor dat niemand onder het SOCIAAL MINIMUM hoeft te l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zamelterm voor voorzieningen en verzekerin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mige zijn wettelijk verplicht en algemeen geldend of voor een bepaalde groep, andere zijn op vrijwillige ba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40464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A00-940D-4B9A-A26D-424906900B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79280" y="1341360"/>
          <a:ext cx="8604360" cy="4684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341360"/>
                    <a:ext cx="860436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EE4-78A6-46C5-ABF7-243C7021D6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072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Sociale verzeker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lksverzekeringen en Werknemersverzekeringen. 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rootste gedeelte geheel bekostigd uit premiebijdragen die door werkgevers, werknemers, zelfstandigen en ingezetenen verschuldigd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ijn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N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Nabestaand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O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Ouderdom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WBZ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Wet Bijzondere Ziekt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K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Algemene Kinderbijslag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naar arbeidsvermogen (opvolger van WAO:Wet ArbeidsOngeschikth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rkeloosheids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Ziekte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C03-FF6E-4F6D-8551-6BCDBECA74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042920" y="836640"/>
          <a:ext cx="6769080" cy="4429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836640"/>
                    <a:ext cx="67690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71640" y="5430960"/>
          <a:ext cx="6842160" cy="1427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5430960"/>
                    <a:ext cx="684216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692360" y="0"/>
            <a:ext cx="474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9E1-6DF5-4A04-B4C6-055620B69C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1484280"/>
            <a:ext cx="86882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Sociale voorzie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kosten van de sociale voorzieningen worden geheel betaald door de overheid en ze worden bestreden uit de algemene midd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tekenis van afkortin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W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kensvoorziening Oudere en gedeeltelijk Arbeidsongeschikte werkloze Werk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OA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Wet Inkomensvoorziening Oudere en gedeeltelijk Arbeidsongeschikte gewezen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Toeslagen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Bij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W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et Werk en Inkomen Kunstena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bZ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besluit bijstandsverlening zelfstand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 5: de verzorgingsst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4A0-D26B-43D0-AE8B-DBEB7495EA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cls</cp:lastModifiedBy>
  <dcterms:modified xsi:type="dcterms:W3CDTF">2009-03-19T10:36:38Z</dcterms:modified>
  <cp:revision>57</cp:revision>
  <dc:subject/>
  <dc:title>Dia 1</dc:title>
</cp:coreProperties>
</file>