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9.png" ContentType="image/png"/>
  <Override PartName="/ppt/media/image6.gif" ContentType="image/gif"/>
  <Override PartName="/ppt/media/image8.gif" ContentType="image/gif"/>
  <Override PartName="/ppt/media/image18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png" ContentType="image/png"/>
  <Override PartName="/ppt/media/image15.gif" ContentType="image/gif"/>
  <Override PartName="/ppt/media/image14.png" ContentType="image/png"/>
  <Override PartName="/ppt/media/image1.png" ContentType="image/png"/>
  <Override PartName="/ppt/media/image19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7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1CDB-52E4-4B43-88E9-34CD38D0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4281-A6DB-4A39-A5CD-E40C261B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BF83-434B-4388-A358-1DEFF29D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A052-1404-42ED-9B38-64C753AC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AF2F-C701-44C0-B726-4BC15579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2A34-DFCB-40CF-9CE7-B26B48DE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F8B0-83B0-4CAB-95A8-9185BFE8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886-6684-4E34-B2BD-A34C60A0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F052-A81E-4B5E-8A7F-B671AB57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C302-3C35-466E-A27C-38F44C02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B7B-B7CB-4F56-91F0-67AE3380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16DC-4B8D-4362-840A-85F42D50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456A-0326-48A3-9B94-0B0FB2B3E7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ji9zaYR-5YQ" TargetMode="External"/><Relationship Id="rId3" Type="http://schemas.openxmlformats.org/officeDocument/2006/relationships/hyperlink" Target="http://www.youtube.com/watch?v=ByA1bmvhGto" TargetMode="External"/><Relationship Id="rId4" Type="http://schemas.openxmlformats.org/officeDocument/2006/relationships/hyperlink" Target="http://web.teleblik.kennisnet.nl/tsr/player/vo/fid/1681230" TargetMode="External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40720" y="333360"/>
            <a:ext cx="188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0000" y="1052640"/>
            <a:ext cx="5977080" cy="5267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00360" y="1052640"/>
            <a:ext cx="24843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16 t/m 1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D2E-9739-44D1-AC5A-B38D099B34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49360"/>
            <a:ext cx="8064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oe kom je weer aan we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lliciteren op Vac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werk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(met vrienden, famil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itzend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entrum voor Werk en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komen (CW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3280" y="2492280"/>
            <a:ext cx="2791080" cy="35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7B4A-FFC3-4F49-BE80-16FE0A4997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79930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discrimin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ochto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168720" cy="2484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24000" y="1052640"/>
            <a:ext cx="2881080" cy="2382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335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aar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4960" y="3860640"/>
            <a:ext cx="263376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40000" y="4076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rouw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illustratie: Magda Rijs"/>
          <p:cNvPicPr/>
          <p:nvPr/>
        </p:nvPicPr>
        <p:blipFill>
          <a:blip r:embed="rId5"/>
          <a:stretch/>
        </p:blipFill>
        <p:spPr>
          <a:xfrm>
            <a:off x="5724360" y="3971880"/>
            <a:ext cx="2381400" cy="28861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35280" y="5805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eftijd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0ADF-17F8-4460-A8AB-A487094903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349360"/>
            <a:ext cx="80643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et voordeel dat je ergens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ij hebt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- je baas wil lage lonen geven (en dus meer winst overhouden. Jij wil veel verdienen: tegengestelde belang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langengroep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t op voor de belangen van een bepaalde groe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akbond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komen op voor werknemers. Zorgen voor CAO’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ollectieve arbeidsovereenkomst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fspraken over lonen, vakantiedagen, pensioen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8419" t="0" r="6539" b="0"/>
          <a:stretch/>
        </p:blipFill>
        <p:spPr>
          <a:xfrm>
            <a:off x="5292720" y="404640"/>
            <a:ext cx="3598920" cy="250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A3C9-A2D9-4F16-82F8-8939B86B05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56000" y="227664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00720" y="2781360"/>
            <a:ext cx="439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rknemers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781360"/>
            <a:ext cx="3600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ks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3429000"/>
            <a:ext cx="3600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voor iedereen g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OW: ouderen pensio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KW:Kinderbij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3413160"/>
            <a:ext cx="39592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zekeringen die gelden voor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etaald uit premies door werknemer én werk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: als je werkloos wo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s je ziek wordt. 2 jaar lang 70% van je loon krij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A: als je arbeidsongeschikt word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773360"/>
            <a:ext cx="8497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zorgingsstaat:overheid helpt de burgers als nodig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D070-777A-40B2-9F45-27B0E1A11A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765440" y="33300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5: De overheid helpt een han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989000"/>
            <a:ext cx="80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ijstan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als je geen verzekering krijgt, maar ook geen werk hebt of niet kan werken: bijsta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244680"/>
            <a:ext cx="80643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zorginsstaat = te duu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e veel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ensen hebben uitkering gekre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steeds meer ouderen =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vergrij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r kome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bezuiniginge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 minder snel uitkering,minder snel arbeidsongeschikt, strengere regels bij ziekte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imuleren van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 werken: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bedrijven minder belasting, meer vrouwen in deeltij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443640" y="2492280"/>
            <a:ext cx="1789200" cy="178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8CCF-5FC0-4A4E-9E5F-B91ABA6856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6: De kwaliteit van 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324000" y="1916280"/>
            <a:ext cx="80647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inhoud: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t voor werk doe je precie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, afwisselend, uitdagend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rschillende ta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External Image"/>
          <p:cNvPicPr/>
          <p:nvPr/>
        </p:nvPicPr>
        <p:blipFill>
          <a:blip r:embed="rId2"/>
          <a:stretch/>
        </p:blipFill>
        <p:spPr>
          <a:xfrm>
            <a:off x="250920" y="4653000"/>
            <a:ext cx="1441440" cy="2060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0" y="5587920"/>
            <a:ext cx="80647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e dingen in je arbeidscontra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veel loon, nwerktijden, vrijed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76360" y="4363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erhouding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e gaan de mensen met elkaar om op ‘t wer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euke collega’s, aardige baas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je werkhouding goed? Netjes gekleed, kauwg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08000" y="3139920"/>
            <a:ext cx="8064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br>
              <a:rPr sz="24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der welke omstandigheden werk ik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nen, buiten, zwaar tillen, geestlijk zwaar, gevaarlijk?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bowet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taat in waar de werkgevers zich aan moeten hou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1413000"/>
            <a:ext cx="3311280" cy="17474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exibel contr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een vaste aanstelling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roepcontract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,2 jaa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831-E9D9-410D-A23F-26B487F696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eb je hoger dan een 8.5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n iets lekker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340000" y="3500280"/>
            <a:ext cx="4267080" cy="3124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476280"/>
            <a:ext cx="25621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250-EA14-4804-B350-ED59A0130DB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276640"/>
            <a:ext cx="8064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lle activiteiten die je doet, betaald of onbet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er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ts doen waar je geld (loon) voor krij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2637000"/>
            <a:ext cx="806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kke band plakke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Helpen met k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couting leidi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Voetbal tr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dwee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Kapsa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èch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Metsel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A35D-41A8-4D08-9C5E-E08DBFFAEB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2637000"/>
            <a:ext cx="8064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werken mens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m geld te verdi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or sociale contac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e krijgt waardering,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ieuwe dingen leren, jezelf ontwikk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2536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5D59-8656-47D6-8468-3CF426A9AB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20000" y="404640"/>
            <a:ext cx="1865160" cy="1865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2637000"/>
            <a:ext cx="8064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eids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spraken die staan in een contract, arbeidsovereenkomst, z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veel bruto loon je ontvang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functie je hebt: wat ga je precies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ke werktijden heb je: flexibel of vast, hoe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tal vrije dagen in een ja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FBB7-FBA5-407C-99E3-25B1E810EC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1: Wat is we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3700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o loon: je loon met nog alles erbi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to loon: je loon als belasting en premies eraf 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670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al je geen belasting, heb je geen arbeidscontract, dan werk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w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heb j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en recht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0536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eld: Kees verdient 2000 Bruto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ar moet dan nog € 250,- aan belasting en premies vanaf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j krijgt dan 1750 euro op zijn rekening gestort.= nettel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867280" y="620640"/>
            <a:ext cx="269568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3D9-54F7-4609-9211-8B84B7D765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2: Werk en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56000" y="1773360"/>
            <a:ext cx="6588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atschappelijke positi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e plaats die je in de samenleving inneemt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ciale ongelijkheid: macht en rijkdom = niet eerlijk verde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us heeft te maken m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22670" t="0" r="22904" b="0"/>
          <a:stretch/>
        </p:blipFill>
        <p:spPr>
          <a:xfrm>
            <a:off x="250920" y="2095560"/>
            <a:ext cx="2592360" cy="4762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06560" y="5157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nle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06560" y="465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enni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nodig hebt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06560" y="4149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ch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hebt: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06560" y="6093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eve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je verdient: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06560" y="566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kendhei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ie je hebt: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DB73-F243-4687-9F9C-E89B7C8656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3: Met werk kom je ve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2349360"/>
            <a:ext cx="849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jgen op de maatschappelijke ladder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ciale mobi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3816360" cy="3130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0" y="3068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arom stijg je nu makkelijker dan vroeg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407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nger op school (niet werken als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4941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er vervolgopleid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56000" y="5516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iefinanciering: overheid stimuleert l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AD3-9672-4B41-8010-E335E6964B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2349360"/>
            <a:ext cx="80643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chulde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eeds meer jongeren maken schuld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ongeren en schuld 3.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oorkom Schulden! 2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chulden, een discussie 25 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6877080" y="3357720"/>
            <a:ext cx="4886280" cy="27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AB5-7F0C-49AD-9BAB-D9655953C6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7560" y="1197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4: Als het even tegenzit: onts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946160"/>
            <a:ext cx="8064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tslag mag alleen met een goede re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 staande vo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pzegterm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WORK"/>
          <p:cNvPicPr/>
          <p:nvPr/>
        </p:nvPicPr>
        <p:blipFill>
          <a:blip r:embed="rId2"/>
          <a:stretch/>
        </p:blipFill>
        <p:spPr>
          <a:xfrm>
            <a:off x="6156360" y="3284640"/>
            <a:ext cx="2987640" cy="2239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47640" y="2881440"/>
            <a:ext cx="7345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gestolen h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dronken bent op je we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werk weigert te d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iemand mishandelt/intimid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640" y="5262480"/>
            <a:ext cx="532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als je zelf ontslag nee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je niet goed function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s het bedrijf failliet gaat/reorganise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968720" y="266544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EN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68720" y="4989600"/>
            <a:ext cx="12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L recht op werkloo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ids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itk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3213000"/>
            <a:ext cx="215640" cy="165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5202360"/>
            <a:ext cx="216000" cy="165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C0DA-BE62-400D-A68B-C0AF32F98D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09-03-16T12:30:31Z</dcterms:modified>
  <cp:revision>96</cp:revision>
  <dc:subject/>
  <dc:title>Dia 1</dc:title>
</cp:coreProperties>
</file>