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355-1D55-4F6A-96CD-B96ED46E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7FF-AEF2-4F56-8DD2-D6080B90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A27-9660-4B13-B822-FA728CF9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8D1-D342-4C9F-B11F-BEB65795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7BA-020B-44D2-B055-8286017B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0B4-B348-42B5-8B7C-3613CFF4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579-87E2-477F-96B7-A972CBAC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464-6A80-4BA3-A149-6493F13E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23C-B5B6-4955-BFD4-756257B5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0B4-FC75-4F8A-8402-A5243B1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761-CF00-4317-919B-9074EAA4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AEE-1048-447E-AEA7-0CF55D40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243E-B948-406D-9DEC-4AC7AFD61F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8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675-0196-4007-B806-167192D04B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398-7470-4DDC-A1B8-FBEBBC6BEA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02A-A124-430A-B2B0-911F1F5812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E4F-AB89-42D7-9127-0C3D5DFFA3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305-DC47-406D-8C99-D9434AAB00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220-4D73-4DF3-BB72-DB48AD8F5D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516-FE2B-4A2A-A6E7-306C9B9BE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FF6-0D5B-4A84-8628-C3C69D7AC9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DBA-58CA-4B61-8D2F-A34551A6B0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5DB-1711-4614-8BBA-EB5A6F9945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2D1-C146-4761-B728-5F874A9976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9T10:36:38Z</dcterms:modified>
  <cp:revision>57</cp:revision>
  <dc:subject/>
  <dc:title>Dia 1</dc:title>
</cp:coreProperties>
</file>