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5C6C-3586-4B9D-8875-891968E25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E926-7040-4297-B976-5609AAF9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DEA4-D794-4963-9D30-B0D9187E5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D4C8-5B8C-4A7B-A2CA-C9F92202D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660F-8652-4A5C-8C12-99FA8886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4858-BB39-41BE-A6D6-1434A7E3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5BA9-F64E-4DD0-B04A-B994B178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1049-D777-41EF-8220-7940662B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6F27-1908-420C-89CC-48473E10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55E5-065B-4369-9B90-40F3BAE6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194B-677F-4CAE-8994-C07B6CF9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C062-8199-4957-9D8C-D3CA88B7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197D-64BD-4BA3-B7FD-30927920267C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alibri"/>
              </a:rPr>
              <a:t>Maatschappijle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Eindexamen v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Je rondt het af in de 3</a:t>
            </a:r>
            <a:r>
              <a:rPr b="0" lang="nl-NL" sz="3200" spc="-1" strike="noStrike" baseline="30000">
                <a:solidFill>
                  <a:srgbClr val="898989"/>
                </a:solidFill>
                <a:latin typeface="Calibri"/>
              </a:rPr>
              <a:t>e</a:t>
            </a: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 kla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39640" y="980640"/>
            <a:ext cx="8229600" cy="616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Eindexamenvak: Alleen SETs (school examen toets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Geen schriftelijk centraal exa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7 of hoger gemiddeld: telt mee voor eindexamen als compens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1 SET herkansbaar in juni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SET: ongeoorloofd afwezig = 1.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Ziek tijdens set: ouders/verzorgers tekenen briefje nog zelfde dag bij receptie. (geoorloofd afwezig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Niet getekend: ongeoorloofd afwezig =1.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Krijgt dan datum mee wanneer SET in te halen! Staat ook op jaarplann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Tandarts, dokter, ortho, etc = geen excuus voor afwezigheid!  Ongeoorloofd afwezig = 1.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Data inhaal SE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17 of 18 november inhaal s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1 of 2 februari inhaal s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3 of 4 april inhaal s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11 juni inhaal s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18 juni HERKANSING S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Dit jaa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6 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4 handelingsde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1 praktische opdrach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Op de ELO staat al het huiswerk + set data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Onderwerpen + Data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Politiek 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ED01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week 17 okt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Massamedia ED02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week 12 dec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Jongeren ED03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week 13 feb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Relaties ED04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week 2 apr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Criminaliteit ED05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week 14 mei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Multiculti ED06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week 6 juni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Opschrijven in je agenda!!!!!!!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Praktische opdracht (ed07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Telt voor 20% m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NIET herkans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In twee tal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Werkstuk + Present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764640"/>
            <a:ext cx="843588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Handelingsdel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4 handelingsde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Onvoldoende, Voldoende of Go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Onvoldoende: GEEN Diploma/ taak in de zomervakanti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Bestaat uit: huiswerk controle en opdrachten in de l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Vóór ieder rapport wordt minstens 1x hw gecheck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Op de elo staat altijd al het huiswerk (ziek = zelf check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Nb: 20-04 bij ED04 moet 2-4 zij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rcRect l="11513" t="32716" r="16432" b="24760"/>
          <a:stretch/>
        </p:blipFill>
        <p:spPr>
          <a:xfrm>
            <a:off x="0" y="1341360"/>
            <a:ext cx="91756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19:03:26Z</dcterms:created>
  <dc:creator>Floris Hirschfeld</dc:creator>
  <dc:description/>
  <dc:language>en-US</dc:language>
  <cp:lastModifiedBy>Floris Hirschfeld</cp:lastModifiedBy>
  <dcterms:modified xsi:type="dcterms:W3CDTF">2011-08-29T19:35:23Z</dcterms:modified>
  <cp:revision>5</cp:revision>
  <dc:subject/>
  <dc:title>Maatschappijleer</dc:title>
</cp:coreProperties>
</file>