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A8E-D6EB-4EFA-86E8-C4FCDEF1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9C7-2226-4901-AA44-D084CE18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6606-32D5-42A6-B00F-FFEB0E43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FD99-1EDF-4F7D-B92C-74CFD997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9FD-5EAE-45A3-AB9B-0090AC51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0B7-1FC7-4B62-9BEC-4E81B9E9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DD4A-3911-4CEF-AF24-0F0E3084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114-7809-421C-9C7A-588A34EC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963-32B4-4EB9-8246-B32400E4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5AEF-AE00-47AE-840E-ACAD9076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E62-482B-42F7-BE3A-F7E4C48A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C390-9E26-495B-8D26-0A5EBD2E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DEDC-5C15-451F-A0BE-213295D9E9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DD46-E9AA-4201-841E-8E4370A361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4" name="Picture 8" descr="zinloosgeweld"/>
          <p:cNvPicPr/>
          <p:nvPr/>
        </p:nvPicPr>
        <p:blipFill>
          <a:blip r:embed="rId1"/>
          <a:stretch/>
        </p:blipFill>
        <p:spPr>
          <a:xfrm rot="1223400">
            <a:off x="5651280" y="1484280"/>
            <a:ext cx="3024000" cy="288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zinloos_geweld"/>
          <p:cNvPicPr/>
          <p:nvPr/>
        </p:nvPicPr>
        <p:blipFill>
          <a:blip r:embed="rId2"/>
          <a:stretch/>
        </p:blipFill>
        <p:spPr>
          <a:xfrm rot="20426400">
            <a:off x="468000" y="4365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1050923.JPG"/>
          <p:cNvPicPr/>
          <p:nvPr/>
        </p:nvPicPr>
        <p:blipFill>
          <a:blip r:embed="rId4"/>
          <a:stretch/>
        </p:blipFill>
        <p:spPr>
          <a:xfrm>
            <a:off x="3059280" y="3860640"/>
            <a:ext cx="4321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1CA1-64D7-4441-8C6B-40138A04749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133720"/>
          <a:ext cx="7859520" cy="4319640"/>
        </p:xfrm>
        <a:graphic>
          <a:graphicData uri="http://schemas.openxmlformats.org/drawingml/2006/table">
            <a:tbl>
              <a:tblPr/>
              <a:tblGrid>
                <a:gridCol w="2619360"/>
                <a:gridCol w="2620800"/>
                <a:gridCol w="261936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BIED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ARDE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k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zin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rtclub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eer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67C85-1713-405E-862C-0408A1B34CC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Oorzaken (van zinloos gew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Verschillen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vroeger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     en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nu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vroeger"/>
          <p:cNvPicPr/>
          <p:nvPr/>
        </p:nvPicPr>
        <p:blipFill>
          <a:blip r:embed="rId1"/>
          <a:stretch/>
        </p:blipFill>
        <p:spPr>
          <a:xfrm>
            <a:off x="179280" y="3716280"/>
            <a:ext cx="3810240" cy="275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IMG_9169"/>
          <p:cNvPicPr/>
          <p:nvPr/>
        </p:nvPicPr>
        <p:blipFill>
          <a:blip r:embed="rId2"/>
          <a:stretch/>
        </p:blipFill>
        <p:spPr>
          <a:xfrm>
            <a:off x="4427640" y="3716280"/>
            <a:ext cx="40320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DC65-2D96-4F89-ACD7-A2A47CEC5E5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86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4: Oorzaken (van zinloos gewe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9640" y="2708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916280"/>
          <a:ext cx="8137440" cy="4813200"/>
        </p:xfrm>
        <a:graphic>
          <a:graphicData uri="http://schemas.openxmlformats.org/drawingml/2006/table">
            <a:tbl>
              <a:tblPr/>
              <a:tblGrid>
                <a:gridCol w="2736720"/>
                <a:gridCol w="2592360"/>
                <a:gridCol w="280836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oeger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volg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g werken 50 uu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t werken 38 uu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ker uit gaan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ukke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vrije tijd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vrije tijd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kt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       werk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geld om uit te gaan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ukke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inig €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€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kter, minder vrij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er en vrije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respect voor elkaa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aker wapens mee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el normen en waard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inderde normen en waard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drank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en jonger drank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agressie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eer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112" name="Oval 183"/>
          <p:cNvSpPr/>
          <p:nvPr/>
        </p:nvSpPr>
        <p:spPr>
          <a:xfrm>
            <a:off x="3492360" y="3357720"/>
            <a:ext cx="216000" cy="21564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88" descr="symbool_man"/>
          <p:cNvPicPr/>
          <p:nvPr/>
        </p:nvPicPr>
        <p:blipFill>
          <a:blip r:embed="rId1"/>
          <a:stretch/>
        </p:blipFill>
        <p:spPr>
          <a:xfrm>
            <a:off x="684360" y="3387600"/>
            <a:ext cx="358560" cy="352440"/>
          </a:xfrm>
          <a:prstGeom prst="rect">
            <a:avLst/>
          </a:prstGeom>
          <a:ln w="0">
            <a:noFill/>
          </a:ln>
        </p:spPr>
      </p:pic>
      <p:sp>
        <p:nvSpPr>
          <p:cNvPr id="114" name="Line 189"/>
          <p:cNvSpPr/>
          <p:nvPr/>
        </p:nvSpPr>
        <p:spPr>
          <a:xfrm>
            <a:off x="3564000" y="35733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0"/>
          <p:cNvSpPr/>
          <p:nvPr/>
        </p:nvSpPr>
        <p:spPr>
          <a:xfrm flipV="1">
            <a:off x="3492360" y="3645000"/>
            <a:ext cx="142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1" descr="symbool_man"/>
          <p:cNvPicPr/>
          <p:nvPr/>
        </p:nvPicPr>
        <p:blipFill>
          <a:blip r:embed="rId2"/>
          <a:stretch/>
        </p:blipFill>
        <p:spPr>
          <a:xfrm>
            <a:off x="3995640" y="3357720"/>
            <a:ext cx="3589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AC57-7573-48C5-9792-6258F100812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 (voor zinloos gew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24000" y="2349360"/>
            <a:ext cx="806436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ie doet er wat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Overheid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ik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ij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reces"/>
          <p:cNvPicPr/>
          <p:nvPr/>
        </p:nvPicPr>
        <p:blipFill>
          <a:blip r:embed="rId1"/>
          <a:stretch/>
        </p:blipFill>
        <p:spPr>
          <a:xfrm>
            <a:off x="395280" y="3716280"/>
            <a:ext cx="2808360" cy="2287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olorbands,50"/>
          <p:cNvPicPr/>
          <p:nvPr/>
        </p:nvPicPr>
        <p:blipFill>
          <a:blip r:embed="rId2"/>
          <a:stretch/>
        </p:blipFill>
        <p:spPr>
          <a:xfrm>
            <a:off x="2843280" y="5445000"/>
            <a:ext cx="3606840" cy="122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3"/>
          <a:srcRect l="57588" t="46272" r="4769" b="11414"/>
          <a:stretch/>
        </p:blipFill>
        <p:spPr>
          <a:xfrm>
            <a:off x="6300720" y="3716280"/>
            <a:ext cx="2448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C251-CBD2-4041-AB86-83A864BD734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etten verbieden geweld e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en alcohol onder de 16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oppakken van mensen als ze ve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Lik op stuk bel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Camera’s opha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nsen fouill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potjes van postbus 5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reces"/>
          <p:cNvPicPr/>
          <p:nvPr/>
        </p:nvPicPr>
        <p:blipFill>
          <a:blip r:embed="rId1"/>
          <a:stretch/>
        </p:blipFill>
        <p:spPr>
          <a:xfrm>
            <a:off x="6227640" y="11970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GeenAlcoholOnder16"/>
          <p:cNvPicPr/>
          <p:nvPr/>
        </p:nvPicPr>
        <p:blipFill>
          <a:blip r:embed="rId2"/>
          <a:stretch/>
        </p:blipFill>
        <p:spPr>
          <a:xfrm rot="20184000">
            <a:off x="4622760" y="4314960"/>
            <a:ext cx="356544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3263-C172-48EA-8727-DB153249205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24000" y="2349360"/>
            <a:ext cx="8064360" cy="68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potjes van postbus 51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lijk zinloos gew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lchol en jong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ypisch postbus 5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reces"/>
          <p:cNvPicPr/>
          <p:nvPr/>
        </p:nvPicPr>
        <p:blipFill>
          <a:blip r:embed="rId1"/>
          <a:stretch/>
        </p:blipFill>
        <p:spPr>
          <a:xfrm>
            <a:off x="6227640" y="1197000"/>
            <a:ext cx="1656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945D-5F60-4364-9F23-0E9D53C7601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“wij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4000" y="2349360"/>
            <a:ext cx="806436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Kijken naar je eigen normen en waard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Aandacht spenderen aan zinloos geweld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Eigenaren disco’s beter opletten dat jongeren niet straalbezop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Drugsgebruik tegenhou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olorbands,50"/>
          <p:cNvPicPr/>
          <p:nvPr/>
        </p:nvPicPr>
        <p:blipFill>
          <a:blip r:embed="rId1"/>
          <a:stretch/>
        </p:blipFill>
        <p:spPr>
          <a:xfrm>
            <a:off x="5148360" y="1413000"/>
            <a:ext cx="360684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1E50-836A-4E97-A7E7-420952C0CD0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“i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24000" y="2349360"/>
            <a:ext cx="806436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Afspraken maken met vrien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amen uit, samen thuis”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Rustig blijven als je wordt gepes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rcRect l="57588" t="46272" r="4769" b="11414"/>
          <a:stretch/>
        </p:blipFill>
        <p:spPr>
          <a:xfrm>
            <a:off x="5940360" y="1197000"/>
            <a:ext cx="1943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5BF6-26CF-4BA9-A852-8478A20C16F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t gemiddelde hoger dan een 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edereen een (mini)appelfla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1179664517geweld"/>
          <p:cNvPicPr/>
          <p:nvPr/>
        </p:nvPicPr>
        <p:blipFill>
          <a:blip r:embed="rId1"/>
          <a:stretch/>
        </p:blipFill>
        <p:spPr>
          <a:xfrm>
            <a:off x="284328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133D-C9F0-4E0C-8036-03FC844FBE3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t is een goede m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: je moet feiten w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: verschillende kanten be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: goede argumenten hebben (waarom vind je iet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argument"/>
          <p:cNvPicPr/>
          <p:nvPr/>
        </p:nvPicPr>
        <p:blipFill>
          <a:blip r:embed="rId1"/>
          <a:stretch/>
        </p:blipFill>
        <p:spPr>
          <a:xfrm>
            <a:off x="5867280" y="213372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B945-853E-4865-B5EA-D7947D63495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s je een mening geef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onder dat je weet wa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r precies gebeurd i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reek je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rgument"/>
          <p:cNvPicPr/>
          <p:nvPr/>
        </p:nvPicPr>
        <p:blipFill>
          <a:blip r:embed="rId1"/>
          <a:stretch/>
        </p:blipFill>
        <p:spPr>
          <a:xfrm>
            <a:off x="5867280" y="2133720"/>
            <a:ext cx="2808360" cy="2108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403280" y="5300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VOOROORDEL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95FA-4273-43DC-851E-6D5EABB734A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t is een maatschappelij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le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el mensen hebben er mee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r zijn verschillende m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 overheid bemoeit zich erm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rgument"/>
          <p:cNvPicPr/>
          <p:nvPr/>
        </p:nvPicPr>
        <p:blipFill>
          <a:blip r:embed="rId1"/>
          <a:stretch/>
        </p:blipFill>
        <p:spPr>
          <a:xfrm>
            <a:off x="6084720" y="213372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E749-C285-4FA6-B5F4-1E48D3E8B0B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elangen, emoties en meningen"/>
          <p:cNvPicPr/>
          <p:nvPr/>
        </p:nvPicPr>
        <p:blipFill>
          <a:blip r:embed="rId1"/>
          <a:stretch/>
        </p:blipFill>
        <p:spPr>
          <a:xfrm>
            <a:off x="6877080" y="1197000"/>
            <a:ext cx="1800360" cy="12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68360" y="2349360"/>
          <a:ext cx="8218440" cy="436428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ITGAAN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ANG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itgaande jongeren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zier maken, veiligheid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eca ondernemer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ge omzet, goede naam, geen vechtpartijen, etc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tie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de, rust, veiligheid, weinig dronke mensen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rgemeester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d goede naam houden, niet negatief in het nieuw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urtbewoners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en overlast, strenge politie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C297-4801-46BB-8361-CF873AC9326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n uitgaan naar zinloosgew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der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 veel alcohol, te veel drug, thrillseekers, vechtersbaa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lachtoffer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rkeerde plek, verkeer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elangen, emoties en meningen"/>
          <p:cNvPicPr/>
          <p:nvPr/>
        </p:nvPicPr>
        <p:blipFill>
          <a:blip r:embed="rId1"/>
          <a:stretch/>
        </p:blipFill>
        <p:spPr>
          <a:xfrm>
            <a:off x="6948360" y="1484280"/>
            <a:ext cx="1800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A8F1-65AD-4A15-9E70-03880C42A6F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t voordeel dat je ergens bij h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meenschappelijke bela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owel jij als de politie wil veiligheid bij het uitg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gengestelde belang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reca wil veel drank verkopen, de politie wil geen dronken mensen op str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elangen, emoties en meningen"/>
          <p:cNvPicPr/>
          <p:nvPr/>
        </p:nvPicPr>
        <p:blipFill>
          <a:blip r:embed="rId1"/>
          <a:stretch/>
        </p:blipFill>
        <p:spPr>
          <a:xfrm>
            <a:off x="6948360" y="1484280"/>
            <a:ext cx="1800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1BF1-12FF-4C3A-8567-280C310FD6D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9640" y="270828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Norm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gedragsregels; regels hoe iemand zich moet gedra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d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principes die iemand belangrijk vindt in het leven (vaak 1 woor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0961-C662-445B-8303-D159FEC1690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gengestelde normen en waarden bij zinloos  gew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3357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Gezelligheid                      Gewel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4653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Geen ruzie maken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      Vechten is leu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013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Nor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403280" y="2708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Waar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264360" y="5084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Nor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6084720" y="2708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Waar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4462560" y="47242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Rustig met drank       Dronken worden mo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857840" y="3357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Veiligheid                  Uit je dak gaa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1692360" y="357336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6156360" y="357336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2050920" y="4869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372360" y="4941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39528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817236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43564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341964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7:32:26Z</dcterms:modified>
  <cp:revision>80</cp:revision>
  <dc:subject/>
  <dc:title>Dia 1</dc:title>
</cp:coreProperties>
</file>