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0.gif" ContentType="image/gif"/>
  <Override PartName="/ppt/media/image12.jpeg" ContentType="image/jpeg"/>
  <Override PartName="/ppt/media/image9.png" ContentType="image/png"/>
  <Override PartName="/ppt/media/image8.gif" ContentType="image/gif"/>
  <Override PartName="/ppt/media/image7.gif" ContentType="image/gif"/>
  <Override PartName="/ppt/media/image6.png" ContentType="image/png"/>
  <Override PartName="/ppt/media/image3.gif" ContentType="image/gif"/>
  <Override PartName="/ppt/media/image26.gif" ContentType="image/gif"/>
  <Override PartName="/ppt/media/image5.png" ContentType="image/png"/>
  <Override PartName="/ppt/media/image25.gif" ContentType="image/gif"/>
  <Override PartName="/ppt/media/image23.gif" ContentType="image/gif"/>
  <Override PartName="/ppt/media/image15.png" ContentType="image/png"/>
  <Override PartName="/ppt/media/image20.png" ContentType="image/png"/>
  <Override PartName="/ppt/media/image17.gif" ContentType="image/gif"/>
  <Override PartName="/ppt/media/image16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2.gif" ContentType="image/gif"/>
  <Override PartName="/ppt/media/image2.png" ContentType="image/png"/>
  <Override PartName="/ppt/media/image24.gif" ContentType="image/gif"/>
  <Override PartName="/ppt/media/image4.png" ContentType="image/png"/>
  <Override PartName="/ppt/media/image13.jpeg" ContentType="image/jpeg"/>
  <Override PartName="/ppt/media/image1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9C3F-BEE6-4CBD-A827-0415B751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E66-6E45-4312-9F2A-BAD70DF1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86A-B92D-44D1-86F2-162E19352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DB9-4856-49E8-B2D9-057B74C3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4E4-12EB-4ADE-9413-946FD44B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D4D-59AC-4DB4-BBF6-BD8FA725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69CA-998B-48AC-8200-6446DBCC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A24-BE9D-467B-BA8A-F0332253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C17-AAAC-4618-92CD-8656450F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69F-1683-469B-816E-22CE2F4C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F94-3B2C-4707-B4E7-04D18A79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FC6-C4AF-4594-BA96-31F8DEA9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DEE4-5F79-420C-9E17-3D22380D931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nl.youtube.com/watch?v=1HF35xuN0vQ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25A5-AF60-44B4-96D1-1E92C823313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236000" y="4869000"/>
            <a:ext cx="19080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4 t/m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1117013462jongeren"/>
          <p:cNvPicPr/>
          <p:nvPr/>
        </p:nvPicPr>
        <p:blipFill>
          <a:blip r:embed="rId1"/>
          <a:stretch/>
        </p:blipFill>
        <p:spPr>
          <a:xfrm>
            <a:off x="1042920" y="1197000"/>
            <a:ext cx="6226200" cy="5025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2"/>
          <p:cNvSpPr/>
          <p:nvPr/>
        </p:nvSpPr>
        <p:spPr>
          <a:xfrm>
            <a:off x="2372040" y="333360"/>
            <a:ext cx="32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4056-BE2E-4FC0-B1BC-534D6E3684B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82872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Ieder zijn 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50920" y="227664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ocialis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543640" y="335772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ociale control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-900000" y="3357720"/>
            <a:ext cx="554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Normen en </a:t>
            </a:r>
            <a:br>
              <a:rPr sz="3000"/>
            </a:b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aar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4000" y="580536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Internalis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-973080" y="5157720"/>
            <a:ext cx="55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543640" y="486900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anctie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7"/>
          <p:cNvSpPr/>
          <p:nvPr/>
        </p:nvSpPr>
        <p:spPr>
          <a:xfrm rot="19491000">
            <a:off x="1763640" y="2420640"/>
            <a:ext cx="1368360" cy="71892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8"/>
          <p:cNvSpPr/>
          <p:nvPr/>
        </p:nvSpPr>
        <p:spPr>
          <a:xfrm rot="3993000">
            <a:off x="5615640" y="2385000"/>
            <a:ext cx="1368360" cy="71928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9"/>
          <p:cNvSpPr/>
          <p:nvPr/>
        </p:nvSpPr>
        <p:spPr>
          <a:xfrm rot="3993000">
            <a:off x="6584760" y="4064040"/>
            <a:ext cx="1225440" cy="574560"/>
          </a:xfrm>
          <a:custGeom>
            <a:avLst/>
            <a:gdLst>
              <a:gd name="textAreaLeft" fmla="*/ 214200 w 1225440"/>
              <a:gd name="textAreaRight" fmla="*/ 888480 w 122544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0"/>
          <p:cNvSpPr/>
          <p:nvPr/>
        </p:nvSpPr>
        <p:spPr>
          <a:xfrm rot="8839800">
            <a:off x="5940000" y="5660640"/>
            <a:ext cx="1368360" cy="71928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 rot="12125400">
            <a:off x="1618920" y="5876280"/>
            <a:ext cx="1368360" cy="71892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 rot="15039000">
            <a:off x="1206360" y="4565520"/>
            <a:ext cx="1082880" cy="501840"/>
          </a:xfrm>
          <a:custGeom>
            <a:avLst/>
            <a:gdLst>
              <a:gd name="textAreaLeft" fmla="*/ 189360 w 1082880"/>
              <a:gd name="textAreaRight" fmla="*/ 785160 w 1082880"/>
              <a:gd name="textAreaTop" fmla="*/ 66960 h 501840"/>
              <a:gd name="textAreaBottom" fmla="*/ 434880 h 501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2916360" y="2852640"/>
            <a:ext cx="2952720" cy="2881440"/>
          </a:xfrm>
          <a:custGeom>
            <a:avLst/>
            <a:gdLst>
              <a:gd name="textAreaLeft" fmla="*/ 432360 w 2952720"/>
              <a:gd name="textAreaRight" fmla="*/ 2520360 w 2952720"/>
              <a:gd name="textAreaTop" fmla="*/ 421920 h 2881440"/>
              <a:gd name="textAreaBottom" fmla="*/ 245952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FEAF-8209-4624-9CB6-03CC048828B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Jongerencul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4000" y="2349360"/>
            <a:ext cx="8064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De eerste jeugdculturen ontstonden in de jaren 60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Komt door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welvaar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vrije tij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Lonen gingen omhoo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Kans om door te l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teenager.gif"/>
          <p:cNvPicPr/>
          <p:nvPr/>
        </p:nvPicPr>
        <p:blipFill>
          <a:blip r:embed="rId1"/>
          <a:stretch/>
        </p:blipFill>
        <p:spPr>
          <a:xfrm>
            <a:off x="5508720" y="4365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A7BA-8BB6-4610-9516-72E3CFEE6C4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Jongerencul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4000" y="234936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om bij een groep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vrije tijd en geld </a:t>
            </a:r>
            <a:r>
              <a:rPr b="1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dingen kopen/do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Bij een groep willen ho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nders zij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ndere ideeën/normen/waarden dan je ouders =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neratie conflic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teenager"/>
          <p:cNvPicPr/>
          <p:nvPr/>
        </p:nvPicPr>
        <p:blipFill>
          <a:blip r:embed="rId1"/>
          <a:stretch/>
        </p:blipFill>
        <p:spPr>
          <a:xfrm>
            <a:off x="6372360" y="549360"/>
            <a:ext cx="22190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B63F-065B-44D9-ACD8-175CA9BCC9A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eldvorming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het beeld dat je van iemand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rmt door bijvoorbeeld gedrag en uiterlij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olgedrag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 jij j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volgens anderen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et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dragen in bepaalde situa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hebben verschillende 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 je rol vallen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s je even anders gedraagd, je rol ‘los laten’ en helemaal jezel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oldoorbrekend gedrag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B: dat mannen traditionele vrouwentaken verrichten en vrouwen traditionele mannen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jongeren"/>
          <p:cNvPicPr/>
          <p:nvPr/>
        </p:nvPicPr>
        <p:blipFill>
          <a:blip r:embed="rId1"/>
          <a:stretch/>
        </p:blipFill>
        <p:spPr>
          <a:xfrm>
            <a:off x="7308720" y="1916280"/>
            <a:ext cx="1428840" cy="1847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684360" y="1197000"/>
            <a:ext cx="76435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Hoe kijk je tegen anderen aan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97F9-2149-45FC-8E2F-6E297F4419C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24000" y="2349360"/>
            <a:ext cx="806436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nsen zijn afhankelijk van anderen. </a:t>
            </a:r>
            <a:br>
              <a:rPr sz="2400"/>
            </a:b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Je hebt ‘bindingen’ met ze.</a:t>
            </a:r>
            <a:br>
              <a:rPr sz="2400"/>
            </a:b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Zo hebben er mensen gezorgd voor jouw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pullen (fiets, wekker, kleding, leidingen voor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ter etc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5B51-9ECD-44D1-B2A1-0EECC6E3813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4000" y="2349360"/>
            <a:ext cx="806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gevoel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economisch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kenni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politiek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CD5F-5B3D-4160-8ACB-7F88321C0F8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24000" y="2349360"/>
            <a:ext cx="80643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gevoel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mensen hebben elkaar nodig voor v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riendschap, steun en liefd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relatie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gezinnen/ familie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riend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Zijn (vaak) positieve 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gevoelens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Beating_Hearts"/>
          <p:cNvPicPr/>
          <p:nvPr/>
        </p:nvPicPr>
        <p:blipFill>
          <a:blip r:embed="rId1"/>
          <a:stretch/>
        </p:blipFill>
        <p:spPr>
          <a:xfrm>
            <a:off x="6300720" y="476280"/>
            <a:ext cx="2619360" cy="2381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Hearts"/>
          <p:cNvPicPr/>
          <p:nvPr/>
        </p:nvPicPr>
        <p:blipFill>
          <a:blip r:embed="rId2"/>
          <a:stretch/>
        </p:blipFill>
        <p:spPr>
          <a:xfrm>
            <a:off x="395280" y="4005360"/>
            <a:ext cx="2197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73A6-21D0-4514-A687-29F7AF82DB0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24000" y="2349360"/>
            <a:ext cx="80643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economisch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Alles wat me je levensondehoud te maken heeft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wat je eet/ drinkt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wat je gebruikt/ koop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Je bent afhankelijk van zakgeld of lo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rembrandt.gif"/>
          <p:cNvPicPr/>
          <p:nvPr/>
        </p:nvPicPr>
        <p:blipFill>
          <a:blip r:embed="rId1"/>
          <a:stretch/>
        </p:blipFill>
        <p:spPr>
          <a:xfrm>
            <a:off x="6659640" y="692280"/>
            <a:ext cx="21398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D6AA-DE86-4EFC-AAFD-9CA77943732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24000" y="2349360"/>
            <a:ext cx="80643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kenni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heeft te maken met alles wat je leer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school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je ouder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vrienden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aangeleerd"/>
          <p:cNvPicPr/>
          <p:nvPr/>
        </p:nvPicPr>
        <p:blipFill>
          <a:blip r:embed="rId1"/>
          <a:stretch/>
        </p:blipFill>
        <p:spPr>
          <a:xfrm>
            <a:off x="4788000" y="3429000"/>
            <a:ext cx="29401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16BE-341C-47F1-8B10-A16E9409FCF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99760" y="1628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24000" y="234936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politiek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Omdat je onmogelijk alles zelf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kan regelen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Overheid beschermt ons, legt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weten aan, zorgt voor politie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en onderwijs,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Wetten en regel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balkenende"/>
          <p:cNvPicPr/>
          <p:nvPr/>
        </p:nvPicPr>
        <p:blipFill>
          <a:blip r:embed="rId1"/>
          <a:stretch/>
        </p:blipFill>
        <p:spPr>
          <a:xfrm>
            <a:off x="6012000" y="184464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4AA7-19B4-43C8-92AF-F3CE2421FC0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1 Hoe word je wie je b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boren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pvoe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genschappe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fats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riftig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pr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legen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l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uzikaal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naar wc 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tc..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bor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lee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Teenager"/>
          <p:cNvPicPr/>
          <p:nvPr/>
        </p:nvPicPr>
        <p:blipFill>
          <a:blip r:embed="rId1"/>
          <a:stretch/>
        </p:blipFill>
        <p:spPr>
          <a:xfrm>
            <a:off x="3564000" y="2708280"/>
            <a:ext cx="1649520" cy="3672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2"/>
          <p:cNvSpPr/>
          <p:nvPr/>
        </p:nvSpPr>
        <p:spPr>
          <a:xfrm rot="10800000">
            <a:off x="1331640" y="1628280"/>
            <a:ext cx="6048360" cy="936720"/>
          </a:xfrm>
          <a:custGeom>
            <a:avLst/>
            <a:gdLst>
              <a:gd name="textAreaLeft" fmla="*/ 604800 w 6048360"/>
              <a:gd name="textAreaRight" fmla="*/ 5443560 w 6048360"/>
              <a:gd name="textAreaTop" fmla="*/ 535320 h 936720"/>
              <a:gd name="textAreaBottom" fmla="*/ 803160 h 936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1258920" y="5013360"/>
            <a:ext cx="288720" cy="936720"/>
          </a:xfrm>
          <a:prstGeom prst="upDownArrow">
            <a:avLst>
              <a:gd name="adj1" fmla="val 50000"/>
              <a:gd name="adj2" fmla="val 6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6443640" y="4941720"/>
            <a:ext cx="289080" cy="936720"/>
          </a:xfrm>
          <a:prstGeom prst="upDownArrow">
            <a:avLst>
              <a:gd name="adj1" fmla="val 50000"/>
              <a:gd name="adj2" fmla="val 645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7DE9-6AA6-426E-A06D-966E4FD9C8D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Afbeelding 13" descr="child.gif"/>
          <p:cNvPicPr/>
          <p:nvPr/>
        </p:nvPicPr>
        <p:blipFill>
          <a:blip r:embed="rId1"/>
          <a:stretch/>
        </p:blipFill>
        <p:spPr>
          <a:xfrm>
            <a:off x="5508720" y="4653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68" name="Afbeelding 14" descr="preteen.gif"/>
          <p:cNvPicPr/>
          <p:nvPr/>
        </p:nvPicPr>
        <p:blipFill>
          <a:blip r:embed="rId2"/>
          <a:stretch/>
        </p:blipFill>
        <p:spPr>
          <a:xfrm>
            <a:off x="3995640" y="465300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15" descr="schoolchild.gif"/>
          <p:cNvPicPr/>
          <p:nvPr/>
        </p:nvPicPr>
        <p:blipFill>
          <a:blip r:embed="rId3"/>
          <a:stretch/>
        </p:blipFill>
        <p:spPr>
          <a:xfrm>
            <a:off x="755640" y="4653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70" name="Afbeelding 16" descr="wirish.gif"/>
          <p:cNvPicPr/>
          <p:nvPr/>
        </p:nvPicPr>
        <p:blipFill>
          <a:blip r:embed="rId4"/>
          <a:stretch/>
        </p:blipFill>
        <p:spPr>
          <a:xfrm>
            <a:off x="2411280" y="465300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71" name="Afbeelding 17" descr="teenagers.gif"/>
          <p:cNvPicPr/>
          <p:nvPr/>
        </p:nvPicPr>
        <p:blipFill>
          <a:blip r:embed="rId5"/>
          <a:stretch/>
        </p:blipFill>
        <p:spPr>
          <a:xfrm>
            <a:off x="6948360" y="465300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0559-D5D2-49A1-8147-9C31D20B2BF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Hoe word je wie je b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5280" y="45813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Belonen en straff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0DCB-give"/>
          <p:cNvPicPr/>
          <p:nvPr/>
        </p:nvPicPr>
        <p:blipFill>
          <a:blip r:embed="rId1"/>
          <a:stretch/>
        </p:blipFill>
        <p:spPr>
          <a:xfrm>
            <a:off x="0" y="1773360"/>
            <a:ext cx="1944720" cy="1598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708360" y="4724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mit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227640" y="4724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nform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illustratie"/>
          <p:cNvPicPr/>
          <p:nvPr/>
        </p:nvPicPr>
        <p:blipFill>
          <a:blip r:embed="rId2"/>
          <a:stretch/>
        </p:blipFill>
        <p:spPr>
          <a:xfrm>
            <a:off x="1835280" y="2708280"/>
            <a:ext cx="1552320" cy="1965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179280" y="566100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=</a:t>
            </a:r>
            <a:br>
              <a:rPr sz="3200"/>
            </a:b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Sancti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information"/>
          <p:cNvPicPr/>
          <p:nvPr/>
        </p:nvPicPr>
        <p:blipFill>
          <a:blip r:embed="rId3"/>
          <a:stretch/>
        </p:blipFill>
        <p:spPr>
          <a:xfrm>
            <a:off x="6156360" y="2276640"/>
            <a:ext cx="2414520" cy="2414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elastic_parrot"/>
          <p:cNvPicPr/>
          <p:nvPr/>
        </p:nvPicPr>
        <p:blipFill>
          <a:blip r:embed="rId4"/>
          <a:stretch/>
        </p:blipFill>
        <p:spPr>
          <a:xfrm>
            <a:off x="4140360" y="3284640"/>
            <a:ext cx="1207800" cy="1312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pars"/>
          <p:cNvPicPr/>
          <p:nvPr/>
        </p:nvPicPr>
        <p:blipFill>
          <a:blip r:embed="rId5"/>
          <a:stretch/>
        </p:blipFill>
        <p:spPr>
          <a:xfrm>
            <a:off x="4067280" y="1773360"/>
            <a:ext cx="15588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0CD8-4AA5-4FD9-8C70-57A10AAE2EE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Hoe word je wie je b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55640" y="5084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dentific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932360" y="508464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Eigen Persoonlijkhei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alifornia Motorcycle Accident Lawyer Norman Gregory Fernandez discusses Britney Spears situation."/>
          <p:cNvPicPr/>
          <p:nvPr/>
        </p:nvPicPr>
        <p:blipFill>
          <a:blip r:embed="rId1"/>
          <a:stretch/>
        </p:blipFill>
        <p:spPr>
          <a:xfrm>
            <a:off x="900000" y="1773360"/>
            <a:ext cx="2435400" cy="3162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ti-animated"/>
          <p:cNvPicPr/>
          <p:nvPr/>
        </p:nvPicPr>
        <p:blipFill>
          <a:blip r:embed="rId2"/>
          <a:stretch/>
        </p:blipFill>
        <p:spPr>
          <a:xfrm>
            <a:off x="4211640" y="1989000"/>
            <a:ext cx="3809880" cy="30290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684360" y="585144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Op iemand willen lijken die je bewonder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932360" y="609300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Persoonlijke invloeden, ervaringen, karakter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FFF2-EDDD-42DE-9050-5A416385780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t is nor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39640" y="2708280"/>
            <a:ext cx="799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Norm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gedragsregels; regels hoe iemand zich moet gedra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d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principes die iemand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elangrijk vindt in het leven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vaak 1 woor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1" descr="avinfun.gif"/>
          <p:cNvPicPr/>
          <p:nvPr/>
        </p:nvPicPr>
        <p:blipFill>
          <a:blip r:embed="rId1"/>
          <a:stretch/>
        </p:blipFill>
        <p:spPr>
          <a:xfrm>
            <a:off x="6012000" y="4221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2"/>
          <p:cNvSpPr/>
          <p:nvPr/>
        </p:nvSpPr>
        <p:spPr>
          <a:xfrm>
            <a:off x="468360" y="3573360"/>
            <a:ext cx="676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fatsoensnormen: “het hoort nou eenmaal zo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- opstaan in bus voor 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- hand ge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5DB7-539C-43B8-99C0-61C31BC359B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Wat is norma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schillen in waarde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 normen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 De groep waar je bij ho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 plaats waar je wo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 tijd waarin je le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éle grote verschillen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bnorm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9" descr="gay-parade-32"/>
          <p:cNvPicPr/>
          <p:nvPr/>
        </p:nvPicPr>
        <p:blipFill>
          <a:blip r:embed="rId1"/>
          <a:stretch/>
        </p:blipFill>
        <p:spPr>
          <a:xfrm>
            <a:off x="5651640" y="1773360"/>
            <a:ext cx="313848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CA83-556A-4C4E-80A9-B779E2FDC70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Social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 de overdracht van kenmerken van een groep of samenlev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cialiserende institu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z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rienden en vriend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ortcl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l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ss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ABCC-F94E-4ABD-8E31-1C5BEA75F51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Social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nalis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 gedraagt je ‘automatisch’ (ongeveer) zoals de groep dat verwach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rechts rijden in het 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hand geven als je iemand ontmo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boer/scheet inhouden tijdens het 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6A5F-0430-4CD8-9298-73671905698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82872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Ieder zijn 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24000" y="234936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5219640" y="393372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ub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-973080" y="3933720"/>
            <a:ext cx="55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Dominante 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324000" y="558972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Jongeren 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6" descr="cult"/>
          <p:cNvPicPr/>
          <p:nvPr/>
        </p:nvPicPr>
        <p:blipFill>
          <a:blip r:embed="rId1"/>
          <a:stretch/>
        </p:blipFill>
        <p:spPr>
          <a:xfrm>
            <a:off x="6084720" y="404640"/>
            <a:ext cx="2881440" cy="2492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7"/>
          <p:cNvSpPr/>
          <p:nvPr/>
        </p:nvSpPr>
        <p:spPr>
          <a:xfrm>
            <a:off x="1908000" y="27813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groep mensen met dezelfde waarden, normen en gewoo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0" y="443700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grote groep mensen. (in Nederland…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580000" y="4365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leine groep men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2411280" y="3573360"/>
            <a:ext cx="576360" cy="503280"/>
          </a:xfrm>
          <a:prstGeom prst="leftArrow">
            <a:avLst>
              <a:gd name="adj1" fmla="val 50000"/>
              <a:gd name="adj2" fmla="val 28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"/>
          <p:cNvSpPr/>
          <p:nvPr/>
        </p:nvSpPr>
        <p:spPr>
          <a:xfrm>
            <a:off x="5724360" y="3573360"/>
            <a:ext cx="792360" cy="505080"/>
          </a:xfrm>
          <a:prstGeom prst="rightArrow">
            <a:avLst>
              <a:gd name="adj1" fmla="val 50000"/>
              <a:gd name="adj2" fmla="val 392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2268360" y="603576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groep jong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8:02:17Z</dcterms:modified>
  <cp:revision>91</cp:revision>
  <dc:subject/>
  <dc:title>Dia 1</dc:title>
</cp:coreProperties>
</file>