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2D23-67AF-4A5A-B092-DAD87E311C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F105-7537-4DEF-8F9F-2130A86EE0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350F-7DF9-46F7-9001-0DB4C097607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391C-AC7C-4E06-8523-6ECEFCD9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A3A8-BC83-4C3E-8AFF-49A64F8C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DFA2-BA42-4021-85D9-210C5064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7F9-184B-4135-9CF4-792BC560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739-0177-45A7-ADEA-B9CD0D99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6B7-8BD3-4C6F-91DF-8BC7DBD1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E9B-ADF5-447D-806E-6952ACBD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0FA2-2647-42AF-980C-FC79A188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14F7-A7E5-42A9-85E1-1E67025B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CB4-2DC9-44C1-A440-2F088DE2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32DF-F480-4E9D-9C7C-2E5EA95A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B992-CC55-4DA0-82CE-885A777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2E7-97C6-490B-8858-BA6F0E2402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2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23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7E1E-5C08-4CD8-83EC-10871037F83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795-935D-4073-9DA2-BD7307D8718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huizen naar een ander lan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ere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gaat da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laagd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endo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83808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ofdstuk: Multiculti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multiculti"/>
          <p:cNvPicPr/>
          <p:nvPr/>
        </p:nvPicPr>
        <p:blipFill>
          <a:blip r:embed="rId2"/>
          <a:stretch/>
        </p:blipFill>
        <p:spPr>
          <a:xfrm>
            <a:off x="3995640" y="263700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0F12-0CB0-434C-BC49-EDA4F06E385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7200" y="2378160"/>
            <a:ext cx="270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ij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deren van allochtonen integreren makkelijker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05520" y="2590920"/>
            <a:ext cx="2514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r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een baan leer je meer mensen kennen, maak je contect, spreek je de taal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90920" y="3429000"/>
            <a:ext cx="2209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al en opleid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leerplicht. Met diploma en taalbeheersing meer suc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1197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aarom lukt integreren wel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132372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1763640" cy="13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125-BE89-4BEC-972F-B3E1D8B65A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179280" y="907920"/>
          <a:ext cx="8785440" cy="58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B0C8-735A-46CA-B34A-5560A831C80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heilig boek: Ko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Moham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5 zui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geen god behalved Allah en zijn Mohammed is zijn boodsch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5x per dag bidden, gezicht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geld geven voor de a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adan: niet eten en drinken als de zon schij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x in je leven een reis maken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8006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dom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ilig boek: Bijb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Jezu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geboden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maar 1 go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en andere goden dien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zomaar God’s naam gebruik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ondag = rust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r je vader en je moeder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do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mand van wie je houdt niet in de steek lat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stel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lieg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s begeren dat van een ander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603576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eet: iemand die een boodschap van een God doorvertelt aan de men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 rot="19699800">
            <a:off x="3492360" y="1052280"/>
            <a:ext cx="103680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 rot="1356000">
            <a:off x="7451640" y="404640"/>
            <a:ext cx="1400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7F0-782F-4897-8246-AA3610F8724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6496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heilige boek niet letterlijk oppakken, belangrijkste boodschap eruit halen. Mee gaan met de tij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mentalis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lige boek wel degelijk letterlij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en, het fundament. Kij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de oorspronkelij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angs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65bananento6"/>
          <p:cNvPicPr/>
          <p:nvPr/>
        </p:nvPicPr>
        <p:blipFill>
          <a:blip r:embed="rId1"/>
          <a:stretch/>
        </p:blipFill>
        <p:spPr>
          <a:xfrm>
            <a:off x="5508720" y="2852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inhoud 2"/>
          <p:cNvSpPr/>
          <p:nvPr/>
        </p:nvSpPr>
        <p:spPr>
          <a:xfrm>
            <a:off x="7000920" y="2428920"/>
            <a:ext cx="214308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feest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 al Fit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Na dertig dagen overdag niet gegeten, gedronken, gerookt of gevreeën te hebben wordt de traditionele Ramadan (Vastenmaand) afgesloten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inhoud 2"/>
          <p:cNvSpPr/>
          <p:nvPr/>
        </p:nvSpPr>
        <p:spPr>
          <a:xfrm>
            <a:off x="5072040" y="2428920"/>
            <a:ext cx="207180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Ramadan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Tussen zonsopkomst en zonsondergang wordt er gevast..</a:t>
            </a:r>
            <a:br>
              <a:rPr sz="1500"/>
            </a:b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Het vasten wordt gezien als vorm van zuivering van de ziel en bedanking van Allah voor alles wat hij gegeven heeft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214200" y="2428560"/>
            <a:ext cx="207144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-ul-Mau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Geboorte van de profeet.Op deze dag vieren moslims de geboortedag van de profeet Mohamme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CD53-3AB2-47B9-8330-04407248D40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 4"/>
          <p:cNvSpPr/>
          <p:nvPr/>
        </p:nvSpPr>
        <p:spPr>
          <a:xfrm>
            <a:off x="-928800" y="1071720"/>
            <a:ext cx="10715760" cy="928440"/>
          </a:xfrm>
          <a:custGeom>
            <a:avLst/>
            <a:gdLst>
              <a:gd name="textAreaLeft" fmla="*/ 1420200 w 10715760"/>
              <a:gd name="textAreaRight" fmla="*/ 9295560 w 10715760"/>
              <a:gd name="textAreaTop" fmla="*/ 354960 h 928440"/>
              <a:gd name="textAreaBottom" fmla="*/ 573480 h 928440"/>
            </a:gdLst>
            <a:ahLst/>
            <a:rect l="textAreaLeft" t="textAreaTop" r="textAreaRight" b="textAreaBottom"/>
            <a:pathLst>
              <a:path w="10715626" h="928687">
                <a:moveTo>
                  <a:pt x="1420356" y="355130"/>
                </a:moveTo>
                <a:lnTo>
                  <a:pt x="9295270" y="355130"/>
                </a:lnTo>
                <a:lnTo>
                  <a:pt x="9295270" y="573557"/>
                </a:lnTo>
                <a:lnTo>
                  <a:pt x="1420356" y="573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 verbindingslijn 6"/>
          <p:cNvSpPr/>
          <p:nvPr/>
        </p:nvSpPr>
        <p:spPr>
          <a:xfrm>
            <a:off x="1000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inhoud 2"/>
          <p:cNvSpPr/>
          <p:nvPr/>
        </p:nvSpPr>
        <p:spPr>
          <a:xfrm>
            <a:off x="3357720" y="2428920"/>
            <a:ext cx="2071440" cy="2786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fferfeest: Id al Adha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Met het vieren van dit feest herinnert men zich dat Ibrahiem (Abraham) gevraagd werd om zijn zoon Ismaël te offeren aan Allah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inhoud 2"/>
          <p:cNvSpPr/>
          <p:nvPr/>
        </p:nvSpPr>
        <p:spPr>
          <a:xfrm>
            <a:off x="1785960" y="2428920"/>
            <a:ext cx="178596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Mi’raj: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Hemelreis van de profeet: Mohammed ging vanaf een rots naar de hem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 verbindingslijn 11"/>
          <p:cNvSpPr/>
          <p:nvPr/>
        </p:nvSpPr>
        <p:spPr>
          <a:xfrm>
            <a:off x="26431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e verbindingslijn 12"/>
          <p:cNvSpPr/>
          <p:nvPr/>
        </p:nvSpPr>
        <p:spPr>
          <a:xfrm>
            <a:off x="45007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 verbindingslijn 13"/>
          <p:cNvSpPr/>
          <p:nvPr/>
        </p:nvSpPr>
        <p:spPr>
          <a:xfrm>
            <a:off x="621504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14"/>
          <p:cNvSpPr/>
          <p:nvPr/>
        </p:nvSpPr>
        <p:spPr>
          <a:xfrm>
            <a:off x="7858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ADC0-9BC9-4B0F-9EB1-51633FBC9DE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15625" r="0" b="7229"/>
          <a:stretch/>
        </p:blipFill>
        <p:spPr>
          <a:xfrm>
            <a:off x="-757080" y="1052640"/>
            <a:ext cx="1044252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Tijdelijke aanduiding voor inhoud 2"/>
          <p:cNvSpPr/>
          <p:nvPr/>
        </p:nvSpPr>
        <p:spPr>
          <a:xfrm>
            <a:off x="179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rstmis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oorte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jdelijke aanduiding voor inhoud 2"/>
          <p:cNvSpPr/>
          <p:nvPr/>
        </p:nvSpPr>
        <p:spPr>
          <a:xfrm>
            <a:off x="2556000" y="4508640"/>
            <a:ext cx="165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oedevrij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ezus sterf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het kru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inhoud 2"/>
          <p:cNvSpPr/>
          <p:nvPr/>
        </p:nvSpPr>
        <p:spPr>
          <a:xfrm>
            <a:off x="363528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en: 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d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standing van Jez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jdelijke aanduiding voor inhoud 2"/>
          <p:cNvSpPr/>
          <p:nvPr/>
        </p:nvSpPr>
        <p:spPr>
          <a:xfrm>
            <a:off x="673272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inkster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finitieve afscheid van jezus: naa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hem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inhoud 2"/>
          <p:cNvSpPr/>
          <p:nvPr/>
        </p:nvSpPr>
        <p:spPr>
          <a:xfrm>
            <a:off x="4788000" y="4437000"/>
            <a:ext cx="2585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Hemelvaart: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Veertig dagen </a:t>
            </a:r>
            <a:br>
              <a:rPr sz="1700"/>
            </a:b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na Zijn opstanding voer Jezus op naar de hemel.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inhoud 2"/>
          <p:cNvSpPr/>
          <p:nvPr/>
        </p:nvSpPr>
        <p:spPr>
          <a:xfrm>
            <a:off x="1187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gint op Aswoensdag. De veertigdagentij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549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als een cultuur gedragen wordt door een groep die binnen een samenleving overheersend i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cultuur -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nneer binnen een groep waarden, normen en andere cultuurkenmerken op bepaalde onderdelen afwijken van de dominante cultu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ederlandse 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gelijkwaardigheid, vrijheid, verdraagzaamheid en respect heel belangrijk. Nederlanders staan bekend vanwege hun grote mate van tolerantie : ze accepteren makkelijk andersdenkenden. In de Nederlandse cultuur heerst een ik-cultuur. De nadruk ligt op het indivi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6C80-39AF-4479-8D67-9C373602A2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834A-EDBF-46E5-8219-9C2F84679E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0978-BFC3-4241-990B-C965956342E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binnen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wereld_mr"/>
          <p:cNvPicPr/>
          <p:nvPr/>
        </p:nvPicPr>
        <p:blipFill>
          <a:blip r:embed="rId1"/>
          <a:stretch/>
        </p:blipFill>
        <p:spPr>
          <a:xfrm>
            <a:off x="2195640" y="2276640"/>
            <a:ext cx="43146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9"/>
          <p:cNvSpPr/>
          <p:nvPr/>
        </p:nvSpPr>
        <p:spPr>
          <a:xfrm rot="1271400">
            <a:off x="3168360" y="24987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0559400">
            <a:off x="2700000" y="34995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3366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238880" y="2060640"/>
            <a:ext cx="19051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17144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3"/>
          <p:cNvSpPr/>
          <p:nvPr/>
        </p:nvSpPr>
        <p:spPr>
          <a:xfrm>
            <a:off x="1332000" y="4508640"/>
            <a:ext cx="792000" cy="269640"/>
          </a:xfrm>
          <a:prstGeom prst="leftArrow">
            <a:avLst>
              <a:gd name="adj1" fmla="val 50000"/>
              <a:gd name="adj2" fmla="val 73431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 rot="13733400">
            <a:off x="142920" y="3394080"/>
            <a:ext cx="782640" cy="277920"/>
          </a:xfrm>
          <a:prstGeom prst="leftArrow">
            <a:avLst>
              <a:gd name="adj1" fmla="val 50000"/>
              <a:gd name="adj2" fmla="val 7040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2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 rot="10800000">
            <a:off x="-360" y="407628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rot="18961800">
            <a:off x="971640" y="3213000"/>
            <a:ext cx="863640" cy="270000"/>
          </a:xfrm>
          <a:prstGeom prst="leftArrow">
            <a:avLst>
              <a:gd name="adj1" fmla="val 50000"/>
              <a:gd name="adj2" fmla="val 7996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8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 rot="4023000">
            <a:off x="863640" y="49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023200">
            <a:off x="1428840" y="3903840"/>
            <a:ext cx="720720" cy="269640"/>
          </a:xfrm>
          <a:prstGeom prst="leftArrow">
            <a:avLst>
              <a:gd name="adj1" fmla="val 50000"/>
              <a:gd name="adj2" fmla="val 6682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69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 rot="6903600">
            <a:off x="70920" y="4905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20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CE6F-50B8-4FFB-9B11-944D4161C1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of (1 van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ouders in het buitenl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jn geboren en opgegro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iet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en j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s in het land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boren en opgegroei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020000" y="5300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831708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8101080" y="1197000"/>
            <a:ext cx="576360" cy="35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rcRect l="0" t="0" r="0" b="10317"/>
          <a:stretch/>
        </p:blipFill>
        <p:spPr>
          <a:xfrm>
            <a:off x="6804000" y="2637000"/>
            <a:ext cx="96192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95436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5580000" y="4508640"/>
            <a:ext cx="1209600" cy="163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10"/>
          <a:stretch/>
        </p:blipFill>
        <p:spPr>
          <a:xfrm>
            <a:off x="6732720" y="5548320"/>
            <a:ext cx="1279440" cy="13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8026560" y="4508640"/>
            <a:ext cx="11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12636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9B2-9ECA-4256-B98E-425718CE76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e is er allochtoon of autocht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1457280" cy="321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133812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3780000" y="4210200"/>
            <a:ext cx="1438200" cy="26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987640" y="155736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435640" y="3068640"/>
            <a:ext cx="210672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7029360" y="1125360"/>
            <a:ext cx="2114640" cy="258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tretch/>
        </p:blipFill>
        <p:spPr>
          <a:xfrm>
            <a:off x="971640" y="1208160"/>
            <a:ext cx="6476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8"/>
          <a:stretch/>
        </p:blipFill>
        <p:spPr>
          <a:xfrm>
            <a:off x="0" y="9079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9"/>
          <a:stretch/>
        </p:blipFill>
        <p:spPr>
          <a:xfrm>
            <a:off x="468360" y="24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4211640" y="170028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2"/>
          <a:stretch/>
        </p:blipFill>
        <p:spPr>
          <a:xfrm>
            <a:off x="5003640" y="1557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13"/>
          <a:stretch/>
        </p:blipFill>
        <p:spPr>
          <a:xfrm>
            <a:off x="3635280" y="3573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14"/>
          <a:stretch/>
        </p:blipFill>
        <p:spPr>
          <a:xfrm>
            <a:off x="4140360" y="335772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5"/>
          <a:stretch/>
        </p:blipFill>
        <p:spPr>
          <a:xfrm>
            <a:off x="4716360" y="3213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16"/>
          <a:stretch/>
        </p:blipFill>
        <p:spPr>
          <a:xfrm>
            <a:off x="3419640" y="1413000"/>
            <a:ext cx="57456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17"/>
          <a:stretch/>
        </p:blipFill>
        <p:spPr>
          <a:xfrm>
            <a:off x="2268360" y="3068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18"/>
          <a:stretch/>
        </p:blipFill>
        <p:spPr>
          <a:xfrm>
            <a:off x="255600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19"/>
          <a:stretch/>
        </p:blipFill>
        <p:spPr>
          <a:xfrm>
            <a:off x="1547640" y="2852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0"/>
          <a:stretch/>
        </p:blipFill>
        <p:spPr>
          <a:xfrm>
            <a:off x="4500720" y="414972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21"/>
          <a:stretch/>
        </p:blipFill>
        <p:spPr>
          <a:xfrm>
            <a:off x="3564000" y="4292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22"/>
          <a:stretch/>
        </p:blipFill>
        <p:spPr>
          <a:xfrm>
            <a:off x="7020000" y="1916280"/>
            <a:ext cx="57132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23"/>
          <a:stretch/>
        </p:blipFill>
        <p:spPr>
          <a:xfrm>
            <a:off x="8532720" y="1773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24"/>
          <a:stretch/>
        </p:blipFill>
        <p:spPr>
          <a:xfrm>
            <a:off x="7667640" y="2997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25"/>
          <a:stretch/>
        </p:blipFill>
        <p:spPr>
          <a:xfrm>
            <a:off x="5508720" y="26607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26"/>
          <a:stretch/>
        </p:blipFill>
        <p:spPr>
          <a:xfrm>
            <a:off x="5364000" y="551664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28"/>
          <a:stretch/>
        </p:blipFill>
        <p:spPr>
          <a:xfrm>
            <a:off x="4067280" y="5229360"/>
            <a:ext cx="5760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605-A440-4CF0-AE00-B9DDA6260C9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arom je land verl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ken naar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itiek) vluch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oegere kolon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one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derlandse Antill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uba, Bonaire, Curac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ezinshere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emancip"/>
          <p:cNvPicPr/>
          <p:nvPr/>
        </p:nvPicPr>
        <p:blipFill>
          <a:blip r:embed="rId1"/>
          <a:stretch/>
        </p:blipFill>
        <p:spPr>
          <a:xfrm>
            <a:off x="5435640" y="1700280"/>
            <a:ext cx="3313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FB1D-874E-4949-A8E0-790F6ABB9AD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03" descr=""/>
          <p:cNvPicPr/>
          <p:nvPr/>
        </p:nvPicPr>
        <p:blipFill>
          <a:blip r:embed="rId1"/>
          <a:srcRect l="6081" t="20020" r="65297" b="22610"/>
          <a:stretch/>
        </p:blipFill>
        <p:spPr>
          <a:xfrm>
            <a:off x="1189080" y="2421000"/>
            <a:ext cx="5973840" cy="38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ë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04"/>
          <p:cNvSpPr/>
          <p:nvPr/>
        </p:nvSpPr>
        <p:spPr>
          <a:xfrm>
            <a:off x="673200" y="1816200"/>
            <a:ext cx="699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r dan 3 miljoen allochtonen in 200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05"/>
          <p:cNvSpPr/>
          <p:nvPr/>
        </p:nvSpPr>
        <p:spPr>
          <a:xfrm>
            <a:off x="1258920" y="29242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itsland 1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6"/>
          <p:cNvSpPr/>
          <p:nvPr/>
        </p:nvSpPr>
        <p:spPr>
          <a:xfrm>
            <a:off x="1258920" y="3357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ije 12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07"/>
          <p:cNvSpPr/>
          <p:nvPr/>
        </p:nvSpPr>
        <p:spPr>
          <a:xfrm>
            <a:off x="1258920" y="3789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iname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08"/>
          <p:cNvSpPr/>
          <p:nvPr/>
        </p:nvSpPr>
        <p:spPr>
          <a:xfrm>
            <a:off x="1258920" y="4149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kko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9"/>
          <p:cNvSpPr/>
          <p:nvPr/>
        </p:nvSpPr>
        <p:spPr>
          <a:xfrm>
            <a:off x="1258920" y="4581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 Antillen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0"/>
          <p:cNvSpPr/>
          <p:nvPr/>
        </p:nvSpPr>
        <p:spPr>
          <a:xfrm>
            <a:off x="1187280" y="4941720"/>
            <a:ext cx="403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gië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11"/>
          <p:cNvSpPr/>
          <p:nvPr/>
        </p:nvSpPr>
        <p:spPr>
          <a:xfrm>
            <a:off x="1258920" y="5373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eland 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12"/>
          <p:cNvSpPr/>
          <p:nvPr/>
        </p:nvSpPr>
        <p:spPr>
          <a:xfrm>
            <a:off x="1258920" y="5805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ig 3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AF7D-2045-49D1-A830-45A16829B11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l veel van je ei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ur vervangen door 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te cultuur van het l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je wo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een de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anpassen aan de cultuu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 ook je eigen cultuu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erzijdse aanpassing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htonen en autochton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n zich aan elkaar a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n open voor and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ntegratie"/>
          <p:cNvPicPr/>
          <p:nvPr/>
        </p:nvPicPr>
        <p:blipFill>
          <a:blip r:embed="rId1"/>
          <a:stretch/>
        </p:blipFill>
        <p:spPr>
          <a:xfrm>
            <a:off x="6516720" y="98100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67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E581-BBC8-4E69-91C9-096194C1095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6868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t vindt de politiek erv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beralen/rech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mige allochtonen passen zich ni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oeg aan en vallen buiten de samenlev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de Nederlandse (vrijheids)rechten accepteren en inburg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cialisten/link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integreren om betere kansen te krijgen in N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overheid heeft een taak om integreren te verbeteren zoals taalonder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democra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nadrukken vanuit Christelijk geloof het respect voor elkaars reli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zich wel aanpassen/ inburg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334" t="32345" r="9669" b="11999"/>
          <a:stretch/>
        </p:blipFill>
        <p:spPr>
          <a:xfrm>
            <a:off x="6012000" y="836640"/>
            <a:ext cx="2663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405B-58EF-4D0B-85AC-2DB85B110E6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ultureel de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olitieke partijen denken anders over integreren en praten er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057400" y="2819520"/>
            <a:ext cx="4495680" cy="3047760"/>
          </a:xfrm>
          <a:prstGeom prst="hexagon">
            <a:avLst>
              <a:gd name="adj" fmla="val 3687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19480" y="22096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al achterst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62940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gebroken schooloplei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148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rkloos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crimin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24080" y="2895480"/>
            <a:ext cx="251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arom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lukt integreren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niet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4" idx="3"/>
            <a:endCxn id="145" idx="0"/>
          </p:cNvCxnSpPr>
          <p:nvPr/>
        </p:nvCxnSpPr>
        <p:spPr>
          <a:xfrm>
            <a:off x="5924160" y="2437920"/>
            <a:ext cx="1963080" cy="129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6" idx="1"/>
            <a:endCxn id="147" idx="2"/>
          </p:cNvCxnSpPr>
          <p:nvPr/>
        </p:nvCxnSpPr>
        <p:spPr>
          <a:xfrm rot="10800000">
            <a:off x="1104120" y="4494960"/>
            <a:ext cx="2210760" cy="182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7" idx="0"/>
            <a:endCxn id="144" idx="1"/>
          </p:cNvCxnSpPr>
          <p:nvPr/>
        </p:nvCxnSpPr>
        <p:spPr>
          <a:xfrm flipH="1" flipV="1" rot="5400000">
            <a:off x="1361880" y="2180520"/>
            <a:ext cx="1600920" cy="2115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45" idx="2"/>
            <a:endCxn id="146" idx="3"/>
          </p:cNvCxnSpPr>
          <p:nvPr/>
        </p:nvCxnSpPr>
        <p:spPr>
          <a:xfrm rot="5400000">
            <a:off x="5977080" y="4415760"/>
            <a:ext cx="1761120" cy="205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3" name="Picture 22" descr=""/>
          <p:cNvPicPr/>
          <p:nvPr/>
        </p:nvPicPr>
        <p:blipFill>
          <a:blip r:embed="rId1"/>
          <a:srcRect l="79394" t="4686" r="0" b="0"/>
          <a:stretch/>
        </p:blipFill>
        <p:spPr>
          <a:xfrm>
            <a:off x="6877080" y="671400"/>
            <a:ext cx="555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27:52Z</dcterms:modified>
  <cp:revision>138</cp:revision>
  <dc:subject/>
  <dc:title>Dia 1</dc:title>
</cp:coreProperties>
</file>